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A62-45B9-45BD-80A5-78B4DB9A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4CE-217C-46D4-873F-256B5D5E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34E-EFEF-41AA-9339-8E6ABA3E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F92-36E4-42B2-8E28-CB2839ED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B50-809D-4286-B262-894F9456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9A2-1A0B-4EAD-8F28-2F89B43C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1D4-4AA1-41B1-9FBF-0429BF1F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961-55B2-453C-9624-D097B193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46D-81C1-477F-8B66-7A314015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4DF-43E4-4BD7-AE20-782CFB7C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05B-317A-4C59-94E8-7E392FC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601-9347-4220-8CC4-C5740E59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CD4C-0696-4B3C-BF29-5945A44119C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41144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小数加减混合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88000" y="1746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宋体"/>
              </a:rPr>
              <a:t>四年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80560" y="20480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下学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39720" y="20098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数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04920" y="152280"/>
          <a:ext cx="8534160" cy="304956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单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位：小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时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美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玲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睡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0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8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温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吃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4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看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电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活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阅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41911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7.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他的活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动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比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美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和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玲玲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之和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还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要多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1.2</a:t>
            </a:r>
            <a:br>
              <a:rPr sz="3200"/>
            </a:b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  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3341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活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动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33412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2.3 + 1.5 + 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6095880"/>
            <a:ext cx="289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=      (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609588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宋体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4290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根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据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以下的提示，找出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资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04920" y="152280"/>
          <a:ext cx="8534160" cy="304956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单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位：小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时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美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玲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睡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0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8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温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吃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4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看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电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活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阅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4190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8.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他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阅读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比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美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和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玲玲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之差少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0.5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5105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阅读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10552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2.2 - 1.4 – 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594360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=      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(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59436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宋体"/>
                <a:ea typeface="宋体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4290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根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据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以下的提示，找出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资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9900"/>
                </a:solidFill>
                <a:latin typeface="Times New Roman"/>
                <a:ea typeface="宋体"/>
              </a:rPr>
              <a:t>本课结束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Times New Roman"/>
                <a:ea typeface="宋体"/>
              </a:rPr>
              <a:t>齐来算算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990720"/>
            <a:ext cx="464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1.     4.7 – 6.2 + 6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05740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98108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4.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048120"/>
            <a:ext cx="464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2.     5.3 + 1.4 – 2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19112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11480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4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10552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3.     86.2 – 55.5 + 13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601992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594360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Times New Roman"/>
                <a:ea typeface="宋体"/>
              </a:rPr>
              <a:t>齐来</a:t>
            </a: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宋体"/>
              </a:rPr>
              <a:t>算算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143000"/>
            <a:ext cx="487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4.     39.0 + 2.7 –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36232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2286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40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657600"/>
            <a:ext cx="464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5.     7.5 + 1.8 + 4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95288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48769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3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今天是暑假的第一天，</a:t>
            </a:r>
            <a:r>
              <a:rPr b="0" lang="zh-TW" sz="28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美美</a:t>
            </a: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、</a:t>
            </a:r>
            <a:r>
              <a:rPr b="0" lang="zh-TW" sz="28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和</a:t>
            </a:r>
            <a:r>
              <a:rPr b="0" lang="zh-TW" sz="28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玲玲</a:t>
            </a:r>
            <a:r>
              <a:rPr b="0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开</a:t>
            </a: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始各</a:t>
            </a:r>
            <a:r>
              <a:rPr b="0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项</a:t>
            </a: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暑期活</a:t>
            </a:r>
            <a:r>
              <a:rPr b="0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动</a:t>
            </a: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，且看他</a:t>
            </a:r>
            <a:r>
              <a:rPr b="0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们</a:t>
            </a: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一天的作息</a:t>
            </a:r>
            <a:r>
              <a:rPr b="0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时间</a:t>
            </a: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表：</a:t>
            </a: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单</a:t>
            </a: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位：小</a:t>
            </a:r>
            <a:r>
              <a:rPr b="0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2800" spc="-1" strike="noStrike">
                <a:solidFill>
                  <a:srgbClr val="0099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01" descr=""/>
          <p:cNvPicPr/>
          <p:nvPr/>
        </p:nvPicPr>
        <p:blipFill>
          <a:blip r:embed="rId2">
            <a:lum bright="-18000"/>
          </a:blip>
          <a:srcRect l="7209" t="26694" r="3204" b="9278"/>
          <a:stretch/>
        </p:blipFill>
        <p:spPr>
          <a:xfrm>
            <a:off x="838080" y="1006560"/>
            <a:ext cx="2133720" cy="1050840"/>
          </a:xfrm>
          <a:prstGeom prst="rect">
            <a:avLst/>
          </a:prstGeom>
          <a:ln w="0">
            <a:noFill/>
          </a:ln>
        </p:spPr>
      </p:pic>
      <p:pic>
        <p:nvPicPr>
          <p:cNvPr id="64" name="02" descr=""/>
          <p:cNvPicPr/>
          <p:nvPr/>
        </p:nvPicPr>
        <p:blipFill>
          <a:blip r:embed="rId3">
            <a:lum bright="-18000"/>
          </a:blip>
          <a:srcRect l="11200" t="13581" r="2494" b="10556"/>
          <a:stretch/>
        </p:blipFill>
        <p:spPr>
          <a:xfrm>
            <a:off x="838080" y="2030400"/>
            <a:ext cx="1981440" cy="957240"/>
          </a:xfrm>
          <a:prstGeom prst="rect">
            <a:avLst/>
          </a:prstGeom>
          <a:ln w="0">
            <a:noFill/>
          </a:ln>
        </p:spPr>
      </p:pic>
      <p:pic>
        <p:nvPicPr>
          <p:cNvPr id="65" name="03" descr=""/>
          <p:cNvPicPr/>
          <p:nvPr/>
        </p:nvPicPr>
        <p:blipFill>
          <a:blip r:embed="rId4">
            <a:lum bright="-18000"/>
          </a:blip>
          <a:srcRect l="27132" t="18287" r="14381" b="10967"/>
          <a:stretch/>
        </p:blipFill>
        <p:spPr>
          <a:xfrm>
            <a:off x="838080" y="5807160"/>
            <a:ext cx="1355760" cy="922320"/>
          </a:xfrm>
          <a:prstGeom prst="rect">
            <a:avLst/>
          </a:prstGeom>
          <a:ln w="0">
            <a:noFill/>
          </a:ln>
        </p:spPr>
      </p:pic>
      <p:pic>
        <p:nvPicPr>
          <p:cNvPr id="66" name="04" descr=""/>
          <p:cNvPicPr/>
          <p:nvPr/>
        </p:nvPicPr>
        <p:blipFill>
          <a:blip r:embed="rId5">
            <a:lum bright="-18000"/>
          </a:blip>
          <a:srcRect l="9961" t="10621" r="0" b="7587"/>
          <a:stretch/>
        </p:blipFill>
        <p:spPr>
          <a:xfrm>
            <a:off x="828720" y="3772080"/>
            <a:ext cx="2066760" cy="1028520"/>
          </a:xfrm>
          <a:prstGeom prst="rect">
            <a:avLst/>
          </a:prstGeom>
          <a:ln w="0">
            <a:noFill/>
          </a:ln>
        </p:spPr>
      </p:pic>
      <p:pic>
        <p:nvPicPr>
          <p:cNvPr id="67" name="05" descr=""/>
          <p:cNvPicPr/>
          <p:nvPr/>
        </p:nvPicPr>
        <p:blipFill>
          <a:blip r:embed="rId6">
            <a:lum bright="-18000"/>
          </a:blip>
          <a:srcRect l="22416" t="3024" r="6635" b="9073"/>
          <a:stretch/>
        </p:blipFill>
        <p:spPr>
          <a:xfrm>
            <a:off x="838080" y="4757760"/>
            <a:ext cx="1629000" cy="1109520"/>
          </a:xfrm>
          <a:prstGeom prst="rect">
            <a:avLst/>
          </a:prstGeom>
          <a:ln w="0">
            <a:noFill/>
          </a:ln>
        </p:spPr>
      </p:pic>
      <p:pic>
        <p:nvPicPr>
          <p:cNvPr id="68" name="06" descr=""/>
          <p:cNvPicPr/>
          <p:nvPr/>
        </p:nvPicPr>
        <p:blipFill>
          <a:blip r:embed="rId7">
            <a:lum bright="-18000"/>
          </a:blip>
          <a:srcRect l="36941" t="9815" r="24063" b="11327"/>
          <a:stretch/>
        </p:blipFill>
        <p:spPr>
          <a:xfrm>
            <a:off x="838080" y="2967120"/>
            <a:ext cx="895320" cy="995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260280" y="990720"/>
            <a:ext cx="1033560" cy="930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睡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260280" y="1920960"/>
            <a:ext cx="103356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温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260280" y="5867280"/>
            <a:ext cx="103356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吃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260280" y="3733920"/>
            <a:ext cx="103356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看电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260280" y="5029200"/>
            <a:ext cx="103356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活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260280" y="2743200"/>
            <a:ext cx="1033560" cy="1006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990720"/>
            <a:ext cx="1600200" cy="5734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990720"/>
            <a:ext cx="1600200" cy="5734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990720"/>
            <a:ext cx="1600200" cy="5734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10080" y="1143000"/>
            <a:ext cx="895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3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40920" y="1143000"/>
            <a:ext cx="691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4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3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61320" y="1143000"/>
            <a:ext cx="362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152280"/>
          <a:ext cx="8534160" cy="304956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单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位：小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时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美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玲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睡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0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8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温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吃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4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看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电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活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阅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2000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1.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美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温习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比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玲玲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多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多少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8098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比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玲玲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38098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2.5 – 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4495680"/>
            <a:ext cx="2819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=      (</a:t>
            </a: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標楷體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4956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105520"/>
            <a:ext cx="670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2.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玲玲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睡觉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比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美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少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几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56386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比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美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少</a:t>
            </a: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56386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10.6 –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617220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=      (</a:t>
            </a:r>
            <a:r>
              <a:rPr b="0" lang="zh-CN" sz="3200" spc="-1" strike="noStrike">
                <a:solidFill>
                  <a:srgbClr val="009900"/>
                </a:solidFill>
                <a:latin typeface="標楷體"/>
                <a:ea typeface="宋体"/>
              </a:rPr>
              <a:t>小时</a:t>
            </a: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61722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04920" y="152280"/>
          <a:ext cx="8534160" cy="304956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单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位：小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时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美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玲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睡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0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8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温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吃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4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看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电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活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阅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049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3.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美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娱乐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共有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3434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娱乐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共</a:t>
            </a: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4343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3.6 + 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5257800"/>
            <a:ext cx="281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=      (</a:t>
            </a:r>
            <a:r>
              <a:rPr b="0" lang="zh-CN" sz="3200" spc="-1" strike="noStrike">
                <a:solidFill>
                  <a:srgbClr val="009900"/>
                </a:solidFill>
                <a:latin typeface="標楷體"/>
                <a:ea typeface="宋体"/>
              </a:rPr>
              <a:t>小时</a:t>
            </a: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525780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04920" y="152280"/>
          <a:ext cx="8534160" cy="304956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单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位：小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时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美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玲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睡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0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8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温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吃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4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看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电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活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阅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1907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4.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娱乐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比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美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多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1.1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9528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娱乐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9528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5.9 + 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5791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=      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(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579132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4290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根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据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以下的提示，找出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资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152280"/>
          <a:ext cx="8534160" cy="304956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单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位：小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时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美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玲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睡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0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8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温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吃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4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看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电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活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阅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1907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5.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温习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比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玲玲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多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1.8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952880"/>
            <a:ext cx="320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温习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49528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2.1 + 1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791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=      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(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57913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宋体"/>
                <a:ea typeface="宋体"/>
              </a:rPr>
              <a:t>3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4290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根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据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以下的提示，找出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资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04920" y="152280"/>
          <a:ext cx="8534160" cy="304956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单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位：小時</a:t>
                      </a: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美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 u="sng">
                          <a:solidFill>
                            <a:srgbClr val="009900"/>
                          </a:solidFill>
                          <a:uFillTx/>
                          <a:latin typeface="宋体"/>
                          <a:ea typeface="宋体"/>
                        </a:rPr>
                        <a:t>玲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睡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0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8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温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吃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4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看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电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3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活</a:t>
                      </a: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阅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9900"/>
                          </a:solidFill>
                          <a:latin typeface="宋体"/>
                          <a:ea typeface="宋体"/>
                        </a:rPr>
                        <a:t>1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190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6.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他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进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食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比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温习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少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1.2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952880"/>
            <a:ext cx="320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进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食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间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3.9 – 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791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=      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(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小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时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7913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宋体"/>
                <a:ea typeface="宋体"/>
              </a:rPr>
              <a:t>2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4290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根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据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以下的提示，找出</a:t>
            </a:r>
            <a:r>
              <a:rPr b="0" lang="zh-TW" sz="3200" spc="-1" strike="noStrike" u="sng">
                <a:solidFill>
                  <a:srgbClr val="009900"/>
                </a:solidFill>
                <a:uFillTx/>
                <a:latin typeface="宋体"/>
                <a:ea typeface="宋体"/>
              </a:rPr>
              <a:t>志明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的</a:t>
            </a: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资</a:t>
            </a:r>
            <a:r>
              <a:rPr b="0" lang="zh-TW" sz="3200" spc="-1" strike="noStrike">
                <a:solidFill>
                  <a:srgbClr val="009900"/>
                </a:solidFill>
                <a:latin typeface="宋体"/>
                <a:ea typeface="宋体"/>
              </a:rPr>
              <a:t>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utao</cp:lastModifiedBy>
  <dcterms:modified xsi:type="dcterms:W3CDTF">2005-09-22T03:22:41Z</dcterms:modified>
  <cp:revision>44</cp:revision>
  <dc:subject/>
  <dc:title>PowerPoint Presentation</dc:title>
</cp:coreProperties>
</file>