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5A55-A730-40EA-B0B9-FFB8B4EF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6D8-7922-4B92-9ACD-18FE8040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9AE-8C37-493B-89A3-78654D4D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3460-77A2-493F-A568-DCBE8C02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9E9E-E586-4002-AB52-3A3DC92E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604-E154-4D69-8A09-456518CD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2FE-5143-4F5F-91F1-7E35C944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B4CB-21E0-4E7F-AD7F-1CFDCB35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661-952E-473E-A647-3FA0817C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BDF-E69E-457B-AA20-FD03AB5A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297-E5E2-4B72-930A-3EA01841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EB7-1A2A-4726-8EF9-53336E69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9E26-9426-413D-927F-937FCF43C1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0560" y="1916280"/>
            <a:ext cx="4105440" cy="1368360"/>
          </a:xfrm>
          <a:prstGeom prst="wedgeRoundRectCallout">
            <a:avLst>
              <a:gd name="adj1" fmla="val -53171"/>
              <a:gd name="adj2" fmla="val -68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15800" y="2058840"/>
            <a:ext cx="227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计划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周跑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2.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01760" y="4098960"/>
            <a:ext cx="60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王鹏计划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周跑步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2.4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1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76280" y="-44280"/>
            <a:ext cx="6003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王鹏的爷爷每天慢跑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8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1125360"/>
            <a:ext cx="2305080" cy="1224000"/>
          </a:xfrm>
          <a:prstGeom prst="wedgeRoundRectCallout">
            <a:avLst>
              <a:gd name="adj1" fmla="val -72518"/>
              <a:gd name="adj2" fmla="val 979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每天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1052640"/>
            <a:ext cx="2305080" cy="1224000"/>
          </a:xfrm>
          <a:prstGeom prst="wedgeRoundRectCallout">
            <a:avLst>
              <a:gd name="adj1" fmla="val 78995"/>
              <a:gd name="adj2" fmla="val 5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每天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25240" y="549360"/>
            <a:ext cx="820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小数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位上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表示有</a:t>
            </a:r>
            <a:r>
              <a:rPr b="0" lang="zh-CN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个十分之一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5440" y="2548080"/>
            <a:ext cx="157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1620720" y="3556080"/>
            <a:ext cx="935280" cy="1512720"/>
          </a:xfrm>
          <a:custGeom>
            <a:avLst/>
            <a:gdLst>
              <a:gd name="textAreaLeft" fmla="*/ 311760 w 935280"/>
              <a:gd name="textAreaRight" fmla="*/ 801000 w 935280"/>
              <a:gd name="textAreaTop" fmla="*/ 871200 h 1512720"/>
              <a:gd name="textAreaBottom" fmla="*/ 129564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2440" y="3968640"/>
            <a:ext cx="177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个十分之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25240" y="549360"/>
            <a:ext cx="820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小数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位上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表示有</a:t>
            </a:r>
            <a:r>
              <a:rPr b="0" lang="zh-CN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个百分之一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5440" y="2548080"/>
            <a:ext cx="157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1620720" y="3556080"/>
            <a:ext cx="935280" cy="1512720"/>
          </a:xfrm>
          <a:custGeom>
            <a:avLst/>
            <a:gdLst>
              <a:gd name="textAreaLeft" fmla="*/ 311760 w 935280"/>
              <a:gd name="textAreaRight" fmla="*/ 801000 w 935280"/>
              <a:gd name="textAreaTop" fmla="*/ 871200 h 1512720"/>
              <a:gd name="textAreaBottom" fmla="*/ 129564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59440" y="390852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？个百分之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42760" y="25002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00"/>
                </a:solidFill>
                <a:latin typeface="Times New Roman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79920" y="763560"/>
            <a:ext cx="568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0.08</a:t>
            </a:r>
            <a:r>
              <a:rPr b="1" lang="zh-CN" sz="5000" spc="-1" strike="noStrike">
                <a:solidFill>
                  <a:srgbClr val="ffff00"/>
                </a:solidFill>
                <a:latin typeface="Times New Roman"/>
              </a:rPr>
              <a:t>里面有（        ）个百分之一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5920" y="2060640"/>
            <a:ext cx="4419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Times New Roman"/>
              </a:rPr>
              <a:t>有（        ）个千分之一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57440" y="6922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60360" y="4216320"/>
            <a:ext cx="178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0.0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573360"/>
            <a:ext cx="6193080" cy="2376720"/>
          </a:xfrm>
          <a:prstGeom prst="rect">
            <a:avLst/>
          </a:prstGeom>
          <a:noFill/>
          <a:ln w="93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61080" y="4221000"/>
            <a:ext cx="6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2920" y="4221000"/>
            <a:ext cx="178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0.0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94520" y="4221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92160" y="3214080"/>
            <a:ext cx="5427720" cy="36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被除数和除数同时乘以或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除以相同的数（</a:t>
            </a:r>
            <a:r>
              <a:rPr b="0" lang="en-US" sz="54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除外），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商不变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9640" y="404640"/>
          <a:ext cx="7559640" cy="2738520"/>
        </p:xfrm>
        <a:graphic>
          <a:graphicData uri="http://schemas.openxmlformats.org/drawingml/2006/table">
            <a:tbl>
              <a:tblPr/>
              <a:tblGrid>
                <a:gridCol w="1890720"/>
                <a:gridCol w="1888920"/>
                <a:gridCol w="1890720"/>
                <a:gridCol w="1889280"/>
              </a:tblGrid>
              <a:tr h="93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被除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.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除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2989080" y="220500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0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89440" y="227664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0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05440" y="227664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0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tpDown</cp:lastModifiedBy>
  <dcterms:modified xsi:type="dcterms:W3CDTF">2007-12-18T09:03:22Z</dcterms:modified>
  <cp:revision>10</cp:revision>
  <dc:subject/>
  <dc:title>PowerPoint Presentation</dc:title>
</cp:coreProperties>
</file>