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push.wav" ContentType="audio/x-wav"/>
  <Override PartName="/ppt/media/image15.png" ContentType="image/png"/>
  <Override PartName="/ppt/media/image3.jpeg" ContentType="image/jpeg"/>
  <Override PartName="/ppt/media/laser.wav" ContentType="audio/x-wav"/>
  <Override PartName="/ppt/media/image4.png" ContentType="image/png"/>
  <Override PartName="/ppt/media/image12.jpeg" ContentType="image/jpeg"/>
  <Override PartName="/ppt/media/image20.png" ContentType="image/png"/>
  <Override PartName="/ppt/media/image2.jpeg" ContentType="image/jpeg"/>
  <Override PartName="/ppt/media/hammer.wav" ContentType="audio/x-wav"/>
  <Override PartName="/ppt/media/cashreg.wav" ContentType="audio/x-wav"/>
  <Override PartName="/ppt/media/image9.png" ContentType="image/png"/>
  <Override PartName="/ppt/media/image1.jpeg" ContentType="image/jpeg"/>
  <Override PartName="/ppt/media/image10.png" ContentType="image/png"/>
  <Override PartName="/ppt/media/image21.jpeg" ContentType="image/jpeg"/>
  <Override PartName="/ppt/media/chimes.wav" ContentType="audio/x-wav"/>
  <Override PartName="/ppt/media/wind.wav" ContentType="audio/x-wav"/>
  <Override PartName="/ppt/media/image16.png" ContentType="image/png"/>
  <Override PartName="/ppt/media/applause.wav" ContentType="audio/x-wav"/>
  <Override PartName="/ppt/media/image5.png" ContentType="image/png"/>
  <Override PartName="/ppt/media/image13.jpeg" ContentType="image/jpeg"/>
  <Override PartName="/ppt/media/image18.gif" ContentType="image/gif"/>
  <Override PartName="/ppt/media/image6.jpeg" ContentType="image/jpeg"/>
  <Override PartName="/ppt/media/type.wav" ContentType="audio/x-wav"/>
  <Override PartName="/ppt/media/image17.jpeg" ContentType="image/jpeg"/>
  <Override PartName="/ppt/media/image19.png" ContentType="image/png"/>
  <Override PartName="/ppt/media/explod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619-CB14-4207-AC0E-BB4777B7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C08-9EA8-4B10-AB3B-4771B4D1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E2B-B535-4CBE-9906-36157605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1B3-77C3-4875-B14A-639D9A4D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6077-043D-41BD-873D-402DB876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F4EB-2C54-4A1F-A331-4BE68408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84A4-90B2-486A-A5E0-F53DF23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A64F-7123-4D2D-9DD0-74F7328A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B230-E078-4EAF-80AF-C8BBEA0B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689A-7AD1-4607-8270-FD905BF2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E2B3-DD9B-496B-A434-BC2F9A7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703-723E-4655-B026-CEAAA669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DB12-8DC8-4B7B-9978-0DE34B2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B4B0-407C-4DC7-89CD-A4AD5365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DA5A-98D7-4784-A763-611A0827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9D1B-26A1-43CC-8648-3EAA3958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A28D-0C06-4F46-9806-112BAF98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586D-2AD6-47CD-A660-8B00BC3C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F7BD-D81F-4DD2-BCB6-2E0C382C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7A47-E2C6-499A-9E35-2E6324F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A148-8604-4290-BAF8-27162690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4FA7-8FB8-459E-9342-FC93C184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0EA-95AD-4C33-AF2D-69B05AF0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12AFE-E29D-4927-A024-78F262FB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8D8B-B640-45DA-A405-6C57C749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BE34-0893-4776-B74D-E51BBEB5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0DEF2-37F3-4C26-87F9-438C64F2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6FA8-86FA-4C7B-B66A-01D0CA1E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9149-40F9-4508-8E2D-0CDB7764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8C64-DE31-4217-BDCB-474769DE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92005-82FE-4B45-A960-FC11D8A5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57C1-9455-4A4A-B167-D089CCFB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DE3A-ECE4-4978-9BAD-C18B521D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EE6-A2C4-4830-B9E5-557733DA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52D5-956F-40C2-9090-9C01D0EE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7629-03B1-4B52-B478-52A279E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E63DA-5F0F-49F7-A020-B53F4D2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9BF96-73B7-4304-A57E-9B97868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26EA-2ABA-4975-9DD3-139F373F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A6E1F-4454-4455-9522-2A149875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8F35-DEAF-48B3-8531-9911B2D3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78D77-468C-4774-A4FB-CC7F256F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8B2D0-D795-410C-B995-8978F91D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47B2C-FF28-4060-AA93-A0125666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351-84BE-436B-B162-A933BB5E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72C05-3619-48E7-803B-DFBD94E7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69BD-AC56-4B88-9852-8A1D598F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ACD74-BA42-4D24-A3BC-0EB780C2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2571-F014-48CA-B962-8D722992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31239-B818-4724-8265-76994763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B2AE-C9A7-45AB-98A3-E72D732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8118-7A9E-45DE-A3AF-D422E9CD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5349-F0CB-41A1-83B0-3CCF274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A89C4-306C-4B4E-B86A-108B8AB5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6D92E-B7EE-453E-83EF-28B23500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AE1-330E-4E3D-B33F-B29C257B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8C680-4DC2-4012-A4C8-EF2326B4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95B83-4F61-4B75-A8D1-5BE0BA2E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BD3B-7F24-45F1-9857-1A0542B2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7C75-5FA3-444B-A0AE-9F317753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48252-13AC-4AB8-8300-D8004354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B6C06-39C9-451C-A456-74BD6691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E3DD0-7FDA-4181-AD3A-16579EE3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E13A1-659D-42AB-9910-CD4C9BDC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05D78-47B6-4834-A869-E296E20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BA20-D1E9-4364-8F67-13B264C4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37C-8865-4193-9988-B74F968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B66C2-0515-40B6-A599-6088D85A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11DF7-E6AD-4491-9DD2-E974EEFD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9EA9-3B83-49D3-8872-3FD0FE03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661-3ED7-4F89-A93A-9412298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83A-C1F0-4191-A93D-8B7B05A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198A-5E52-4E90-9B35-08895E04318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03CD-375F-4D60-B88D-7CAC628EDF1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F77-763F-44AA-BFCE-89A3C3C47CC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9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20CC-4A3F-4130-A216-711BBC24184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C26-CE55-4A59-A8E8-FB80CAC740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9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9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9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8924-D37D-4C3F-9B06-5A876CCEB88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applause.wav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124000" y="55897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66"/>
                </a:solidFill>
                <a:latin typeface="Arial"/>
                <a:ea typeface="华文新魏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4360" y="522936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Arial"/>
                <a:ea typeface="华文新魏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94920" y="2349360"/>
            <a:ext cx="63248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华文琥珀"/>
              </a:rPr>
              <a:t>一个数除以小数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763640" y="4868640"/>
            <a:ext cx="6400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华文新魏"/>
              <a:ea typeface="华文新魏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620640"/>
            <a:ext cx="7392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312408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23464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除数是小数的除法，先移动（    ）的小数点，使它变成（   ）；除数的小数点向（   ）移动几位，（     ）的小数点也向右移动几位（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位数不够的，在被除数的末尾用“  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补足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；然后按照除数是整数的小数除法进行计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87360" y="746280"/>
            <a:ext cx="31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填 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65680" y="2408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除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76720" y="2986200"/>
            <a:ext cx="11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整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35956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93040" y="3625920"/>
            <a:ext cx="15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被除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89520" y="48448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fff"/>
            </a:gs>
            <a:gs pos="50000">
              <a:srgbClr val="00e4a8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042920" y="141300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80880" y="457200"/>
            <a:ext cx="6233400" cy="1294920"/>
            <a:chOff x="380880" y="457200"/>
            <a:chExt cx="6233400" cy="1294920"/>
          </a:xfrm>
        </p:grpSpPr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380880" y="457200"/>
              <a:ext cx="2061000" cy="129492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461" name=""/>
            <p:cNvSpPr/>
            <p:nvPr/>
          </p:nvSpPr>
          <p:spPr>
            <a:xfrm>
              <a:off x="2456640" y="703080"/>
              <a:ext cx="415764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说一说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,</a:t>
              </a: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做一做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343400" y="1371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21178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先说出下面各题中的除数和被除数需要同时扩大多少倍，应该怎样移动竖式中的小数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35280" y="4797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85800" y="3313080"/>
                <a:ext cx="3084480" cy="293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f>
                      <m:num/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249800" y="3463920"/>
                <a:ext cx="428472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/>
                      <m:den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41068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隶书"/>
              </a:rPr>
              <a:t>练一练：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94920" y="2839680"/>
            <a:ext cx="6782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华文中宋"/>
                <a:ea typeface="华文中宋"/>
              </a:rPr>
              <a:t>51.3÷0.27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6÷0.1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efefe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33520" y="228600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06fc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606fc"/>
                </a:solidFill>
                <a:latin typeface="隶书"/>
                <a:ea typeface="隶书"/>
              </a:rPr>
              <a:t>世界上最大的鸟是鸵鸟，体重达</a:t>
            </a:r>
            <a:r>
              <a:rPr b="1" lang="zh-CN" sz="4800" spc="-1" strike="noStrike">
                <a:solidFill>
                  <a:srgbClr val="0606fc"/>
                </a:solidFill>
                <a:latin typeface="隶书"/>
                <a:ea typeface="隶书"/>
              </a:rPr>
              <a:t>135</a:t>
            </a:r>
            <a:r>
              <a:rPr b="1" lang="zh-CN" sz="4800" spc="-1" strike="noStrike">
                <a:solidFill>
                  <a:srgbClr val="0606fc"/>
                </a:solidFill>
                <a:latin typeface="隶书"/>
                <a:ea typeface="隶书"/>
              </a:rPr>
              <a:t>千克；最小是鸟是蜂鸟，体重只有</a:t>
            </a:r>
            <a:r>
              <a:rPr b="1" lang="zh-CN" sz="4800" spc="-1" strike="noStrike">
                <a:solidFill>
                  <a:srgbClr val="0606fc"/>
                </a:solidFill>
                <a:latin typeface="隶书"/>
                <a:ea typeface="隶书"/>
              </a:rPr>
              <a:t>0.0016</a:t>
            </a:r>
            <a:r>
              <a:rPr b="1" lang="zh-CN" sz="4800" spc="-1" strike="noStrike">
                <a:solidFill>
                  <a:srgbClr val="0606fc"/>
                </a:solidFill>
                <a:latin typeface="隶书"/>
                <a:ea typeface="隶书"/>
              </a:rPr>
              <a:t>千克。鸵鸟的体重是蜂鸟的多少倍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380880"/>
            <a:ext cx="5257800" cy="1392480"/>
          </a:xfrm>
          <a:prstGeom prst="cloudCallout">
            <a:avLst>
              <a:gd name="adj1" fmla="val -85958"/>
              <a:gd name="adj2" fmla="val 77708"/>
            </a:avLst>
          </a:prstGeom>
          <a:gradFill rotWithShape="0">
            <a:gsLst>
              <a:gs pos="0">
                <a:srgbClr val="6699ff">
                  <a:alpha val="90196"/>
                </a:srgbClr>
              </a:gs>
              <a:gs pos="50000">
                <a:srgbClr val="c2d6fe"/>
              </a:gs>
              <a:gs pos="100000">
                <a:srgbClr val="6699ff">
                  <a:alpha val="90196"/>
                </a:srgbClr>
              </a:gs>
            </a:gsLst>
            <a:lin ang="5400000"/>
          </a:gradFill>
          <a:ln w="158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方正舒体"/>
              </a:rPr>
              <a:t>你会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7120" y="371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1600200" y="2971800"/>
            <a:ext cx="61722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谢谢指导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324000" y="4437000"/>
            <a:ext cx="8820000" cy="2089080"/>
            <a:chOff x="324000" y="4437000"/>
            <a:chExt cx="8820000" cy="2089080"/>
          </a:xfrm>
        </p:grpSpPr>
        <p:pic>
          <p:nvPicPr>
            <p:cNvPr id="351" name="" descr=""/>
            <p:cNvPicPr/>
            <p:nvPr/>
          </p:nvPicPr>
          <p:blipFill>
            <a:blip r:embed="rId3"/>
            <a:srcRect l="19748" t="2110" r="22280" b="4636"/>
            <a:stretch/>
          </p:blipFill>
          <p:spPr>
            <a:xfrm>
              <a:off x="4500720" y="4437000"/>
              <a:ext cx="143172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4"/>
            <a:stretch/>
          </p:blipFill>
          <p:spPr>
            <a:xfrm>
              <a:off x="6084720" y="4508640"/>
              <a:ext cx="138600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5"/>
            <a:srcRect l="13512" t="13819" r="27084" b="3857"/>
            <a:stretch/>
          </p:blipFill>
          <p:spPr>
            <a:xfrm>
              <a:off x="324000" y="4508640"/>
              <a:ext cx="21603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6"/>
            <a:stretch/>
          </p:blipFill>
          <p:spPr>
            <a:xfrm>
              <a:off x="2700360" y="4437000"/>
              <a:ext cx="158580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7"/>
            <a:srcRect l="0" t="8247" r="0" b="7107"/>
            <a:stretch/>
          </p:blipFill>
          <p:spPr>
            <a:xfrm>
              <a:off x="7518240" y="4797360"/>
              <a:ext cx="1625760" cy="147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"/>
          <p:cNvGrpSpPr/>
          <p:nvPr/>
        </p:nvGrpSpPr>
        <p:grpSpPr>
          <a:xfrm>
            <a:off x="179280" y="2565360"/>
            <a:ext cx="4752360" cy="1476360"/>
            <a:chOff x="179280" y="2565360"/>
            <a:chExt cx="4752360" cy="1476360"/>
          </a:xfrm>
        </p:grpSpPr>
        <p:grpSp>
          <p:nvGrpSpPr>
            <p:cNvPr id="357" name=""/>
            <p:cNvGrpSpPr/>
            <p:nvPr/>
          </p:nvGrpSpPr>
          <p:grpSpPr>
            <a:xfrm>
              <a:off x="179280" y="2565360"/>
              <a:ext cx="2232000" cy="1470240"/>
              <a:chOff x="179280" y="2565360"/>
              <a:chExt cx="2232000" cy="1470240"/>
            </a:xfrm>
          </p:grpSpPr>
          <p:pic>
            <p:nvPicPr>
              <p:cNvPr id="35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5840" y="2565360"/>
                <a:ext cx="1765440" cy="1470240"/>
              </a:xfrm>
              <a:prstGeom prst="rect">
                <a:avLst/>
              </a:prstGeom>
              <a:ln w="9360">
                <a:solidFill>
                  <a:srgbClr val="333399"/>
                </a:solidFill>
                <a:miter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179280" y="2637000"/>
                <a:ext cx="4316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蛋黄月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626920" y="2565360"/>
              <a:ext cx="2304720" cy="1476360"/>
              <a:chOff x="2626920" y="2565360"/>
              <a:chExt cx="2304720" cy="1476360"/>
            </a:xfrm>
          </p:grpSpPr>
          <p:pic>
            <p:nvPicPr>
              <p:cNvPr id="3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6920" y="2565360"/>
                <a:ext cx="1800360" cy="1476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362" name=""/>
              <p:cNvSpPr/>
              <p:nvPr/>
            </p:nvSpPr>
            <p:spPr>
              <a:xfrm flipV="1" rot="10800000">
                <a:off x="4500000" y="2636640"/>
                <a:ext cx="4316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水晶月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539640" y="439560"/>
            <a:ext cx="8259840" cy="1875240"/>
            <a:chOff x="539640" y="439560"/>
            <a:chExt cx="8259840" cy="1875240"/>
          </a:xfrm>
        </p:grpSpPr>
        <p:grpSp>
          <p:nvGrpSpPr>
            <p:cNvPr id="364" name=""/>
            <p:cNvGrpSpPr/>
            <p:nvPr/>
          </p:nvGrpSpPr>
          <p:grpSpPr>
            <a:xfrm>
              <a:off x="539640" y="439560"/>
              <a:ext cx="1800360" cy="1832400"/>
              <a:chOff x="539640" y="439560"/>
              <a:chExt cx="1800360" cy="1832400"/>
            </a:xfrm>
          </p:grpSpPr>
          <p:pic>
            <p:nvPicPr>
              <p:cNvPr id="3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9640" y="439560"/>
                <a:ext cx="1800360" cy="1433520"/>
              </a:xfrm>
              <a:prstGeom prst="rect">
                <a:avLst/>
              </a:prstGeom>
              <a:ln w="9360">
                <a:solidFill>
                  <a:srgbClr val="333399"/>
                </a:solidFill>
                <a:miter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900000" y="1873080"/>
                <a:ext cx="136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豆蓉月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4859280" y="476280"/>
              <a:ext cx="1730520" cy="1838520"/>
              <a:chOff x="4859280" y="476280"/>
              <a:chExt cx="1730520" cy="1838520"/>
            </a:xfrm>
          </p:grpSpPr>
          <p:pic>
            <p:nvPicPr>
              <p:cNvPr id="36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59280" y="476280"/>
                <a:ext cx="1730520" cy="1425240"/>
              </a:xfrm>
              <a:prstGeom prst="rect">
                <a:avLst/>
              </a:prstGeom>
              <a:ln w="9360">
                <a:solidFill>
                  <a:srgbClr val="333399"/>
                </a:solidFill>
                <a:miter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5075280" y="1915920"/>
                <a:ext cx="136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火腿月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697120" y="439560"/>
              <a:ext cx="1800360" cy="1802520"/>
              <a:chOff x="2697120" y="439560"/>
              <a:chExt cx="1800360" cy="1802520"/>
            </a:xfrm>
          </p:grpSpPr>
          <p:pic>
            <p:nvPicPr>
              <p:cNvPr id="37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97120" y="439560"/>
                <a:ext cx="1800360" cy="1440000"/>
              </a:xfrm>
              <a:prstGeom prst="rect">
                <a:avLst/>
              </a:prstGeom>
              <a:ln w="9360">
                <a:solidFill>
                  <a:srgbClr val="333399"/>
                </a:solidFill>
                <a:miter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3057480" y="184320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椒盐月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948360" y="476280"/>
              <a:ext cx="1851120" cy="1838520"/>
              <a:chOff x="6948360" y="476280"/>
              <a:chExt cx="1851120" cy="1838520"/>
            </a:xfrm>
          </p:grpSpPr>
          <p:pic>
            <p:nvPicPr>
              <p:cNvPr id="374" name="" descr="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7178760" y="245880"/>
                <a:ext cx="1390320" cy="185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7237080" y="1915920"/>
                <a:ext cx="136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莲蓉月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76" name="" descr=""/>
          <p:cNvPicPr/>
          <p:nvPr/>
        </p:nvPicPr>
        <p:blipFill>
          <a:blip r:embed="rId14"/>
          <a:stretch/>
        </p:blipFill>
        <p:spPr>
          <a:xfrm>
            <a:off x="5562720" y="2209680"/>
            <a:ext cx="3047760" cy="20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5247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下面的小数变成整数该怎么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320" y="3657240"/>
            <a:ext cx="678204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0.5       0.36        2.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0.09     2.126      0.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7280" y="692280"/>
            <a:ext cx="46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ahoma"/>
                <a:ea typeface="方正舒体"/>
              </a:rPr>
              <a:t>说一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efefe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720" y="541008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你发现了什么规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0720" y="2641680"/>
          <a:ext cx="7086600" cy="2463840"/>
        </p:xfrm>
        <a:graphic>
          <a:graphicData uri="http://schemas.openxmlformats.org/drawingml/2006/table">
            <a:tbl>
              <a:tblPr/>
              <a:tblGrid>
                <a:gridCol w="2286000"/>
                <a:gridCol w="1600200"/>
                <a:gridCol w="1676160"/>
                <a:gridCol w="1524240"/>
              </a:tblGrid>
              <a:tr h="86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被除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1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除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5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1295280" y="620640"/>
            <a:ext cx="3956040" cy="1152720"/>
          </a:xfrm>
          <a:prstGeom prst="cloudCallout">
            <a:avLst>
              <a:gd name="adj1" fmla="val -45787"/>
              <a:gd name="adj2" fmla="val 83472"/>
            </a:avLst>
          </a:prstGeom>
          <a:gradFill rotWithShape="0">
            <a:gsLst>
              <a:gs pos="0">
                <a:srgbClr val="6699ff">
                  <a:alpha val="90196"/>
                </a:srgbClr>
              </a:gs>
              <a:gs pos="50000">
                <a:srgbClr val="c2d6fe"/>
              </a:gs>
              <a:gs pos="100000">
                <a:srgbClr val="6699ff">
                  <a:alpha val="90196"/>
                </a:srgbClr>
              </a:gs>
            </a:gsLst>
            <a:lin ang="5400000"/>
          </a:gradFill>
          <a:ln w="158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方正舒体"/>
              </a:rPr>
              <a:t>填一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7120" y="371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24640" y="43527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86400" y="434340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2743200"/>
            <a:ext cx="14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dff"/>
                </a:solidFill>
                <a:latin typeface="Comic Sans MS"/>
                <a:ea typeface="华文行楷"/>
              </a:rPr>
              <a:t>做一做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服装厂做一件短袖要用布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67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，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628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布可以做多少件短袖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981080" y="38862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28÷67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 rot="10743000">
            <a:off x="4723560" y="388512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38862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件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3880" y="5334120"/>
            <a:ext cx="737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2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布可以做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短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wind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89550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服装厂做一件短袖要用布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0.67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，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6.28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布可以做多少件短袖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4281480"/>
            <a:ext cx="45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6.28÷0.6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1066680" y="914400"/>
            <a:ext cx="3810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606fc"/>
                </a:solidFill>
                <a:latin typeface="Comic Sans MS"/>
                <a:ea typeface="华文行楷"/>
              </a:rPr>
              <a:t>做一做：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291760" y="2979720"/>
            <a:ext cx="17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6.2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3078000"/>
            <a:ext cx="1874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rot="10664400">
            <a:off x="1834560" y="2032200"/>
            <a:ext cx="368280" cy="161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51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516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2520" y="297972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0.6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64400" y="354348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5 3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34200" y="415296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7440" y="461016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2 6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29520" y="52419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4221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09680" y="528804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72320" y="2370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29520" y="2370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76600" y="2987280"/>
            <a:ext cx="246960" cy="658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33400" y="2293920"/>
            <a:ext cx="17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6.2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184800" y="2418840"/>
            <a:ext cx="18543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09680" y="229392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0.6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rot="10664400">
            <a:off x="5797080" y="1346400"/>
            <a:ext cx="368280" cy="161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51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516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39520" y="4937040"/>
            <a:ext cx="173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6 2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24680" y="50356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70040" y="4937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6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rot="10664400">
            <a:off x="5762160" y="3962520"/>
            <a:ext cx="368280" cy="161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51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516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7480" y="3002040"/>
            <a:ext cx="0" cy="194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86400" y="3011400"/>
            <a:ext cx="5040" cy="19400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93440" y="2897280"/>
            <a:ext cx="88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83800" y="2897280"/>
            <a:ext cx="88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5791320"/>
            <a:ext cx="72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6.2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米布可以做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8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件短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129528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6.28÷0.67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91320" y="304920"/>
            <a:ext cx="3504960" cy="1143000"/>
          </a:xfrm>
          <a:prstGeom prst="cloudCallout">
            <a:avLst>
              <a:gd name="adj1" fmla="val -58694"/>
              <a:gd name="adj2" fmla="val 73194"/>
            </a:avLst>
          </a:prstGeom>
          <a:gradFill rotWithShape="0">
            <a:gsLst>
              <a:gs pos="0">
                <a:srgbClr val="6699ff">
                  <a:alpha val="90196"/>
                </a:srgbClr>
              </a:gs>
              <a:gs pos="50000">
                <a:srgbClr val="c2d6fe"/>
              </a:gs>
              <a:gs pos="100000">
                <a:srgbClr val="6699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6035"/>
                </a:solidFill>
                <a:latin typeface="Arial"/>
              </a:rPr>
              <a:t>把除数和被除数</a:t>
            </a:r>
            <a:br>
              <a:rPr sz="2400"/>
            </a:br>
            <a:r>
              <a:rPr b="1" lang="zh-CN" sz="2400" spc="-1" strike="noStrike">
                <a:solidFill>
                  <a:srgbClr val="2e6035"/>
                </a:solidFill>
                <a:latin typeface="Arial"/>
              </a:rPr>
              <a:t>   一同扩大</a:t>
            </a:r>
            <a:r>
              <a:rPr b="1" lang="zh-CN" sz="2400" spc="-1" strike="noStrike">
                <a:solidFill>
                  <a:srgbClr val="2e6035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2e6035"/>
                </a:solidFill>
                <a:latin typeface="Arial"/>
              </a:rPr>
              <a:t>倍，再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12952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57800" y="12826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件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92200" y="303228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97120" y="297972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73280" y="298296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208080" cy="2286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913200" y="297972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24280" y="2133720"/>
            <a:ext cx="3505320" cy="3581280"/>
          </a:xfrm>
          <a:prstGeom prst="rect">
            <a:avLst/>
          </a:prstGeom>
          <a:noFill/>
          <a:ln w="38160">
            <a:solidFill>
              <a:srgbClr val="ffb8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608120" y="3460680"/>
            <a:ext cx="138240" cy="1526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1874880" y="3440160"/>
            <a:ext cx="127080" cy="1411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3124080" y="3429000"/>
            <a:ext cx="138240" cy="1522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3594240" y="3427560"/>
            <a:ext cx="139680" cy="153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125360" y="304812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6"/>
          <a:stretch/>
        </p:blipFill>
        <p:spPr>
          <a:xfrm>
            <a:off x="4038480" y="3432240"/>
            <a:ext cx="120600" cy="133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016080" y="30114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05280" y="3345480"/>
            <a:ext cx="106920" cy="253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10400" y="3346920"/>
            <a:ext cx="106560" cy="253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29520" y="4145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7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18960" y="260280"/>
            <a:ext cx="3429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ahoma"/>
                <a:ea typeface="隶书"/>
              </a:rPr>
              <a:t>分组讨论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-228960" y="4876560"/>
            <a:ext cx="8839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这两种方法有什么不同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哪一种方法更为实用？为什么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419040" y="192420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方法一：把题里的米数都改写成厘米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        数来计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方法二：把除数和被除数一同扩大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100</a:t>
            </a: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倍，再计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39760" y="11588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ahoma"/>
                <a:ea typeface="隶书"/>
              </a:rPr>
              <a:t>小组合作尝试计算：</a:t>
            </a:r>
            <a:br>
              <a:rPr sz="48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10.5÷0.75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00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ahoma"/>
                <a:ea typeface="隶书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计算除数是小数的除法时，先怎样做，再怎样做，最后呢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  </a:t>
            </a: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如果遇到被除数的位数不够，应该怎么办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524720" y="58770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311780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xin</cp:lastModifiedBy>
  <dcterms:modified xsi:type="dcterms:W3CDTF">2007-12-18T12:33:28Z</dcterms:modified>
  <cp:revision>62</cp:revision>
  <dc:subject/>
  <dc:title>PowerPoint Presentation</dc:title>
</cp:coreProperties>
</file>