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7.gif" ContentType="image/gif"/>
  <Override PartName="/ppt/media/image5.jpeg" ContentType="image/jpeg"/>
  <Override PartName="/ppt/media/applause.wav" ContentType="audio/x-wav"/>
  <Override PartName="/ppt/media/type.wav" ContentType="audio/x-wav"/>
  <Override PartName="/ppt/media/image14.gif" ContentType="image/gif"/>
  <Override PartName="/ppt/media/image16.gif" ContentType="image/gif"/>
  <Override PartName="/ppt/media/image15.jpeg" ContentType="image/jpeg"/>
  <Override PartName="/ppt/media/image13.jpeg" ContentType="image/jpeg"/>
  <Override PartName="/ppt/media/drumroll.wav" ContentType="audio/x-wav"/>
  <Override PartName="/ppt/media/image12.gif" ContentType="image/gif"/>
  <Override PartName="/ppt/media/image11.gif" ContentType="image/gif"/>
  <Override PartName="/ppt/media/image1.gif" ContentType="image/gif"/>
  <Override PartName="/ppt/media/image3.gif" ContentType="image/gif"/>
  <Override PartName="/ppt/media/image4.gif" ContentType="image/gif"/>
  <Override PartName="/ppt/media/chimes.wav" ContentType="audio/x-wav"/>
  <Override PartName="/ppt/media/image8.png" ContentType="image/png"/>
  <Override PartName="/ppt/media/image10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09B-401F-4CDB-88DC-5B0E1D45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6AC-BFD3-4CFD-9C54-DD5A890A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5E8-40AC-4FD8-923F-5FBEB3B6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BB0-669E-4E07-9349-F0F9FF35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3D1-FDF2-40A3-B523-01066761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613-60CE-4744-9B67-9128A93A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27D-EAFA-4793-B036-84A6D657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0D9-A6A5-4D0E-8C6C-1AC6481B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270-EB46-4AE5-AC76-F4913FD3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58E-3F36-4B9B-BBA4-28BA546F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532-B7EF-4DFF-9B98-1BACFFD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22C-AA03-419B-A3C6-63978190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2F3D-555F-4D64-B19D-D7E9B9C4E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audio" Target="../media/chimes.wav"/><Relationship Id="rId9" Type="http://schemas.openxmlformats.org/officeDocument/2006/relationships/audio" Target="../media/applause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audio" Target="../media/chimes.wav"/><Relationship Id="rId16" Type="http://schemas.openxmlformats.org/officeDocument/2006/relationships/audio" Target="../media/applause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applause.wav"/><Relationship Id="rId21" Type="http://schemas.openxmlformats.org/officeDocument/2006/relationships/audio" Target="../media/chimes.wav"/><Relationship Id="rId22" Type="http://schemas.openxmlformats.org/officeDocument/2006/relationships/audio" Target="../media/applause.wav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applause.wav"/><Relationship Id="rId11" Type="http://schemas.openxmlformats.org/officeDocument/2006/relationships/audio" Target="../media/chimes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applause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drumroll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audio" Target="../media/chimes.wav"/><Relationship Id="rId10" Type="http://schemas.openxmlformats.org/officeDocument/2006/relationships/audio" Target="../media/applause.wav"/><Relationship Id="rId11" Type="http://schemas.openxmlformats.org/officeDocument/2006/relationships/audio" Target="../media/chimes.wav"/><Relationship Id="rId12" Type="http://schemas.openxmlformats.org/officeDocument/2006/relationships/audio" Target="../media/applause.wav"/><Relationship Id="rId13" Type="http://schemas.openxmlformats.org/officeDocument/2006/relationships/audio" Target="../media/chimes.wav"/><Relationship Id="rId14" Type="http://schemas.openxmlformats.org/officeDocument/2006/relationships/audio" Target="../media/applaus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-1486080" y="2324160"/>
            <a:ext cx="5562720" cy="182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专注创造成功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666880" y="0"/>
            <a:ext cx="5410440" cy="3854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666880" y="4343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114800" y="42670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324480" y="41148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391520" y="4724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8153280" y="3200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410080" y="4952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267080" y="5181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133720" y="54864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3276720" y="55627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6324480" y="5486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2286000" y="1752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8153280" y="5562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8153280" y="41148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8153280" y="2057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8153280" y="990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7924680" y="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2362320" y="3808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2209680" y="3429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3276720" y="533520"/>
            <a:ext cx="4952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676520" y="304920"/>
            <a:ext cx="5867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ef0b"/>
                    </a:gs>
                    <a:gs pos="50000">
                      <a:srgbClr val="ff3300"/>
                    </a:gs>
                    <a:gs pos="100000">
                      <a:srgbClr val="f5ef0b"/>
                    </a:gs>
                  </a:gsLst>
                  <a:lin ang="13500000"/>
                </a:gradFill>
                <a:latin typeface="宋体"/>
              </a:rPr>
              <a:t>循环小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ef0b"/>
                  </a:gs>
                  <a:gs pos="50000">
                    <a:srgbClr val="ff3300"/>
                  </a:gs>
                  <a:gs pos="100000">
                    <a:srgbClr val="f5ef0b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133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个小数，从小数部分的某一位起，一个数字或者几个数字依次不断地重复出现，这样的小数叫做循环小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952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0.33……     5.32727……       1.5353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2362320"/>
            <a:ext cx="914400" cy="764280"/>
          </a:xfrm>
          <a:prstGeom prst="rect">
            <a:avLst/>
          </a:prstGeom>
          <a:solidFill>
            <a:srgbClr val="99ff66"/>
          </a:solidFill>
          <a:ln w="114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小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447920"/>
            <a:ext cx="2286000" cy="642600"/>
          </a:xfrm>
          <a:prstGeom prst="rect">
            <a:avLst/>
          </a:prstGeom>
          <a:solidFill>
            <a:srgbClr val="ffff00"/>
          </a:solidFill>
          <a:ln w="101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限小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114800"/>
            <a:ext cx="2286000" cy="642600"/>
          </a:xfrm>
          <a:prstGeom prst="rect">
            <a:avLst/>
          </a:prstGeom>
          <a:solidFill>
            <a:srgbClr val="ffff00"/>
          </a:solidFill>
          <a:ln w="101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限小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3048120"/>
            <a:ext cx="1904760" cy="581400"/>
          </a:xfrm>
          <a:prstGeom prst="rect">
            <a:avLst/>
          </a:prstGeom>
          <a:solidFill>
            <a:srgbClr val="ffccff"/>
          </a:solidFill>
          <a:ln w="889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循环小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5199120"/>
            <a:ext cx="2362320" cy="581400"/>
          </a:xfrm>
          <a:prstGeom prst="rect">
            <a:avLst/>
          </a:prstGeom>
          <a:solidFill>
            <a:srgbClr val="ffccff"/>
          </a:solidFill>
          <a:ln w="889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循环小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2133720"/>
            <a:ext cx="2438280" cy="5814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纯循环小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3962520"/>
            <a:ext cx="2438280" cy="5814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混循环小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270800" y="2269440"/>
            <a:ext cx="1344600" cy="870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16880" y="3234600"/>
            <a:ext cx="1405080" cy="769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832920" y="3806640"/>
            <a:ext cx="1097280" cy="692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90440" y="4555800"/>
            <a:ext cx="1334520" cy="565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88040" y="2761560"/>
            <a:ext cx="1035000" cy="648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52400" y="3412800"/>
            <a:ext cx="1334880" cy="565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95480" y="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关系图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2209680"/>
            <a:ext cx="10666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0.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4876920"/>
            <a:ext cx="20574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0.33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2362320"/>
            <a:ext cx="20574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0.33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1828800"/>
            <a:ext cx="251460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0.03737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5911920"/>
            <a:ext cx="289548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5.314362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086600" y="1143000"/>
            <a:ext cx="1370880" cy="1047600"/>
            <a:chOff x="7086600" y="1143000"/>
            <a:chExt cx="1370880" cy="1047600"/>
          </a:xfrm>
        </p:grpSpPr>
        <p:sp>
          <p:nvSpPr>
            <p:cNvPr id="87" name=""/>
            <p:cNvSpPr/>
            <p:nvPr/>
          </p:nvSpPr>
          <p:spPr>
            <a:xfrm>
              <a:off x="7086600" y="1548000"/>
              <a:ext cx="123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6.41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23040" y="1143000"/>
              <a:ext cx="123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.  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315200" y="4267080"/>
            <a:ext cx="1523520" cy="1047600"/>
            <a:chOff x="7315200" y="4267080"/>
            <a:chExt cx="1523520" cy="1047600"/>
          </a:xfrm>
        </p:grpSpPr>
        <p:sp>
          <p:nvSpPr>
            <p:cNvPr id="90" name=""/>
            <p:cNvSpPr/>
            <p:nvPr/>
          </p:nvSpPr>
          <p:spPr>
            <a:xfrm>
              <a:off x="7315200" y="46720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5.32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67120" y="42670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-169920"/>
            <a:ext cx="9144000" cy="7016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057400" y="0"/>
            <a:ext cx="4267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循环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828800"/>
            <a:ext cx="7772400" cy="581400"/>
          </a:xfrm>
          <a:prstGeom prst="rect">
            <a:avLst/>
          </a:prstGeom>
          <a:solidFill>
            <a:srgbClr val="ffff99"/>
          </a:solidFill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个循环小数的小数部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依次不断地重复出现的数字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叫做这个小数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循环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3276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0.33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962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5.32727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7242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6.416416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0.03737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3276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的循环节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930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的循环节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724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的循环节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530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的循环节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3276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4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5562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0" y="-5257800"/>
            <a:ext cx="7086600" cy="14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宋体"/>
              </a:rPr>
              <a:t>循环小数的简便写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133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0.33……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写作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284940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.32727……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写作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5654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6.416416……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写作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281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.4777……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写作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4997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5.438438……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写作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571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0.03737……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写作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257800" y="1620720"/>
            <a:ext cx="1218600" cy="1047600"/>
            <a:chOff x="5257800" y="1620720"/>
            <a:chExt cx="1218600" cy="1047600"/>
          </a:xfrm>
        </p:grpSpPr>
        <p:sp>
          <p:nvSpPr>
            <p:cNvPr id="116" name=""/>
            <p:cNvSpPr/>
            <p:nvPr/>
          </p:nvSpPr>
          <p:spPr>
            <a:xfrm>
              <a:off x="5257800" y="2025720"/>
              <a:ext cx="109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0.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79120" y="1620720"/>
              <a:ext cx="109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181480" y="2438280"/>
            <a:ext cx="1675800" cy="1047600"/>
            <a:chOff x="5181480" y="2438280"/>
            <a:chExt cx="1675800" cy="1047600"/>
          </a:xfrm>
        </p:grpSpPr>
        <p:sp>
          <p:nvSpPr>
            <p:cNvPr id="119" name=""/>
            <p:cNvSpPr/>
            <p:nvPr/>
          </p:nvSpPr>
          <p:spPr>
            <a:xfrm>
              <a:off x="5181480" y="2843280"/>
              <a:ext cx="150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5.32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48520" y="2438280"/>
              <a:ext cx="150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486400" y="3144960"/>
            <a:ext cx="1675800" cy="1047600"/>
            <a:chOff x="5486400" y="3144960"/>
            <a:chExt cx="1675800" cy="1047600"/>
          </a:xfrm>
        </p:grpSpPr>
        <p:sp>
          <p:nvSpPr>
            <p:cNvPr id="122" name=""/>
            <p:cNvSpPr/>
            <p:nvPr/>
          </p:nvSpPr>
          <p:spPr>
            <a:xfrm>
              <a:off x="5486400" y="3549960"/>
              <a:ext cx="150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6.41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53440" y="3144960"/>
              <a:ext cx="150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.  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876920" y="3886200"/>
            <a:ext cx="1370880" cy="1047600"/>
            <a:chOff x="4876920" y="3886200"/>
            <a:chExt cx="1370880" cy="1047600"/>
          </a:xfrm>
        </p:grpSpPr>
        <p:sp>
          <p:nvSpPr>
            <p:cNvPr id="125" name=""/>
            <p:cNvSpPr/>
            <p:nvPr/>
          </p:nvSpPr>
          <p:spPr>
            <a:xfrm>
              <a:off x="4876920" y="4291200"/>
              <a:ext cx="123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.4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13360" y="3886200"/>
              <a:ext cx="123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     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638680" y="4572000"/>
            <a:ext cx="1904040" cy="1047600"/>
            <a:chOff x="5638680" y="4572000"/>
            <a:chExt cx="1904040" cy="1047600"/>
          </a:xfrm>
        </p:grpSpPr>
        <p:sp>
          <p:nvSpPr>
            <p:cNvPr id="128" name=""/>
            <p:cNvSpPr/>
            <p:nvPr/>
          </p:nvSpPr>
          <p:spPr>
            <a:xfrm>
              <a:off x="5638680" y="497700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5.43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28400" y="457200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.  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105520" y="5334120"/>
            <a:ext cx="1523520" cy="1047600"/>
            <a:chOff x="5105520" y="5334120"/>
            <a:chExt cx="1523520" cy="1047600"/>
          </a:xfrm>
        </p:grpSpPr>
        <p:sp>
          <p:nvSpPr>
            <p:cNvPr id="131" name=""/>
            <p:cNvSpPr/>
            <p:nvPr/>
          </p:nvSpPr>
          <p:spPr>
            <a:xfrm>
              <a:off x="5105520" y="57391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0.03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57440" y="53341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5943600" cy="74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5343480" cy="74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371600" y="4114800"/>
            <a:ext cx="5943600" cy="74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371600" y="4876920"/>
            <a:ext cx="5343480" cy="74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1371600" y="6326280"/>
            <a:ext cx="5343480" cy="74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1219320" y="5562720"/>
            <a:ext cx="5943600" cy="74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914400" y="457200"/>
            <a:ext cx="7162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循环小数的简便写法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3808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求下面各循环小数的近似值写在括号里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保留三位小数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600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1.29090……(          )   0.444……(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590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0.183838……(          ) 7.257257……(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38080" y="3352680"/>
            <a:ext cx="6248160" cy="1099800"/>
            <a:chOff x="838080" y="3352680"/>
            <a:chExt cx="6248160" cy="1099800"/>
          </a:xfrm>
        </p:grpSpPr>
        <p:sp>
          <p:nvSpPr>
            <p:cNvPr id="145" name=""/>
            <p:cNvSpPr/>
            <p:nvPr/>
          </p:nvSpPr>
          <p:spPr>
            <a:xfrm>
              <a:off x="838080" y="3809880"/>
              <a:ext cx="624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3300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cc3300"/>
                  </a:solidFill>
                  <a:latin typeface="Times New Roman"/>
                </a:rPr>
                <a:t>5.327(          )      6.416(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68160" y="3352680"/>
              <a:ext cx="13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.  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1920" y="3352680"/>
              <a:ext cx="13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.  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14400" y="4572000"/>
            <a:ext cx="5867280" cy="1099800"/>
            <a:chOff x="914400" y="4572000"/>
            <a:chExt cx="5867280" cy="1099800"/>
          </a:xfrm>
        </p:grpSpPr>
        <p:sp>
          <p:nvSpPr>
            <p:cNvPr id="149" name=""/>
            <p:cNvSpPr/>
            <p:nvPr/>
          </p:nvSpPr>
          <p:spPr>
            <a:xfrm>
              <a:off x="914400" y="5029200"/>
              <a:ext cx="586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1.47(          )       0.037(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0200" y="4572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.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4572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1" lang="zh-CN" sz="3600" spc="-1" strike="noStrike">
                  <a:solidFill>
                    <a:srgbClr val="cc3300"/>
                  </a:solidFill>
                  <a:latin typeface="Times New Roman"/>
                </a:rPr>
                <a:t>.  .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200400" y="1600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29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676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44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18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2635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7.25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809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.32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809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6.41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5029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47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5073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03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6320" y="3808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09480" y="58672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371600" y="58672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438280" y="58672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429000" y="58672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4267080" y="58672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181480" y="58672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6019920" y="58672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7543800" y="5791320"/>
            <a:ext cx="685800" cy="618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8229600" y="5791320"/>
            <a:ext cx="685800" cy="618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6781680" y="5867280"/>
            <a:ext cx="685800" cy="619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81080" y="304920"/>
            <a:ext cx="4572000" cy="764280"/>
          </a:xfrm>
          <a:prstGeom prst="rect">
            <a:avLst/>
          </a:prstGeom>
          <a:solidFill>
            <a:srgbClr val="ccffff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比较小数的大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1076040" cy="10764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762120" y="1371600"/>
            <a:ext cx="2819160" cy="1055160"/>
            <a:chOff x="762120" y="1371600"/>
            <a:chExt cx="2819160" cy="1055160"/>
          </a:xfrm>
        </p:grpSpPr>
        <p:sp>
          <p:nvSpPr>
            <p:cNvPr id="175" name=""/>
            <p:cNvSpPr/>
            <p:nvPr/>
          </p:nvSpPr>
          <p:spPr>
            <a:xfrm>
              <a:off x="762120" y="178416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0.3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178416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0.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71800" y="13716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28800" y="1860480"/>
              <a:ext cx="60948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62120" y="2438280"/>
            <a:ext cx="2819160" cy="1055160"/>
            <a:chOff x="762120" y="2438280"/>
            <a:chExt cx="2819160" cy="1055160"/>
          </a:xfrm>
        </p:grpSpPr>
        <p:grpSp>
          <p:nvGrpSpPr>
            <p:cNvPr id="180" name=""/>
            <p:cNvGrpSpPr/>
            <p:nvPr/>
          </p:nvGrpSpPr>
          <p:grpSpPr>
            <a:xfrm>
              <a:off x="762120" y="2438280"/>
              <a:ext cx="2819160" cy="1055160"/>
              <a:chOff x="762120" y="2438280"/>
              <a:chExt cx="2819160" cy="1055160"/>
            </a:xfrm>
          </p:grpSpPr>
          <p:sp>
            <p:nvSpPr>
              <p:cNvPr id="181" name=""/>
              <p:cNvSpPr/>
              <p:nvPr/>
            </p:nvSpPr>
            <p:spPr>
              <a:xfrm>
                <a:off x="762120" y="285084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cc"/>
                    </a:solidFill>
                    <a:latin typeface="Times New Roman"/>
                  </a:rPr>
                  <a:t>1.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14600" y="285084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cc"/>
                    </a:solidFill>
                    <a:latin typeface="Times New Roman"/>
                  </a:rPr>
                  <a:t>1.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71800" y="243828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cc"/>
                    </a:solidFill>
                    <a:latin typeface="Times New Roman"/>
                  </a:rPr>
                  <a:t>. 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28800" y="2927160"/>
                <a:ext cx="60948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447920" y="2438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191120" y="2362320"/>
            <a:ext cx="4190400" cy="1572120"/>
            <a:chOff x="4191120" y="2362320"/>
            <a:chExt cx="4190400" cy="1572120"/>
          </a:xfrm>
        </p:grpSpPr>
        <p:sp>
          <p:nvSpPr>
            <p:cNvPr id="187" name=""/>
            <p:cNvSpPr/>
            <p:nvPr/>
          </p:nvSpPr>
          <p:spPr>
            <a:xfrm>
              <a:off x="4191120" y="2743200"/>
              <a:ext cx="219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5.32727…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90480" y="2775240"/>
              <a:ext cx="139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5.32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87000" y="2362320"/>
              <a:ext cx="79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33840" y="2851200"/>
              <a:ext cx="60768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752480" y="1752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2743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724280" y="1447920"/>
            <a:ext cx="3353040" cy="1055160"/>
            <a:chOff x="4724280" y="1447920"/>
            <a:chExt cx="3353040" cy="1055160"/>
          </a:xfrm>
        </p:grpSpPr>
        <p:sp>
          <p:nvSpPr>
            <p:cNvPr id="195" name=""/>
            <p:cNvSpPr/>
            <p:nvPr/>
          </p:nvSpPr>
          <p:spPr>
            <a:xfrm>
              <a:off x="4724280" y="1860480"/>
              <a:ext cx="126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1.2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02400" y="1860480"/>
              <a:ext cx="12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1.23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1560" y="1447920"/>
              <a:ext cx="72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16600" y="1936800"/>
              <a:ext cx="53352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05520" y="14479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867280" y="1828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143000" y="3733920"/>
            <a:ext cx="7772400" cy="642600"/>
          </a:xfrm>
          <a:prstGeom prst="rect">
            <a:avLst/>
          </a:prstGeom>
          <a:solidFill>
            <a:srgbClr val="ccffff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把下面三个数按从大到小的顺序排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4844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.2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43000" y="4464000"/>
            <a:ext cx="1143000" cy="1023480"/>
            <a:chOff x="1143000" y="4464000"/>
            <a:chExt cx="1143000" cy="1023480"/>
          </a:xfrm>
        </p:grpSpPr>
        <p:sp>
          <p:nvSpPr>
            <p:cNvPr id="205" name=""/>
            <p:cNvSpPr/>
            <p:nvPr/>
          </p:nvSpPr>
          <p:spPr>
            <a:xfrm>
              <a:off x="1143000" y="48448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1.2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480" y="44640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48120" y="4432320"/>
            <a:ext cx="1066680" cy="1055520"/>
            <a:chOff x="3048120" y="4432320"/>
            <a:chExt cx="1066680" cy="1055520"/>
          </a:xfrm>
        </p:grpSpPr>
        <p:sp>
          <p:nvSpPr>
            <p:cNvPr id="208" name=""/>
            <p:cNvSpPr/>
            <p:nvPr/>
          </p:nvSpPr>
          <p:spPr>
            <a:xfrm>
              <a:off x="3048120" y="48452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1.2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29000" y="44323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990720" y="5651640"/>
            <a:ext cx="6172200" cy="642600"/>
          </a:xfrm>
          <a:prstGeom prst="rect">
            <a:avLst/>
          </a:prstGeom>
          <a:solidFill>
            <a:srgbClr val="ccffff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          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＞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           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＞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9000" y="5346720"/>
            <a:ext cx="1143000" cy="1023480"/>
            <a:chOff x="3429000" y="5346720"/>
            <a:chExt cx="1143000" cy="1023480"/>
          </a:xfrm>
        </p:grpSpPr>
        <p:sp>
          <p:nvSpPr>
            <p:cNvPr id="212" name=""/>
            <p:cNvSpPr/>
            <p:nvPr/>
          </p:nvSpPr>
          <p:spPr>
            <a:xfrm>
              <a:off x="3429000" y="57276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1.2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38480" y="53467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371600" y="5346720"/>
            <a:ext cx="1066680" cy="1055520"/>
            <a:chOff x="1371600" y="5346720"/>
            <a:chExt cx="1066680" cy="1055520"/>
          </a:xfrm>
        </p:grpSpPr>
        <p:sp>
          <p:nvSpPr>
            <p:cNvPr id="215" name=""/>
            <p:cNvSpPr/>
            <p:nvPr/>
          </p:nvSpPr>
          <p:spPr>
            <a:xfrm>
              <a:off x="1371600" y="57596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1.2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2480" y="53467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410080" y="5727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.2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122480" cy="1143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304920"/>
            <a:ext cx="2743200" cy="764280"/>
          </a:xfrm>
          <a:prstGeom prst="rect">
            <a:avLst/>
          </a:prstGeom>
          <a:solidFill>
            <a:srgbClr val="ffff00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判断正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6705720" cy="764280"/>
            <a:chOff x="457200" y="1371600"/>
            <a:chExt cx="6705720" cy="764280"/>
          </a:xfrm>
        </p:grpSpPr>
        <p:grpSp>
          <p:nvGrpSpPr>
            <p:cNvPr id="222" name=""/>
            <p:cNvGrpSpPr/>
            <p:nvPr/>
          </p:nvGrpSpPr>
          <p:grpSpPr>
            <a:xfrm>
              <a:off x="457200" y="1447920"/>
              <a:ext cx="685800" cy="609480"/>
              <a:chOff x="457200" y="1447920"/>
              <a:chExt cx="685800" cy="609480"/>
            </a:xfrm>
          </p:grpSpPr>
          <p:sp>
            <p:nvSpPr>
              <p:cNvPr id="223" name=""/>
              <p:cNvSpPr/>
              <p:nvPr/>
            </p:nvSpPr>
            <p:spPr>
              <a:xfrm>
                <a:off x="457200" y="1447920"/>
                <a:ext cx="685800" cy="609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9480" y="14479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600200" y="1371600"/>
              <a:ext cx="5562720" cy="764280"/>
            </a:xfrm>
            <a:prstGeom prst="rect">
              <a:avLst/>
            </a:prstGeom>
            <a:solidFill>
              <a:srgbClr val="ccffff"/>
            </a:solidFill>
            <a:ln w="1015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0.7777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是循环小数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( 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57200" y="2209680"/>
            <a:ext cx="5181480" cy="1069200"/>
            <a:chOff x="457200" y="2209680"/>
            <a:chExt cx="5181480" cy="1069200"/>
          </a:xfrm>
        </p:grpSpPr>
        <p:grpSp>
          <p:nvGrpSpPr>
            <p:cNvPr id="227" name=""/>
            <p:cNvGrpSpPr/>
            <p:nvPr/>
          </p:nvGrpSpPr>
          <p:grpSpPr>
            <a:xfrm>
              <a:off x="457200" y="2514600"/>
              <a:ext cx="685800" cy="609480"/>
              <a:chOff x="457200" y="2514600"/>
              <a:chExt cx="685800" cy="609480"/>
            </a:xfrm>
          </p:grpSpPr>
          <p:sp>
            <p:nvSpPr>
              <p:cNvPr id="228" name=""/>
              <p:cNvSpPr/>
              <p:nvPr/>
            </p:nvSpPr>
            <p:spPr>
              <a:xfrm>
                <a:off x="457200" y="2514600"/>
                <a:ext cx="685800" cy="609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09480" y="251460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600200" y="2514600"/>
              <a:ext cx="4038480" cy="764280"/>
            </a:xfrm>
            <a:prstGeom prst="rect">
              <a:avLst/>
            </a:prstGeom>
            <a:solidFill>
              <a:srgbClr val="ccffff"/>
            </a:solidFill>
            <a:ln w="1015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1.3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＞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1.333 ( 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33720" y="2209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200" y="3321000"/>
            <a:ext cx="6629400" cy="1024560"/>
            <a:chOff x="457200" y="3321000"/>
            <a:chExt cx="6629400" cy="1024560"/>
          </a:xfrm>
        </p:grpSpPr>
        <p:grpSp>
          <p:nvGrpSpPr>
            <p:cNvPr id="233" name=""/>
            <p:cNvGrpSpPr/>
            <p:nvPr/>
          </p:nvGrpSpPr>
          <p:grpSpPr>
            <a:xfrm>
              <a:off x="457200" y="3581280"/>
              <a:ext cx="685800" cy="609480"/>
              <a:chOff x="457200" y="3581280"/>
              <a:chExt cx="685800" cy="609480"/>
            </a:xfrm>
          </p:grpSpPr>
          <p:sp>
            <p:nvSpPr>
              <p:cNvPr id="234" name=""/>
              <p:cNvSpPr/>
              <p:nvPr/>
            </p:nvSpPr>
            <p:spPr>
              <a:xfrm>
                <a:off x="457200" y="3581280"/>
                <a:ext cx="685800" cy="609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09480" y="35812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1523880" y="3581280"/>
              <a:ext cx="5562720" cy="764280"/>
            </a:xfrm>
            <a:prstGeom prst="rect">
              <a:avLst/>
            </a:prstGeom>
            <a:solidFill>
              <a:srgbClr val="ccffff"/>
            </a:solidFill>
            <a:ln w="1015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0.07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是混循环小数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( 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62320" y="33210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57200" y="4419720"/>
            <a:ext cx="5181480" cy="1024560"/>
            <a:chOff x="457200" y="4419720"/>
            <a:chExt cx="5181480" cy="1024560"/>
          </a:xfrm>
        </p:grpSpPr>
        <p:grpSp>
          <p:nvGrpSpPr>
            <p:cNvPr id="239" name=""/>
            <p:cNvGrpSpPr/>
            <p:nvPr/>
          </p:nvGrpSpPr>
          <p:grpSpPr>
            <a:xfrm>
              <a:off x="457200" y="4648320"/>
              <a:ext cx="5181480" cy="795960"/>
              <a:chOff x="457200" y="4648320"/>
              <a:chExt cx="5181480" cy="79596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457200" y="4648320"/>
                <a:ext cx="685800" cy="609480"/>
                <a:chOff x="457200" y="4648320"/>
                <a:chExt cx="685800" cy="6094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57200" y="4648320"/>
                  <a:ext cx="685800" cy="6094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9480" y="4648320"/>
                  <a:ext cx="457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1600200" y="4680000"/>
                <a:ext cx="4038480" cy="764280"/>
              </a:xfrm>
              <a:prstGeom prst="rect">
                <a:avLst/>
              </a:prstGeom>
              <a:solidFill>
                <a:srgbClr val="ccffff"/>
              </a:solidFill>
              <a:ln w="10152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3300"/>
                    </a:solidFill>
                    <a:latin typeface="Times New Roman"/>
                  </a:rPr>
                  <a:t>2.07=2.07 (   )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3505320" y="44197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57200" y="5410080"/>
            <a:ext cx="8458200" cy="1191240"/>
            <a:chOff x="457200" y="5410080"/>
            <a:chExt cx="8458200" cy="1191240"/>
          </a:xfrm>
        </p:grpSpPr>
        <p:grpSp>
          <p:nvGrpSpPr>
            <p:cNvPr id="246" name=""/>
            <p:cNvGrpSpPr/>
            <p:nvPr/>
          </p:nvGrpSpPr>
          <p:grpSpPr>
            <a:xfrm>
              <a:off x="457200" y="5689440"/>
              <a:ext cx="8458200" cy="711360"/>
              <a:chOff x="457200" y="5689440"/>
              <a:chExt cx="8458200" cy="71136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457200" y="5791320"/>
                <a:ext cx="685800" cy="609480"/>
                <a:chOff x="457200" y="5791320"/>
                <a:chExt cx="685800" cy="6094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57200" y="5791320"/>
                  <a:ext cx="685800" cy="6094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09480" y="5791320"/>
                  <a:ext cx="457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1600200" y="5689440"/>
                <a:ext cx="7315200" cy="703440"/>
              </a:xfrm>
              <a:prstGeom prst="rect">
                <a:avLst/>
              </a:prstGeom>
              <a:solidFill>
                <a:srgbClr val="ccffff"/>
              </a:solidFill>
              <a:ln w="10152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3300"/>
                    </a:solidFill>
                    <a:latin typeface="Times New Roman"/>
                  </a:rPr>
                  <a:t>13.243243… … </a:t>
                </a:r>
                <a:r>
                  <a:rPr b="1" lang="zh-CN" sz="4000" spc="-1" strike="noStrike">
                    <a:solidFill>
                      <a:srgbClr val="ff3300"/>
                    </a:solidFill>
                    <a:latin typeface="Times New Roman"/>
                  </a:rPr>
                  <a:t>可写作</a:t>
                </a:r>
                <a:r>
                  <a:rPr b="1" lang="zh-CN" sz="4000" spc="-1" strike="noStrike">
                    <a:solidFill>
                      <a:srgbClr val="ff3300"/>
                    </a:solidFill>
                    <a:latin typeface="Times New Roman"/>
                  </a:rPr>
                  <a:t>13.24 (   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7010280" y="541008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.   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8001000" y="57913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478476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150804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2590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9920" y="36576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90720" y="304920"/>
            <a:ext cx="7772400" cy="642600"/>
          </a:xfrm>
          <a:prstGeom prst="rect">
            <a:avLst/>
          </a:prstGeom>
          <a:solidFill>
            <a:srgbClr val="ccffff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简写下面的循环小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并分出类别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1295280"/>
            <a:ext cx="7772400" cy="642600"/>
          </a:xfrm>
          <a:prstGeom prst="rect">
            <a:avLst/>
          </a:prstGeom>
          <a:solidFill>
            <a:srgbClr val="ffffcc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.666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写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            )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2209680"/>
            <a:ext cx="8229600" cy="642600"/>
          </a:xfrm>
          <a:prstGeom prst="rect">
            <a:avLst/>
          </a:prstGeom>
          <a:solidFill>
            <a:srgbClr val="ffffcc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0.671671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写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            )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3124080"/>
            <a:ext cx="8229600" cy="642600"/>
          </a:xfrm>
          <a:prstGeom prst="rect">
            <a:avLst/>
          </a:prstGeom>
          <a:solidFill>
            <a:srgbClr val="ffffcc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.9494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写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            )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114800"/>
            <a:ext cx="8001000" cy="642600"/>
          </a:xfrm>
          <a:prstGeom prst="rect">
            <a:avLst/>
          </a:prstGeom>
          <a:solidFill>
            <a:srgbClr val="ffffcc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.62424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写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            )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5029200"/>
            <a:ext cx="8076960" cy="642600"/>
          </a:xfrm>
          <a:prstGeom prst="rect">
            <a:avLst/>
          </a:prstGeom>
          <a:solidFill>
            <a:srgbClr val="ffffcc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7.854747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写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            )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5962680"/>
            <a:ext cx="7772400" cy="642600"/>
          </a:xfrm>
          <a:prstGeom prst="rect">
            <a:avLst/>
          </a:prstGeom>
          <a:solidFill>
            <a:srgbClr val="ffffcc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0.00707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写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           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849600" cy="76500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4343400" y="934920"/>
            <a:ext cx="1904040" cy="1047600"/>
            <a:chOff x="4343400" y="934920"/>
            <a:chExt cx="1904040" cy="1047600"/>
          </a:xfrm>
        </p:grpSpPr>
        <p:sp>
          <p:nvSpPr>
            <p:cNvPr id="267" name=""/>
            <p:cNvSpPr/>
            <p:nvPr/>
          </p:nvSpPr>
          <p:spPr>
            <a:xfrm>
              <a:off x="4343400" y="133992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5.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33120" y="93492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419720" y="1905120"/>
            <a:ext cx="1904040" cy="1047600"/>
            <a:chOff x="4419720" y="1905120"/>
            <a:chExt cx="1904040" cy="1047600"/>
          </a:xfrm>
        </p:grpSpPr>
        <p:sp>
          <p:nvSpPr>
            <p:cNvPr id="270" name=""/>
            <p:cNvSpPr/>
            <p:nvPr/>
          </p:nvSpPr>
          <p:spPr>
            <a:xfrm>
              <a:off x="4419720" y="231012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0.67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09440" y="190512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.   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886200" y="2819520"/>
            <a:ext cx="1904040" cy="1047600"/>
            <a:chOff x="3886200" y="2819520"/>
            <a:chExt cx="1904040" cy="1047600"/>
          </a:xfrm>
        </p:grpSpPr>
        <p:sp>
          <p:nvSpPr>
            <p:cNvPr id="273" name=""/>
            <p:cNvSpPr/>
            <p:nvPr/>
          </p:nvSpPr>
          <p:spPr>
            <a:xfrm>
              <a:off x="3886200" y="322452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4.9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75920" y="281952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. .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495680" y="3809880"/>
            <a:ext cx="1904040" cy="1047600"/>
            <a:chOff x="4495680" y="3809880"/>
            <a:chExt cx="1904040" cy="1047600"/>
          </a:xfrm>
        </p:grpSpPr>
        <p:sp>
          <p:nvSpPr>
            <p:cNvPr id="276" name=""/>
            <p:cNvSpPr/>
            <p:nvPr/>
          </p:nvSpPr>
          <p:spPr>
            <a:xfrm>
              <a:off x="4495680" y="421488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2.62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85400" y="380988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. 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572000" y="4724280"/>
            <a:ext cx="2132640" cy="1047600"/>
            <a:chOff x="4572000" y="4724280"/>
            <a:chExt cx="2132640" cy="1047600"/>
          </a:xfrm>
        </p:grpSpPr>
        <p:sp>
          <p:nvSpPr>
            <p:cNvPr id="279" name=""/>
            <p:cNvSpPr/>
            <p:nvPr/>
          </p:nvSpPr>
          <p:spPr>
            <a:xfrm>
              <a:off x="4572000" y="5129280"/>
              <a:ext cx="192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7.854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84400" y="4724280"/>
              <a:ext cx="192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. 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724280" y="5638680"/>
            <a:ext cx="2132640" cy="1047600"/>
            <a:chOff x="4724280" y="5638680"/>
            <a:chExt cx="2132640" cy="1047600"/>
          </a:xfrm>
        </p:grpSpPr>
        <p:sp>
          <p:nvSpPr>
            <p:cNvPr id="282" name=""/>
            <p:cNvSpPr/>
            <p:nvPr/>
          </p:nvSpPr>
          <p:spPr>
            <a:xfrm>
              <a:off x="4724280" y="6043680"/>
              <a:ext cx="192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0.00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36680" y="5638680"/>
              <a:ext cx="192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324480" y="1371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纯循环小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77120" y="4114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混循环小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60199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混循环小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29400" y="50594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混循环小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3124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纯循环小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2239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纯循环小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6:23:21Z</dcterms:created>
  <dc:creator>si</dc:creator>
  <dc:description/>
  <dc:language>en-US</dc:language>
  <cp:lastModifiedBy>liuping</cp:lastModifiedBy>
  <dcterms:modified xsi:type="dcterms:W3CDTF">2004-11-09T23:18:29Z</dcterms:modified>
  <cp:revision>35</cp:revision>
  <dc:subject/>
  <dc:title>PowerPoint 演示文稿</dc:title>
</cp:coreProperties>
</file>