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27C6-F28A-40DD-951B-8D9D77DB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16A9-3B10-4CD8-8F21-A5D028B8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AF8F-76A7-4420-AA5D-1F41B605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FD65-F586-4AE6-AD1F-5E8E64FF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471-745F-48AF-851B-B62A3B73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39A-9394-4DCF-85EB-7A72475F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0F8-9D96-4DE4-91D8-9DBCFFCA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5C45-0C6C-46C8-992A-CD8C83B2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2CF0-E14A-4C58-8246-2C0CA099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54FF-7FE0-4CF2-AFDF-CE16F789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A41-65B9-49B2-B7C2-21E1EA5E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9B5-0018-494F-BA2B-171E759F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0620-4E16-4AC3-BE2E-DE6DF94926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159" t="11072" r="10784" b="45059"/>
          <a:stretch/>
        </p:blipFill>
        <p:spPr>
          <a:xfrm>
            <a:off x="0" y="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6159" t="53316" r="10784" b="56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15529" r="0" b="5490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6159" t="45100" r="6159" b="73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12:10:06Z</dcterms:created>
  <dc:creator>Lenovo User</dc:creator>
  <dc:description/>
  <dc:language>en-US</dc:language>
  <cp:lastModifiedBy>微软用户</cp:lastModifiedBy>
  <dcterms:modified xsi:type="dcterms:W3CDTF">2008-01-17T05:44:54Z</dcterms:modified>
  <cp:revision>3</cp:revision>
  <dc:subject/>
  <dc:title>幻灯片 1</dc:title>
</cp:coreProperties>
</file>