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4BA-CBA6-466D-BBBE-98D04EBE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0DF-7594-4C4B-9F96-D6BD9E31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94A-A15C-4736-8C9D-73A336C7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129-7A6D-405D-8783-9A2D1060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330C-CD13-4C60-8D5E-97FEDD07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28C0-D9D9-4657-9CCE-91B21EF4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3E98-7BE9-4A77-A247-4AF8AAA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3A0F-8670-495D-8346-B1676EC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03F-6295-400A-A019-94D98721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2CF-0DDF-4C1F-AFD5-CB81DF7A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81BC-96FE-4C0E-9829-C0EB32E4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B8F-6316-4749-9D62-7C5B01BE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8C02-A436-4AD3-8BFD-E4949358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7925-3FC8-4A76-8738-734D274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9CDB-544F-4310-A903-3C4EE434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0B93-B307-4AC3-933A-63FC1AE8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3E8E-FF43-4F72-AC7C-35FB5B77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DD23-E1BF-4963-BA1E-1AB24848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F1E8-5BBF-4E2F-AB8E-ACA96A55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DB7E-455A-434A-B222-17CC1A7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DCA0-A151-45AF-9EA7-35FBA6AA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3FB7-E531-4EB2-8938-0781A1ED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D07-8F45-4851-AFCE-A057E7C7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395E-E65D-4A3A-846C-9C381F2B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58A5-2385-4A79-A7C5-D8BC623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C5F4-8175-4313-9B16-7234DEDB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9CA2-87F5-412D-8722-BADCCD7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1C2A-C844-4C47-B731-43EA7B8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7115-B266-4C1B-B10D-55BE5861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B351-9EE9-4FE5-8945-9B7E14DA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4F7C-6A17-4499-8432-C8177DC1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5D69-1AA6-4DDA-BABF-31118A33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55DF-AD51-4EF0-AFB2-76C50E5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EDC-6766-4B82-B65E-B6EAFBB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ADB3-DE96-4732-A8E0-94DA5B5C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759D-FE0C-4F33-8BEC-63F49580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FFF9-04DC-43DC-82BC-06210643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4EA3-73FC-4721-8DDF-F1B36C6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A4437-FBE7-48E6-B535-2747134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28F1-5543-4E6F-A25E-4DCDE9A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09F0-B3AD-4B56-9BAD-B9560105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D2FF-F7E2-4815-BEEB-A67BB8E8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8EF9-6982-44E7-BC48-A54E63BC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662F-FDFA-4D52-B6C2-E44C79ED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A2B-04CD-4354-A141-35DCAE2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3443-C538-4E3A-BC63-221B766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D459-F01B-4BC3-93EC-E6FC7693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21A1-AD17-4C60-A8E3-1263D734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B1122-E600-474E-9388-EEA12D84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C6E1-3184-47A3-A6DB-F418AEAC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D08DB-41A4-409F-AECE-6F4553F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4E32E-FF93-49BF-84AF-69AD4FC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F61A-3118-4E42-BBB4-C38E6A7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5DFB-50BD-4533-8CE8-C8D3C989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7EE77-F7FA-4A6D-BC77-1096036C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A71-54F2-49FB-8EC7-14CEF536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F312-5AAD-4F7C-B12D-597EE899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7FC23-8955-4FD2-BBEB-7EA09234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613D5-C8BF-4487-B626-FEF85F9A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A0383-5DE5-4D4A-AA63-0C5B9736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2DF80-3FE7-4757-BDB7-C0B2F561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75218-E1BD-41C2-880A-B6EB5AD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C1496-331C-4103-9C08-138DD8E3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8567B-A4A9-4B70-B708-8EE4B64B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D87A3-1465-44DA-89EC-DCC1348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B381-7137-4DD6-9564-F6055C2F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BA8-B9E3-4B85-BF4F-E440588F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E250-B432-42BB-B613-EA009C6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E078B-CED0-4B4A-A116-8C60D288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70FA-D58A-4EE5-BF1F-21A39E2C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3181-BEE7-4E07-BD57-FBF3B761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AFF6B-0532-4FAB-ACE1-965B1F4D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589B-6F28-4620-8A63-AFA8BD74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A6AC-098B-40E4-BFDD-891D57FC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FEDC6-618B-4085-B116-999CDEB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34960-1450-478E-8C30-2092208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65BA5-11D1-4576-B34A-220BD32E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8CF-F632-4088-8F41-2683809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8541-23C5-427C-A62E-94D785F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6F780-94D1-40AD-985E-4768D00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95E9-9E90-44D7-937E-0483EB3C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9450-1617-4173-8F6C-3032A635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1C3F3-1807-4438-9078-A47A3F2C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DD4B1-A6E1-488C-B64B-361E07EA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BC5EC-CEC7-4EAE-82D5-CDCE9B26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3A1A-4731-4A18-A192-1DB340A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5441B-A7B6-428F-98F5-73ADF897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FDB4-4D30-488F-A835-1ED8F81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B8B-D323-4F32-ABF1-75A2900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4A95E-00E7-4DD2-A3A7-A2F9C525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0922C-490B-42A4-8FF4-95B7A09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DB27F-6138-4175-AB9B-C36F7B7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E15A5-98FB-406F-80CA-68AE81BD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6FECF-77A2-49D5-B80C-AAA60DF4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3E4DE-40EE-49FF-87DA-CE8F45AD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A4297-2794-4279-ABF3-1E765712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CD9D-C291-42B9-AC6F-264D1E7635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BA63-172C-41E8-90D1-4AA5B5D955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6839-21B0-46AD-92E5-3B4D2E5104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865C-4082-4A7B-BDAB-3F646E3C06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7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7A0C-4EBB-49FF-8FF3-224F9C9759D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5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8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8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1F11-80A1-43E1-A46E-164ABF60000D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340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813F-8785-4739-8F84-649A94848E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385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C50-B3CE-4588-B944-AB506D576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95640" y="1916280"/>
            <a:ext cx="5184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宋体"/>
              </a:rPr>
              <a:t>倍数与因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59280" y="4005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、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5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倍数的特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258920" y="1700280"/>
            <a:ext cx="626580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47758 L 0.41354 -0.30628 E">
                                      <p:cBhvr>
                                        <p:cTn id="122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教学目标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、经历探索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的倍数的特征的过程，理解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倍数的特征，能判断一个数是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的倍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、知道奇数、偶数的含义，能判断一个数是奇数或偶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在观察、猜测和讨论过程中，提高探究问题的能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8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324000" y="1125360"/>
          <a:ext cx="8569080" cy="5446800"/>
        </p:xfrm>
        <a:graphic>
          <a:graphicData uri="http://schemas.openxmlformats.org/drawingml/2006/table">
            <a:tbl>
              <a:tblPr/>
              <a:tblGrid>
                <a:gridCol w="669600"/>
                <a:gridCol w="893880"/>
                <a:gridCol w="746280"/>
                <a:gridCol w="819000"/>
                <a:gridCol w="820800"/>
                <a:gridCol w="819000"/>
                <a:gridCol w="893880"/>
                <a:gridCol w="893880"/>
                <a:gridCol w="895320"/>
                <a:gridCol w="111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的倍数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ff99ff"/>
                </a:solidFill>
                <a:latin typeface="Times New Roman"/>
              </a:rPr>
              <a:t>的倍数的特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2340000" y="2349000"/>
            <a:ext cx="5464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个位上是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的数，都能被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整除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能被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整除的数是偶数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不能被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整除的数是奇数。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179388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73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56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84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233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140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555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奇  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偶  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2205000"/>
            <a:ext cx="3527280" cy="2735280"/>
          </a:xfrm>
          <a:custGeom>
            <a:avLst/>
            <a:gdLst>
              <a:gd name="textAreaLeft" fmla="*/ 828720 w 3527280"/>
              <a:gd name="textAreaRight" fmla="*/ 2696040 w 3527280"/>
              <a:gd name="textAreaTop" fmla="*/ 321480 h 2735280"/>
              <a:gd name="textAreaBottom" fmla="*/ 1715760 h 2735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205000"/>
            <a:ext cx="3672000" cy="2879640"/>
          </a:xfrm>
          <a:custGeom>
            <a:avLst/>
            <a:gdLst>
              <a:gd name="textAreaLeft" fmla="*/ 862920 w 3672000"/>
              <a:gd name="textAreaRight" fmla="*/ 2806560 w 3672000"/>
              <a:gd name="textAreaTop" fmla="*/ 338400 h 2879640"/>
              <a:gd name="textAreaBottom" fmla="*/ 1806480 h 28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180972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324000" y="1125360"/>
          <a:ext cx="8568720" cy="5446800"/>
        </p:xfrm>
        <a:graphic>
          <a:graphicData uri="http://schemas.openxmlformats.org/drawingml/2006/table">
            <a:tbl>
              <a:tblPr/>
              <a:tblGrid>
                <a:gridCol w="669960"/>
                <a:gridCol w="893880"/>
                <a:gridCol w="745920"/>
                <a:gridCol w="819360"/>
                <a:gridCol w="820080"/>
                <a:gridCol w="819720"/>
                <a:gridCol w="893520"/>
                <a:gridCol w="893880"/>
                <a:gridCol w="895320"/>
                <a:gridCol w="11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的倍数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ff00"/>
                </a:solidFill>
                <a:latin typeface="Verdana"/>
              </a:rPr>
              <a:t>5</a:t>
            </a:r>
            <a:r>
              <a:rPr b="1" lang="zh-CN" sz="5200" spc="-1" strike="noStrike">
                <a:solidFill>
                  <a:srgbClr val="ffff00"/>
                </a:solidFill>
                <a:latin typeface="Verdana"/>
              </a:rPr>
              <a:t>的倍数的特征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76978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fad2"/>
                </a:solidFill>
                <a:latin typeface="Verdana"/>
              </a:rPr>
              <a:t>      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个位上是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或者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的数，都能被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整除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Verdana"/>
              </a:rPr>
              <a:t>、</a:t>
            </a:r>
            <a:r>
              <a:rPr b="1" lang="zh-CN" sz="4400" spc="-1" strike="noStrike">
                <a:solidFill>
                  <a:srgbClr val="ffff00"/>
                </a:solidFill>
                <a:latin typeface="Verdana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Verdana"/>
              </a:rPr>
              <a:t>倍数的公共特征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整数个位上是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，就是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的共同倍数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50920" y="3141720"/>
            <a:ext cx="4033800" cy="3024000"/>
          </a:xfrm>
          <a:prstGeom prst="ellipse">
            <a:avLst/>
          </a:prstGeom>
          <a:solidFill>
            <a:srgbClr val="ffffff"/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28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35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40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55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84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95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78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53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的倍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的倍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43280" y="3068640"/>
            <a:ext cx="4176720" cy="3095640"/>
          </a:xfrm>
          <a:prstGeom prst="ellipse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403280" y="3068640"/>
            <a:ext cx="4737240" cy="31654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5148360" y="1484280"/>
            <a:ext cx="3995640" cy="1944720"/>
          </a:xfrm>
          <a:prstGeom prst="wedgeEllipseCallout">
            <a:avLst>
              <a:gd name="adj1" fmla="val -47018"/>
              <a:gd name="adj2" fmla="val 74245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摸出几可以和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组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倍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摸出几可以和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组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倍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1700280"/>
            <a:ext cx="2160360" cy="1439640"/>
          </a:xfrm>
          <a:prstGeom prst="cloudCallout">
            <a:avLst>
              <a:gd name="adj1" fmla="val 50365"/>
              <a:gd name="adj2" fmla="val 11549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袋里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~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数字卡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1280" y="549360"/>
            <a:ext cx="28810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数学游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4:06:06Z</dcterms:created>
  <dc:creator>gkdn</dc:creator>
  <dc:description/>
  <dc:language>en-US</dc:language>
  <cp:lastModifiedBy>gkdn</cp:lastModifiedBy>
  <dcterms:modified xsi:type="dcterms:W3CDTF">2006-09-09T02:06:29Z</dcterms:modified>
  <cp:revision>24</cp:revision>
  <dc:subject/>
  <dc:title>幻灯片 1</dc:title>
</cp:coreProperties>
</file>