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76320" y="5638680"/>
            <a:ext cx="1866960" cy="1066680"/>
            <a:chOff x="76320" y="5638680"/>
            <a:chExt cx="1866960" cy="1066680"/>
          </a:xfrm>
        </p:grpSpPr>
        <p:sp>
          <p:nvSpPr>
            <p:cNvPr id="2" name=""/>
            <p:cNvSpPr/>
            <p:nvPr/>
          </p:nvSpPr>
          <p:spPr>
            <a:xfrm rot="5400000">
              <a:off x="1181160" y="50670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5400000">
              <a:off x="952560" y="52956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5400000">
              <a:off x="647640" y="55242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5400000">
              <a:off x="952560" y="57528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5400000">
              <a:off x="1181160" y="594324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-124560" y="380880"/>
            <a:ext cx="1366560" cy="4608360"/>
            <a:chOff x="-124560" y="380880"/>
            <a:chExt cx="1366560" cy="4608360"/>
          </a:xfrm>
        </p:grpSpPr>
        <p:sp>
          <p:nvSpPr>
            <p:cNvPr id="9" name=""/>
            <p:cNvSpPr/>
            <p:nvPr/>
          </p:nvSpPr>
          <p:spPr>
            <a:xfrm>
              <a:off x="400320" y="395280"/>
              <a:ext cx="379800" cy="4176720"/>
            </a:xfrm>
            <a:custGeom>
              <a:avLst/>
              <a:gdLst/>
              <a:ahLst/>
              <a:rect l="l" t="t" r="r" b="b"/>
              <a:pathLst>
                <a:path w="298" h="2631">
                  <a:moveTo>
                    <a:pt x="79" y="0"/>
                  </a:moveTo>
                  <a:cubicBezTo>
                    <a:pt x="75" y="26"/>
                    <a:pt x="71" y="52"/>
                    <a:pt x="66" y="78"/>
                  </a:cubicBezTo>
                  <a:cubicBezTo>
                    <a:pt x="57" y="126"/>
                    <a:pt x="39" y="222"/>
                    <a:pt x="39" y="222"/>
                  </a:cubicBezTo>
                  <a:cubicBezTo>
                    <a:pt x="48" y="433"/>
                    <a:pt x="28" y="548"/>
                    <a:pt x="131" y="707"/>
                  </a:cubicBezTo>
                  <a:cubicBezTo>
                    <a:pt x="145" y="763"/>
                    <a:pt x="171" y="800"/>
                    <a:pt x="197" y="851"/>
                  </a:cubicBezTo>
                  <a:cubicBezTo>
                    <a:pt x="210" y="902"/>
                    <a:pt x="235" y="944"/>
                    <a:pt x="249" y="995"/>
                  </a:cubicBezTo>
                  <a:cubicBezTo>
                    <a:pt x="258" y="1029"/>
                    <a:pt x="275" y="1099"/>
                    <a:pt x="275" y="1099"/>
                  </a:cubicBezTo>
                  <a:cubicBezTo>
                    <a:pt x="269" y="1235"/>
                    <a:pt x="298" y="1513"/>
                    <a:pt x="170" y="1636"/>
                  </a:cubicBezTo>
                  <a:cubicBezTo>
                    <a:pt x="129" y="1718"/>
                    <a:pt x="77" y="1796"/>
                    <a:pt x="26" y="1872"/>
                  </a:cubicBezTo>
                  <a:cubicBezTo>
                    <a:pt x="21" y="1893"/>
                    <a:pt x="0" y="1972"/>
                    <a:pt x="0" y="1990"/>
                  </a:cubicBezTo>
                  <a:cubicBezTo>
                    <a:pt x="0" y="2147"/>
                    <a:pt x="74" y="2237"/>
                    <a:pt x="197" y="2317"/>
                  </a:cubicBezTo>
                  <a:cubicBezTo>
                    <a:pt x="206" y="2343"/>
                    <a:pt x="214" y="2369"/>
                    <a:pt x="223" y="2395"/>
                  </a:cubicBezTo>
                  <a:cubicBezTo>
                    <a:pt x="227" y="2408"/>
                    <a:pt x="232" y="2422"/>
                    <a:pt x="236" y="2435"/>
                  </a:cubicBezTo>
                  <a:cubicBezTo>
                    <a:pt x="240" y="2448"/>
                    <a:pt x="249" y="2474"/>
                    <a:pt x="249" y="2474"/>
                  </a:cubicBezTo>
                  <a:cubicBezTo>
                    <a:pt x="263" y="2615"/>
                    <a:pt x="242" y="2566"/>
                    <a:pt x="275" y="263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01280" y="1890720"/>
              <a:ext cx="517680" cy="811080"/>
            </a:xfrm>
            <a:custGeom>
              <a:avLst/>
              <a:gdLst/>
              <a:ahLst/>
              <a:rect l="l" t="t" r="r" b="b"/>
              <a:pathLst>
                <a:path w="406" h="511">
                  <a:moveTo>
                    <a:pt x="0" y="0"/>
                  </a:moveTo>
                  <a:cubicBezTo>
                    <a:pt x="105" y="35"/>
                    <a:pt x="108" y="47"/>
                    <a:pt x="183" y="131"/>
                  </a:cubicBezTo>
                  <a:cubicBezTo>
                    <a:pt x="204" y="154"/>
                    <a:pt x="249" y="197"/>
                    <a:pt x="249" y="197"/>
                  </a:cubicBezTo>
                  <a:cubicBezTo>
                    <a:pt x="280" y="290"/>
                    <a:pt x="260" y="252"/>
                    <a:pt x="301" y="314"/>
                  </a:cubicBezTo>
                  <a:cubicBezTo>
                    <a:pt x="333" y="411"/>
                    <a:pt x="335" y="440"/>
                    <a:pt x="406" y="5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1520" y="380880"/>
              <a:ext cx="272520" cy="3948120"/>
            </a:xfrm>
            <a:custGeom>
              <a:avLst/>
              <a:gdLst/>
              <a:ahLst/>
              <a:rect l="l" t="t" r="r" b="b"/>
              <a:pathLst>
                <a:path w="214" h="2487">
                  <a:moveTo>
                    <a:pt x="135" y="0"/>
                  </a:moveTo>
                  <a:cubicBezTo>
                    <a:pt x="120" y="59"/>
                    <a:pt x="95" y="97"/>
                    <a:pt x="83" y="157"/>
                  </a:cubicBezTo>
                  <a:cubicBezTo>
                    <a:pt x="90" y="299"/>
                    <a:pt x="88" y="438"/>
                    <a:pt x="122" y="576"/>
                  </a:cubicBezTo>
                  <a:cubicBezTo>
                    <a:pt x="149" y="874"/>
                    <a:pt x="152" y="1167"/>
                    <a:pt x="135" y="1466"/>
                  </a:cubicBezTo>
                  <a:cubicBezTo>
                    <a:pt x="131" y="1527"/>
                    <a:pt x="94" y="1583"/>
                    <a:pt x="70" y="1636"/>
                  </a:cubicBezTo>
                  <a:cubicBezTo>
                    <a:pt x="59" y="1661"/>
                    <a:pt x="52" y="1689"/>
                    <a:pt x="43" y="1715"/>
                  </a:cubicBezTo>
                  <a:cubicBezTo>
                    <a:pt x="39" y="1728"/>
                    <a:pt x="30" y="1754"/>
                    <a:pt x="30" y="1754"/>
                  </a:cubicBezTo>
                  <a:cubicBezTo>
                    <a:pt x="0" y="1938"/>
                    <a:pt x="8" y="1668"/>
                    <a:pt x="30" y="1999"/>
                  </a:cubicBezTo>
                  <a:cubicBezTo>
                    <a:pt x="33" y="2042"/>
                    <a:pt x="53" y="2275"/>
                    <a:pt x="83" y="2304"/>
                  </a:cubicBezTo>
                  <a:cubicBezTo>
                    <a:pt x="87" y="2317"/>
                    <a:pt x="88" y="2332"/>
                    <a:pt x="96" y="2343"/>
                  </a:cubicBezTo>
                  <a:cubicBezTo>
                    <a:pt x="119" y="2372"/>
                    <a:pt x="174" y="2422"/>
                    <a:pt x="174" y="2422"/>
                  </a:cubicBezTo>
                  <a:cubicBezTo>
                    <a:pt x="178" y="2435"/>
                    <a:pt x="180" y="2449"/>
                    <a:pt x="187" y="2461"/>
                  </a:cubicBezTo>
                  <a:cubicBezTo>
                    <a:pt x="194" y="2472"/>
                    <a:pt x="214" y="2487"/>
                    <a:pt x="214" y="248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" name=""/>
            <p:cNvGrpSpPr/>
            <p:nvPr/>
          </p:nvGrpSpPr>
          <p:grpSpPr>
            <a:xfrm>
              <a:off x="-124560" y="735480"/>
              <a:ext cx="1366560" cy="4253760"/>
              <a:chOff x="-124560" y="735480"/>
              <a:chExt cx="1366560" cy="4253760"/>
            </a:xfrm>
          </p:grpSpPr>
          <p:sp>
            <p:nvSpPr>
              <p:cNvPr id="13" name=""/>
              <p:cNvSpPr/>
              <p:nvPr/>
            </p:nvSpPr>
            <p:spPr>
              <a:xfrm>
                <a:off x="170640" y="2051280"/>
                <a:ext cx="150120" cy="1641240"/>
              </a:xfrm>
              <a:custGeom>
                <a:avLst/>
                <a:gdLst/>
                <a:ahLst/>
                <a:rect l="l" t="t" r="r" b="b"/>
                <a:pathLst>
                  <a:path w="118" h="1034">
                    <a:moveTo>
                      <a:pt x="13" y="0"/>
                    </a:moveTo>
                    <a:cubicBezTo>
                      <a:pt x="37" y="73"/>
                      <a:pt x="59" y="147"/>
                      <a:pt x="78" y="222"/>
                    </a:cubicBezTo>
                    <a:cubicBezTo>
                      <a:pt x="63" y="455"/>
                      <a:pt x="81" y="355"/>
                      <a:pt x="39" y="523"/>
                    </a:cubicBezTo>
                    <a:cubicBezTo>
                      <a:pt x="32" y="550"/>
                      <a:pt x="22" y="576"/>
                      <a:pt x="13" y="602"/>
                    </a:cubicBezTo>
                    <a:cubicBezTo>
                      <a:pt x="9" y="615"/>
                      <a:pt x="0" y="641"/>
                      <a:pt x="0" y="641"/>
                    </a:cubicBezTo>
                    <a:cubicBezTo>
                      <a:pt x="8" y="736"/>
                      <a:pt x="6" y="783"/>
                      <a:pt x="26" y="864"/>
                    </a:cubicBezTo>
                    <a:cubicBezTo>
                      <a:pt x="37" y="907"/>
                      <a:pt x="92" y="981"/>
                      <a:pt x="92" y="981"/>
                    </a:cubicBezTo>
                    <a:cubicBezTo>
                      <a:pt x="107" y="1027"/>
                      <a:pt x="95" y="1011"/>
                      <a:pt x="118" y="10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rot="19818600">
                <a:off x="884520" y="2010960"/>
                <a:ext cx="195120" cy="706680"/>
              </a:xfrm>
              <a:custGeom>
                <a:avLst/>
                <a:gdLst>
                  <a:gd name="textAreaLeft" fmla="*/ 45720 w 195120"/>
                  <a:gd name="textAreaRight" fmla="*/ 149400 w 195120"/>
                  <a:gd name="textAreaTop" fmla="*/ 82800 h 706680"/>
                  <a:gd name="textAreaBottom" fmla="*/ 443160 h 70668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rot="19818600">
                <a:off x="496800" y="3070080"/>
                <a:ext cx="122040" cy="706320"/>
              </a:xfrm>
              <a:custGeom>
                <a:avLst/>
                <a:gdLst>
                  <a:gd name="textAreaLeft" fmla="*/ 28440 w 122040"/>
                  <a:gd name="textAreaRight" fmla="*/ 93240 w 12204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 rot="663000">
                <a:off x="432000" y="1447920"/>
                <a:ext cx="84960" cy="705960"/>
              </a:xfrm>
              <a:custGeom>
                <a:avLst/>
                <a:gdLst>
                  <a:gd name="textAreaLeft" fmla="*/ 19800 w 84960"/>
                  <a:gd name="textAreaRight" fmla="*/ 65160 w 84960"/>
                  <a:gd name="textAreaTop" fmla="*/ 82800 h 705960"/>
                  <a:gd name="textAreaBottom" fmla="*/ 442800 h 70596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20752200">
                <a:off x="676800" y="4278240"/>
                <a:ext cx="122400" cy="706320"/>
              </a:xfrm>
              <a:custGeom>
                <a:avLst/>
                <a:gdLst>
                  <a:gd name="textAreaLeft" fmla="*/ 28800 w 122400"/>
                  <a:gd name="textAreaRight" fmla="*/ 93600 w 12240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1330800">
                <a:off x="0" y="2041560"/>
                <a:ext cx="244440" cy="706680"/>
              </a:xfrm>
              <a:custGeom>
                <a:avLst/>
                <a:gdLst>
                  <a:gd name="textAreaLeft" fmla="*/ 57240 w 244440"/>
                  <a:gd name="textAreaRight" fmla="*/ 186840 w 244440"/>
                  <a:gd name="textAreaTop" fmla="*/ 82800 h 706680"/>
                  <a:gd name="textAreaBottom" fmla="*/ 443160 h 70668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379200">
                <a:off x="676800" y="2285640"/>
                <a:ext cx="96840" cy="706680"/>
              </a:xfrm>
              <a:custGeom>
                <a:avLst/>
                <a:gdLst>
                  <a:gd name="textAreaLeft" fmla="*/ 22680 w 96840"/>
                  <a:gd name="textAreaRight" fmla="*/ 74160 w 96840"/>
                  <a:gd name="textAreaTop" fmla="*/ 82800 h 706680"/>
                  <a:gd name="textAreaBottom" fmla="*/ 443160 h 70668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19691400">
                <a:off x="370800" y="4267080"/>
                <a:ext cx="61200" cy="706320"/>
              </a:xfrm>
              <a:custGeom>
                <a:avLst/>
                <a:gdLst>
                  <a:gd name="textAreaLeft" fmla="*/ 14400 w 61200"/>
                  <a:gd name="textAreaRight" fmla="*/ 46800 w 6120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20752200">
                <a:off x="3240" y="761760"/>
                <a:ext cx="305640" cy="706320"/>
              </a:xfrm>
              <a:custGeom>
                <a:avLst/>
                <a:gdLst>
                  <a:gd name="textAreaLeft" fmla="*/ 71640 w 305640"/>
                  <a:gd name="textAreaRight" fmla="*/ 233640 w 30564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21171600">
                <a:off x="185760" y="3353040"/>
                <a:ext cx="123120" cy="706320"/>
              </a:xfrm>
              <a:custGeom>
                <a:avLst/>
                <a:gdLst>
                  <a:gd name="textAreaLeft" fmla="*/ 28800 w 123120"/>
                  <a:gd name="textAreaRight" fmla="*/ 94320 w 12312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" name=""/>
          <p:cNvGrpSpPr/>
          <p:nvPr/>
        </p:nvGrpSpPr>
        <p:grpSpPr>
          <a:xfrm>
            <a:off x="8153280" y="228600"/>
            <a:ext cx="990720" cy="1523880"/>
            <a:chOff x="8153280" y="228600"/>
            <a:chExt cx="990720" cy="1523880"/>
          </a:xfrm>
        </p:grpSpPr>
        <p:sp>
          <p:nvSpPr>
            <p:cNvPr id="24" name=""/>
            <p:cNvSpPr/>
            <p:nvPr/>
          </p:nvSpPr>
          <p:spPr>
            <a:xfrm>
              <a:off x="8153280" y="228600"/>
              <a:ext cx="990720" cy="1523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3c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305920" y="304920"/>
              <a:ext cx="685800" cy="129528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66ffff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3c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9900"/>
                  </a:solidFill>
                  <a:latin typeface="Times New Roman"/>
                  <a:ea typeface="华文楷体"/>
                </a:rPr>
                <a:t>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9900"/>
                  </a:solidFill>
                  <a:latin typeface="Times New Roman"/>
                  <a:ea typeface="华文楷体"/>
                </a:rPr>
                <a:t>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76320" y="5638680"/>
            <a:ext cx="1866960" cy="1066680"/>
            <a:chOff x="76320" y="5638680"/>
            <a:chExt cx="1866960" cy="1066680"/>
          </a:xfrm>
        </p:grpSpPr>
        <p:sp>
          <p:nvSpPr>
            <p:cNvPr id="64" name=""/>
            <p:cNvSpPr/>
            <p:nvPr/>
          </p:nvSpPr>
          <p:spPr>
            <a:xfrm rot="5400000">
              <a:off x="1181160" y="50670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5400000">
              <a:off x="952560" y="52956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5400000">
              <a:off x="647640" y="55242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rot="5400000">
              <a:off x="952560" y="57528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rot="5400000">
              <a:off x="1181160" y="594324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-124560" y="380880"/>
            <a:ext cx="1366560" cy="4608360"/>
            <a:chOff x="-124560" y="380880"/>
            <a:chExt cx="1366560" cy="4608360"/>
          </a:xfrm>
        </p:grpSpPr>
        <p:sp>
          <p:nvSpPr>
            <p:cNvPr id="71" name=""/>
            <p:cNvSpPr/>
            <p:nvPr/>
          </p:nvSpPr>
          <p:spPr>
            <a:xfrm>
              <a:off x="400320" y="395280"/>
              <a:ext cx="379800" cy="4176720"/>
            </a:xfrm>
            <a:custGeom>
              <a:avLst/>
              <a:gdLst/>
              <a:ahLst/>
              <a:rect l="l" t="t" r="r" b="b"/>
              <a:pathLst>
                <a:path w="298" h="2631">
                  <a:moveTo>
                    <a:pt x="79" y="0"/>
                  </a:moveTo>
                  <a:cubicBezTo>
                    <a:pt x="75" y="26"/>
                    <a:pt x="71" y="52"/>
                    <a:pt x="66" y="78"/>
                  </a:cubicBezTo>
                  <a:cubicBezTo>
                    <a:pt x="57" y="126"/>
                    <a:pt x="39" y="222"/>
                    <a:pt x="39" y="222"/>
                  </a:cubicBezTo>
                  <a:cubicBezTo>
                    <a:pt x="48" y="433"/>
                    <a:pt x="28" y="548"/>
                    <a:pt x="131" y="707"/>
                  </a:cubicBezTo>
                  <a:cubicBezTo>
                    <a:pt x="145" y="763"/>
                    <a:pt x="171" y="800"/>
                    <a:pt x="197" y="851"/>
                  </a:cubicBezTo>
                  <a:cubicBezTo>
                    <a:pt x="210" y="902"/>
                    <a:pt x="235" y="944"/>
                    <a:pt x="249" y="995"/>
                  </a:cubicBezTo>
                  <a:cubicBezTo>
                    <a:pt x="258" y="1029"/>
                    <a:pt x="275" y="1099"/>
                    <a:pt x="275" y="1099"/>
                  </a:cubicBezTo>
                  <a:cubicBezTo>
                    <a:pt x="269" y="1235"/>
                    <a:pt x="298" y="1513"/>
                    <a:pt x="170" y="1636"/>
                  </a:cubicBezTo>
                  <a:cubicBezTo>
                    <a:pt x="129" y="1718"/>
                    <a:pt x="77" y="1796"/>
                    <a:pt x="26" y="1872"/>
                  </a:cubicBezTo>
                  <a:cubicBezTo>
                    <a:pt x="21" y="1893"/>
                    <a:pt x="0" y="1972"/>
                    <a:pt x="0" y="1990"/>
                  </a:cubicBezTo>
                  <a:cubicBezTo>
                    <a:pt x="0" y="2147"/>
                    <a:pt x="74" y="2237"/>
                    <a:pt x="197" y="2317"/>
                  </a:cubicBezTo>
                  <a:cubicBezTo>
                    <a:pt x="206" y="2343"/>
                    <a:pt x="214" y="2369"/>
                    <a:pt x="223" y="2395"/>
                  </a:cubicBezTo>
                  <a:cubicBezTo>
                    <a:pt x="227" y="2408"/>
                    <a:pt x="232" y="2422"/>
                    <a:pt x="236" y="2435"/>
                  </a:cubicBezTo>
                  <a:cubicBezTo>
                    <a:pt x="240" y="2448"/>
                    <a:pt x="249" y="2474"/>
                    <a:pt x="249" y="2474"/>
                  </a:cubicBezTo>
                  <a:cubicBezTo>
                    <a:pt x="263" y="2615"/>
                    <a:pt x="242" y="2566"/>
                    <a:pt x="275" y="263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01280" y="1890720"/>
              <a:ext cx="517680" cy="811080"/>
            </a:xfrm>
            <a:custGeom>
              <a:avLst/>
              <a:gdLst/>
              <a:ahLst/>
              <a:rect l="l" t="t" r="r" b="b"/>
              <a:pathLst>
                <a:path w="406" h="511">
                  <a:moveTo>
                    <a:pt x="0" y="0"/>
                  </a:moveTo>
                  <a:cubicBezTo>
                    <a:pt x="105" y="35"/>
                    <a:pt x="108" y="47"/>
                    <a:pt x="183" y="131"/>
                  </a:cubicBezTo>
                  <a:cubicBezTo>
                    <a:pt x="204" y="154"/>
                    <a:pt x="249" y="197"/>
                    <a:pt x="249" y="197"/>
                  </a:cubicBezTo>
                  <a:cubicBezTo>
                    <a:pt x="280" y="290"/>
                    <a:pt x="260" y="252"/>
                    <a:pt x="301" y="314"/>
                  </a:cubicBezTo>
                  <a:cubicBezTo>
                    <a:pt x="333" y="411"/>
                    <a:pt x="335" y="440"/>
                    <a:pt x="406" y="5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1520" y="380880"/>
              <a:ext cx="272520" cy="3948120"/>
            </a:xfrm>
            <a:custGeom>
              <a:avLst/>
              <a:gdLst/>
              <a:ahLst/>
              <a:rect l="l" t="t" r="r" b="b"/>
              <a:pathLst>
                <a:path w="214" h="2487">
                  <a:moveTo>
                    <a:pt x="135" y="0"/>
                  </a:moveTo>
                  <a:cubicBezTo>
                    <a:pt x="120" y="59"/>
                    <a:pt x="95" y="97"/>
                    <a:pt x="83" y="157"/>
                  </a:cubicBezTo>
                  <a:cubicBezTo>
                    <a:pt x="90" y="299"/>
                    <a:pt x="88" y="438"/>
                    <a:pt x="122" y="576"/>
                  </a:cubicBezTo>
                  <a:cubicBezTo>
                    <a:pt x="149" y="874"/>
                    <a:pt x="152" y="1167"/>
                    <a:pt x="135" y="1466"/>
                  </a:cubicBezTo>
                  <a:cubicBezTo>
                    <a:pt x="131" y="1527"/>
                    <a:pt x="94" y="1583"/>
                    <a:pt x="70" y="1636"/>
                  </a:cubicBezTo>
                  <a:cubicBezTo>
                    <a:pt x="59" y="1661"/>
                    <a:pt x="52" y="1689"/>
                    <a:pt x="43" y="1715"/>
                  </a:cubicBezTo>
                  <a:cubicBezTo>
                    <a:pt x="39" y="1728"/>
                    <a:pt x="30" y="1754"/>
                    <a:pt x="30" y="1754"/>
                  </a:cubicBezTo>
                  <a:cubicBezTo>
                    <a:pt x="0" y="1938"/>
                    <a:pt x="8" y="1668"/>
                    <a:pt x="30" y="1999"/>
                  </a:cubicBezTo>
                  <a:cubicBezTo>
                    <a:pt x="33" y="2042"/>
                    <a:pt x="53" y="2275"/>
                    <a:pt x="83" y="2304"/>
                  </a:cubicBezTo>
                  <a:cubicBezTo>
                    <a:pt x="87" y="2317"/>
                    <a:pt x="88" y="2332"/>
                    <a:pt x="96" y="2343"/>
                  </a:cubicBezTo>
                  <a:cubicBezTo>
                    <a:pt x="119" y="2372"/>
                    <a:pt x="174" y="2422"/>
                    <a:pt x="174" y="2422"/>
                  </a:cubicBezTo>
                  <a:cubicBezTo>
                    <a:pt x="178" y="2435"/>
                    <a:pt x="180" y="2449"/>
                    <a:pt x="187" y="2461"/>
                  </a:cubicBezTo>
                  <a:cubicBezTo>
                    <a:pt x="194" y="2472"/>
                    <a:pt x="214" y="2487"/>
                    <a:pt x="214" y="248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-124560" y="735480"/>
              <a:ext cx="1366560" cy="4253760"/>
              <a:chOff x="-124560" y="735480"/>
              <a:chExt cx="1366560" cy="4253760"/>
            </a:xfrm>
          </p:grpSpPr>
          <p:sp>
            <p:nvSpPr>
              <p:cNvPr id="75" name=""/>
              <p:cNvSpPr/>
              <p:nvPr/>
            </p:nvSpPr>
            <p:spPr>
              <a:xfrm>
                <a:off x="170640" y="2051280"/>
                <a:ext cx="150120" cy="1641240"/>
              </a:xfrm>
              <a:custGeom>
                <a:avLst/>
                <a:gdLst/>
                <a:ahLst/>
                <a:rect l="l" t="t" r="r" b="b"/>
                <a:pathLst>
                  <a:path w="118" h="1034">
                    <a:moveTo>
                      <a:pt x="13" y="0"/>
                    </a:moveTo>
                    <a:cubicBezTo>
                      <a:pt x="37" y="73"/>
                      <a:pt x="59" y="147"/>
                      <a:pt x="78" y="222"/>
                    </a:cubicBezTo>
                    <a:cubicBezTo>
                      <a:pt x="63" y="455"/>
                      <a:pt x="81" y="355"/>
                      <a:pt x="39" y="523"/>
                    </a:cubicBezTo>
                    <a:cubicBezTo>
                      <a:pt x="32" y="550"/>
                      <a:pt x="22" y="576"/>
                      <a:pt x="13" y="602"/>
                    </a:cubicBezTo>
                    <a:cubicBezTo>
                      <a:pt x="9" y="615"/>
                      <a:pt x="0" y="641"/>
                      <a:pt x="0" y="641"/>
                    </a:cubicBezTo>
                    <a:cubicBezTo>
                      <a:pt x="8" y="736"/>
                      <a:pt x="6" y="783"/>
                      <a:pt x="26" y="864"/>
                    </a:cubicBezTo>
                    <a:cubicBezTo>
                      <a:pt x="37" y="907"/>
                      <a:pt x="92" y="981"/>
                      <a:pt x="92" y="981"/>
                    </a:cubicBezTo>
                    <a:cubicBezTo>
                      <a:pt x="107" y="1027"/>
                      <a:pt x="95" y="1011"/>
                      <a:pt x="118" y="10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818600">
                <a:off x="884520" y="2010960"/>
                <a:ext cx="195120" cy="706680"/>
              </a:xfrm>
              <a:custGeom>
                <a:avLst/>
                <a:gdLst>
                  <a:gd name="textAreaLeft" fmla="*/ 45720 w 195120"/>
                  <a:gd name="textAreaRight" fmla="*/ 149400 w 195120"/>
                  <a:gd name="textAreaTop" fmla="*/ 82800 h 706680"/>
                  <a:gd name="textAreaBottom" fmla="*/ 443160 h 70668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818600">
                <a:off x="496800" y="3070080"/>
                <a:ext cx="122040" cy="706320"/>
              </a:xfrm>
              <a:custGeom>
                <a:avLst/>
                <a:gdLst>
                  <a:gd name="textAreaLeft" fmla="*/ 28440 w 122040"/>
                  <a:gd name="textAreaRight" fmla="*/ 93240 w 12204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663000">
                <a:off x="432000" y="1447920"/>
                <a:ext cx="84960" cy="705960"/>
              </a:xfrm>
              <a:custGeom>
                <a:avLst/>
                <a:gdLst>
                  <a:gd name="textAreaLeft" fmla="*/ 19800 w 84960"/>
                  <a:gd name="textAreaRight" fmla="*/ 65160 w 84960"/>
                  <a:gd name="textAreaTop" fmla="*/ 82800 h 705960"/>
                  <a:gd name="textAreaBottom" fmla="*/ 442800 h 70596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rot="20752200">
                <a:off x="676800" y="4278240"/>
                <a:ext cx="122400" cy="706320"/>
              </a:xfrm>
              <a:custGeom>
                <a:avLst/>
                <a:gdLst>
                  <a:gd name="textAreaLeft" fmla="*/ 28800 w 122400"/>
                  <a:gd name="textAreaRight" fmla="*/ 93600 w 12240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1330800">
                <a:off x="0" y="2041560"/>
                <a:ext cx="244440" cy="706680"/>
              </a:xfrm>
              <a:custGeom>
                <a:avLst/>
                <a:gdLst>
                  <a:gd name="textAreaLeft" fmla="*/ 57240 w 244440"/>
                  <a:gd name="textAreaRight" fmla="*/ 186840 w 244440"/>
                  <a:gd name="textAreaTop" fmla="*/ 82800 h 706680"/>
                  <a:gd name="textAreaBottom" fmla="*/ 443160 h 70668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379200">
                <a:off x="676800" y="2285640"/>
                <a:ext cx="96840" cy="706680"/>
              </a:xfrm>
              <a:custGeom>
                <a:avLst/>
                <a:gdLst>
                  <a:gd name="textAreaLeft" fmla="*/ 22680 w 96840"/>
                  <a:gd name="textAreaRight" fmla="*/ 74160 w 96840"/>
                  <a:gd name="textAreaTop" fmla="*/ 82800 h 706680"/>
                  <a:gd name="textAreaBottom" fmla="*/ 443160 h 70668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9691400">
                <a:off x="370800" y="4267080"/>
                <a:ext cx="61200" cy="706320"/>
              </a:xfrm>
              <a:custGeom>
                <a:avLst/>
                <a:gdLst>
                  <a:gd name="textAreaLeft" fmla="*/ 14400 w 61200"/>
                  <a:gd name="textAreaRight" fmla="*/ 46800 w 6120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20752200">
                <a:off x="3240" y="761760"/>
                <a:ext cx="305640" cy="706320"/>
              </a:xfrm>
              <a:custGeom>
                <a:avLst/>
                <a:gdLst>
                  <a:gd name="textAreaLeft" fmla="*/ 71640 w 305640"/>
                  <a:gd name="textAreaRight" fmla="*/ 233640 w 30564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21171600">
                <a:off x="185760" y="3353040"/>
                <a:ext cx="123120" cy="706320"/>
              </a:xfrm>
              <a:custGeom>
                <a:avLst/>
                <a:gdLst>
                  <a:gd name="textAreaLeft" fmla="*/ 28800 w 123120"/>
                  <a:gd name="textAreaRight" fmla="*/ 94320 w 12312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" name=""/>
          <p:cNvGrpSpPr/>
          <p:nvPr/>
        </p:nvGrpSpPr>
        <p:grpSpPr>
          <a:xfrm>
            <a:off x="8153280" y="228600"/>
            <a:ext cx="990720" cy="1523880"/>
            <a:chOff x="8153280" y="228600"/>
            <a:chExt cx="990720" cy="1523880"/>
          </a:xfrm>
        </p:grpSpPr>
        <p:sp>
          <p:nvSpPr>
            <p:cNvPr id="86" name=""/>
            <p:cNvSpPr/>
            <p:nvPr/>
          </p:nvSpPr>
          <p:spPr>
            <a:xfrm>
              <a:off x="8153280" y="228600"/>
              <a:ext cx="990720" cy="15238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3c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305920" y="304920"/>
              <a:ext cx="685800" cy="129528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66ffff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3c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9900"/>
                  </a:solidFill>
                  <a:latin typeface="Times New Roman"/>
                  <a:ea typeface="华文楷体"/>
                </a:rPr>
                <a:t>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9900"/>
                  </a:solidFill>
                  <a:latin typeface="Times New Roman"/>
                  <a:ea typeface="华文楷体"/>
                </a:rPr>
                <a:t>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905120" y="2590920"/>
            <a:ext cx="5637960" cy="1371240"/>
            <a:chOff x="1905120" y="2590920"/>
            <a:chExt cx="5637960" cy="1371240"/>
          </a:xfrm>
        </p:grpSpPr>
        <p:sp>
          <p:nvSpPr>
            <p:cNvPr id="89" name=""/>
            <p:cNvSpPr/>
            <p:nvPr/>
          </p:nvSpPr>
          <p:spPr>
            <a:xfrm>
              <a:off x="2173320" y="2727720"/>
              <a:ext cx="5190480" cy="10972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05120" y="3687840"/>
              <a:ext cx="357480" cy="2743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  <a:effectLst>
              <a:outerShdw dist="153753" dir="2700000" blurRad="0" rotWithShape="0">
                <a:srgbClr val="3c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905120" y="2590920"/>
              <a:ext cx="357480" cy="2739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  <a:effectLst>
              <a:outerShdw dist="153753" dir="2700000" blurRad="0" rotWithShape="0">
                <a:srgbClr val="3c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185240" y="3687840"/>
              <a:ext cx="357840" cy="2743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  <a:effectLst>
              <a:outerShdw dist="153753" dir="2700000" blurRad="0" rotWithShape="0">
                <a:srgbClr val="3c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185240" y="2590920"/>
              <a:ext cx="357840" cy="2739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  <a:effectLst>
              <a:outerShdw dist="153753" dir="2700000" blurRad="0" rotWithShape="0">
                <a:srgbClr val="3c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62600" y="2658960"/>
              <a:ext cx="492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083680" y="2864880"/>
              <a:ext cx="0" cy="82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262600" y="3893760"/>
              <a:ext cx="501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453800" y="2864880"/>
              <a:ext cx="0" cy="82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2319480" y="2890800"/>
            <a:ext cx="4843440" cy="7642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能被</a:t>
            </a:r>
            <a:r>
              <a:rPr b="0" lang="zh-CN" sz="44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2</a:t>
            </a:r>
            <a:r>
              <a:rPr b="0" lang="zh-CN" sz="44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、</a:t>
            </a:r>
            <a:r>
              <a:rPr b="0" lang="zh-CN" sz="44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5</a:t>
            </a:r>
            <a:r>
              <a:rPr b="0" lang="zh-CN" sz="44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整除的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76320" y="5638680"/>
            <a:ext cx="1866960" cy="1066680"/>
            <a:chOff x="76320" y="5638680"/>
            <a:chExt cx="1866960" cy="1066680"/>
          </a:xfrm>
        </p:grpSpPr>
        <p:sp>
          <p:nvSpPr>
            <p:cNvPr id="458" name=""/>
            <p:cNvSpPr/>
            <p:nvPr/>
          </p:nvSpPr>
          <p:spPr>
            <a:xfrm rot="5400000">
              <a:off x="1181160" y="50670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5400000">
              <a:off x="952560" y="52956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rot="5400000">
              <a:off x="647640" y="55242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5400000">
              <a:off x="952560" y="57528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rot="5400000">
              <a:off x="1181160" y="594324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-124560" y="380880"/>
            <a:ext cx="1366560" cy="4608360"/>
            <a:chOff x="-124560" y="380880"/>
            <a:chExt cx="1366560" cy="4608360"/>
          </a:xfrm>
        </p:grpSpPr>
        <p:sp>
          <p:nvSpPr>
            <p:cNvPr id="465" name=""/>
            <p:cNvSpPr/>
            <p:nvPr/>
          </p:nvSpPr>
          <p:spPr>
            <a:xfrm>
              <a:off x="400320" y="395280"/>
              <a:ext cx="379800" cy="4176720"/>
            </a:xfrm>
            <a:custGeom>
              <a:avLst/>
              <a:gdLst/>
              <a:ahLst/>
              <a:rect l="l" t="t" r="r" b="b"/>
              <a:pathLst>
                <a:path w="298" h="2631">
                  <a:moveTo>
                    <a:pt x="79" y="0"/>
                  </a:moveTo>
                  <a:cubicBezTo>
                    <a:pt x="75" y="26"/>
                    <a:pt x="71" y="52"/>
                    <a:pt x="66" y="78"/>
                  </a:cubicBezTo>
                  <a:cubicBezTo>
                    <a:pt x="57" y="126"/>
                    <a:pt x="39" y="222"/>
                    <a:pt x="39" y="222"/>
                  </a:cubicBezTo>
                  <a:cubicBezTo>
                    <a:pt x="48" y="433"/>
                    <a:pt x="28" y="548"/>
                    <a:pt x="131" y="707"/>
                  </a:cubicBezTo>
                  <a:cubicBezTo>
                    <a:pt x="145" y="763"/>
                    <a:pt x="171" y="800"/>
                    <a:pt x="197" y="851"/>
                  </a:cubicBezTo>
                  <a:cubicBezTo>
                    <a:pt x="210" y="902"/>
                    <a:pt x="235" y="944"/>
                    <a:pt x="249" y="995"/>
                  </a:cubicBezTo>
                  <a:cubicBezTo>
                    <a:pt x="258" y="1029"/>
                    <a:pt x="275" y="1099"/>
                    <a:pt x="275" y="1099"/>
                  </a:cubicBezTo>
                  <a:cubicBezTo>
                    <a:pt x="269" y="1235"/>
                    <a:pt x="298" y="1513"/>
                    <a:pt x="170" y="1636"/>
                  </a:cubicBezTo>
                  <a:cubicBezTo>
                    <a:pt x="129" y="1718"/>
                    <a:pt x="77" y="1796"/>
                    <a:pt x="26" y="1872"/>
                  </a:cubicBezTo>
                  <a:cubicBezTo>
                    <a:pt x="21" y="1893"/>
                    <a:pt x="0" y="1972"/>
                    <a:pt x="0" y="1990"/>
                  </a:cubicBezTo>
                  <a:cubicBezTo>
                    <a:pt x="0" y="2147"/>
                    <a:pt x="74" y="2237"/>
                    <a:pt x="197" y="2317"/>
                  </a:cubicBezTo>
                  <a:cubicBezTo>
                    <a:pt x="206" y="2343"/>
                    <a:pt x="214" y="2369"/>
                    <a:pt x="223" y="2395"/>
                  </a:cubicBezTo>
                  <a:cubicBezTo>
                    <a:pt x="227" y="2408"/>
                    <a:pt x="232" y="2422"/>
                    <a:pt x="236" y="2435"/>
                  </a:cubicBezTo>
                  <a:cubicBezTo>
                    <a:pt x="240" y="2448"/>
                    <a:pt x="249" y="2474"/>
                    <a:pt x="249" y="2474"/>
                  </a:cubicBezTo>
                  <a:cubicBezTo>
                    <a:pt x="263" y="2615"/>
                    <a:pt x="242" y="2566"/>
                    <a:pt x="275" y="263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01280" y="1890720"/>
              <a:ext cx="517680" cy="811080"/>
            </a:xfrm>
            <a:custGeom>
              <a:avLst/>
              <a:gdLst/>
              <a:ahLst/>
              <a:rect l="l" t="t" r="r" b="b"/>
              <a:pathLst>
                <a:path w="406" h="511">
                  <a:moveTo>
                    <a:pt x="0" y="0"/>
                  </a:moveTo>
                  <a:cubicBezTo>
                    <a:pt x="105" y="35"/>
                    <a:pt x="108" y="47"/>
                    <a:pt x="183" y="131"/>
                  </a:cubicBezTo>
                  <a:cubicBezTo>
                    <a:pt x="204" y="154"/>
                    <a:pt x="249" y="197"/>
                    <a:pt x="249" y="197"/>
                  </a:cubicBezTo>
                  <a:cubicBezTo>
                    <a:pt x="280" y="290"/>
                    <a:pt x="260" y="252"/>
                    <a:pt x="301" y="314"/>
                  </a:cubicBezTo>
                  <a:cubicBezTo>
                    <a:pt x="333" y="411"/>
                    <a:pt x="335" y="440"/>
                    <a:pt x="406" y="5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1520" y="380880"/>
              <a:ext cx="272520" cy="3948120"/>
            </a:xfrm>
            <a:custGeom>
              <a:avLst/>
              <a:gdLst/>
              <a:ahLst/>
              <a:rect l="l" t="t" r="r" b="b"/>
              <a:pathLst>
                <a:path w="214" h="2487">
                  <a:moveTo>
                    <a:pt x="135" y="0"/>
                  </a:moveTo>
                  <a:cubicBezTo>
                    <a:pt x="120" y="59"/>
                    <a:pt x="95" y="97"/>
                    <a:pt x="83" y="157"/>
                  </a:cubicBezTo>
                  <a:cubicBezTo>
                    <a:pt x="90" y="299"/>
                    <a:pt x="88" y="438"/>
                    <a:pt x="122" y="576"/>
                  </a:cubicBezTo>
                  <a:cubicBezTo>
                    <a:pt x="149" y="874"/>
                    <a:pt x="152" y="1167"/>
                    <a:pt x="135" y="1466"/>
                  </a:cubicBezTo>
                  <a:cubicBezTo>
                    <a:pt x="131" y="1527"/>
                    <a:pt x="94" y="1583"/>
                    <a:pt x="70" y="1636"/>
                  </a:cubicBezTo>
                  <a:cubicBezTo>
                    <a:pt x="59" y="1661"/>
                    <a:pt x="52" y="1689"/>
                    <a:pt x="43" y="1715"/>
                  </a:cubicBezTo>
                  <a:cubicBezTo>
                    <a:pt x="39" y="1728"/>
                    <a:pt x="30" y="1754"/>
                    <a:pt x="30" y="1754"/>
                  </a:cubicBezTo>
                  <a:cubicBezTo>
                    <a:pt x="0" y="1938"/>
                    <a:pt x="8" y="1668"/>
                    <a:pt x="30" y="1999"/>
                  </a:cubicBezTo>
                  <a:cubicBezTo>
                    <a:pt x="33" y="2042"/>
                    <a:pt x="53" y="2275"/>
                    <a:pt x="83" y="2304"/>
                  </a:cubicBezTo>
                  <a:cubicBezTo>
                    <a:pt x="87" y="2317"/>
                    <a:pt x="88" y="2332"/>
                    <a:pt x="96" y="2343"/>
                  </a:cubicBezTo>
                  <a:cubicBezTo>
                    <a:pt x="119" y="2372"/>
                    <a:pt x="174" y="2422"/>
                    <a:pt x="174" y="2422"/>
                  </a:cubicBezTo>
                  <a:cubicBezTo>
                    <a:pt x="178" y="2435"/>
                    <a:pt x="180" y="2449"/>
                    <a:pt x="187" y="2461"/>
                  </a:cubicBezTo>
                  <a:cubicBezTo>
                    <a:pt x="194" y="2472"/>
                    <a:pt x="214" y="2487"/>
                    <a:pt x="214" y="248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-124560" y="735480"/>
              <a:ext cx="1366560" cy="4253760"/>
              <a:chOff x="-124560" y="735480"/>
              <a:chExt cx="1366560" cy="4253760"/>
            </a:xfrm>
          </p:grpSpPr>
          <p:sp>
            <p:nvSpPr>
              <p:cNvPr id="469" name=""/>
              <p:cNvSpPr/>
              <p:nvPr/>
            </p:nvSpPr>
            <p:spPr>
              <a:xfrm>
                <a:off x="170640" y="2051280"/>
                <a:ext cx="150120" cy="1641240"/>
              </a:xfrm>
              <a:custGeom>
                <a:avLst/>
                <a:gdLst/>
                <a:ahLst/>
                <a:rect l="l" t="t" r="r" b="b"/>
                <a:pathLst>
                  <a:path w="118" h="1034">
                    <a:moveTo>
                      <a:pt x="13" y="0"/>
                    </a:moveTo>
                    <a:cubicBezTo>
                      <a:pt x="37" y="73"/>
                      <a:pt x="59" y="147"/>
                      <a:pt x="78" y="222"/>
                    </a:cubicBezTo>
                    <a:cubicBezTo>
                      <a:pt x="63" y="455"/>
                      <a:pt x="81" y="355"/>
                      <a:pt x="39" y="523"/>
                    </a:cubicBezTo>
                    <a:cubicBezTo>
                      <a:pt x="32" y="550"/>
                      <a:pt x="22" y="576"/>
                      <a:pt x="13" y="602"/>
                    </a:cubicBezTo>
                    <a:cubicBezTo>
                      <a:pt x="9" y="615"/>
                      <a:pt x="0" y="641"/>
                      <a:pt x="0" y="641"/>
                    </a:cubicBezTo>
                    <a:cubicBezTo>
                      <a:pt x="8" y="736"/>
                      <a:pt x="6" y="783"/>
                      <a:pt x="26" y="864"/>
                    </a:cubicBezTo>
                    <a:cubicBezTo>
                      <a:pt x="37" y="907"/>
                      <a:pt x="92" y="981"/>
                      <a:pt x="92" y="981"/>
                    </a:cubicBezTo>
                    <a:cubicBezTo>
                      <a:pt x="107" y="1027"/>
                      <a:pt x="95" y="1011"/>
                      <a:pt x="118" y="10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rot="19818600">
                <a:off x="884520" y="2010960"/>
                <a:ext cx="195120" cy="706680"/>
              </a:xfrm>
              <a:custGeom>
                <a:avLst/>
                <a:gdLst>
                  <a:gd name="textAreaLeft" fmla="*/ 45720 w 195120"/>
                  <a:gd name="textAreaRight" fmla="*/ 149400 w 195120"/>
                  <a:gd name="textAreaTop" fmla="*/ 82800 h 706680"/>
                  <a:gd name="textAreaBottom" fmla="*/ 443160 h 70668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rot="19818600">
                <a:off x="496800" y="3070080"/>
                <a:ext cx="122040" cy="706320"/>
              </a:xfrm>
              <a:custGeom>
                <a:avLst/>
                <a:gdLst>
                  <a:gd name="textAreaLeft" fmla="*/ 28440 w 122040"/>
                  <a:gd name="textAreaRight" fmla="*/ 93240 w 12204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 rot="663000">
                <a:off x="432000" y="1447920"/>
                <a:ext cx="84960" cy="705960"/>
              </a:xfrm>
              <a:custGeom>
                <a:avLst/>
                <a:gdLst>
                  <a:gd name="textAreaLeft" fmla="*/ 19800 w 84960"/>
                  <a:gd name="textAreaRight" fmla="*/ 65160 w 84960"/>
                  <a:gd name="textAreaTop" fmla="*/ 82800 h 705960"/>
                  <a:gd name="textAreaBottom" fmla="*/ 442800 h 70596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rot="20752200">
                <a:off x="676800" y="4278240"/>
                <a:ext cx="122400" cy="706320"/>
              </a:xfrm>
              <a:custGeom>
                <a:avLst/>
                <a:gdLst>
                  <a:gd name="textAreaLeft" fmla="*/ 28800 w 122400"/>
                  <a:gd name="textAreaRight" fmla="*/ 93600 w 12240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rot="1330800">
                <a:off x="0" y="2041560"/>
                <a:ext cx="244440" cy="706680"/>
              </a:xfrm>
              <a:custGeom>
                <a:avLst/>
                <a:gdLst>
                  <a:gd name="textAreaLeft" fmla="*/ 57240 w 244440"/>
                  <a:gd name="textAreaRight" fmla="*/ 186840 w 244440"/>
                  <a:gd name="textAreaTop" fmla="*/ 82800 h 706680"/>
                  <a:gd name="textAreaBottom" fmla="*/ 443160 h 70668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rot="379200">
                <a:off x="676800" y="2285640"/>
                <a:ext cx="96840" cy="706680"/>
              </a:xfrm>
              <a:custGeom>
                <a:avLst/>
                <a:gdLst>
                  <a:gd name="textAreaLeft" fmla="*/ 22680 w 96840"/>
                  <a:gd name="textAreaRight" fmla="*/ 74160 w 96840"/>
                  <a:gd name="textAreaTop" fmla="*/ 82800 h 706680"/>
                  <a:gd name="textAreaBottom" fmla="*/ 443160 h 70668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rot="19691400">
                <a:off x="370800" y="4267080"/>
                <a:ext cx="61200" cy="706320"/>
              </a:xfrm>
              <a:custGeom>
                <a:avLst/>
                <a:gdLst>
                  <a:gd name="textAreaLeft" fmla="*/ 14400 w 61200"/>
                  <a:gd name="textAreaRight" fmla="*/ 46800 w 6120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rot="20752200">
                <a:off x="3240" y="761760"/>
                <a:ext cx="305640" cy="706320"/>
              </a:xfrm>
              <a:custGeom>
                <a:avLst/>
                <a:gdLst>
                  <a:gd name="textAreaLeft" fmla="*/ 71640 w 305640"/>
                  <a:gd name="textAreaRight" fmla="*/ 233640 w 30564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rot="21171600">
                <a:off x="185760" y="3353040"/>
                <a:ext cx="123120" cy="706320"/>
              </a:xfrm>
              <a:custGeom>
                <a:avLst/>
                <a:gdLst>
                  <a:gd name="textAreaLeft" fmla="*/ 28800 w 123120"/>
                  <a:gd name="textAreaRight" fmla="*/ 94320 w 12312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9" name=""/>
          <p:cNvGrpSpPr/>
          <p:nvPr/>
        </p:nvGrpSpPr>
        <p:grpSpPr>
          <a:xfrm>
            <a:off x="8153280" y="228600"/>
            <a:ext cx="990720" cy="1523880"/>
            <a:chOff x="8153280" y="228600"/>
            <a:chExt cx="990720" cy="1523880"/>
          </a:xfrm>
        </p:grpSpPr>
        <p:sp>
          <p:nvSpPr>
            <p:cNvPr id="480" name=""/>
            <p:cNvSpPr/>
            <p:nvPr/>
          </p:nvSpPr>
          <p:spPr>
            <a:xfrm>
              <a:off x="8153280" y="228600"/>
              <a:ext cx="990720" cy="15238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3c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305920" y="304920"/>
              <a:ext cx="685800" cy="129528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66ffff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3c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9900"/>
                  </a:solidFill>
                  <a:latin typeface="Times New Roman"/>
                  <a:ea typeface="华文楷体"/>
                </a:rPr>
                <a:t>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9900"/>
                  </a:solidFill>
                  <a:latin typeface="Times New Roman"/>
                  <a:ea typeface="华文楷体"/>
                </a:rPr>
                <a:t>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1593000" y="1143000"/>
            <a:ext cx="31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（       ）的数是偶数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322000" y="1746360"/>
            <a:ext cx="335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能被２除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能能２整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个位上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287800" y="1143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474200" y="3276720"/>
            <a:ext cx="380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何奇数加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       ）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476440" y="3994200"/>
            <a:ext cx="185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一定能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整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不能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整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无法判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269240" y="3290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047600" y="581040"/>
            <a:ext cx="76212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ff00"/>
              </a:gs>
              <a:gs pos="100000">
                <a:srgbClr val="66ffff"/>
              </a:gs>
            </a:gsLst>
            <a:lin ang="135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选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76320" y="5638680"/>
            <a:ext cx="1866960" cy="1066680"/>
            <a:chOff x="76320" y="5638680"/>
            <a:chExt cx="1866960" cy="1066680"/>
          </a:xfrm>
        </p:grpSpPr>
        <p:sp>
          <p:nvSpPr>
            <p:cNvPr id="491" name=""/>
            <p:cNvSpPr/>
            <p:nvPr/>
          </p:nvSpPr>
          <p:spPr>
            <a:xfrm rot="5400000">
              <a:off x="1181160" y="50670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rot="5400000">
              <a:off x="952560" y="52956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rot="5400000">
              <a:off x="647640" y="55242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5400000">
              <a:off x="952560" y="57528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5400000">
              <a:off x="1181160" y="594324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-124560" y="380880"/>
            <a:ext cx="1366560" cy="4608360"/>
            <a:chOff x="-124560" y="380880"/>
            <a:chExt cx="1366560" cy="4608360"/>
          </a:xfrm>
        </p:grpSpPr>
        <p:sp>
          <p:nvSpPr>
            <p:cNvPr id="498" name=""/>
            <p:cNvSpPr/>
            <p:nvPr/>
          </p:nvSpPr>
          <p:spPr>
            <a:xfrm>
              <a:off x="400320" y="395280"/>
              <a:ext cx="379800" cy="4176720"/>
            </a:xfrm>
            <a:custGeom>
              <a:avLst/>
              <a:gdLst/>
              <a:ahLst/>
              <a:rect l="l" t="t" r="r" b="b"/>
              <a:pathLst>
                <a:path w="298" h="2631">
                  <a:moveTo>
                    <a:pt x="79" y="0"/>
                  </a:moveTo>
                  <a:cubicBezTo>
                    <a:pt x="75" y="26"/>
                    <a:pt x="71" y="52"/>
                    <a:pt x="66" y="78"/>
                  </a:cubicBezTo>
                  <a:cubicBezTo>
                    <a:pt x="57" y="126"/>
                    <a:pt x="39" y="222"/>
                    <a:pt x="39" y="222"/>
                  </a:cubicBezTo>
                  <a:cubicBezTo>
                    <a:pt x="48" y="433"/>
                    <a:pt x="28" y="548"/>
                    <a:pt x="131" y="707"/>
                  </a:cubicBezTo>
                  <a:cubicBezTo>
                    <a:pt x="145" y="763"/>
                    <a:pt x="171" y="800"/>
                    <a:pt x="197" y="851"/>
                  </a:cubicBezTo>
                  <a:cubicBezTo>
                    <a:pt x="210" y="902"/>
                    <a:pt x="235" y="944"/>
                    <a:pt x="249" y="995"/>
                  </a:cubicBezTo>
                  <a:cubicBezTo>
                    <a:pt x="258" y="1029"/>
                    <a:pt x="275" y="1099"/>
                    <a:pt x="275" y="1099"/>
                  </a:cubicBezTo>
                  <a:cubicBezTo>
                    <a:pt x="269" y="1235"/>
                    <a:pt x="298" y="1513"/>
                    <a:pt x="170" y="1636"/>
                  </a:cubicBezTo>
                  <a:cubicBezTo>
                    <a:pt x="129" y="1718"/>
                    <a:pt x="77" y="1796"/>
                    <a:pt x="26" y="1872"/>
                  </a:cubicBezTo>
                  <a:cubicBezTo>
                    <a:pt x="21" y="1893"/>
                    <a:pt x="0" y="1972"/>
                    <a:pt x="0" y="1990"/>
                  </a:cubicBezTo>
                  <a:cubicBezTo>
                    <a:pt x="0" y="2147"/>
                    <a:pt x="74" y="2237"/>
                    <a:pt x="197" y="2317"/>
                  </a:cubicBezTo>
                  <a:cubicBezTo>
                    <a:pt x="206" y="2343"/>
                    <a:pt x="214" y="2369"/>
                    <a:pt x="223" y="2395"/>
                  </a:cubicBezTo>
                  <a:cubicBezTo>
                    <a:pt x="227" y="2408"/>
                    <a:pt x="232" y="2422"/>
                    <a:pt x="236" y="2435"/>
                  </a:cubicBezTo>
                  <a:cubicBezTo>
                    <a:pt x="240" y="2448"/>
                    <a:pt x="249" y="2474"/>
                    <a:pt x="249" y="2474"/>
                  </a:cubicBezTo>
                  <a:cubicBezTo>
                    <a:pt x="263" y="2615"/>
                    <a:pt x="242" y="2566"/>
                    <a:pt x="275" y="263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01280" y="1890720"/>
              <a:ext cx="517680" cy="811080"/>
            </a:xfrm>
            <a:custGeom>
              <a:avLst/>
              <a:gdLst/>
              <a:ahLst/>
              <a:rect l="l" t="t" r="r" b="b"/>
              <a:pathLst>
                <a:path w="406" h="511">
                  <a:moveTo>
                    <a:pt x="0" y="0"/>
                  </a:moveTo>
                  <a:cubicBezTo>
                    <a:pt x="105" y="35"/>
                    <a:pt x="108" y="47"/>
                    <a:pt x="183" y="131"/>
                  </a:cubicBezTo>
                  <a:cubicBezTo>
                    <a:pt x="204" y="154"/>
                    <a:pt x="249" y="197"/>
                    <a:pt x="249" y="197"/>
                  </a:cubicBezTo>
                  <a:cubicBezTo>
                    <a:pt x="280" y="290"/>
                    <a:pt x="260" y="252"/>
                    <a:pt x="301" y="314"/>
                  </a:cubicBezTo>
                  <a:cubicBezTo>
                    <a:pt x="333" y="411"/>
                    <a:pt x="335" y="440"/>
                    <a:pt x="406" y="5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1520" y="380880"/>
              <a:ext cx="272520" cy="3948120"/>
            </a:xfrm>
            <a:custGeom>
              <a:avLst/>
              <a:gdLst/>
              <a:ahLst/>
              <a:rect l="l" t="t" r="r" b="b"/>
              <a:pathLst>
                <a:path w="214" h="2487">
                  <a:moveTo>
                    <a:pt x="135" y="0"/>
                  </a:moveTo>
                  <a:cubicBezTo>
                    <a:pt x="120" y="59"/>
                    <a:pt x="95" y="97"/>
                    <a:pt x="83" y="157"/>
                  </a:cubicBezTo>
                  <a:cubicBezTo>
                    <a:pt x="90" y="299"/>
                    <a:pt x="88" y="438"/>
                    <a:pt x="122" y="576"/>
                  </a:cubicBezTo>
                  <a:cubicBezTo>
                    <a:pt x="149" y="874"/>
                    <a:pt x="152" y="1167"/>
                    <a:pt x="135" y="1466"/>
                  </a:cubicBezTo>
                  <a:cubicBezTo>
                    <a:pt x="131" y="1527"/>
                    <a:pt x="94" y="1583"/>
                    <a:pt x="70" y="1636"/>
                  </a:cubicBezTo>
                  <a:cubicBezTo>
                    <a:pt x="59" y="1661"/>
                    <a:pt x="52" y="1689"/>
                    <a:pt x="43" y="1715"/>
                  </a:cubicBezTo>
                  <a:cubicBezTo>
                    <a:pt x="39" y="1728"/>
                    <a:pt x="30" y="1754"/>
                    <a:pt x="30" y="1754"/>
                  </a:cubicBezTo>
                  <a:cubicBezTo>
                    <a:pt x="0" y="1938"/>
                    <a:pt x="8" y="1668"/>
                    <a:pt x="30" y="1999"/>
                  </a:cubicBezTo>
                  <a:cubicBezTo>
                    <a:pt x="33" y="2042"/>
                    <a:pt x="53" y="2275"/>
                    <a:pt x="83" y="2304"/>
                  </a:cubicBezTo>
                  <a:cubicBezTo>
                    <a:pt x="87" y="2317"/>
                    <a:pt x="88" y="2332"/>
                    <a:pt x="96" y="2343"/>
                  </a:cubicBezTo>
                  <a:cubicBezTo>
                    <a:pt x="119" y="2372"/>
                    <a:pt x="174" y="2422"/>
                    <a:pt x="174" y="2422"/>
                  </a:cubicBezTo>
                  <a:cubicBezTo>
                    <a:pt x="178" y="2435"/>
                    <a:pt x="180" y="2449"/>
                    <a:pt x="187" y="2461"/>
                  </a:cubicBezTo>
                  <a:cubicBezTo>
                    <a:pt x="194" y="2472"/>
                    <a:pt x="214" y="2487"/>
                    <a:pt x="214" y="248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1" name=""/>
            <p:cNvGrpSpPr/>
            <p:nvPr/>
          </p:nvGrpSpPr>
          <p:grpSpPr>
            <a:xfrm>
              <a:off x="-124560" y="735480"/>
              <a:ext cx="1366560" cy="4253760"/>
              <a:chOff x="-124560" y="735480"/>
              <a:chExt cx="1366560" cy="4253760"/>
            </a:xfrm>
          </p:grpSpPr>
          <p:sp>
            <p:nvSpPr>
              <p:cNvPr id="502" name=""/>
              <p:cNvSpPr/>
              <p:nvPr/>
            </p:nvSpPr>
            <p:spPr>
              <a:xfrm>
                <a:off x="170640" y="2051280"/>
                <a:ext cx="150120" cy="1641240"/>
              </a:xfrm>
              <a:custGeom>
                <a:avLst/>
                <a:gdLst/>
                <a:ahLst/>
                <a:rect l="l" t="t" r="r" b="b"/>
                <a:pathLst>
                  <a:path w="118" h="1034">
                    <a:moveTo>
                      <a:pt x="13" y="0"/>
                    </a:moveTo>
                    <a:cubicBezTo>
                      <a:pt x="37" y="73"/>
                      <a:pt x="59" y="147"/>
                      <a:pt x="78" y="222"/>
                    </a:cubicBezTo>
                    <a:cubicBezTo>
                      <a:pt x="63" y="455"/>
                      <a:pt x="81" y="355"/>
                      <a:pt x="39" y="523"/>
                    </a:cubicBezTo>
                    <a:cubicBezTo>
                      <a:pt x="32" y="550"/>
                      <a:pt x="22" y="576"/>
                      <a:pt x="13" y="602"/>
                    </a:cubicBezTo>
                    <a:cubicBezTo>
                      <a:pt x="9" y="615"/>
                      <a:pt x="0" y="641"/>
                      <a:pt x="0" y="641"/>
                    </a:cubicBezTo>
                    <a:cubicBezTo>
                      <a:pt x="8" y="736"/>
                      <a:pt x="6" y="783"/>
                      <a:pt x="26" y="864"/>
                    </a:cubicBezTo>
                    <a:cubicBezTo>
                      <a:pt x="37" y="907"/>
                      <a:pt x="92" y="981"/>
                      <a:pt x="92" y="981"/>
                    </a:cubicBezTo>
                    <a:cubicBezTo>
                      <a:pt x="107" y="1027"/>
                      <a:pt x="95" y="1011"/>
                      <a:pt x="118" y="10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rot="19818600">
                <a:off x="884520" y="2010960"/>
                <a:ext cx="195120" cy="706680"/>
              </a:xfrm>
              <a:custGeom>
                <a:avLst/>
                <a:gdLst>
                  <a:gd name="textAreaLeft" fmla="*/ 45720 w 195120"/>
                  <a:gd name="textAreaRight" fmla="*/ 149400 w 195120"/>
                  <a:gd name="textAreaTop" fmla="*/ 82800 h 706680"/>
                  <a:gd name="textAreaBottom" fmla="*/ 443160 h 70668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rot="19818600">
                <a:off x="496800" y="3070080"/>
                <a:ext cx="122040" cy="706320"/>
              </a:xfrm>
              <a:custGeom>
                <a:avLst/>
                <a:gdLst>
                  <a:gd name="textAreaLeft" fmla="*/ 28440 w 122040"/>
                  <a:gd name="textAreaRight" fmla="*/ 93240 w 12204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H="1" rot="663000">
                <a:off x="432000" y="1447920"/>
                <a:ext cx="84960" cy="705960"/>
              </a:xfrm>
              <a:custGeom>
                <a:avLst/>
                <a:gdLst>
                  <a:gd name="textAreaLeft" fmla="*/ 19800 w 84960"/>
                  <a:gd name="textAreaRight" fmla="*/ 65160 w 84960"/>
                  <a:gd name="textAreaTop" fmla="*/ 82800 h 705960"/>
                  <a:gd name="textAreaBottom" fmla="*/ 442800 h 70596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rot="20752200">
                <a:off x="676800" y="4278240"/>
                <a:ext cx="122400" cy="706320"/>
              </a:xfrm>
              <a:custGeom>
                <a:avLst/>
                <a:gdLst>
                  <a:gd name="textAreaLeft" fmla="*/ 28800 w 122400"/>
                  <a:gd name="textAreaRight" fmla="*/ 93600 w 12240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rot="1330800">
                <a:off x="0" y="2041560"/>
                <a:ext cx="244440" cy="706680"/>
              </a:xfrm>
              <a:custGeom>
                <a:avLst/>
                <a:gdLst>
                  <a:gd name="textAreaLeft" fmla="*/ 57240 w 244440"/>
                  <a:gd name="textAreaRight" fmla="*/ 186840 w 244440"/>
                  <a:gd name="textAreaTop" fmla="*/ 82800 h 706680"/>
                  <a:gd name="textAreaBottom" fmla="*/ 443160 h 70668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rot="379200">
                <a:off x="676800" y="2285640"/>
                <a:ext cx="96840" cy="706680"/>
              </a:xfrm>
              <a:custGeom>
                <a:avLst/>
                <a:gdLst>
                  <a:gd name="textAreaLeft" fmla="*/ 22680 w 96840"/>
                  <a:gd name="textAreaRight" fmla="*/ 74160 w 96840"/>
                  <a:gd name="textAreaTop" fmla="*/ 82800 h 706680"/>
                  <a:gd name="textAreaBottom" fmla="*/ 443160 h 70668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rot="19691400">
                <a:off x="370800" y="4267080"/>
                <a:ext cx="61200" cy="706320"/>
              </a:xfrm>
              <a:custGeom>
                <a:avLst/>
                <a:gdLst>
                  <a:gd name="textAreaLeft" fmla="*/ 14400 w 61200"/>
                  <a:gd name="textAreaRight" fmla="*/ 46800 w 6120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rot="20752200">
                <a:off x="3240" y="761760"/>
                <a:ext cx="305640" cy="706320"/>
              </a:xfrm>
              <a:custGeom>
                <a:avLst/>
                <a:gdLst>
                  <a:gd name="textAreaLeft" fmla="*/ 71640 w 305640"/>
                  <a:gd name="textAreaRight" fmla="*/ 233640 w 30564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rot="21171600">
                <a:off x="185760" y="3353040"/>
                <a:ext cx="123120" cy="706320"/>
              </a:xfrm>
              <a:custGeom>
                <a:avLst/>
                <a:gdLst>
                  <a:gd name="textAreaLeft" fmla="*/ 28800 w 123120"/>
                  <a:gd name="textAreaRight" fmla="*/ 94320 w 12312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2" name=""/>
          <p:cNvGrpSpPr/>
          <p:nvPr/>
        </p:nvGrpSpPr>
        <p:grpSpPr>
          <a:xfrm>
            <a:off x="8153280" y="228600"/>
            <a:ext cx="990720" cy="1523880"/>
            <a:chOff x="8153280" y="228600"/>
            <a:chExt cx="990720" cy="1523880"/>
          </a:xfrm>
        </p:grpSpPr>
        <p:sp>
          <p:nvSpPr>
            <p:cNvPr id="513" name=""/>
            <p:cNvSpPr/>
            <p:nvPr/>
          </p:nvSpPr>
          <p:spPr>
            <a:xfrm>
              <a:off x="8153280" y="228600"/>
              <a:ext cx="990720" cy="15238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3c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8305920" y="304920"/>
              <a:ext cx="685800" cy="129528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66ffff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3c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9900"/>
                  </a:solidFill>
                  <a:latin typeface="Times New Roman"/>
                  <a:ea typeface="华文楷体"/>
                </a:rPr>
                <a:t>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9900"/>
                  </a:solidFill>
                  <a:latin typeface="Times New Roman"/>
                  <a:ea typeface="华文楷体"/>
                </a:rPr>
                <a:t>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5" name=""/>
          <p:cNvSpPr/>
          <p:nvPr/>
        </p:nvSpPr>
        <p:spPr>
          <a:xfrm>
            <a:off x="3010320" y="1371600"/>
            <a:ext cx="34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个数能同时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整除，这个数有什么特征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372040" y="4243320"/>
            <a:ext cx="345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位上是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数能同时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整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345400" y="2514600"/>
            <a:ext cx="472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位上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数都能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整除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343600" y="3405240"/>
            <a:ext cx="345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位上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数都能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整除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221120" y="1828800"/>
            <a:ext cx="3942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99ff"/>
                </a:solidFill>
                <a:latin typeface="隶书"/>
                <a:ea typeface="隶书"/>
              </a:rPr>
              <a:t>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93076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989440" y="3405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047600" y="581040"/>
            <a:ext cx="76212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ff00"/>
              </a:gs>
              <a:gs pos="100000">
                <a:srgbClr val="66ffff"/>
              </a:gs>
            </a:gsLst>
            <a:lin ang="135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思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3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500"/>
                            </p:stCondLst>
                            <p:childTnLst>
                              <p:par>
                                <p:cTn id="7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76320" y="5638680"/>
            <a:ext cx="1866960" cy="1066680"/>
            <a:chOff x="76320" y="5638680"/>
            <a:chExt cx="1866960" cy="1066680"/>
          </a:xfrm>
        </p:grpSpPr>
        <p:sp>
          <p:nvSpPr>
            <p:cNvPr id="101" name=""/>
            <p:cNvSpPr/>
            <p:nvPr/>
          </p:nvSpPr>
          <p:spPr>
            <a:xfrm rot="5400000">
              <a:off x="1181160" y="50670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5400000">
              <a:off x="952560" y="52956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5400000">
              <a:off x="647640" y="55242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5400000">
              <a:off x="952560" y="57528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5400000">
              <a:off x="1181160" y="594324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-124560" y="380880"/>
            <a:ext cx="1366560" cy="4608360"/>
            <a:chOff x="-124560" y="380880"/>
            <a:chExt cx="1366560" cy="4608360"/>
          </a:xfrm>
        </p:grpSpPr>
        <p:sp>
          <p:nvSpPr>
            <p:cNvPr id="108" name=""/>
            <p:cNvSpPr/>
            <p:nvPr/>
          </p:nvSpPr>
          <p:spPr>
            <a:xfrm>
              <a:off x="400320" y="395280"/>
              <a:ext cx="379800" cy="4176720"/>
            </a:xfrm>
            <a:custGeom>
              <a:avLst/>
              <a:gdLst/>
              <a:ahLst/>
              <a:rect l="l" t="t" r="r" b="b"/>
              <a:pathLst>
                <a:path w="298" h="2631">
                  <a:moveTo>
                    <a:pt x="79" y="0"/>
                  </a:moveTo>
                  <a:cubicBezTo>
                    <a:pt x="75" y="26"/>
                    <a:pt x="71" y="52"/>
                    <a:pt x="66" y="78"/>
                  </a:cubicBezTo>
                  <a:cubicBezTo>
                    <a:pt x="57" y="126"/>
                    <a:pt x="39" y="222"/>
                    <a:pt x="39" y="222"/>
                  </a:cubicBezTo>
                  <a:cubicBezTo>
                    <a:pt x="48" y="433"/>
                    <a:pt x="28" y="548"/>
                    <a:pt x="131" y="707"/>
                  </a:cubicBezTo>
                  <a:cubicBezTo>
                    <a:pt x="145" y="763"/>
                    <a:pt x="171" y="800"/>
                    <a:pt x="197" y="851"/>
                  </a:cubicBezTo>
                  <a:cubicBezTo>
                    <a:pt x="210" y="902"/>
                    <a:pt x="235" y="944"/>
                    <a:pt x="249" y="995"/>
                  </a:cubicBezTo>
                  <a:cubicBezTo>
                    <a:pt x="258" y="1029"/>
                    <a:pt x="275" y="1099"/>
                    <a:pt x="275" y="1099"/>
                  </a:cubicBezTo>
                  <a:cubicBezTo>
                    <a:pt x="269" y="1235"/>
                    <a:pt x="298" y="1513"/>
                    <a:pt x="170" y="1636"/>
                  </a:cubicBezTo>
                  <a:cubicBezTo>
                    <a:pt x="129" y="1718"/>
                    <a:pt x="77" y="1796"/>
                    <a:pt x="26" y="1872"/>
                  </a:cubicBezTo>
                  <a:cubicBezTo>
                    <a:pt x="21" y="1893"/>
                    <a:pt x="0" y="1972"/>
                    <a:pt x="0" y="1990"/>
                  </a:cubicBezTo>
                  <a:cubicBezTo>
                    <a:pt x="0" y="2147"/>
                    <a:pt x="74" y="2237"/>
                    <a:pt x="197" y="2317"/>
                  </a:cubicBezTo>
                  <a:cubicBezTo>
                    <a:pt x="206" y="2343"/>
                    <a:pt x="214" y="2369"/>
                    <a:pt x="223" y="2395"/>
                  </a:cubicBezTo>
                  <a:cubicBezTo>
                    <a:pt x="227" y="2408"/>
                    <a:pt x="232" y="2422"/>
                    <a:pt x="236" y="2435"/>
                  </a:cubicBezTo>
                  <a:cubicBezTo>
                    <a:pt x="240" y="2448"/>
                    <a:pt x="249" y="2474"/>
                    <a:pt x="249" y="2474"/>
                  </a:cubicBezTo>
                  <a:cubicBezTo>
                    <a:pt x="263" y="2615"/>
                    <a:pt x="242" y="2566"/>
                    <a:pt x="275" y="263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1280" y="1890720"/>
              <a:ext cx="517680" cy="811080"/>
            </a:xfrm>
            <a:custGeom>
              <a:avLst/>
              <a:gdLst/>
              <a:ahLst/>
              <a:rect l="l" t="t" r="r" b="b"/>
              <a:pathLst>
                <a:path w="406" h="511">
                  <a:moveTo>
                    <a:pt x="0" y="0"/>
                  </a:moveTo>
                  <a:cubicBezTo>
                    <a:pt x="105" y="35"/>
                    <a:pt x="108" y="47"/>
                    <a:pt x="183" y="131"/>
                  </a:cubicBezTo>
                  <a:cubicBezTo>
                    <a:pt x="204" y="154"/>
                    <a:pt x="249" y="197"/>
                    <a:pt x="249" y="197"/>
                  </a:cubicBezTo>
                  <a:cubicBezTo>
                    <a:pt x="280" y="290"/>
                    <a:pt x="260" y="252"/>
                    <a:pt x="301" y="314"/>
                  </a:cubicBezTo>
                  <a:cubicBezTo>
                    <a:pt x="333" y="411"/>
                    <a:pt x="335" y="440"/>
                    <a:pt x="406" y="5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1520" y="380880"/>
              <a:ext cx="272520" cy="3948120"/>
            </a:xfrm>
            <a:custGeom>
              <a:avLst/>
              <a:gdLst/>
              <a:ahLst/>
              <a:rect l="l" t="t" r="r" b="b"/>
              <a:pathLst>
                <a:path w="214" h="2487">
                  <a:moveTo>
                    <a:pt x="135" y="0"/>
                  </a:moveTo>
                  <a:cubicBezTo>
                    <a:pt x="120" y="59"/>
                    <a:pt x="95" y="97"/>
                    <a:pt x="83" y="157"/>
                  </a:cubicBezTo>
                  <a:cubicBezTo>
                    <a:pt x="90" y="299"/>
                    <a:pt x="88" y="438"/>
                    <a:pt x="122" y="576"/>
                  </a:cubicBezTo>
                  <a:cubicBezTo>
                    <a:pt x="149" y="874"/>
                    <a:pt x="152" y="1167"/>
                    <a:pt x="135" y="1466"/>
                  </a:cubicBezTo>
                  <a:cubicBezTo>
                    <a:pt x="131" y="1527"/>
                    <a:pt x="94" y="1583"/>
                    <a:pt x="70" y="1636"/>
                  </a:cubicBezTo>
                  <a:cubicBezTo>
                    <a:pt x="59" y="1661"/>
                    <a:pt x="52" y="1689"/>
                    <a:pt x="43" y="1715"/>
                  </a:cubicBezTo>
                  <a:cubicBezTo>
                    <a:pt x="39" y="1728"/>
                    <a:pt x="30" y="1754"/>
                    <a:pt x="30" y="1754"/>
                  </a:cubicBezTo>
                  <a:cubicBezTo>
                    <a:pt x="0" y="1938"/>
                    <a:pt x="8" y="1668"/>
                    <a:pt x="30" y="1999"/>
                  </a:cubicBezTo>
                  <a:cubicBezTo>
                    <a:pt x="33" y="2042"/>
                    <a:pt x="53" y="2275"/>
                    <a:pt x="83" y="2304"/>
                  </a:cubicBezTo>
                  <a:cubicBezTo>
                    <a:pt x="87" y="2317"/>
                    <a:pt x="88" y="2332"/>
                    <a:pt x="96" y="2343"/>
                  </a:cubicBezTo>
                  <a:cubicBezTo>
                    <a:pt x="119" y="2372"/>
                    <a:pt x="174" y="2422"/>
                    <a:pt x="174" y="2422"/>
                  </a:cubicBezTo>
                  <a:cubicBezTo>
                    <a:pt x="178" y="2435"/>
                    <a:pt x="180" y="2449"/>
                    <a:pt x="187" y="2461"/>
                  </a:cubicBezTo>
                  <a:cubicBezTo>
                    <a:pt x="194" y="2472"/>
                    <a:pt x="214" y="2487"/>
                    <a:pt x="214" y="248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-124560" y="735480"/>
              <a:ext cx="1366560" cy="4253760"/>
              <a:chOff x="-124560" y="735480"/>
              <a:chExt cx="1366560" cy="4253760"/>
            </a:xfrm>
          </p:grpSpPr>
          <p:sp>
            <p:nvSpPr>
              <p:cNvPr id="112" name=""/>
              <p:cNvSpPr/>
              <p:nvPr/>
            </p:nvSpPr>
            <p:spPr>
              <a:xfrm>
                <a:off x="170640" y="2051280"/>
                <a:ext cx="150120" cy="1641240"/>
              </a:xfrm>
              <a:custGeom>
                <a:avLst/>
                <a:gdLst/>
                <a:ahLst/>
                <a:rect l="l" t="t" r="r" b="b"/>
                <a:pathLst>
                  <a:path w="118" h="1034">
                    <a:moveTo>
                      <a:pt x="13" y="0"/>
                    </a:moveTo>
                    <a:cubicBezTo>
                      <a:pt x="37" y="73"/>
                      <a:pt x="59" y="147"/>
                      <a:pt x="78" y="222"/>
                    </a:cubicBezTo>
                    <a:cubicBezTo>
                      <a:pt x="63" y="455"/>
                      <a:pt x="81" y="355"/>
                      <a:pt x="39" y="523"/>
                    </a:cubicBezTo>
                    <a:cubicBezTo>
                      <a:pt x="32" y="550"/>
                      <a:pt x="22" y="576"/>
                      <a:pt x="13" y="602"/>
                    </a:cubicBezTo>
                    <a:cubicBezTo>
                      <a:pt x="9" y="615"/>
                      <a:pt x="0" y="641"/>
                      <a:pt x="0" y="641"/>
                    </a:cubicBezTo>
                    <a:cubicBezTo>
                      <a:pt x="8" y="736"/>
                      <a:pt x="6" y="783"/>
                      <a:pt x="26" y="864"/>
                    </a:cubicBezTo>
                    <a:cubicBezTo>
                      <a:pt x="37" y="907"/>
                      <a:pt x="92" y="981"/>
                      <a:pt x="92" y="981"/>
                    </a:cubicBezTo>
                    <a:cubicBezTo>
                      <a:pt x="107" y="1027"/>
                      <a:pt x="95" y="1011"/>
                      <a:pt x="118" y="10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9818600">
                <a:off x="884520" y="2010960"/>
                <a:ext cx="195120" cy="706680"/>
              </a:xfrm>
              <a:custGeom>
                <a:avLst/>
                <a:gdLst>
                  <a:gd name="textAreaLeft" fmla="*/ 45720 w 195120"/>
                  <a:gd name="textAreaRight" fmla="*/ 149400 w 195120"/>
                  <a:gd name="textAreaTop" fmla="*/ 82800 h 706680"/>
                  <a:gd name="textAreaBottom" fmla="*/ 443160 h 70668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818600">
                <a:off x="496800" y="3070080"/>
                <a:ext cx="122040" cy="706320"/>
              </a:xfrm>
              <a:custGeom>
                <a:avLst/>
                <a:gdLst>
                  <a:gd name="textAreaLeft" fmla="*/ 28440 w 122040"/>
                  <a:gd name="textAreaRight" fmla="*/ 93240 w 12204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663000">
                <a:off x="432000" y="1447920"/>
                <a:ext cx="84960" cy="705960"/>
              </a:xfrm>
              <a:custGeom>
                <a:avLst/>
                <a:gdLst>
                  <a:gd name="textAreaLeft" fmla="*/ 19800 w 84960"/>
                  <a:gd name="textAreaRight" fmla="*/ 65160 w 84960"/>
                  <a:gd name="textAreaTop" fmla="*/ 82800 h 705960"/>
                  <a:gd name="textAreaBottom" fmla="*/ 442800 h 70596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20752200">
                <a:off x="676800" y="4278240"/>
                <a:ext cx="122400" cy="706320"/>
              </a:xfrm>
              <a:custGeom>
                <a:avLst/>
                <a:gdLst>
                  <a:gd name="textAreaLeft" fmla="*/ 28800 w 122400"/>
                  <a:gd name="textAreaRight" fmla="*/ 93600 w 12240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1330800">
                <a:off x="0" y="2041560"/>
                <a:ext cx="244440" cy="706680"/>
              </a:xfrm>
              <a:custGeom>
                <a:avLst/>
                <a:gdLst>
                  <a:gd name="textAreaLeft" fmla="*/ 57240 w 244440"/>
                  <a:gd name="textAreaRight" fmla="*/ 186840 w 244440"/>
                  <a:gd name="textAreaTop" fmla="*/ 82800 h 706680"/>
                  <a:gd name="textAreaBottom" fmla="*/ 443160 h 70668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379200">
                <a:off x="676800" y="2285640"/>
                <a:ext cx="96840" cy="706680"/>
              </a:xfrm>
              <a:custGeom>
                <a:avLst/>
                <a:gdLst>
                  <a:gd name="textAreaLeft" fmla="*/ 22680 w 96840"/>
                  <a:gd name="textAreaRight" fmla="*/ 74160 w 96840"/>
                  <a:gd name="textAreaTop" fmla="*/ 82800 h 706680"/>
                  <a:gd name="textAreaBottom" fmla="*/ 443160 h 70668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19691400">
                <a:off x="370800" y="4267080"/>
                <a:ext cx="61200" cy="706320"/>
              </a:xfrm>
              <a:custGeom>
                <a:avLst/>
                <a:gdLst>
                  <a:gd name="textAreaLeft" fmla="*/ 14400 w 61200"/>
                  <a:gd name="textAreaRight" fmla="*/ 46800 w 6120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20752200">
                <a:off x="3240" y="761760"/>
                <a:ext cx="305640" cy="706320"/>
              </a:xfrm>
              <a:custGeom>
                <a:avLst/>
                <a:gdLst>
                  <a:gd name="textAreaLeft" fmla="*/ 71640 w 305640"/>
                  <a:gd name="textAreaRight" fmla="*/ 233640 w 30564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1171600">
                <a:off x="185760" y="3353040"/>
                <a:ext cx="123120" cy="706320"/>
              </a:xfrm>
              <a:custGeom>
                <a:avLst/>
                <a:gdLst>
                  <a:gd name="textAreaLeft" fmla="*/ 28800 w 123120"/>
                  <a:gd name="textAreaRight" fmla="*/ 94320 w 12312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2" name=""/>
          <p:cNvGrpSpPr/>
          <p:nvPr/>
        </p:nvGrpSpPr>
        <p:grpSpPr>
          <a:xfrm>
            <a:off x="8153280" y="228600"/>
            <a:ext cx="990720" cy="1523880"/>
            <a:chOff x="8153280" y="228600"/>
            <a:chExt cx="990720" cy="1523880"/>
          </a:xfrm>
        </p:grpSpPr>
        <p:sp>
          <p:nvSpPr>
            <p:cNvPr id="123" name=""/>
            <p:cNvSpPr/>
            <p:nvPr/>
          </p:nvSpPr>
          <p:spPr>
            <a:xfrm>
              <a:off x="8153280" y="228600"/>
              <a:ext cx="990720" cy="15238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3c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305920" y="304920"/>
              <a:ext cx="685800" cy="129528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66ffff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3c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9900"/>
                  </a:solidFill>
                  <a:latin typeface="Times New Roman"/>
                  <a:ea typeface="华文楷体"/>
                </a:rPr>
                <a:t>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9900"/>
                  </a:solidFill>
                  <a:latin typeface="Times New Roman"/>
                  <a:ea typeface="华文楷体"/>
                </a:rPr>
                <a:t>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1047600" y="581040"/>
            <a:ext cx="76212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ff00"/>
              </a:gs>
              <a:gs pos="100000">
                <a:srgbClr val="66ffff"/>
              </a:gs>
            </a:gsLst>
            <a:lin ang="135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复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42640" y="1085760"/>
            <a:ext cx="534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根据整除的意义判断下面的几个数能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被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或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整除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92360" y="2227320"/>
            <a:ext cx="45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267        6972         1867        56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2880" y="2913120"/>
            <a:ext cx="42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267        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不能被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整除，也不能被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整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988720" y="3633840"/>
            <a:ext cx="42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972        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能被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整除，但是不能被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整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74680" y="4395960"/>
            <a:ext cx="42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867        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不能被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整除，也不能被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整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88720" y="5081760"/>
            <a:ext cx="42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625        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不能被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整除，但是能被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整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76320" y="5638680"/>
            <a:ext cx="1866960" cy="1066680"/>
            <a:chOff x="76320" y="5638680"/>
            <a:chExt cx="1866960" cy="1066680"/>
          </a:xfrm>
        </p:grpSpPr>
        <p:sp>
          <p:nvSpPr>
            <p:cNvPr id="134" name=""/>
            <p:cNvSpPr/>
            <p:nvPr/>
          </p:nvSpPr>
          <p:spPr>
            <a:xfrm rot="5400000">
              <a:off x="1181160" y="50670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5400000">
              <a:off x="952560" y="52956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5400000">
              <a:off x="647640" y="55242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5400000">
              <a:off x="952560" y="57528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5400000">
              <a:off x="1181160" y="594324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-124560" y="380880"/>
            <a:ext cx="1366560" cy="4608360"/>
            <a:chOff x="-124560" y="380880"/>
            <a:chExt cx="1366560" cy="4608360"/>
          </a:xfrm>
        </p:grpSpPr>
        <p:sp>
          <p:nvSpPr>
            <p:cNvPr id="140" name=""/>
            <p:cNvSpPr/>
            <p:nvPr/>
          </p:nvSpPr>
          <p:spPr>
            <a:xfrm>
              <a:off x="400320" y="395280"/>
              <a:ext cx="379800" cy="4176720"/>
            </a:xfrm>
            <a:custGeom>
              <a:avLst/>
              <a:gdLst/>
              <a:ahLst/>
              <a:rect l="l" t="t" r="r" b="b"/>
              <a:pathLst>
                <a:path w="298" h="2631">
                  <a:moveTo>
                    <a:pt x="79" y="0"/>
                  </a:moveTo>
                  <a:cubicBezTo>
                    <a:pt x="75" y="26"/>
                    <a:pt x="71" y="52"/>
                    <a:pt x="66" y="78"/>
                  </a:cubicBezTo>
                  <a:cubicBezTo>
                    <a:pt x="57" y="126"/>
                    <a:pt x="39" y="222"/>
                    <a:pt x="39" y="222"/>
                  </a:cubicBezTo>
                  <a:cubicBezTo>
                    <a:pt x="48" y="433"/>
                    <a:pt x="28" y="548"/>
                    <a:pt x="131" y="707"/>
                  </a:cubicBezTo>
                  <a:cubicBezTo>
                    <a:pt x="145" y="763"/>
                    <a:pt x="171" y="800"/>
                    <a:pt x="197" y="851"/>
                  </a:cubicBezTo>
                  <a:cubicBezTo>
                    <a:pt x="210" y="902"/>
                    <a:pt x="235" y="944"/>
                    <a:pt x="249" y="995"/>
                  </a:cubicBezTo>
                  <a:cubicBezTo>
                    <a:pt x="258" y="1029"/>
                    <a:pt x="275" y="1099"/>
                    <a:pt x="275" y="1099"/>
                  </a:cubicBezTo>
                  <a:cubicBezTo>
                    <a:pt x="269" y="1235"/>
                    <a:pt x="298" y="1513"/>
                    <a:pt x="170" y="1636"/>
                  </a:cubicBezTo>
                  <a:cubicBezTo>
                    <a:pt x="129" y="1718"/>
                    <a:pt x="77" y="1796"/>
                    <a:pt x="26" y="1872"/>
                  </a:cubicBezTo>
                  <a:cubicBezTo>
                    <a:pt x="21" y="1893"/>
                    <a:pt x="0" y="1972"/>
                    <a:pt x="0" y="1990"/>
                  </a:cubicBezTo>
                  <a:cubicBezTo>
                    <a:pt x="0" y="2147"/>
                    <a:pt x="74" y="2237"/>
                    <a:pt x="197" y="2317"/>
                  </a:cubicBezTo>
                  <a:cubicBezTo>
                    <a:pt x="206" y="2343"/>
                    <a:pt x="214" y="2369"/>
                    <a:pt x="223" y="2395"/>
                  </a:cubicBezTo>
                  <a:cubicBezTo>
                    <a:pt x="227" y="2408"/>
                    <a:pt x="232" y="2422"/>
                    <a:pt x="236" y="2435"/>
                  </a:cubicBezTo>
                  <a:cubicBezTo>
                    <a:pt x="240" y="2448"/>
                    <a:pt x="249" y="2474"/>
                    <a:pt x="249" y="2474"/>
                  </a:cubicBezTo>
                  <a:cubicBezTo>
                    <a:pt x="263" y="2615"/>
                    <a:pt x="242" y="2566"/>
                    <a:pt x="275" y="263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01280" y="1890720"/>
              <a:ext cx="517680" cy="811080"/>
            </a:xfrm>
            <a:custGeom>
              <a:avLst/>
              <a:gdLst/>
              <a:ahLst/>
              <a:rect l="l" t="t" r="r" b="b"/>
              <a:pathLst>
                <a:path w="406" h="511">
                  <a:moveTo>
                    <a:pt x="0" y="0"/>
                  </a:moveTo>
                  <a:cubicBezTo>
                    <a:pt x="105" y="35"/>
                    <a:pt x="108" y="47"/>
                    <a:pt x="183" y="131"/>
                  </a:cubicBezTo>
                  <a:cubicBezTo>
                    <a:pt x="204" y="154"/>
                    <a:pt x="249" y="197"/>
                    <a:pt x="249" y="197"/>
                  </a:cubicBezTo>
                  <a:cubicBezTo>
                    <a:pt x="280" y="290"/>
                    <a:pt x="260" y="252"/>
                    <a:pt x="301" y="314"/>
                  </a:cubicBezTo>
                  <a:cubicBezTo>
                    <a:pt x="333" y="411"/>
                    <a:pt x="335" y="440"/>
                    <a:pt x="406" y="5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1520" y="380880"/>
              <a:ext cx="272520" cy="3948120"/>
            </a:xfrm>
            <a:custGeom>
              <a:avLst/>
              <a:gdLst/>
              <a:ahLst/>
              <a:rect l="l" t="t" r="r" b="b"/>
              <a:pathLst>
                <a:path w="214" h="2487">
                  <a:moveTo>
                    <a:pt x="135" y="0"/>
                  </a:moveTo>
                  <a:cubicBezTo>
                    <a:pt x="120" y="59"/>
                    <a:pt x="95" y="97"/>
                    <a:pt x="83" y="157"/>
                  </a:cubicBezTo>
                  <a:cubicBezTo>
                    <a:pt x="90" y="299"/>
                    <a:pt x="88" y="438"/>
                    <a:pt x="122" y="576"/>
                  </a:cubicBezTo>
                  <a:cubicBezTo>
                    <a:pt x="149" y="874"/>
                    <a:pt x="152" y="1167"/>
                    <a:pt x="135" y="1466"/>
                  </a:cubicBezTo>
                  <a:cubicBezTo>
                    <a:pt x="131" y="1527"/>
                    <a:pt x="94" y="1583"/>
                    <a:pt x="70" y="1636"/>
                  </a:cubicBezTo>
                  <a:cubicBezTo>
                    <a:pt x="59" y="1661"/>
                    <a:pt x="52" y="1689"/>
                    <a:pt x="43" y="1715"/>
                  </a:cubicBezTo>
                  <a:cubicBezTo>
                    <a:pt x="39" y="1728"/>
                    <a:pt x="30" y="1754"/>
                    <a:pt x="30" y="1754"/>
                  </a:cubicBezTo>
                  <a:cubicBezTo>
                    <a:pt x="0" y="1938"/>
                    <a:pt x="8" y="1668"/>
                    <a:pt x="30" y="1999"/>
                  </a:cubicBezTo>
                  <a:cubicBezTo>
                    <a:pt x="33" y="2042"/>
                    <a:pt x="53" y="2275"/>
                    <a:pt x="83" y="2304"/>
                  </a:cubicBezTo>
                  <a:cubicBezTo>
                    <a:pt x="87" y="2317"/>
                    <a:pt x="88" y="2332"/>
                    <a:pt x="96" y="2343"/>
                  </a:cubicBezTo>
                  <a:cubicBezTo>
                    <a:pt x="119" y="2372"/>
                    <a:pt x="174" y="2422"/>
                    <a:pt x="174" y="2422"/>
                  </a:cubicBezTo>
                  <a:cubicBezTo>
                    <a:pt x="178" y="2435"/>
                    <a:pt x="180" y="2449"/>
                    <a:pt x="187" y="2461"/>
                  </a:cubicBezTo>
                  <a:cubicBezTo>
                    <a:pt x="194" y="2472"/>
                    <a:pt x="214" y="2487"/>
                    <a:pt x="214" y="248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-124560" y="735480"/>
              <a:ext cx="1366560" cy="4253760"/>
              <a:chOff x="-124560" y="735480"/>
              <a:chExt cx="1366560" cy="4253760"/>
            </a:xfrm>
          </p:grpSpPr>
          <p:sp>
            <p:nvSpPr>
              <p:cNvPr id="144" name=""/>
              <p:cNvSpPr/>
              <p:nvPr/>
            </p:nvSpPr>
            <p:spPr>
              <a:xfrm>
                <a:off x="170640" y="2051280"/>
                <a:ext cx="150120" cy="1641240"/>
              </a:xfrm>
              <a:custGeom>
                <a:avLst/>
                <a:gdLst/>
                <a:ahLst/>
                <a:rect l="l" t="t" r="r" b="b"/>
                <a:pathLst>
                  <a:path w="118" h="1034">
                    <a:moveTo>
                      <a:pt x="13" y="0"/>
                    </a:moveTo>
                    <a:cubicBezTo>
                      <a:pt x="37" y="73"/>
                      <a:pt x="59" y="147"/>
                      <a:pt x="78" y="222"/>
                    </a:cubicBezTo>
                    <a:cubicBezTo>
                      <a:pt x="63" y="455"/>
                      <a:pt x="81" y="355"/>
                      <a:pt x="39" y="523"/>
                    </a:cubicBezTo>
                    <a:cubicBezTo>
                      <a:pt x="32" y="550"/>
                      <a:pt x="22" y="576"/>
                      <a:pt x="13" y="602"/>
                    </a:cubicBezTo>
                    <a:cubicBezTo>
                      <a:pt x="9" y="615"/>
                      <a:pt x="0" y="641"/>
                      <a:pt x="0" y="641"/>
                    </a:cubicBezTo>
                    <a:cubicBezTo>
                      <a:pt x="8" y="736"/>
                      <a:pt x="6" y="783"/>
                      <a:pt x="26" y="864"/>
                    </a:cubicBezTo>
                    <a:cubicBezTo>
                      <a:pt x="37" y="907"/>
                      <a:pt x="92" y="981"/>
                      <a:pt x="92" y="981"/>
                    </a:cubicBezTo>
                    <a:cubicBezTo>
                      <a:pt x="107" y="1027"/>
                      <a:pt x="95" y="1011"/>
                      <a:pt x="118" y="10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19818600">
                <a:off x="884520" y="2010960"/>
                <a:ext cx="195120" cy="706680"/>
              </a:xfrm>
              <a:custGeom>
                <a:avLst/>
                <a:gdLst>
                  <a:gd name="textAreaLeft" fmla="*/ 45720 w 195120"/>
                  <a:gd name="textAreaRight" fmla="*/ 149400 w 195120"/>
                  <a:gd name="textAreaTop" fmla="*/ 82800 h 706680"/>
                  <a:gd name="textAreaBottom" fmla="*/ 443160 h 70668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9818600">
                <a:off x="496800" y="3070080"/>
                <a:ext cx="122040" cy="706320"/>
              </a:xfrm>
              <a:custGeom>
                <a:avLst/>
                <a:gdLst>
                  <a:gd name="textAreaLeft" fmla="*/ 28440 w 122040"/>
                  <a:gd name="textAreaRight" fmla="*/ 93240 w 12204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 rot="663000">
                <a:off x="432000" y="1447920"/>
                <a:ext cx="84960" cy="705960"/>
              </a:xfrm>
              <a:custGeom>
                <a:avLst/>
                <a:gdLst>
                  <a:gd name="textAreaLeft" fmla="*/ 19800 w 84960"/>
                  <a:gd name="textAreaRight" fmla="*/ 65160 w 84960"/>
                  <a:gd name="textAreaTop" fmla="*/ 82800 h 705960"/>
                  <a:gd name="textAreaBottom" fmla="*/ 442800 h 70596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20752200">
                <a:off x="676800" y="4278240"/>
                <a:ext cx="122400" cy="706320"/>
              </a:xfrm>
              <a:custGeom>
                <a:avLst/>
                <a:gdLst>
                  <a:gd name="textAreaLeft" fmla="*/ 28800 w 122400"/>
                  <a:gd name="textAreaRight" fmla="*/ 93600 w 12240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1330800">
                <a:off x="0" y="2041560"/>
                <a:ext cx="244440" cy="706680"/>
              </a:xfrm>
              <a:custGeom>
                <a:avLst/>
                <a:gdLst>
                  <a:gd name="textAreaLeft" fmla="*/ 57240 w 244440"/>
                  <a:gd name="textAreaRight" fmla="*/ 186840 w 244440"/>
                  <a:gd name="textAreaTop" fmla="*/ 82800 h 706680"/>
                  <a:gd name="textAreaBottom" fmla="*/ 443160 h 70668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379200">
                <a:off x="676800" y="2285640"/>
                <a:ext cx="96840" cy="706680"/>
              </a:xfrm>
              <a:custGeom>
                <a:avLst/>
                <a:gdLst>
                  <a:gd name="textAreaLeft" fmla="*/ 22680 w 96840"/>
                  <a:gd name="textAreaRight" fmla="*/ 74160 w 96840"/>
                  <a:gd name="textAreaTop" fmla="*/ 82800 h 706680"/>
                  <a:gd name="textAreaBottom" fmla="*/ 443160 h 70668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19691400">
                <a:off x="370800" y="4267080"/>
                <a:ext cx="61200" cy="706320"/>
              </a:xfrm>
              <a:custGeom>
                <a:avLst/>
                <a:gdLst>
                  <a:gd name="textAreaLeft" fmla="*/ 14400 w 61200"/>
                  <a:gd name="textAreaRight" fmla="*/ 46800 w 6120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20752200">
                <a:off x="3240" y="761760"/>
                <a:ext cx="305640" cy="706320"/>
              </a:xfrm>
              <a:custGeom>
                <a:avLst/>
                <a:gdLst>
                  <a:gd name="textAreaLeft" fmla="*/ 71640 w 305640"/>
                  <a:gd name="textAreaRight" fmla="*/ 233640 w 30564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21171600">
                <a:off x="185760" y="3353040"/>
                <a:ext cx="123120" cy="706320"/>
              </a:xfrm>
              <a:custGeom>
                <a:avLst/>
                <a:gdLst>
                  <a:gd name="textAreaLeft" fmla="*/ 28800 w 123120"/>
                  <a:gd name="textAreaRight" fmla="*/ 94320 w 12312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4" name=""/>
          <p:cNvGrpSpPr/>
          <p:nvPr/>
        </p:nvGrpSpPr>
        <p:grpSpPr>
          <a:xfrm>
            <a:off x="8153280" y="228600"/>
            <a:ext cx="990720" cy="1523880"/>
            <a:chOff x="8153280" y="228600"/>
            <a:chExt cx="990720" cy="1523880"/>
          </a:xfrm>
        </p:grpSpPr>
        <p:sp>
          <p:nvSpPr>
            <p:cNvPr id="155" name=""/>
            <p:cNvSpPr/>
            <p:nvPr/>
          </p:nvSpPr>
          <p:spPr>
            <a:xfrm>
              <a:off x="8153280" y="228600"/>
              <a:ext cx="990720" cy="1523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3c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305920" y="304920"/>
              <a:ext cx="685800" cy="129528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66ffff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3c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9900"/>
                  </a:solidFill>
                  <a:latin typeface="Times New Roman"/>
                  <a:ea typeface="华文楷体"/>
                </a:rPr>
                <a:t>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9900"/>
                  </a:solidFill>
                  <a:latin typeface="Times New Roman"/>
                  <a:ea typeface="华文楷体"/>
                </a:rPr>
                <a:t>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1047600" y="581040"/>
            <a:ext cx="76212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ff00"/>
              </a:gs>
              <a:gs pos="100000">
                <a:srgbClr val="66ffff"/>
              </a:gs>
            </a:gsLst>
            <a:lin ang="135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例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67040" y="114624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62360" y="152388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982880" y="190512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63800" y="228600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67040" y="266688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67040" y="304812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67040" y="342900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67040" y="380988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67040" y="419112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23760" y="4572000"/>
            <a:ext cx="17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960200" y="5045760"/>
            <a:ext cx="1684440" cy="698400"/>
            <a:chOff x="1960200" y="5045760"/>
            <a:chExt cx="1684440" cy="698400"/>
          </a:xfrm>
        </p:grpSpPr>
        <p:sp>
          <p:nvSpPr>
            <p:cNvPr id="169" name=""/>
            <p:cNvSpPr/>
            <p:nvPr/>
          </p:nvSpPr>
          <p:spPr>
            <a:xfrm>
              <a:off x="1960200" y="5045760"/>
              <a:ext cx="546120" cy="65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宋体"/>
                </a:rPr>
                <a:t>…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098520" y="5091840"/>
              <a:ext cx="546120" cy="65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宋体"/>
                </a:rPr>
                <a:t>…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02112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21120" y="1523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4880" y="1905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178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84560" y="2666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187800" y="304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8780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87800" y="3805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8312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02200" y="4572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2112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21120" y="1523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3084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35520" y="1905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87800" y="2666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87800" y="304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18780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878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1878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02200" y="4572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43200" y="16002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你发现了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038480" y="2287440"/>
            <a:ext cx="472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右边的数是左边的数的倍数，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都能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整除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038480" y="3232080"/>
            <a:ext cx="472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右边的数个位上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54680" y="4257720"/>
            <a:ext cx="500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个位上是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0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、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、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4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、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6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、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8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的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都能被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整除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2112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21120" y="1523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35520" y="1905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211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87800" y="2666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84560" y="304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8456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878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1878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02200" y="4572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4" dur="1" fill="hold">
                                    <p:stCondLst>
                                      <p:cond evt="end">
                                        <p:tn val="92"/>
                                      </p:cond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8" dur="1" fill="hold">
                                    <p:stCondLst>
                                      <p:cond evt="end">
                                        <p:tn val="96"/>
                                      </p:cond>
                                    </p:stCondLst>
                                  </p:cTn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evt="end">
                                        <p:tn val="100"/>
                                      </p:cond>
                                    </p:stCondLst>
                                  </p:cTn>
                                  <p:tgtEl>
                                    <p:spTgt spid="1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6" dur="1" fill="hold">
                                    <p:stCondLst>
                                      <p:cond evt="end">
                                        <p:tn val="104"/>
                                      </p:cond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0" dur="1" fill="hold">
                                    <p:stCondLst>
                                      <p:cond evt="end">
                                        <p:tn val="108"/>
                                      </p:cond>
                                    </p:stCondLst>
                                  </p:cTn>
                                  <p:tgtEl>
                                    <p:spTgt spid="1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4" dur="1" fill="hold">
                                    <p:stCondLst>
                                      <p:cond evt="end">
                                        <p:tn val="112"/>
                                      </p:cond>
                                    </p:stCondLst>
                                  </p:cTn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6000"/>
                            </p:stCondLst>
                            <p:childTnLst>
                              <p:par>
                                <p:cTn id="1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8" dur="1" fill="hold">
                                    <p:stCondLst>
                                      <p:cond evt="end">
                                        <p:tn val="116"/>
                                      </p:cond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7000"/>
                            </p:stCondLst>
                            <p:childTnLst>
                              <p:par>
                                <p:cTn id="1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2" dur="1" fill="hold">
                                    <p:stCondLst>
                                      <p:cond evt="end">
                                        <p:tn val="120"/>
                                      </p:cond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8000"/>
                            </p:stCondLst>
                            <p:childTnLst>
                              <p:par>
                                <p:cTn id="1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6" dur="1" fill="hold">
                                    <p:stCondLst>
                                      <p:cond evt="end">
                                        <p:tn val="124"/>
                                      </p:cond>
                                    </p:stCondLst>
                                  </p:cTn>
                                  <p:tgtEl>
                                    <p:spTgt spid="1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9000"/>
                            </p:stCondLst>
                            <p:childTnLst>
                              <p:par>
                                <p:cTn id="1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0" dur="1" fill="hold">
                                    <p:stCondLst>
                                      <p:cond evt="end">
                                        <p:tn val="128"/>
                                      </p:cond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4" dur="1" fill="hold">
                                    <p:stCondLst>
                                      <p:cond evt="end">
                                        <p:tn val="132"/>
                                      </p:cond>
                                    </p:stCondLst>
                                  </p:cTn>
                                  <p:tgtEl>
                                    <p:spTgt spid="1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8" dur="1" fill="hold">
                                    <p:stCondLst>
                                      <p:cond evt="end">
                                        <p:tn val="136"/>
                                      </p:cond>
                                    </p:stCondLst>
                                  </p:cTn>
                                  <p:tgtEl>
                                    <p:spTgt spid="1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2" dur="1" fill="hold">
                                    <p:stCondLst>
                                      <p:cond evt="end">
                                        <p:tn val="140"/>
                                      </p:cond>
                                    </p:stCondLst>
                                  </p:cTn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2500"/>
                            </p:stCondLst>
                            <p:childTnLst>
                              <p:par>
                                <p:cTn id="1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6" dur="1" fill="hold">
                                    <p:stCondLst>
                                      <p:cond evt="end">
                                        <p:tn val="144"/>
                                      </p:cond>
                                    </p:stCondLst>
                                  </p:cTn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3500"/>
                            </p:stCondLst>
                            <p:childTnLst>
                              <p:par>
                                <p:cTn id="1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0" dur="1" fill="hold">
                                    <p:stCondLst>
                                      <p:cond evt="end">
                                        <p:tn val="148"/>
                                      </p:cond>
                                    </p:stCondLst>
                                  </p:cTn>
                                  <p:tgtEl>
                                    <p:spTgt spid="1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4500"/>
                            </p:stCondLst>
                            <p:childTnLst>
                              <p:par>
                                <p:cTn id="1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4" dur="1" fill="hold">
                                    <p:stCondLst>
                                      <p:cond evt="end">
                                        <p:tn val="152"/>
                                      </p:cond>
                                    </p:stCondLst>
                                  </p:cTn>
                                  <p:tgtEl>
                                    <p:spTgt spid="1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500"/>
                            </p:stCondLst>
                            <p:childTnLst>
                              <p:par>
                                <p:cTn id="1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8" dur="1" fill="hold">
                                    <p:stCondLst>
                                      <p:cond evt="end">
                                        <p:tn val="156"/>
                                      </p:cond>
                                    </p:stCondLst>
                                  </p:cTn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2" dur="1" fill="hold">
                                    <p:stCondLst>
                                      <p:cond evt="end">
                                        <p:tn val="160"/>
                                      </p:cond>
                                    </p:stCondLst>
                                  </p:cTn>
                                  <p:tgtEl>
                                    <p:spTgt spid="1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6" dur="1" fill="hold">
                                    <p:stCondLst>
                                      <p:cond evt="end">
                                        <p:tn val="164"/>
                                      </p:cond>
                                    </p:stCondLst>
                                  </p:cTn>
                                  <p:tgtEl>
                                    <p:spTgt spid="1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8500"/>
                            </p:stCondLst>
                            <p:childTnLst>
                              <p:par>
                                <p:cTn id="1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0" dur="1" fill="hold">
                                    <p:stCondLst>
                                      <p:cond evt="end">
                                        <p:tn val="168"/>
                                      </p:cond>
                                    </p:stCondLst>
                                  </p:cTn>
                                  <p:tgtEl>
                                    <p:spTgt spid="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95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5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1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15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2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25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30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35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40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76320" y="5638680"/>
            <a:ext cx="1866960" cy="1066680"/>
            <a:chOff x="76320" y="5638680"/>
            <a:chExt cx="1866960" cy="1066680"/>
          </a:xfrm>
        </p:grpSpPr>
        <p:sp>
          <p:nvSpPr>
            <p:cNvPr id="207" name=""/>
            <p:cNvSpPr/>
            <p:nvPr/>
          </p:nvSpPr>
          <p:spPr>
            <a:xfrm rot="5400000">
              <a:off x="1181160" y="50670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5400000">
              <a:off x="952560" y="52956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5400000">
              <a:off x="647640" y="55242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5400000">
              <a:off x="952560" y="57528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5400000">
              <a:off x="1181160" y="594324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-124560" y="380880"/>
            <a:ext cx="1366560" cy="4608360"/>
            <a:chOff x="-124560" y="380880"/>
            <a:chExt cx="1366560" cy="4608360"/>
          </a:xfrm>
        </p:grpSpPr>
        <p:sp>
          <p:nvSpPr>
            <p:cNvPr id="214" name=""/>
            <p:cNvSpPr/>
            <p:nvPr/>
          </p:nvSpPr>
          <p:spPr>
            <a:xfrm>
              <a:off x="400320" y="395280"/>
              <a:ext cx="379800" cy="4176720"/>
            </a:xfrm>
            <a:custGeom>
              <a:avLst/>
              <a:gdLst/>
              <a:ahLst/>
              <a:rect l="l" t="t" r="r" b="b"/>
              <a:pathLst>
                <a:path w="298" h="2631">
                  <a:moveTo>
                    <a:pt x="79" y="0"/>
                  </a:moveTo>
                  <a:cubicBezTo>
                    <a:pt x="75" y="26"/>
                    <a:pt x="71" y="52"/>
                    <a:pt x="66" y="78"/>
                  </a:cubicBezTo>
                  <a:cubicBezTo>
                    <a:pt x="57" y="126"/>
                    <a:pt x="39" y="222"/>
                    <a:pt x="39" y="222"/>
                  </a:cubicBezTo>
                  <a:cubicBezTo>
                    <a:pt x="48" y="433"/>
                    <a:pt x="28" y="548"/>
                    <a:pt x="131" y="707"/>
                  </a:cubicBezTo>
                  <a:cubicBezTo>
                    <a:pt x="145" y="763"/>
                    <a:pt x="171" y="800"/>
                    <a:pt x="197" y="851"/>
                  </a:cubicBezTo>
                  <a:cubicBezTo>
                    <a:pt x="210" y="902"/>
                    <a:pt x="235" y="944"/>
                    <a:pt x="249" y="995"/>
                  </a:cubicBezTo>
                  <a:cubicBezTo>
                    <a:pt x="258" y="1029"/>
                    <a:pt x="275" y="1099"/>
                    <a:pt x="275" y="1099"/>
                  </a:cubicBezTo>
                  <a:cubicBezTo>
                    <a:pt x="269" y="1235"/>
                    <a:pt x="298" y="1513"/>
                    <a:pt x="170" y="1636"/>
                  </a:cubicBezTo>
                  <a:cubicBezTo>
                    <a:pt x="129" y="1718"/>
                    <a:pt x="77" y="1796"/>
                    <a:pt x="26" y="1872"/>
                  </a:cubicBezTo>
                  <a:cubicBezTo>
                    <a:pt x="21" y="1893"/>
                    <a:pt x="0" y="1972"/>
                    <a:pt x="0" y="1990"/>
                  </a:cubicBezTo>
                  <a:cubicBezTo>
                    <a:pt x="0" y="2147"/>
                    <a:pt x="74" y="2237"/>
                    <a:pt x="197" y="2317"/>
                  </a:cubicBezTo>
                  <a:cubicBezTo>
                    <a:pt x="206" y="2343"/>
                    <a:pt x="214" y="2369"/>
                    <a:pt x="223" y="2395"/>
                  </a:cubicBezTo>
                  <a:cubicBezTo>
                    <a:pt x="227" y="2408"/>
                    <a:pt x="232" y="2422"/>
                    <a:pt x="236" y="2435"/>
                  </a:cubicBezTo>
                  <a:cubicBezTo>
                    <a:pt x="240" y="2448"/>
                    <a:pt x="249" y="2474"/>
                    <a:pt x="249" y="2474"/>
                  </a:cubicBezTo>
                  <a:cubicBezTo>
                    <a:pt x="263" y="2615"/>
                    <a:pt x="242" y="2566"/>
                    <a:pt x="275" y="263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1280" y="1890720"/>
              <a:ext cx="517680" cy="811080"/>
            </a:xfrm>
            <a:custGeom>
              <a:avLst/>
              <a:gdLst/>
              <a:ahLst/>
              <a:rect l="l" t="t" r="r" b="b"/>
              <a:pathLst>
                <a:path w="406" h="511">
                  <a:moveTo>
                    <a:pt x="0" y="0"/>
                  </a:moveTo>
                  <a:cubicBezTo>
                    <a:pt x="105" y="35"/>
                    <a:pt x="108" y="47"/>
                    <a:pt x="183" y="131"/>
                  </a:cubicBezTo>
                  <a:cubicBezTo>
                    <a:pt x="204" y="154"/>
                    <a:pt x="249" y="197"/>
                    <a:pt x="249" y="197"/>
                  </a:cubicBezTo>
                  <a:cubicBezTo>
                    <a:pt x="280" y="290"/>
                    <a:pt x="260" y="252"/>
                    <a:pt x="301" y="314"/>
                  </a:cubicBezTo>
                  <a:cubicBezTo>
                    <a:pt x="333" y="411"/>
                    <a:pt x="335" y="440"/>
                    <a:pt x="406" y="5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1520" y="380880"/>
              <a:ext cx="272520" cy="3948120"/>
            </a:xfrm>
            <a:custGeom>
              <a:avLst/>
              <a:gdLst/>
              <a:ahLst/>
              <a:rect l="l" t="t" r="r" b="b"/>
              <a:pathLst>
                <a:path w="214" h="2487">
                  <a:moveTo>
                    <a:pt x="135" y="0"/>
                  </a:moveTo>
                  <a:cubicBezTo>
                    <a:pt x="120" y="59"/>
                    <a:pt x="95" y="97"/>
                    <a:pt x="83" y="157"/>
                  </a:cubicBezTo>
                  <a:cubicBezTo>
                    <a:pt x="90" y="299"/>
                    <a:pt x="88" y="438"/>
                    <a:pt x="122" y="576"/>
                  </a:cubicBezTo>
                  <a:cubicBezTo>
                    <a:pt x="149" y="874"/>
                    <a:pt x="152" y="1167"/>
                    <a:pt x="135" y="1466"/>
                  </a:cubicBezTo>
                  <a:cubicBezTo>
                    <a:pt x="131" y="1527"/>
                    <a:pt x="94" y="1583"/>
                    <a:pt x="70" y="1636"/>
                  </a:cubicBezTo>
                  <a:cubicBezTo>
                    <a:pt x="59" y="1661"/>
                    <a:pt x="52" y="1689"/>
                    <a:pt x="43" y="1715"/>
                  </a:cubicBezTo>
                  <a:cubicBezTo>
                    <a:pt x="39" y="1728"/>
                    <a:pt x="30" y="1754"/>
                    <a:pt x="30" y="1754"/>
                  </a:cubicBezTo>
                  <a:cubicBezTo>
                    <a:pt x="0" y="1938"/>
                    <a:pt x="8" y="1668"/>
                    <a:pt x="30" y="1999"/>
                  </a:cubicBezTo>
                  <a:cubicBezTo>
                    <a:pt x="33" y="2042"/>
                    <a:pt x="53" y="2275"/>
                    <a:pt x="83" y="2304"/>
                  </a:cubicBezTo>
                  <a:cubicBezTo>
                    <a:pt x="87" y="2317"/>
                    <a:pt x="88" y="2332"/>
                    <a:pt x="96" y="2343"/>
                  </a:cubicBezTo>
                  <a:cubicBezTo>
                    <a:pt x="119" y="2372"/>
                    <a:pt x="174" y="2422"/>
                    <a:pt x="174" y="2422"/>
                  </a:cubicBezTo>
                  <a:cubicBezTo>
                    <a:pt x="178" y="2435"/>
                    <a:pt x="180" y="2449"/>
                    <a:pt x="187" y="2461"/>
                  </a:cubicBezTo>
                  <a:cubicBezTo>
                    <a:pt x="194" y="2472"/>
                    <a:pt x="214" y="2487"/>
                    <a:pt x="214" y="248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-124560" y="735480"/>
              <a:ext cx="1366560" cy="4253760"/>
              <a:chOff x="-124560" y="735480"/>
              <a:chExt cx="1366560" cy="4253760"/>
            </a:xfrm>
          </p:grpSpPr>
          <p:sp>
            <p:nvSpPr>
              <p:cNvPr id="218" name=""/>
              <p:cNvSpPr/>
              <p:nvPr/>
            </p:nvSpPr>
            <p:spPr>
              <a:xfrm>
                <a:off x="170640" y="2051280"/>
                <a:ext cx="150120" cy="1641240"/>
              </a:xfrm>
              <a:custGeom>
                <a:avLst/>
                <a:gdLst/>
                <a:ahLst/>
                <a:rect l="l" t="t" r="r" b="b"/>
                <a:pathLst>
                  <a:path w="118" h="1034">
                    <a:moveTo>
                      <a:pt x="13" y="0"/>
                    </a:moveTo>
                    <a:cubicBezTo>
                      <a:pt x="37" y="73"/>
                      <a:pt x="59" y="147"/>
                      <a:pt x="78" y="222"/>
                    </a:cubicBezTo>
                    <a:cubicBezTo>
                      <a:pt x="63" y="455"/>
                      <a:pt x="81" y="355"/>
                      <a:pt x="39" y="523"/>
                    </a:cubicBezTo>
                    <a:cubicBezTo>
                      <a:pt x="32" y="550"/>
                      <a:pt x="22" y="576"/>
                      <a:pt x="13" y="602"/>
                    </a:cubicBezTo>
                    <a:cubicBezTo>
                      <a:pt x="9" y="615"/>
                      <a:pt x="0" y="641"/>
                      <a:pt x="0" y="641"/>
                    </a:cubicBezTo>
                    <a:cubicBezTo>
                      <a:pt x="8" y="736"/>
                      <a:pt x="6" y="783"/>
                      <a:pt x="26" y="864"/>
                    </a:cubicBezTo>
                    <a:cubicBezTo>
                      <a:pt x="37" y="907"/>
                      <a:pt x="92" y="981"/>
                      <a:pt x="92" y="981"/>
                    </a:cubicBezTo>
                    <a:cubicBezTo>
                      <a:pt x="107" y="1027"/>
                      <a:pt x="95" y="1011"/>
                      <a:pt x="118" y="10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19818600">
                <a:off x="884520" y="2010960"/>
                <a:ext cx="195120" cy="706680"/>
              </a:xfrm>
              <a:custGeom>
                <a:avLst/>
                <a:gdLst>
                  <a:gd name="textAreaLeft" fmla="*/ 45720 w 195120"/>
                  <a:gd name="textAreaRight" fmla="*/ 149400 w 195120"/>
                  <a:gd name="textAreaTop" fmla="*/ 82800 h 706680"/>
                  <a:gd name="textAreaBottom" fmla="*/ 443160 h 70668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19818600">
                <a:off x="496800" y="3070080"/>
                <a:ext cx="122040" cy="706320"/>
              </a:xfrm>
              <a:custGeom>
                <a:avLst/>
                <a:gdLst>
                  <a:gd name="textAreaLeft" fmla="*/ 28440 w 122040"/>
                  <a:gd name="textAreaRight" fmla="*/ 93240 w 12204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 rot="663000">
                <a:off x="432000" y="1447920"/>
                <a:ext cx="84960" cy="705960"/>
              </a:xfrm>
              <a:custGeom>
                <a:avLst/>
                <a:gdLst>
                  <a:gd name="textAreaLeft" fmla="*/ 19800 w 84960"/>
                  <a:gd name="textAreaRight" fmla="*/ 65160 w 84960"/>
                  <a:gd name="textAreaTop" fmla="*/ 82800 h 705960"/>
                  <a:gd name="textAreaBottom" fmla="*/ 442800 h 70596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20752200">
                <a:off x="676800" y="4278240"/>
                <a:ext cx="122400" cy="706320"/>
              </a:xfrm>
              <a:custGeom>
                <a:avLst/>
                <a:gdLst>
                  <a:gd name="textAreaLeft" fmla="*/ 28800 w 122400"/>
                  <a:gd name="textAreaRight" fmla="*/ 93600 w 12240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1330800">
                <a:off x="0" y="2041560"/>
                <a:ext cx="244440" cy="706680"/>
              </a:xfrm>
              <a:custGeom>
                <a:avLst/>
                <a:gdLst>
                  <a:gd name="textAreaLeft" fmla="*/ 57240 w 244440"/>
                  <a:gd name="textAreaRight" fmla="*/ 186840 w 244440"/>
                  <a:gd name="textAreaTop" fmla="*/ 82800 h 706680"/>
                  <a:gd name="textAreaBottom" fmla="*/ 443160 h 70668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79200">
                <a:off x="676800" y="2285640"/>
                <a:ext cx="96840" cy="706680"/>
              </a:xfrm>
              <a:custGeom>
                <a:avLst/>
                <a:gdLst>
                  <a:gd name="textAreaLeft" fmla="*/ 22680 w 96840"/>
                  <a:gd name="textAreaRight" fmla="*/ 74160 w 96840"/>
                  <a:gd name="textAreaTop" fmla="*/ 82800 h 706680"/>
                  <a:gd name="textAreaBottom" fmla="*/ 443160 h 70668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19691400">
                <a:off x="370800" y="4267080"/>
                <a:ext cx="61200" cy="706320"/>
              </a:xfrm>
              <a:custGeom>
                <a:avLst/>
                <a:gdLst>
                  <a:gd name="textAreaLeft" fmla="*/ 14400 w 61200"/>
                  <a:gd name="textAreaRight" fmla="*/ 46800 w 6120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20752200">
                <a:off x="3240" y="761760"/>
                <a:ext cx="305640" cy="706320"/>
              </a:xfrm>
              <a:custGeom>
                <a:avLst/>
                <a:gdLst>
                  <a:gd name="textAreaLeft" fmla="*/ 71640 w 305640"/>
                  <a:gd name="textAreaRight" fmla="*/ 233640 w 30564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21171600">
                <a:off x="185760" y="3353040"/>
                <a:ext cx="123120" cy="706320"/>
              </a:xfrm>
              <a:custGeom>
                <a:avLst/>
                <a:gdLst>
                  <a:gd name="textAreaLeft" fmla="*/ 28800 w 123120"/>
                  <a:gd name="textAreaRight" fmla="*/ 94320 w 12312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8" name=""/>
          <p:cNvGrpSpPr/>
          <p:nvPr/>
        </p:nvGrpSpPr>
        <p:grpSpPr>
          <a:xfrm>
            <a:off x="8153280" y="228600"/>
            <a:ext cx="990720" cy="1523880"/>
            <a:chOff x="8153280" y="228600"/>
            <a:chExt cx="990720" cy="1523880"/>
          </a:xfrm>
        </p:grpSpPr>
        <p:sp>
          <p:nvSpPr>
            <p:cNvPr id="229" name=""/>
            <p:cNvSpPr/>
            <p:nvPr/>
          </p:nvSpPr>
          <p:spPr>
            <a:xfrm>
              <a:off x="8153280" y="228600"/>
              <a:ext cx="990720" cy="15238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3c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305920" y="304920"/>
              <a:ext cx="685800" cy="129528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66ffff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3c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9900"/>
                  </a:solidFill>
                  <a:latin typeface="Times New Roman"/>
                  <a:ea typeface="华文楷体"/>
                </a:rPr>
                <a:t>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9900"/>
                  </a:solidFill>
                  <a:latin typeface="Times New Roman"/>
                  <a:ea typeface="华文楷体"/>
                </a:rPr>
                <a:t>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302200" y="11350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判断下面各数能否被２整除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85800" y="17938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04720" y="1793880"/>
            <a:ext cx="121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能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整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02000" y="25290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20560" y="2514600"/>
            <a:ext cx="121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能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整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2000" y="32767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9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220560" y="3276720"/>
            <a:ext cx="121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能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整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30440" y="4114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20560" y="4114800"/>
            <a:ext cx="121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能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整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075280" y="18003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450120" y="1785960"/>
            <a:ext cx="139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能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整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106960" y="25290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481800" y="2529000"/>
            <a:ext cx="139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能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整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121360" y="32767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96200" y="3276720"/>
            <a:ext cx="139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能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整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137200" y="4067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3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481800" y="4091040"/>
            <a:ext cx="139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能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整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047600" y="581040"/>
            <a:ext cx="76212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ff00"/>
              </a:gs>
              <a:gs pos="100000">
                <a:srgbClr val="66ffff"/>
              </a:gs>
            </a:gsLst>
            <a:lin ang="135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练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60440" y="4838760"/>
            <a:ext cx="308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能被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整除的数，叫做偶数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247200" y="5576760"/>
            <a:ext cx="330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不能被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整除的数，叫做奇数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76320" y="5638680"/>
            <a:ext cx="1866960" cy="1066680"/>
            <a:chOff x="76320" y="5638680"/>
            <a:chExt cx="1866960" cy="1066680"/>
          </a:xfrm>
        </p:grpSpPr>
        <p:sp>
          <p:nvSpPr>
            <p:cNvPr id="253" name=""/>
            <p:cNvSpPr/>
            <p:nvPr/>
          </p:nvSpPr>
          <p:spPr>
            <a:xfrm rot="5400000">
              <a:off x="1181160" y="50670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5400000">
              <a:off x="952560" y="52956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5400000">
              <a:off x="647640" y="55242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5400000">
              <a:off x="952560" y="57528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5400000">
              <a:off x="1181160" y="594324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-124560" y="380880"/>
            <a:ext cx="1366560" cy="4608360"/>
            <a:chOff x="-124560" y="380880"/>
            <a:chExt cx="1366560" cy="4608360"/>
          </a:xfrm>
        </p:grpSpPr>
        <p:sp>
          <p:nvSpPr>
            <p:cNvPr id="259" name=""/>
            <p:cNvSpPr/>
            <p:nvPr/>
          </p:nvSpPr>
          <p:spPr>
            <a:xfrm>
              <a:off x="400320" y="395280"/>
              <a:ext cx="379800" cy="4176720"/>
            </a:xfrm>
            <a:custGeom>
              <a:avLst/>
              <a:gdLst/>
              <a:ahLst/>
              <a:rect l="l" t="t" r="r" b="b"/>
              <a:pathLst>
                <a:path w="298" h="2631">
                  <a:moveTo>
                    <a:pt x="79" y="0"/>
                  </a:moveTo>
                  <a:cubicBezTo>
                    <a:pt x="75" y="26"/>
                    <a:pt x="71" y="52"/>
                    <a:pt x="66" y="78"/>
                  </a:cubicBezTo>
                  <a:cubicBezTo>
                    <a:pt x="57" y="126"/>
                    <a:pt x="39" y="222"/>
                    <a:pt x="39" y="222"/>
                  </a:cubicBezTo>
                  <a:cubicBezTo>
                    <a:pt x="48" y="433"/>
                    <a:pt x="28" y="548"/>
                    <a:pt x="131" y="707"/>
                  </a:cubicBezTo>
                  <a:cubicBezTo>
                    <a:pt x="145" y="763"/>
                    <a:pt x="171" y="800"/>
                    <a:pt x="197" y="851"/>
                  </a:cubicBezTo>
                  <a:cubicBezTo>
                    <a:pt x="210" y="902"/>
                    <a:pt x="235" y="944"/>
                    <a:pt x="249" y="995"/>
                  </a:cubicBezTo>
                  <a:cubicBezTo>
                    <a:pt x="258" y="1029"/>
                    <a:pt x="275" y="1099"/>
                    <a:pt x="275" y="1099"/>
                  </a:cubicBezTo>
                  <a:cubicBezTo>
                    <a:pt x="269" y="1235"/>
                    <a:pt x="298" y="1513"/>
                    <a:pt x="170" y="1636"/>
                  </a:cubicBezTo>
                  <a:cubicBezTo>
                    <a:pt x="129" y="1718"/>
                    <a:pt x="77" y="1796"/>
                    <a:pt x="26" y="1872"/>
                  </a:cubicBezTo>
                  <a:cubicBezTo>
                    <a:pt x="21" y="1893"/>
                    <a:pt x="0" y="1972"/>
                    <a:pt x="0" y="1990"/>
                  </a:cubicBezTo>
                  <a:cubicBezTo>
                    <a:pt x="0" y="2147"/>
                    <a:pt x="74" y="2237"/>
                    <a:pt x="197" y="2317"/>
                  </a:cubicBezTo>
                  <a:cubicBezTo>
                    <a:pt x="206" y="2343"/>
                    <a:pt x="214" y="2369"/>
                    <a:pt x="223" y="2395"/>
                  </a:cubicBezTo>
                  <a:cubicBezTo>
                    <a:pt x="227" y="2408"/>
                    <a:pt x="232" y="2422"/>
                    <a:pt x="236" y="2435"/>
                  </a:cubicBezTo>
                  <a:cubicBezTo>
                    <a:pt x="240" y="2448"/>
                    <a:pt x="249" y="2474"/>
                    <a:pt x="249" y="2474"/>
                  </a:cubicBezTo>
                  <a:cubicBezTo>
                    <a:pt x="263" y="2615"/>
                    <a:pt x="242" y="2566"/>
                    <a:pt x="275" y="263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01280" y="1890720"/>
              <a:ext cx="517680" cy="811080"/>
            </a:xfrm>
            <a:custGeom>
              <a:avLst/>
              <a:gdLst/>
              <a:ahLst/>
              <a:rect l="l" t="t" r="r" b="b"/>
              <a:pathLst>
                <a:path w="406" h="511">
                  <a:moveTo>
                    <a:pt x="0" y="0"/>
                  </a:moveTo>
                  <a:cubicBezTo>
                    <a:pt x="105" y="35"/>
                    <a:pt x="108" y="47"/>
                    <a:pt x="183" y="131"/>
                  </a:cubicBezTo>
                  <a:cubicBezTo>
                    <a:pt x="204" y="154"/>
                    <a:pt x="249" y="197"/>
                    <a:pt x="249" y="197"/>
                  </a:cubicBezTo>
                  <a:cubicBezTo>
                    <a:pt x="280" y="290"/>
                    <a:pt x="260" y="252"/>
                    <a:pt x="301" y="314"/>
                  </a:cubicBezTo>
                  <a:cubicBezTo>
                    <a:pt x="333" y="411"/>
                    <a:pt x="335" y="440"/>
                    <a:pt x="406" y="5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1520" y="380880"/>
              <a:ext cx="272520" cy="3948120"/>
            </a:xfrm>
            <a:custGeom>
              <a:avLst/>
              <a:gdLst/>
              <a:ahLst/>
              <a:rect l="l" t="t" r="r" b="b"/>
              <a:pathLst>
                <a:path w="214" h="2487">
                  <a:moveTo>
                    <a:pt x="135" y="0"/>
                  </a:moveTo>
                  <a:cubicBezTo>
                    <a:pt x="120" y="59"/>
                    <a:pt x="95" y="97"/>
                    <a:pt x="83" y="157"/>
                  </a:cubicBezTo>
                  <a:cubicBezTo>
                    <a:pt x="90" y="299"/>
                    <a:pt x="88" y="438"/>
                    <a:pt x="122" y="576"/>
                  </a:cubicBezTo>
                  <a:cubicBezTo>
                    <a:pt x="149" y="874"/>
                    <a:pt x="152" y="1167"/>
                    <a:pt x="135" y="1466"/>
                  </a:cubicBezTo>
                  <a:cubicBezTo>
                    <a:pt x="131" y="1527"/>
                    <a:pt x="94" y="1583"/>
                    <a:pt x="70" y="1636"/>
                  </a:cubicBezTo>
                  <a:cubicBezTo>
                    <a:pt x="59" y="1661"/>
                    <a:pt x="52" y="1689"/>
                    <a:pt x="43" y="1715"/>
                  </a:cubicBezTo>
                  <a:cubicBezTo>
                    <a:pt x="39" y="1728"/>
                    <a:pt x="30" y="1754"/>
                    <a:pt x="30" y="1754"/>
                  </a:cubicBezTo>
                  <a:cubicBezTo>
                    <a:pt x="0" y="1938"/>
                    <a:pt x="8" y="1668"/>
                    <a:pt x="30" y="1999"/>
                  </a:cubicBezTo>
                  <a:cubicBezTo>
                    <a:pt x="33" y="2042"/>
                    <a:pt x="53" y="2275"/>
                    <a:pt x="83" y="2304"/>
                  </a:cubicBezTo>
                  <a:cubicBezTo>
                    <a:pt x="87" y="2317"/>
                    <a:pt x="88" y="2332"/>
                    <a:pt x="96" y="2343"/>
                  </a:cubicBezTo>
                  <a:cubicBezTo>
                    <a:pt x="119" y="2372"/>
                    <a:pt x="174" y="2422"/>
                    <a:pt x="174" y="2422"/>
                  </a:cubicBezTo>
                  <a:cubicBezTo>
                    <a:pt x="178" y="2435"/>
                    <a:pt x="180" y="2449"/>
                    <a:pt x="187" y="2461"/>
                  </a:cubicBezTo>
                  <a:cubicBezTo>
                    <a:pt x="194" y="2472"/>
                    <a:pt x="214" y="2487"/>
                    <a:pt x="214" y="248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-124560" y="735480"/>
              <a:ext cx="1366560" cy="4253760"/>
              <a:chOff x="-124560" y="735480"/>
              <a:chExt cx="1366560" cy="4253760"/>
            </a:xfrm>
          </p:grpSpPr>
          <p:sp>
            <p:nvSpPr>
              <p:cNvPr id="263" name=""/>
              <p:cNvSpPr/>
              <p:nvPr/>
            </p:nvSpPr>
            <p:spPr>
              <a:xfrm>
                <a:off x="170640" y="2051280"/>
                <a:ext cx="150120" cy="1641240"/>
              </a:xfrm>
              <a:custGeom>
                <a:avLst/>
                <a:gdLst/>
                <a:ahLst/>
                <a:rect l="l" t="t" r="r" b="b"/>
                <a:pathLst>
                  <a:path w="118" h="1034">
                    <a:moveTo>
                      <a:pt x="13" y="0"/>
                    </a:moveTo>
                    <a:cubicBezTo>
                      <a:pt x="37" y="73"/>
                      <a:pt x="59" y="147"/>
                      <a:pt x="78" y="222"/>
                    </a:cubicBezTo>
                    <a:cubicBezTo>
                      <a:pt x="63" y="455"/>
                      <a:pt x="81" y="355"/>
                      <a:pt x="39" y="523"/>
                    </a:cubicBezTo>
                    <a:cubicBezTo>
                      <a:pt x="32" y="550"/>
                      <a:pt x="22" y="576"/>
                      <a:pt x="13" y="602"/>
                    </a:cubicBezTo>
                    <a:cubicBezTo>
                      <a:pt x="9" y="615"/>
                      <a:pt x="0" y="641"/>
                      <a:pt x="0" y="641"/>
                    </a:cubicBezTo>
                    <a:cubicBezTo>
                      <a:pt x="8" y="736"/>
                      <a:pt x="6" y="783"/>
                      <a:pt x="26" y="864"/>
                    </a:cubicBezTo>
                    <a:cubicBezTo>
                      <a:pt x="37" y="907"/>
                      <a:pt x="92" y="981"/>
                      <a:pt x="92" y="981"/>
                    </a:cubicBezTo>
                    <a:cubicBezTo>
                      <a:pt x="107" y="1027"/>
                      <a:pt x="95" y="1011"/>
                      <a:pt x="118" y="10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818600">
                <a:off x="884520" y="2010960"/>
                <a:ext cx="195120" cy="706680"/>
              </a:xfrm>
              <a:custGeom>
                <a:avLst/>
                <a:gdLst>
                  <a:gd name="textAreaLeft" fmla="*/ 45720 w 195120"/>
                  <a:gd name="textAreaRight" fmla="*/ 149400 w 195120"/>
                  <a:gd name="textAreaTop" fmla="*/ 82800 h 706680"/>
                  <a:gd name="textAreaBottom" fmla="*/ 443160 h 70668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18600">
                <a:off x="496800" y="3070080"/>
                <a:ext cx="122040" cy="706320"/>
              </a:xfrm>
              <a:custGeom>
                <a:avLst/>
                <a:gdLst>
                  <a:gd name="textAreaLeft" fmla="*/ 28440 w 122040"/>
                  <a:gd name="textAreaRight" fmla="*/ 93240 w 12204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 rot="663000">
                <a:off x="432000" y="1447920"/>
                <a:ext cx="84960" cy="705960"/>
              </a:xfrm>
              <a:custGeom>
                <a:avLst/>
                <a:gdLst>
                  <a:gd name="textAreaLeft" fmla="*/ 19800 w 84960"/>
                  <a:gd name="textAreaRight" fmla="*/ 65160 w 84960"/>
                  <a:gd name="textAreaTop" fmla="*/ 82800 h 705960"/>
                  <a:gd name="textAreaBottom" fmla="*/ 442800 h 70596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20752200">
                <a:off x="676800" y="4278240"/>
                <a:ext cx="122400" cy="706320"/>
              </a:xfrm>
              <a:custGeom>
                <a:avLst/>
                <a:gdLst>
                  <a:gd name="textAreaLeft" fmla="*/ 28800 w 122400"/>
                  <a:gd name="textAreaRight" fmla="*/ 93600 w 12240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330800">
                <a:off x="0" y="2041560"/>
                <a:ext cx="244440" cy="706680"/>
              </a:xfrm>
              <a:custGeom>
                <a:avLst/>
                <a:gdLst>
                  <a:gd name="textAreaLeft" fmla="*/ 57240 w 244440"/>
                  <a:gd name="textAreaRight" fmla="*/ 186840 w 244440"/>
                  <a:gd name="textAreaTop" fmla="*/ 82800 h 706680"/>
                  <a:gd name="textAreaBottom" fmla="*/ 443160 h 70668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379200">
                <a:off x="676800" y="2285640"/>
                <a:ext cx="96840" cy="706680"/>
              </a:xfrm>
              <a:custGeom>
                <a:avLst/>
                <a:gdLst>
                  <a:gd name="textAreaLeft" fmla="*/ 22680 w 96840"/>
                  <a:gd name="textAreaRight" fmla="*/ 74160 w 96840"/>
                  <a:gd name="textAreaTop" fmla="*/ 82800 h 706680"/>
                  <a:gd name="textAreaBottom" fmla="*/ 443160 h 70668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691400">
                <a:off x="370800" y="4267080"/>
                <a:ext cx="61200" cy="706320"/>
              </a:xfrm>
              <a:custGeom>
                <a:avLst/>
                <a:gdLst>
                  <a:gd name="textAreaLeft" fmla="*/ 14400 w 61200"/>
                  <a:gd name="textAreaRight" fmla="*/ 46800 w 6120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20752200">
                <a:off x="3240" y="761760"/>
                <a:ext cx="305640" cy="706320"/>
              </a:xfrm>
              <a:custGeom>
                <a:avLst/>
                <a:gdLst>
                  <a:gd name="textAreaLeft" fmla="*/ 71640 w 305640"/>
                  <a:gd name="textAreaRight" fmla="*/ 233640 w 30564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21171600">
                <a:off x="185760" y="3353040"/>
                <a:ext cx="123120" cy="706320"/>
              </a:xfrm>
              <a:custGeom>
                <a:avLst/>
                <a:gdLst>
                  <a:gd name="textAreaLeft" fmla="*/ 28800 w 123120"/>
                  <a:gd name="textAreaRight" fmla="*/ 94320 w 12312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3" name=""/>
          <p:cNvGrpSpPr/>
          <p:nvPr/>
        </p:nvGrpSpPr>
        <p:grpSpPr>
          <a:xfrm>
            <a:off x="8153280" y="228600"/>
            <a:ext cx="990720" cy="1523880"/>
            <a:chOff x="8153280" y="228600"/>
            <a:chExt cx="990720" cy="1523880"/>
          </a:xfrm>
        </p:grpSpPr>
        <p:sp>
          <p:nvSpPr>
            <p:cNvPr id="274" name=""/>
            <p:cNvSpPr/>
            <p:nvPr/>
          </p:nvSpPr>
          <p:spPr>
            <a:xfrm>
              <a:off x="8153280" y="228600"/>
              <a:ext cx="990720" cy="1523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3c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305920" y="304920"/>
              <a:ext cx="685800" cy="129528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66ffff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3c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9900"/>
                  </a:solidFill>
                  <a:latin typeface="Times New Roman"/>
                  <a:ea typeface="华文楷体"/>
                </a:rPr>
                <a:t>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9900"/>
                  </a:solidFill>
                  <a:latin typeface="Times New Roman"/>
                  <a:ea typeface="华文楷体"/>
                </a:rPr>
                <a:t>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1967040" y="114624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62360" y="160020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82880" y="205740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63800" y="251460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967040" y="297180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967040" y="342900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967040" y="388620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967040" y="434340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1960200" y="4863240"/>
            <a:ext cx="1684440" cy="698400"/>
            <a:chOff x="1960200" y="4863240"/>
            <a:chExt cx="1684440" cy="698400"/>
          </a:xfrm>
        </p:grpSpPr>
        <p:sp>
          <p:nvSpPr>
            <p:cNvPr id="285" name=""/>
            <p:cNvSpPr/>
            <p:nvPr/>
          </p:nvSpPr>
          <p:spPr>
            <a:xfrm>
              <a:off x="1960200" y="4863240"/>
              <a:ext cx="546120" cy="65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宋体"/>
                </a:rPr>
                <a:t>…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098520" y="4909320"/>
              <a:ext cx="546120" cy="65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宋体"/>
                </a:rPr>
                <a:t>…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302112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17844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202200" y="205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18456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18780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8780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1878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187800" y="4338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02112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178440" y="159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87800" y="2519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89600" y="205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18456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18456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878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187800" y="4343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3200" y="16002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你发现了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038480" y="2287440"/>
            <a:ext cx="472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右边的数是左边的数的倍数，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都能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整除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038480" y="3232080"/>
            <a:ext cx="472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右边的数个位上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838680" y="417204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个位上是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0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或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5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的数都能被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5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整除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025800" y="1152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186000" y="1600200"/>
            <a:ext cx="32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192480" y="2062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183120" y="2519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18780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18780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1878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87800" y="4343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047600" y="581040"/>
            <a:ext cx="76212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ff00"/>
              </a:gs>
              <a:gs pos="100000">
                <a:srgbClr val="66ffff"/>
              </a:gs>
            </a:gsLst>
            <a:lin ang="135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例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9" dur="1" fill="hold">
                                    <p:stCondLst>
                                      <p:cond evt="end">
                                        <p:tn val="367"/>
                                      </p:cond>
                                    </p:stCondLst>
                                  </p:cTn>
                                  <p:tgtEl>
                                    <p:spTgt spid="2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3" dur="1" fill="hold">
                                    <p:stCondLst>
                                      <p:cond evt="end">
                                        <p:tn val="371"/>
                                      </p:cond>
                                    </p:stCondLst>
                                  </p:cTn>
                                  <p:tgtEl>
                                    <p:spTgt spid="2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7" dur="1" fill="hold">
                                    <p:stCondLst>
                                      <p:cond evt="end">
                                        <p:tn val="375"/>
                                      </p:cond>
                                    </p:stCondLst>
                                  </p:cTn>
                                  <p:tgtEl>
                                    <p:spTgt spid="2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1" dur="1" fill="hold">
                                    <p:stCondLst>
                                      <p:cond evt="end">
                                        <p:tn val="379"/>
                                      </p:cond>
                                    </p:stCondLst>
                                  </p:cTn>
                                  <p:tgtEl>
                                    <p:spTgt spid="2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4000"/>
                            </p:stCondLst>
                            <p:childTnLst>
                              <p:par>
                                <p:cTn id="3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5" dur="1" fill="hold">
                                    <p:stCondLst>
                                      <p:cond evt="end">
                                        <p:tn val="383"/>
                                      </p:cond>
                                    </p:stCondLst>
                                  </p:cTn>
                                  <p:tgtEl>
                                    <p:spTgt spid="2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0"/>
                            </p:stCondLst>
                            <p:childTnLst>
                              <p:par>
                                <p:cTn id="3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9" dur="1" fill="hold">
                                    <p:stCondLst>
                                      <p:cond evt="end">
                                        <p:tn val="387"/>
                                      </p:cond>
                                    </p:stCondLst>
                                  </p:cTn>
                                  <p:tgtEl>
                                    <p:spTgt spid="2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6000"/>
                            </p:stCondLst>
                            <p:childTnLst>
                              <p:par>
                                <p:cTn id="3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3" dur="1" fill="hold">
                                    <p:stCondLst>
                                      <p:cond evt="end">
                                        <p:tn val="391"/>
                                      </p:cond>
                                    </p:stCondLst>
                                  </p:cTn>
                                  <p:tgtEl>
                                    <p:spTgt spid="2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7000"/>
                            </p:stCondLst>
                            <p:childTnLst>
                              <p:par>
                                <p:cTn id="3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7" dur="1" fill="hold">
                                    <p:stCondLst>
                                      <p:cond evt="end">
                                        <p:tn val="395"/>
                                      </p:cond>
                                    </p:stCondLst>
                                  </p:cTn>
                                  <p:tgtEl>
                                    <p:spTgt spid="2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8000"/>
                            </p:stCondLst>
                            <p:childTnLst>
                              <p:par>
                                <p:cTn id="3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1" dur="1" fill="hold">
                                    <p:stCondLst>
                                      <p:cond evt="end">
                                        <p:tn val="399"/>
                                      </p:cond>
                                    </p:stCondLst>
                                  </p:cTn>
                                  <p:tgtEl>
                                    <p:spTgt spid="2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8500"/>
                            </p:stCondLst>
                            <p:childTnLst>
                              <p:par>
                                <p:cTn id="4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5" dur="1" fill="hold">
                                    <p:stCondLst>
                                      <p:cond evt="end">
                                        <p:tn val="403"/>
                                      </p:cond>
                                    </p:stCondLst>
                                  </p:cTn>
                                  <p:tgtEl>
                                    <p:spTgt spid="2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9500"/>
                            </p:stCondLst>
                            <p:childTnLst>
                              <p:par>
                                <p:cTn id="4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9" dur="1" fill="hold">
                                    <p:stCondLst>
                                      <p:cond evt="end">
                                        <p:tn val="407"/>
                                      </p:cond>
                                    </p:stCondLst>
                                  </p:cTn>
                                  <p:tgtEl>
                                    <p:spTgt spid="2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0500"/>
                            </p:stCondLst>
                            <p:childTnLst>
                              <p:par>
                                <p:cTn id="4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3" dur="1" fill="hold">
                                    <p:stCondLst>
                                      <p:cond evt="end">
                                        <p:tn val="411"/>
                                      </p:cond>
                                    </p:stCondLst>
                                  </p:cTn>
                                  <p:tgtEl>
                                    <p:spTgt spid="2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1500"/>
                            </p:stCondLst>
                            <p:childTnLst>
                              <p:par>
                                <p:cTn id="4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7" dur="1" fill="hold">
                                    <p:stCondLst>
                                      <p:cond evt="end">
                                        <p:tn val="415"/>
                                      </p:cond>
                                    </p:stCondLst>
                                  </p:cTn>
                                  <p:tgtEl>
                                    <p:spTgt spid="2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2500"/>
                            </p:stCondLst>
                            <p:childTnLst>
                              <p:par>
                                <p:cTn id="4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1" dur="1" fill="hold">
                                    <p:stCondLst>
                                      <p:cond evt="end">
                                        <p:tn val="419"/>
                                      </p:cond>
                                    </p:stCondLst>
                                  </p:cTn>
                                  <p:tgtEl>
                                    <p:spTgt spid="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3500"/>
                            </p:stCondLst>
                            <p:childTnLst>
                              <p:par>
                                <p:cTn id="4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5" dur="1" fill="hold">
                                    <p:stCondLst>
                                      <p:cond evt="end">
                                        <p:tn val="423"/>
                                      </p:cond>
                                    </p:stCondLst>
                                  </p:cTn>
                                  <p:tgtEl>
                                    <p:spTgt spid="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4500"/>
                            </p:stCondLst>
                            <p:childTnLst>
                              <p:par>
                                <p:cTn id="4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9" dur="1" fill="hold">
                                    <p:stCondLst>
                                      <p:cond evt="end">
                                        <p:tn val="427"/>
                                      </p:cond>
                                    </p:stCondLst>
                                  </p:cTn>
                                  <p:tgtEl>
                                    <p:spTgt spid="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550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600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650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700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75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8000"/>
                            </p:stCondLst>
                            <p:childTnLst>
                              <p:par>
                                <p:cTn id="4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85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9000"/>
                            </p:stCondLst>
                            <p:childTnLst>
                              <p:par>
                                <p:cTn id="4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76320" y="5638680"/>
            <a:ext cx="1866960" cy="1066680"/>
            <a:chOff x="76320" y="5638680"/>
            <a:chExt cx="1866960" cy="1066680"/>
          </a:xfrm>
        </p:grpSpPr>
        <p:sp>
          <p:nvSpPr>
            <p:cNvPr id="318" name=""/>
            <p:cNvSpPr/>
            <p:nvPr/>
          </p:nvSpPr>
          <p:spPr>
            <a:xfrm rot="5400000">
              <a:off x="1181160" y="50670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rot="5400000">
              <a:off x="952560" y="52956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5400000">
              <a:off x="647640" y="55242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5400000">
              <a:off x="952560" y="57528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rot="5400000">
              <a:off x="1181160" y="594324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-124560" y="380880"/>
            <a:ext cx="1366560" cy="4608360"/>
            <a:chOff x="-124560" y="380880"/>
            <a:chExt cx="1366560" cy="4608360"/>
          </a:xfrm>
        </p:grpSpPr>
        <p:sp>
          <p:nvSpPr>
            <p:cNvPr id="325" name=""/>
            <p:cNvSpPr/>
            <p:nvPr/>
          </p:nvSpPr>
          <p:spPr>
            <a:xfrm>
              <a:off x="400320" y="395280"/>
              <a:ext cx="379800" cy="4176720"/>
            </a:xfrm>
            <a:custGeom>
              <a:avLst/>
              <a:gdLst/>
              <a:ahLst/>
              <a:rect l="l" t="t" r="r" b="b"/>
              <a:pathLst>
                <a:path w="298" h="2631">
                  <a:moveTo>
                    <a:pt x="79" y="0"/>
                  </a:moveTo>
                  <a:cubicBezTo>
                    <a:pt x="75" y="26"/>
                    <a:pt x="71" y="52"/>
                    <a:pt x="66" y="78"/>
                  </a:cubicBezTo>
                  <a:cubicBezTo>
                    <a:pt x="57" y="126"/>
                    <a:pt x="39" y="222"/>
                    <a:pt x="39" y="222"/>
                  </a:cubicBezTo>
                  <a:cubicBezTo>
                    <a:pt x="48" y="433"/>
                    <a:pt x="28" y="548"/>
                    <a:pt x="131" y="707"/>
                  </a:cubicBezTo>
                  <a:cubicBezTo>
                    <a:pt x="145" y="763"/>
                    <a:pt x="171" y="800"/>
                    <a:pt x="197" y="851"/>
                  </a:cubicBezTo>
                  <a:cubicBezTo>
                    <a:pt x="210" y="902"/>
                    <a:pt x="235" y="944"/>
                    <a:pt x="249" y="995"/>
                  </a:cubicBezTo>
                  <a:cubicBezTo>
                    <a:pt x="258" y="1029"/>
                    <a:pt x="275" y="1099"/>
                    <a:pt x="275" y="1099"/>
                  </a:cubicBezTo>
                  <a:cubicBezTo>
                    <a:pt x="269" y="1235"/>
                    <a:pt x="298" y="1513"/>
                    <a:pt x="170" y="1636"/>
                  </a:cubicBezTo>
                  <a:cubicBezTo>
                    <a:pt x="129" y="1718"/>
                    <a:pt x="77" y="1796"/>
                    <a:pt x="26" y="1872"/>
                  </a:cubicBezTo>
                  <a:cubicBezTo>
                    <a:pt x="21" y="1893"/>
                    <a:pt x="0" y="1972"/>
                    <a:pt x="0" y="1990"/>
                  </a:cubicBezTo>
                  <a:cubicBezTo>
                    <a:pt x="0" y="2147"/>
                    <a:pt x="74" y="2237"/>
                    <a:pt x="197" y="2317"/>
                  </a:cubicBezTo>
                  <a:cubicBezTo>
                    <a:pt x="206" y="2343"/>
                    <a:pt x="214" y="2369"/>
                    <a:pt x="223" y="2395"/>
                  </a:cubicBezTo>
                  <a:cubicBezTo>
                    <a:pt x="227" y="2408"/>
                    <a:pt x="232" y="2422"/>
                    <a:pt x="236" y="2435"/>
                  </a:cubicBezTo>
                  <a:cubicBezTo>
                    <a:pt x="240" y="2448"/>
                    <a:pt x="249" y="2474"/>
                    <a:pt x="249" y="2474"/>
                  </a:cubicBezTo>
                  <a:cubicBezTo>
                    <a:pt x="263" y="2615"/>
                    <a:pt x="242" y="2566"/>
                    <a:pt x="275" y="263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01280" y="1890720"/>
              <a:ext cx="517680" cy="811080"/>
            </a:xfrm>
            <a:custGeom>
              <a:avLst/>
              <a:gdLst/>
              <a:ahLst/>
              <a:rect l="l" t="t" r="r" b="b"/>
              <a:pathLst>
                <a:path w="406" h="511">
                  <a:moveTo>
                    <a:pt x="0" y="0"/>
                  </a:moveTo>
                  <a:cubicBezTo>
                    <a:pt x="105" y="35"/>
                    <a:pt x="108" y="47"/>
                    <a:pt x="183" y="131"/>
                  </a:cubicBezTo>
                  <a:cubicBezTo>
                    <a:pt x="204" y="154"/>
                    <a:pt x="249" y="197"/>
                    <a:pt x="249" y="197"/>
                  </a:cubicBezTo>
                  <a:cubicBezTo>
                    <a:pt x="280" y="290"/>
                    <a:pt x="260" y="252"/>
                    <a:pt x="301" y="314"/>
                  </a:cubicBezTo>
                  <a:cubicBezTo>
                    <a:pt x="333" y="411"/>
                    <a:pt x="335" y="440"/>
                    <a:pt x="406" y="5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520" y="380880"/>
              <a:ext cx="272520" cy="3948120"/>
            </a:xfrm>
            <a:custGeom>
              <a:avLst/>
              <a:gdLst/>
              <a:ahLst/>
              <a:rect l="l" t="t" r="r" b="b"/>
              <a:pathLst>
                <a:path w="214" h="2487">
                  <a:moveTo>
                    <a:pt x="135" y="0"/>
                  </a:moveTo>
                  <a:cubicBezTo>
                    <a:pt x="120" y="59"/>
                    <a:pt x="95" y="97"/>
                    <a:pt x="83" y="157"/>
                  </a:cubicBezTo>
                  <a:cubicBezTo>
                    <a:pt x="90" y="299"/>
                    <a:pt x="88" y="438"/>
                    <a:pt x="122" y="576"/>
                  </a:cubicBezTo>
                  <a:cubicBezTo>
                    <a:pt x="149" y="874"/>
                    <a:pt x="152" y="1167"/>
                    <a:pt x="135" y="1466"/>
                  </a:cubicBezTo>
                  <a:cubicBezTo>
                    <a:pt x="131" y="1527"/>
                    <a:pt x="94" y="1583"/>
                    <a:pt x="70" y="1636"/>
                  </a:cubicBezTo>
                  <a:cubicBezTo>
                    <a:pt x="59" y="1661"/>
                    <a:pt x="52" y="1689"/>
                    <a:pt x="43" y="1715"/>
                  </a:cubicBezTo>
                  <a:cubicBezTo>
                    <a:pt x="39" y="1728"/>
                    <a:pt x="30" y="1754"/>
                    <a:pt x="30" y="1754"/>
                  </a:cubicBezTo>
                  <a:cubicBezTo>
                    <a:pt x="0" y="1938"/>
                    <a:pt x="8" y="1668"/>
                    <a:pt x="30" y="1999"/>
                  </a:cubicBezTo>
                  <a:cubicBezTo>
                    <a:pt x="33" y="2042"/>
                    <a:pt x="53" y="2275"/>
                    <a:pt x="83" y="2304"/>
                  </a:cubicBezTo>
                  <a:cubicBezTo>
                    <a:pt x="87" y="2317"/>
                    <a:pt x="88" y="2332"/>
                    <a:pt x="96" y="2343"/>
                  </a:cubicBezTo>
                  <a:cubicBezTo>
                    <a:pt x="119" y="2372"/>
                    <a:pt x="174" y="2422"/>
                    <a:pt x="174" y="2422"/>
                  </a:cubicBezTo>
                  <a:cubicBezTo>
                    <a:pt x="178" y="2435"/>
                    <a:pt x="180" y="2449"/>
                    <a:pt x="187" y="2461"/>
                  </a:cubicBezTo>
                  <a:cubicBezTo>
                    <a:pt x="194" y="2472"/>
                    <a:pt x="214" y="2487"/>
                    <a:pt x="214" y="248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-124560" y="735480"/>
              <a:ext cx="1366560" cy="4253760"/>
              <a:chOff x="-124560" y="735480"/>
              <a:chExt cx="1366560" cy="4253760"/>
            </a:xfrm>
          </p:grpSpPr>
          <p:sp>
            <p:nvSpPr>
              <p:cNvPr id="329" name=""/>
              <p:cNvSpPr/>
              <p:nvPr/>
            </p:nvSpPr>
            <p:spPr>
              <a:xfrm>
                <a:off x="170640" y="2051280"/>
                <a:ext cx="150120" cy="1641240"/>
              </a:xfrm>
              <a:custGeom>
                <a:avLst/>
                <a:gdLst/>
                <a:ahLst/>
                <a:rect l="l" t="t" r="r" b="b"/>
                <a:pathLst>
                  <a:path w="118" h="1034">
                    <a:moveTo>
                      <a:pt x="13" y="0"/>
                    </a:moveTo>
                    <a:cubicBezTo>
                      <a:pt x="37" y="73"/>
                      <a:pt x="59" y="147"/>
                      <a:pt x="78" y="222"/>
                    </a:cubicBezTo>
                    <a:cubicBezTo>
                      <a:pt x="63" y="455"/>
                      <a:pt x="81" y="355"/>
                      <a:pt x="39" y="523"/>
                    </a:cubicBezTo>
                    <a:cubicBezTo>
                      <a:pt x="32" y="550"/>
                      <a:pt x="22" y="576"/>
                      <a:pt x="13" y="602"/>
                    </a:cubicBezTo>
                    <a:cubicBezTo>
                      <a:pt x="9" y="615"/>
                      <a:pt x="0" y="641"/>
                      <a:pt x="0" y="641"/>
                    </a:cubicBezTo>
                    <a:cubicBezTo>
                      <a:pt x="8" y="736"/>
                      <a:pt x="6" y="783"/>
                      <a:pt x="26" y="864"/>
                    </a:cubicBezTo>
                    <a:cubicBezTo>
                      <a:pt x="37" y="907"/>
                      <a:pt x="92" y="981"/>
                      <a:pt x="92" y="981"/>
                    </a:cubicBezTo>
                    <a:cubicBezTo>
                      <a:pt x="107" y="1027"/>
                      <a:pt x="95" y="1011"/>
                      <a:pt x="118" y="10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19818600">
                <a:off x="884520" y="2010960"/>
                <a:ext cx="195120" cy="706680"/>
              </a:xfrm>
              <a:custGeom>
                <a:avLst/>
                <a:gdLst>
                  <a:gd name="textAreaLeft" fmla="*/ 45720 w 195120"/>
                  <a:gd name="textAreaRight" fmla="*/ 149400 w 195120"/>
                  <a:gd name="textAreaTop" fmla="*/ 82800 h 706680"/>
                  <a:gd name="textAreaBottom" fmla="*/ 443160 h 70668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19818600">
                <a:off x="496800" y="3070080"/>
                <a:ext cx="122040" cy="706320"/>
              </a:xfrm>
              <a:custGeom>
                <a:avLst/>
                <a:gdLst>
                  <a:gd name="textAreaLeft" fmla="*/ 28440 w 122040"/>
                  <a:gd name="textAreaRight" fmla="*/ 93240 w 12204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 rot="663000">
                <a:off x="432000" y="1447920"/>
                <a:ext cx="84960" cy="705960"/>
              </a:xfrm>
              <a:custGeom>
                <a:avLst/>
                <a:gdLst>
                  <a:gd name="textAreaLeft" fmla="*/ 19800 w 84960"/>
                  <a:gd name="textAreaRight" fmla="*/ 65160 w 84960"/>
                  <a:gd name="textAreaTop" fmla="*/ 82800 h 705960"/>
                  <a:gd name="textAreaBottom" fmla="*/ 442800 h 70596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20752200">
                <a:off x="676800" y="4278240"/>
                <a:ext cx="122400" cy="706320"/>
              </a:xfrm>
              <a:custGeom>
                <a:avLst/>
                <a:gdLst>
                  <a:gd name="textAreaLeft" fmla="*/ 28800 w 122400"/>
                  <a:gd name="textAreaRight" fmla="*/ 93600 w 12240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1330800">
                <a:off x="0" y="2041560"/>
                <a:ext cx="244440" cy="706680"/>
              </a:xfrm>
              <a:custGeom>
                <a:avLst/>
                <a:gdLst>
                  <a:gd name="textAreaLeft" fmla="*/ 57240 w 244440"/>
                  <a:gd name="textAreaRight" fmla="*/ 186840 w 244440"/>
                  <a:gd name="textAreaTop" fmla="*/ 82800 h 706680"/>
                  <a:gd name="textAreaBottom" fmla="*/ 443160 h 70668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379200">
                <a:off x="676800" y="2285640"/>
                <a:ext cx="96840" cy="706680"/>
              </a:xfrm>
              <a:custGeom>
                <a:avLst/>
                <a:gdLst>
                  <a:gd name="textAreaLeft" fmla="*/ 22680 w 96840"/>
                  <a:gd name="textAreaRight" fmla="*/ 74160 w 96840"/>
                  <a:gd name="textAreaTop" fmla="*/ 82800 h 706680"/>
                  <a:gd name="textAreaBottom" fmla="*/ 443160 h 70668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19691400">
                <a:off x="370800" y="4267080"/>
                <a:ext cx="61200" cy="706320"/>
              </a:xfrm>
              <a:custGeom>
                <a:avLst/>
                <a:gdLst>
                  <a:gd name="textAreaLeft" fmla="*/ 14400 w 61200"/>
                  <a:gd name="textAreaRight" fmla="*/ 46800 w 6120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0752200">
                <a:off x="3240" y="761760"/>
                <a:ext cx="305640" cy="706320"/>
              </a:xfrm>
              <a:custGeom>
                <a:avLst/>
                <a:gdLst>
                  <a:gd name="textAreaLeft" fmla="*/ 71640 w 305640"/>
                  <a:gd name="textAreaRight" fmla="*/ 233640 w 30564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21171600">
                <a:off x="185760" y="3353040"/>
                <a:ext cx="123120" cy="706320"/>
              </a:xfrm>
              <a:custGeom>
                <a:avLst/>
                <a:gdLst>
                  <a:gd name="textAreaLeft" fmla="*/ 28800 w 123120"/>
                  <a:gd name="textAreaRight" fmla="*/ 94320 w 12312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9" name=""/>
          <p:cNvGrpSpPr/>
          <p:nvPr/>
        </p:nvGrpSpPr>
        <p:grpSpPr>
          <a:xfrm>
            <a:off x="8153280" y="228600"/>
            <a:ext cx="990720" cy="1523880"/>
            <a:chOff x="8153280" y="228600"/>
            <a:chExt cx="990720" cy="1523880"/>
          </a:xfrm>
        </p:grpSpPr>
        <p:sp>
          <p:nvSpPr>
            <p:cNvPr id="340" name=""/>
            <p:cNvSpPr/>
            <p:nvPr/>
          </p:nvSpPr>
          <p:spPr>
            <a:xfrm>
              <a:off x="8153280" y="228600"/>
              <a:ext cx="990720" cy="15238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3c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305920" y="304920"/>
              <a:ext cx="685800" cy="129528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66ffff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3c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9900"/>
                  </a:solidFill>
                  <a:latin typeface="Times New Roman"/>
                  <a:ea typeface="华文楷体"/>
                </a:rPr>
                <a:t>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9900"/>
                  </a:solidFill>
                  <a:latin typeface="Times New Roman"/>
                  <a:ea typeface="华文楷体"/>
                </a:rPr>
                <a:t>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1066680" y="1106640"/>
            <a:ext cx="701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判断：下面哪些数能被２整除？哪些数能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整除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哪些数能同时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整除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0      75      106       130       5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452600" y="2973240"/>
            <a:ext cx="139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能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整除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186000" y="2971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268880" y="297324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64160" y="297324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452600" y="3809880"/>
            <a:ext cx="139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能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整除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189240" y="3776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389480" y="3776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599080" y="37339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622880" y="4572000"/>
            <a:ext cx="224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能同时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整除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497480" y="453708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0          1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047600" y="581040"/>
            <a:ext cx="76212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ff00"/>
              </a:gs>
              <a:gs pos="100000">
                <a:srgbClr val="66ffff"/>
              </a:gs>
            </a:gsLst>
            <a:lin ang="135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练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76320" y="5638680"/>
            <a:ext cx="1866960" cy="1066680"/>
            <a:chOff x="76320" y="5638680"/>
            <a:chExt cx="1866960" cy="1066680"/>
          </a:xfrm>
        </p:grpSpPr>
        <p:sp>
          <p:nvSpPr>
            <p:cNvPr id="356" name=""/>
            <p:cNvSpPr/>
            <p:nvPr/>
          </p:nvSpPr>
          <p:spPr>
            <a:xfrm rot="5400000">
              <a:off x="1181160" y="50670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5400000">
              <a:off x="952560" y="52956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rot="5400000">
              <a:off x="647640" y="55242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5400000">
              <a:off x="952560" y="57528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5400000">
              <a:off x="1181160" y="594324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-124560" y="380880"/>
            <a:ext cx="1366560" cy="4608360"/>
            <a:chOff x="-124560" y="380880"/>
            <a:chExt cx="1366560" cy="4608360"/>
          </a:xfrm>
        </p:grpSpPr>
        <p:sp>
          <p:nvSpPr>
            <p:cNvPr id="363" name=""/>
            <p:cNvSpPr/>
            <p:nvPr/>
          </p:nvSpPr>
          <p:spPr>
            <a:xfrm>
              <a:off x="400320" y="395280"/>
              <a:ext cx="379800" cy="4176720"/>
            </a:xfrm>
            <a:custGeom>
              <a:avLst/>
              <a:gdLst/>
              <a:ahLst/>
              <a:rect l="l" t="t" r="r" b="b"/>
              <a:pathLst>
                <a:path w="298" h="2631">
                  <a:moveTo>
                    <a:pt x="79" y="0"/>
                  </a:moveTo>
                  <a:cubicBezTo>
                    <a:pt x="75" y="26"/>
                    <a:pt x="71" y="52"/>
                    <a:pt x="66" y="78"/>
                  </a:cubicBezTo>
                  <a:cubicBezTo>
                    <a:pt x="57" y="126"/>
                    <a:pt x="39" y="222"/>
                    <a:pt x="39" y="222"/>
                  </a:cubicBezTo>
                  <a:cubicBezTo>
                    <a:pt x="48" y="433"/>
                    <a:pt x="28" y="548"/>
                    <a:pt x="131" y="707"/>
                  </a:cubicBezTo>
                  <a:cubicBezTo>
                    <a:pt x="145" y="763"/>
                    <a:pt x="171" y="800"/>
                    <a:pt x="197" y="851"/>
                  </a:cubicBezTo>
                  <a:cubicBezTo>
                    <a:pt x="210" y="902"/>
                    <a:pt x="235" y="944"/>
                    <a:pt x="249" y="995"/>
                  </a:cubicBezTo>
                  <a:cubicBezTo>
                    <a:pt x="258" y="1029"/>
                    <a:pt x="275" y="1099"/>
                    <a:pt x="275" y="1099"/>
                  </a:cubicBezTo>
                  <a:cubicBezTo>
                    <a:pt x="269" y="1235"/>
                    <a:pt x="298" y="1513"/>
                    <a:pt x="170" y="1636"/>
                  </a:cubicBezTo>
                  <a:cubicBezTo>
                    <a:pt x="129" y="1718"/>
                    <a:pt x="77" y="1796"/>
                    <a:pt x="26" y="1872"/>
                  </a:cubicBezTo>
                  <a:cubicBezTo>
                    <a:pt x="21" y="1893"/>
                    <a:pt x="0" y="1972"/>
                    <a:pt x="0" y="1990"/>
                  </a:cubicBezTo>
                  <a:cubicBezTo>
                    <a:pt x="0" y="2147"/>
                    <a:pt x="74" y="2237"/>
                    <a:pt x="197" y="2317"/>
                  </a:cubicBezTo>
                  <a:cubicBezTo>
                    <a:pt x="206" y="2343"/>
                    <a:pt x="214" y="2369"/>
                    <a:pt x="223" y="2395"/>
                  </a:cubicBezTo>
                  <a:cubicBezTo>
                    <a:pt x="227" y="2408"/>
                    <a:pt x="232" y="2422"/>
                    <a:pt x="236" y="2435"/>
                  </a:cubicBezTo>
                  <a:cubicBezTo>
                    <a:pt x="240" y="2448"/>
                    <a:pt x="249" y="2474"/>
                    <a:pt x="249" y="2474"/>
                  </a:cubicBezTo>
                  <a:cubicBezTo>
                    <a:pt x="263" y="2615"/>
                    <a:pt x="242" y="2566"/>
                    <a:pt x="275" y="263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1280" y="1890720"/>
              <a:ext cx="517680" cy="811080"/>
            </a:xfrm>
            <a:custGeom>
              <a:avLst/>
              <a:gdLst/>
              <a:ahLst/>
              <a:rect l="l" t="t" r="r" b="b"/>
              <a:pathLst>
                <a:path w="406" h="511">
                  <a:moveTo>
                    <a:pt x="0" y="0"/>
                  </a:moveTo>
                  <a:cubicBezTo>
                    <a:pt x="105" y="35"/>
                    <a:pt x="108" y="47"/>
                    <a:pt x="183" y="131"/>
                  </a:cubicBezTo>
                  <a:cubicBezTo>
                    <a:pt x="204" y="154"/>
                    <a:pt x="249" y="197"/>
                    <a:pt x="249" y="197"/>
                  </a:cubicBezTo>
                  <a:cubicBezTo>
                    <a:pt x="280" y="290"/>
                    <a:pt x="260" y="252"/>
                    <a:pt x="301" y="314"/>
                  </a:cubicBezTo>
                  <a:cubicBezTo>
                    <a:pt x="333" y="411"/>
                    <a:pt x="335" y="440"/>
                    <a:pt x="406" y="5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1520" y="380880"/>
              <a:ext cx="272520" cy="3948120"/>
            </a:xfrm>
            <a:custGeom>
              <a:avLst/>
              <a:gdLst/>
              <a:ahLst/>
              <a:rect l="l" t="t" r="r" b="b"/>
              <a:pathLst>
                <a:path w="214" h="2487">
                  <a:moveTo>
                    <a:pt x="135" y="0"/>
                  </a:moveTo>
                  <a:cubicBezTo>
                    <a:pt x="120" y="59"/>
                    <a:pt x="95" y="97"/>
                    <a:pt x="83" y="157"/>
                  </a:cubicBezTo>
                  <a:cubicBezTo>
                    <a:pt x="90" y="299"/>
                    <a:pt x="88" y="438"/>
                    <a:pt x="122" y="576"/>
                  </a:cubicBezTo>
                  <a:cubicBezTo>
                    <a:pt x="149" y="874"/>
                    <a:pt x="152" y="1167"/>
                    <a:pt x="135" y="1466"/>
                  </a:cubicBezTo>
                  <a:cubicBezTo>
                    <a:pt x="131" y="1527"/>
                    <a:pt x="94" y="1583"/>
                    <a:pt x="70" y="1636"/>
                  </a:cubicBezTo>
                  <a:cubicBezTo>
                    <a:pt x="59" y="1661"/>
                    <a:pt x="52" y="1689"/>
                    <a:pt x="43" y="1715"/>
                  </a:cubicBezTo>
                  <a:cubicBezTo>
                    <a:pt x="39" y="1728"/>
                    <a:pt x="30" y="1754"/>
                    <a:pt x="30" y="1754"/>
                  </a:cubicBezTo>
                  <a:cubicBezTo>
                    <a:pt x="0" y="1938"/>
                    <a:pt x="8" y="1668"/>
                    <a:pt x="30" y="1999"/>
                  </a:cubicBezTo>
                  <a:cubicBezTo>
                    <a:pt x="33" y="2042"/>
                    <a:pt x="53" y="2275"/>
                    <a:pt x="83" y="2304"/>
                  </a:cubicBezTo>
                  <a:cubicBezTo>
                    <a:pt x="87" y="2317"/>
                    <a:pt x="88" y="2332"/>
                    <a:pt x="96" y="2343"/>
                  </a:cubicBezTo>
                  <a:cubicBezTo>
                    <a:pt x="119" y="2372"/>
                    <a:pt x="174" y="2422"/>
                    <a:pt x="174" y="2422"/>
                  </a:cubicBezTo>
                  <a:cubicBezTo>
                    <a:pt x="178" y="2435"/>
                    <a:pt x="180" y="2449"/>
                    <a:pt x="187" y="2461"/>
                  </a:cubicBezTo>
                  <a:cubicBezTo>
                    <a:pt x="194" y="2472"/>
                    <a:pt x="214" y="2487"/>
                    <a:pt x="214" y="248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" name=""/>
            <p:cNvGrpSpPr/>
            <p:nvPr/>
          </p:nvGrpSpPr>
          <p:grpSpPr>
            <a:xfrm>
              <a:off x="-124560" y="735480"/>
              <a:ext cx="1366560" cy="4253760"/>
              <a:chOff x="-124560" y="735480"/>
              <a:chExt cx="1366560" cy="4253760"/>
            </a:xfrm>
          </p:grpSpPr>
          <p:sp>
            <p:nvSpPr>
              <p:cNvPr id="367" name=""/>
              <p:cNvSpPr/>
              <p:nvPr/>
            </p:nvSpPr>
            <p:spPr>
              <a:xfrm>
                <a:off x="170640" y="2051280"/>
                <a:ext cx="150120" cy="1641240"/>
              </a:xfrm>
              <a:custGeom>
                <a:avLst/>
                <a:gdLst/>
                <a:ahLst/>
                <a:rect l="l" t="t" r="r" b="b"/>
                <a:pathLst>
                  <a:path w="118" h="1034">
                    <a:moveTo>
                      <a:pt x="13" y="0"/>
                    </a:moveTo>
                    <a:cubicBezTo>
                      <a:pt x="37" y="73"/>
                      <a:pt x="59" y="147"/>
                      <a:pt x="78" y="222"/>
                    </a:cubicBezTo>
                    <a:cubicBezTo>
                      <a:pt x="63" y="455"/>
                      <a:pt x="81" y="355"/>
                      <a:pt x="39" y="523"/>
                    </a:cubicBezTo>
                    <a:cubicBezTo>
                      <a:pt x="32" y="550"/>
                      <a:pt x="22" y="576"/>
                      <a:pt x="13" y="602"/>
                    </a:cubicBezTo>
                    <a:cubicBezTo>
                      <a:pt x="9" y="615"/>
                      <a:pt x="0" y="641"/>
                      <a:pt x="0" y="641"/>
                    </a:cubicBezTo>
                    <a:cubicBezTo>
                      <a:pt x="8" y="736"/>
                      <a:pt x="6" y="783"/>
                      <a:pt x="26" y="864"/>
                    </a:cubicBezTo>
                    <a:cubicBezTo>
                      <a:pt x="37" y="907"/>
                      <a:pt x="92" y="981"/>
                      <a:pt x="92" y="981"/>
                    </a:cubicBezTo>
                    <a:cubicBezTo>
                      <a:pt x="107" y="1027"/>
                      <a:pt x="95" y="1011"/>
                      <a:pt x="118" y="10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19818600">
                <a:off x="884520" y="2010960"/>
                <a:ext cx="195120" cy="706680"/>
              </a:xfrm>
              <a:custGeom>
                <a:avLst/>
                <a:gdLst>
                  <a:gd name="textAreaLeft" fmla="*/ 45720 w 195120"/>
                  <a:gd name="textAreaRight" fmla="*/ 149400 w 195120"/>
                  <a:gd name="textAreaTop" fmla="*/ 82800 h 706680"/>
                  <a:gd name="textAreaBottom" fmla="*/ 443160 h 70668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rot="19818600">
                <a:off x="496800" y="3070080"/>
                <a:ext cx="122040" cy="706320"/>
              </a:xfrm>
              <a:custGeom>
                <a:avLst/>
                <a:gdLst>
                  <a:gd name="textAreaLeft" fmla="*/ 28440 w 122040"/>
                  <a:gd name="textAreaRight" fmla="*/ 93240 w 12204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H="1" rot="663000">
                <a:off x="432000" y="1447920"/>
                <a:ext cx="84960" cy="705960"/>
              </a:xfrm>
              <a:custGeom>
                <a:avLst/>
                <a:gdLst>
                  <a:gd name="textAreaLeft" fmla="*/ 19800 w 84960"/>
                  <a:gd name="textAreaRight" fmla="*/ 65160 w 84960"/>
                  <a:gd name="textAreaTop" fmla="*/ 82800 h 705960"/>
                  <a:gd name="textAreaBottom" fmla="*/ 442800 h 70596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20752200">
                <a:off x="676800" y="4278240"/>
                <a:ext cx="122400" cy="706320"/>
              </a:xfrm>
              <a:custGeom>
                <a:avLst/>
                <a:gdLst>
                  <a:gd name="textAreaLeft" fmla="*/ 28800 w 122400"/>
                  <a:gd name="textAreaRight" fmla="*/ 93600 w 12240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rot="1330800">
                <a:off x="0" y="2041560"/>
                <a:ext cx="244440" cy="706680"/>
              </a:xfrm>
              <a:custGeom>
                <a:avLst/>
                <a:gdLst>
                  <a:gd name="textAreaLeft" fmla="*/ 57240 w 244440"/>
                  <a:gd name="textAreaRight" fmla="*/ 186840 w 244440"/>
                  <a:gd name="textAreaTop" fmla="*/ 82800 h 706680"/>
                  <a:gd name="textAreaBottom" fmla="*/ 443160 h 70668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379200">
                <a:off x="676800" y="2285640"/>
                <a:ext cx="96840" cy="706680"/>
              </a:xfrm>
              <a:custGeom>
                <a:avLst/>
                <a:gdLst>
                  <a:gd name="textAreaLeft" fmla="*/ 22680 w 96840"/>
                  <a:gd name="textAreaRight" fmla="*/ 74160 w 96840"/>
                  <a:gd name="textAreaTop" fmla="*/ 82800 h 706680"/>
                  <a:gd name="textAreaBottom" fmla="*/ 443160 h 70668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19691400">
                <a:off x="370800" y="4267080"/>
                <a:ext cx="61200" cy="706320"/>
              </a:xfrm>
              <a:custGeom>
                <a:avLst/>
                <a:gdLst>
                  <a:gd name="textAreaLeft" fmla="*/ 14400 w 61200"/>
                  <a:gd name="textAreaRight" fmla="*/ 46800 w 6120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20752200">
                <a:off x="3240" y="761760"/>
                <a:ext cx="305640" cy="706320"/>
              </a:xfrm>
              <a:custGeom>
                <a:avLst/>
                <a:gdLst>
                  <a:gd name="textAreaLeft" fmla="*/ 71640 w 305640"/>
                  <a:gd name="textAreaRight" fmla="*/ 233640 w 30564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21171600">
                <a:off x="185760" y="3353040"/>
                <a:ext cx="123120" cy="706320"/>
              </a:xfrm>
              <a:custGeom>
                <a:avLst/>
                <a:gdLst>
                  <a:gd name="textAreaLeft" fmla="*/ 28800 w 123120"/>
                  <a:gd name="textAreaRight" fmla="*/ 94320 w 12312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7" name=""/>
          <p:cNvGrpSpPr/>
          <p:nvPr/>
        </p:nvGrpSpPr>
        <p:grpSpPr>
          <a:xfrm>
            <a:off x="8153280" y="228600"/>
            <a:ext cx="990720" cy="1523880"/>
            <a:chOff x="8153280" y="228600"/>
            <a:chExt cx="990720" cy="1523880"/>
          </a:xfrm>
        </p:grpSpPr>
        <p:sp>
          <p:nvSpPr>
            <p:cNvPr id="378" name=""/>
            <p:cNvSpPr/>
            <p:nvPr/>
          </p:nvSpPr>
          <p:spPr>
            <a:xfrm>
              <a:off x="8153280" y="228600"/>
              <a:ext cx="990720" cy="15238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3c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305920" y="304920"/>
              <a:ext cx="685800" cy="129528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66ffff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3c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9900"/>
                  </a:solidFill>
                  <a:latin typeface="Times New Roman"/>
                  <a:ea typeface="华文楷体"/>
                </a:rPr>
                <a:t>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9900"/>
                  </a:solidFill>
                  <a:latin typeface="Times New Roman"/>
                  <a:ea typeface="华文楷体"/>
                </a:rPr>
                <a:t>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1974960" y="1260360"/>
            <a:ext cx="450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一个自然数不是奇数就是偶数．（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380280" y="1281240"/>
            <a:ext cx="45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377720" y="2286000"/>
            <a:ext cx="578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能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除尽的数都是偶数．           （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496200" y="2286000"/>
            <a:ext cx="43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×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-1681920" y="3276720"/>
            <a:ext cx="132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能同时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整除的数的个位上的数字一定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575400" y="3666960"/>
            <a:ext cx="45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047600" y="581040"/>
            <a:ext cx="76212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ff00"/>
              </a:gs>
              <a:gs pos="100000">
                <a:srgbClr val="66ffff"/>
              </a:gs>
            </a:gsLst>
            <a:lin ang="135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判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76320" y="5638680"/>
            <a:ext cx="1866960" cy="1066680"/>
            <a:chOff x="76320" y="5638680"/>
            <a:chExt cx="1866960" cy="1066680"/>
          </a:xfrm>
        </p:grpSpPr>
        <p:sp>
          <p:nvSpPr>
            <p:cNvPr id="389" name=""/>
            <p:cNvSpPr/>
            <p:nvPr/>
          </p:nvSpPr>
          <p:spPr>
            <a:xfrm rot="5400000">
              <a:off x="1181160" y="50670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5400000">
              <a:off x="952560" y="52956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5400000">
              <a:off x="647640" y="55242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5400000">
              <a:off x="952560" y="57528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rot="5400000">
              <a:off x="1181160" y="594324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-124560" y="380880"/>
            <a:ext cx="1366560" cy="4608360"/>
            <a:chOff x="-124560" y="380880"/>
            <a:chExt cx="1366560" cy="4608360"/>
          </a:xfrm>
        </p:grpSpPr>
        <p:sp>
          <p:nvSpPr>
            <p:cNvPr id="396" name=""/>
            <p:cNvSpPr/>
            <p:nvPr/>
          </p:nvSpPr>
          <p:spPr>
            <a:xfrm>
              <a:off x="400320" y="395280"/>
              <a:ext cx="379800" cy="4176720"/>
            </a:xfrm>
            <a:custGeom>
              <a:avLst/>
              <a:gdLst/>
              <a:ahLst/>
              <a:rect l="l" t="t" r="r" b="b"/>
              <a:pathLst>
                <a:path w="298" h="2631">
                  <a:moveTo>
                    <a:pt x="79" y="0"/>
                  </a:moveTo>
                  <a:cubicBezTo>
                    <a:pt x="75" y="26"/>
                    <a:pt x="71" y="52"/>
                    <a:pt x="66" y="78"/>
                  </a:cubicBezTo>
                  <a:cubicBezTo>
                    <a:pt x="57" y="126"/>
                    <a:pt x="39" y="222"/>
                    <a:pt x="39" y="222"/>
                  </a:cubicBezTo>
                  <a:cubicBezTo>
                    <a:pt x="48" y="433"/>
                    <a:pt x="28" y="548"/>
                    <a:pt x="131" y="707"/>
                  </a:cubicBezTo>
                  <a:cubicBezTo>
                    <a:pt x="145" y="763"/>
                    <a:pt x="171" y="800"/>
                    <a:pt x="197" y="851"/>
                  </a:cubicBezTo>
                  <a:cubicBezTo>
                    <a:pt x="210" y="902"/>
                    <a:pt x="235" y="944"/>
                    <a:pt x="249" y="995"/>
                  </a:cubicBezTo>
                  <a:cubicBezTo>
                    <a:pt x="258" y="1029"/>
                    <a:pt x="275" y="1099"/>
                    <a:pt x="275" y="1099"/>
                  </a:cubicBezTo>
                  <a:cubicBezTo>
                    <a:pt x="269" y="1235"/>
                    <a:pt x="298" y="1513"/>
                    <a:pt x="170" y="1636"/>
                  </a:cubicBezTo>
                  <a:cubicBezTo>
                    <a:pt x="129" y="1718"/>
                    <a:pt x="77" y="1796"/>
                    <a:pt x="26" y="1872"/>
                  </a:cubicBezTo>
                  <a:cubicBezTo>
                    <a:pt x="21" y="1893"/>
                    <a:pt x="0" y="1972"/>
                    <a:pt x="0" y="1990"/>
                  </a:cubicBezTo>
                  <a:cubicBezTo>
                    <a:pt x="0" y="2147"/>
                    <a:pt x="74" y="2237"/>
                    <a:pt x="197" y="2317"/>
                  </a:cubicBezTo>
                  <a:cubicBezTo>
                    <a:pt x="206" y="2343"/>
                    <a:pt x="214" y="2369"/>
                    <a:pt x="223" y="2395"/>
                  </a:cubicBezTo>
                  <a:cubicBezTo>
                    <a:pt x="227" y="2408"/>
                    <a:pt x="232" y="2422"/>
                    <a:pt x="236" y="2435"/>
                  </a:cubicBezTo>
                  <a:cubicBezTo>
                    <a:pt x="240" y="2448"/>
                    <a:pt x="249" y="2474"/>
                    <a:pt x="249" y="2474"/>
                  </a:cubicBezTo>
                  <a:cubicBezTo>
                    <a:pt x="263" y="2615"/>
                    <a:pt x="242" y="2566"/>
                    <a:pt x="275" y="263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01280" y="1890720"/>
              <a:ext cx="517680" cy="811080"/>
            </a:xfrm>
            <a:custGeom>
              <a:avLst/>
              <a:gdLst/>
              <a:ahLst/>
              <a:rect l="l" t="t" r="r" b="b"/>
              <a:pathLst>
                <a:path w="406" h="511">
                  <a:moveTo>
                    <a:pt x="0" y="0"/>
                  </a:moveTo>
                  <a:cubicBezTo>
                    <a:pt x="105" y="35"/>
                    <a:pt x="108" y="47"/>
                    <a:pt x="183" y="131"/>
                  </a:cubicBezTo>
                  <a:cubicBezTo>
                    <a:pt x="204" y="154"/>
                    <a:pt x="249" y="197"/>
                    <a:pt x="249" y="197"/>
                  </a:cubicBezTo>
                  <a:cubicBezTo>
                    <a:pt x="280" y="290"/>
                    <a:pt x="260" y="252"/>
                    <a:pt x="301" y="314"/>
                  </a:cubicBezTo>
                  <a:cubicBezTo>
                    <a:pt x="333" y="411"/>
                    <a:pt x="335" y="440"/>
                    <a:pt x="406" y="5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1520" y="380880"/>
              <a:ext cx="272520" cy="3948120"/>
            </a:xfrm>
            <a:custGeom>
              <a:avLst/>
              <a:gdLst/>
              <a:ahLst/>
              <a:rect l="l" t="t" r="r" b="b"/>
              <a:pathLst>
                <a:path w="214" h="2487">
                  <a:moveTo>
                    <a:pt x="135" y="0"/>
                  </a:moveTo>
                  <a:cubicBezTo>
                    <a:pt x="120" y="59"/>
                    <a:pt x="95" y="97"/>
                    <a:pt x="83" y="157"/>
                  </a:cubicBezTo>
                  <a:cubicBezTo>
                    <a:pt x="90" y="299"/>
                    <a:pt x="88" y="438"/>
                    <a:pt x="122" y="576"/>
                  </a:cubicBezTo>
                  <a:cubicBezTo>
                    <a:pt x="149" y="874"/>
                    <a:pt x="152" y="1167"/>
                    <a:pt x="135" y="1466"/>
                  </a:cubicBezTo>
                  <a:cubicBezTo>
                    <a:pt x="131" y="1527"/>
                    <a:pt x="94" y="1583"/>
                    <a:pt x="70" y="1636"/>
                  </a:cubicBezTo>
                  <a:cubicBezTo>
                    <a:pt x="59" y="1661"/>
                    <a:pt x="52" y="1689"/>
                    <a:pt x="43" y="1715"/>
                  </a:cubicBezTo>
                  <a:cubicBezTo>
                    <a:pt x="39" y="1728"/>
                    <a:pt x="30" y="1754"/>
                    <a:pt x="30" y="1754"/>
                  </a:cubicBezTo>
                  <a:cubicBezTo>
                    <a:pt x="0" y="1938"/>
                    <a:pt x="8" y="1668"/>
                    <a:pt x="30" y="1999"/>
                  </a:cubicBezTo>
                  <a:cubicBezTo>
                    <a:pt x="33" y="2042"/>
                    <a:pt x="53" y="2275"/>
                    <a:pt x="83" y="2304"/>
                  </a:cubicBezTo>
                  <a:cubicBezTo>
                    <a:pt x="87" y="2317"/>
                    <a:pt x="88" y="2332"/>
                    <a:pt x="96" y="2343"/>
                  </a:cubicBezTo>
                  <a:cubicBezTo>
                    <a:pt x="119" y="2372"/>
                    <a:pt x="174" y="2422"/>
                    <a:pt x="174" y="2422"/>
                  </a:cubicBezTo>
                  <a:cubicBezTo>
                    <a:pt x="178" y="2435"/>
                    <a:pt x="180" y="2449"/>
                    <a:pt x="187" y="2461"/>
                  </a:cubicBezTo>
                  <a:cubicBezTo>
                    <a:pt x="194" y="2472"/>
                    <a:pt x="214" y="2487"/>
                    <a:pt x="214" y="248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9" name=""/>
            <p:cNvGrpSpPr/>
            <p:nvPr/>
          </p:nvGrpSpPr>
          <p:grpSpPr>
            <a:xfrm>
              <a:off x="-124560" y="735480"/>
              <a:ext cx="1366560" cy="4253760"/>
              <a:chOff x="-124560" y="735480"/>
              <a:chExt cx="1366560" cy="4253760"/>
            </a:xfrm>
          </p:grpSpPr>
          <p:sp>
            <p:nvSpPr>
              <p:cNvPr id="400" name=""/>
              <p:cNvSpPr/>
              <p:nvPr/>
            </p:nvSpPr>
            <p:spPr>
              <a:xfrm>
                <a:off x="170640" y="2051280"/>
                <a:ext cx="150120" cy="1641240"/>
              </a:xfrm>
              <a:custGeom>
                <a:avLst/>
                <a:gdLst/>
                <a:ahLst/>
                <a:rect l="l" t="t" r="r" b="b"/>
                <a:pathLst>
                  <a:path w="118" h="1034">
                    <a:moveTo>
                      <a:pt x="13" y="0"/>
                    </a:moveTo>
                    <a:cubicBezTo>
                      <a:pt x="37" y="73"/>
                      <a:pt x="59" y="147"/>
                      <a:pt x="78" y="222"/>
                    </a:cubicBezTo>
                    <a:cubicBezTo>
                      <a:pt x="63" y="455"/>
                      <a:pt x="81" y="355"/>
                      <a:pt x="39" y="523"/>
                    </a:cubicBezTo>
                    <a:cubicBezTo>
                      <a:pt x="32" y="550"/>
                      <a:pt x="22" y="576"/>
                      <a:pt x="13" y="602"/>
                    </a:cubicBezTo>
                    <a:cubicBezTo>
                      <a:pt x="9" y="615"/>
                      <a:pt x="0" y="641"/>
                      <a:pt x="0" y="641"/>
                    </a:cubicBezTo>
                    <a:cubicBezTo>
                      <a:pt x="8" y="736"/>
                      <a:pt x="6" y="783"/>
                      <a:pt x="26" y="864"/>
                    </a:cubicBezTo>
                    <a:cubicBezTo>
                      <a:pt x="37" y="907"/>
                      <a:pt x="92" y="981"/>
                      <a:pt x="92" y="981"/>
                    </a:cubicBezTo>
                    <a:cubicBezTo>
                      <a:pt x="107" y="1027"/>
                      <a:pt x="95" y="1011"/>
                      <a:pt x="118" y="10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19818600">
                <a:off x="884520" y="2010960"/>
                <a:ext cx="195120" cy="706680"/>
              </a:xfrm>
              <a:custGeom>
                <a:avLst/>
                <a:gdLst>
                  <a:gd name="textAreaLeft" fmla="*/ 45720 w 195120"/>
                  <a:gd name="textAreaRight" fmla="*/ 149400 w 195120"/>
                  <a:gd name="textAreaTop" fmla="*/ 82800 h 706680"/>
                  <a:gd name="textAreaBottom" fmla="*/ 443160 h 70668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rot="19818600">
                <a:off x="496800" y="3070080"/>
                <a:ext cx="122040" cy="706320"/>
              </a:xfrm>
              <a:custGeom>
                <a:avLst/>
                <a:gdLst>
                  <a:gd name="textAreaLeft" fmla="*/ 28440 w 122040"/>
                  <a:gd name="textAreaRight" fmla="*/ 93240 w 12204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 rot="663000">
                <a:off x="432000" y="1447920"/>
                <a:ext cx="84960" cy="705960"/>
              </a:xfrm>
              <a:custGeom>
                <a:avLst/>
                <a:gdLst>
                  <a:gd name="textAreaLeft" fmla="*/ 19800 w 84960"/>
                  <a:gd name="textAreaRight" fmla="*/ 65160 w 84960"/>
                  <a:gd name="textAreaTop" fmla="*/ 82800 h 705960"/>
                  <a:gd name="textAreaBottom" fmla="*/ 442800 h 70596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20752200">
                <a:off x="676800" y="4278240"/>
                <a:ext cx="122400" cy="706320"/>
              </a:xfrm>
              <a:custGeom>
                <a:avLst/>
                <a:gdLst>
                  <a:gd name="textAreaLeft" fmla="*/ 28800 w 122400"/>
                  <a:gd name="textAreaRight" fmla="*/ 93600 w 12240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1330800">
                <a:off x="0" y="2041560"/>
                <a:ext cx="244440" cy="706680"/>
              </a:xfrm>
              <a:custGeom>
                <a:avLst/>
                <a:gdLst>
                  <a:gd name="textAreaLeft" fmla="*/ 57240 w 244440"/>
                  <a:gd name="textAreaRight" fmla="*/ 186840 w 244440"/>
                  <a:gd name="textAreaTop" fmla="*/ 82800 h 706680"/>
                  <a:gd name="textAreaBottom" fmla="*/ 443160 h 70668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379200">
                <a:off x="676800" y="2285640"/>
                <a:ext cx="96840" cy="706680"/>
              </a:xfrm>
              <a:custGeom>
                <a:avLst/>
                <a:gdLst>
                  <a:gd name="textAreaLeft" fmla="*/ 22680 w 96840"/>
                  <a:gd name="textAreaRight" fmla="*/ 74160 w 96840"/>
                  <a:gd name="textAreaTop" fmla="*/ 82800 h 706680"/>
                  <a:gd name="textAreaBottom" fmla="*/ 443160 h 70668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19691400">
                <a:off x="370800" y="4267080"/>
                <a:ext cx="61200" cy="706320"/>
              </a:xfrm>
              <a:custGeom>
                <a:avLst/>
                <a:gdLst>
                  <a:gd name="textAreaLeft" fmla="*/ 14400 w 61200"/>
                  <a:gd name="textAreaRight" fmla="*/ 46800 w 6120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20752200">
                <a:off x="3240" y="761760"/>
                <a:ext cx="305640" cy="706320"/>
              </a:xfrm>
              <a:custGeom>
                <a:avLst/>
                <a:gdLst>
                  <a:gd name="textAreaLeft" fmla="*/ 71640 w 305640"/>
                  <a:gd name="textAreaRight" fmla="*/ 233640 w 30564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rot="21171600">
                <a:off x="185760" y="3353040"/>
                <a:ext cx="123120" cy="706320"/>
              </a:xfrm>
              <a:custGeom>
                <a:avLst/>
                <a:gdLst>
                  <a:gd name="textAreaLeft" fmla="*/ 28800 w 123120"/>
                  <a:gd name="textAreaRight" fmla="*/ 94320 w 12312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0" name=""/>
          <p:cNvGrpSpPr/>
          <p:nvPr/>
        </p:nvGrpSpPr>
        <p:grpSpPr>
          <a:xfrm>
            <a:off x="8153280" y="228600"/>
            <a:ext cx="990720" cy="1523880"/>
            <a:chOff x="8153280" y="228600"/>
            <a:chExt cx="990720" cy="1523880"/>
          </a:xfrm>
        </p:grpSpPr>
        <p:sp>
          <p:nvSpPr>
            <p:cNvPr id="411" name=""/>
            <p:cNvSpPr/>
            <p:nvPr/>
          </p:nvSpPr>
          <p:spPr>
            <a:xfrm>
              <a:off x="8153280" y="228600"/>
              <a:ext cx="990720" cy="15238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3c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305920" y="304920"/>
              <a:ext cx="685800" cy="129528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66ffff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3c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9900"/>
                  </a:solidFill>
                  <a:latin typeface="Times New Roman"/>
                  <a:ea typeface="华文楷体"/>
                </a:rPr>
                <a:t>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9900"/>
                  </a:solidFill>
                  <a:latin typeface="Times New Roman"/>
                  <a:ea typeface="华文楷体"/>
                </a:rPr>
                <a:t>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1730520" y="1398600"/>
            <a:ext cx="530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能被２整除的最小的三位数是（     　）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　　　　   最大的三位数是（　　）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839240" y="3232080"/>
            <a:ext cx="493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能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整除的最小的两位数是（     　）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　　　　 最大的两位数是（　　）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081840" y="13986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097680" y="21337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016680" y="32162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078600" y="39495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47600" y="581040"/>
            <a:ext cx="76212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ff00"/>
              </a:gs>
              <a:gs pos="100000">
                <a:srgbClr val="66ffff"/>
              </a:gs>
            </a:gsLst>
            <a:lin ang="135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填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76320" y="5638680"/>
            <a:ext cx="1866960" cy="1066680"/>
            <a:chOff x="76320" y="5638680"/>
            <a:chExt cx="1866960" cy="1066680"/>
          </a:xfrm>
        </p:grpSpPr>
        <p:sp>
          <p:nvSpPr>
            <p:cNvPr id="422" name=""/>
            <p:cNvSpPr/>
            <p:nvPr/>
          </p:nvSpPr>
          <p:spPr>
            <a:xfrm rot="5400000">
              <a:off x="1181160" y="50670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rot="5400000">
              <a:off x="952560" y="52956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rot="5400000">
              <a:off x="647640" y="55242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5400000">
              <a:off x="952560" y="57528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5400000">
              <a:off x="1181160" y="594324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-124560" y="380880"/>
            <a:ext cx="1366560" cy="4608360"/>
            <a:chOff x="-124560" y="380880"/>
            <a:chExt cx="1366560" cy="4608360"/>
          </a:xfrm>
        </p:grpSpPr>
        <p:sp>
          <p:nvSpPr>
            <p:cNvPr id="429" name=""/>
            <p:cNvSpPr/>
            <p:nvPr/>
          </p:nvSpPr>
          <p:spPr>
            <a:xfrm>
              <a:off x="400320" y="395280"/>
              <a:ext cx="379800" cy="4176720"/>
            </a:xfrm>
            <a:custGeom>
              <a:avLst/>
              <a:gdLst/>
              <a:ahLst/>
              <a:rect l="l" t="t" r="r" b="b"/>
              <a:pathLst>
                <a:path w="298" h="2631">
                  <a:moveTo>
                    <a:pt x="79" y="0"/>
                  </a:moveTo>
                  <a:cubicBezTo>
                    <a:pt x="75" y="26"/>
                    <a:pt x="71" y="52"/>
                    <a:pt x="66" y="78"/>
                  </a:cubicBezTo>
                  <a:cubicBezTo>
                    <a:pt x="57" y="126"/>
                    <a:pt x="39" y="222"/>
                    <a:pt x="39" y="222"/>
                  </a:cubicBezTo>
                  <a:cubicBezTo>
                    <a:pt x="48" y="433"/>
                    <a:pt x="28" y="548"/>
                    <a:pt x="131" y="707"/>
                  </a:cubicBezTo>
                  <a:cubicBezTo>
                    <a:pt x="145" y="763"/>
                    <a:pt x="171" y="800"/>
                    <a:pt x="197" y="851"/>
                  </a:cubicBezTo>
                  <a:cubicBezTo>
                    <a:pt x="210" y="902"/>
                    <a:pt x="235" y="944"/>
                    <a:pt x="249" y="995"/>
                  </a:cubicBezTo>
                  <a:cubicBezTo>
                    <a:pt x="258" y="1029"/>
                    <a:pt x="275" y="1099"/>
                    <a:pt x="275" y="1099"/>
                  </a:cubicBezTo>
                  <a:cubicBezTo>
                    <a:pt x="269" y="1235"/>
                    <a:pt x="298" y="1513"/>
                    <a:pt x="170" y="1636"/>
                  </a:cubicBezTo>
                  <a:cubicBezTo>
                    <a:pt x="129" y="1718"/>
                    <a:pt x="77" y="1796"/>
                    <a:pt x="26" y="1872"/>
                  </a:cubicBezTo>
                  <a:cubicBezTo>
                    <a:pt x="21" y="1893"/>
                    <a:pt x="0" y="1972"/>
                    <a:pt x="0" y="1990"/>
                  </a:cubicBezTo>
                  <a:cubicBezTo>
                    <a:pt x="0" y="2147"/>
                    <a:pt x="74" y="2237"/>
                    <a:pt x="197" y="2317"/>
                  </a:cubicBezTo>
                  <a:cubicBezTo>
                    <a:pt x="206" y="2343"/>
                    <a:pt x="214" y="2369"/>
                    <a:pt x="223" y="2395"/>
                  </a:cubicBezTo>
                  <a:cubicBezTo>
                    <a:pt x="227" y="2408"/>
                    <a:pt x="232" y="2422"/>
                    <a:pt x="236" y="2435"/>
                  </a:cubicBezTo>
                  <a:cubicBezTo>
                    <a:pt x="240" y="2448"/>
                    <a:pt x="249" y="2474"/>
                    <a:pt x="249" y="2474"/>
                  </a:cubicBezTo>
                  <a:cubicBezTo>
                    <a:pt x="263" y="2615"/>
                    <a:pt x="242" y="2566"/>
                    <a:pt x="275" y="263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01280" y="1890720"/>
              <a:ext cx="517680" cy="811080"/>
            </a:xfrm>
            <a:custGeom>
              <a:avLst/>
              <a:gdLst/>
              <a:ahLst/>
              <a:rect l="l" t="t" r="r" b="b"/>
              <a:pathLst>
                <a:path w="406" h="511">
                  <a:moveTo>
                    <a:pt x="0" y="0"/>
                  </a:moveTo>
                  <a:cubicBezTo>
                    <a:pt x="105" y="35"/>
                    <a:pt x="108" y="47"/>
                    <a:pt x="183" y="131"/>
                  </a:cubicBezTo>
                  <a:cubicBezTo>
                    <a:pt x="204" y="154"/>
                    <a:pt x="249" y="197"/>
                    <a:pt x="249" y="197"/>
                  </a:cubicBezTo>
                  <a:cubicBezTo>
                    <a:pt x="280" y="290"/>
                    <a:pt x="260" y="252"/>
                    <a:pt x="301" y="314"/>
                  </a:cubicBezTo>
                  <a:cubicBezTo>
                    <a:pt x="333" y="411"/>
                    <a:pt x="335" y="440"/>
                    <a:pt x="406" y="5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1520" y="380880"/>
              <a:ext cx="272520" cy="3948120"/>
            </a:xfrm>
            <a:custGeom>
              <a:avLst/>
              <a:gdLst/>
              <a:ahLst/>
              <a:rect l="l" t="t" r="r" b="b"/>
              <a:pathLst>
                <a:path w="214" h="2487">
                  <a:moveTo>
                    <a:pt x="135" y="0"/>
                  </a:moveTo>
                  <a:cubicBezTo>
                    <a:pt x="120" y="59"/>
                    <a:pt x="95" y="97"/>
                    <a:pt x="83" y="157"/>
                  </a:cubicBezTo>
                  <a:cubicBezTo>
                    <a:pt x="90" y="299"/>
                    <a:pt x="88" y="438"/>
                    <a:pt x="122" y="576"/>
                  </a:cubicBezTo>
                  <a:cubicBezTo>
                    <a:pt x="149" y="874"/>
                    <a:pt x="152" y="1167"/>
                    <a:pt x="135" y="1466"/>
                  </a:cubicBezTo>
                  <a:cubicBezTo>
                    <a:pt x="131" y="1527"/>
                    <a:pt x="94" y="1583"/>
                    <a:pt x="70" y="1636"/>
                  </a:cubicBezTo>
                  <a:cubicBezTo>
                    <a:pt x="59" y="1661"/>
                    <a:pt x="52" y="1689"/>
                    <a:pt x="43" y="1715"/>
                  </a:cubicBezTo>
                  <a:cubicBezTo>
                    <a:pt x="39" y="1728"/>
                    <a:pt x="30" y="1754"/>
                    <a:pt x="30" y="1754"/>
                  </a:cubicBezTo>
                  <a:cubicBezTo>
                    <a:pt x="0" y="1938"/>
                    <a:pt x="8" y="1668"/>
                    <a:pt x="30" y="1999"/>
                  </a:cubicBezTo>
                  <a:cubicBezTo>
                    <a:pt x="33" y="2042"/>
                    <a:pt x="53" y="2275"/>
                    <a:pt x="83" y="2304"/>
                  </a:cubicBezTo>
                  <a:cubicBezTo>
                    <a:pt x="87" y="2317"/>
                    <a:pt x="88" y="2332"/>
                    <a:pt x="96" y="2343"/>
                  </a:cubicBezTo>
                  <a:cubicBezTo>
                    <a:pt x="119" y="2372"/>
                    <a:pt x="174" y="2422"/>
                    <a:pt x="174" y="2422"/>
                  </a:cubicBezTo>
                  <a:cubicBezTo>
                    <a:pt x="178" y="2435"/>
                    <a:pt x="180" y="2449"/>
                    <a:pt x="187" y="2461"/>
                  </a:cubicBezTo>
                  <a:cubicBezTo>
                    <a:pt x="194" y="2472"/>
                    <a:pt x="214" y="2487"/>
                    <a:pt x="214" y="248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2" name=""/>
            <p:cNvGrpSpPr/>
            <p:nvPr/>
          </p:nvGrpSpPr>
          <p:grpSpPr>
            <a:xfrm>
              <a:off x="-124560" y="735480"/>
              <a:ext cx="1366560" cy="4253760"/>
              <a:chOff x="-124560" y="735480"/>
              <a:chExt cx="1366560" cy="4253760"/>
            </a:xfrm>
          </p:grpSpPr>
          <p:sp>
            <p:nvSpPr>
              <p:cNvPr id="433" name=""/>
              <p:cNvSpPr/>
              <p:nvPr/>
            </p:nvSpPr>
            <p:spPr>
              <a:xfrm>
                <a:off x="170640" y="2051280"/>
                <a:ext cx="150120" cy="1641240"/>
              </a:xfrm>
              <a:custGeom>
                <a:avLst/>
                <a:gdLst/>
                <a:ahLst/>
                <a:rect l="l" t="t" r="r" b="b"/>
                <a:pathLst>
                  <a:path w="118" h="1034">
                    <a:moveTo>
                      <a:pt x="13" y="0"/>
                    </a:moveTo>
                    <a:cubicBezTo>
                      <a:pt x="37" y="73"/>
                      <a:pt x="59" y="147"/>
                      <a:pt x="78" y="222"/>
                    </a:cubicBezTo>
                    <a:cubicBezTo>
                      <a:pt x="63" y="455"/>
                      <a:pt x="81" y="355"/>
                      <a:pt x="39" y="523"/>
                    </a:cubicBezTo>
                    <a:cubicBezTo>
                      <a:pt x="32" y="550"/>
                      <a:pt x="22" y="576"/>
                      <a:pt x="13" y="602"/>
                    </a:cubicBezTo>
                    <a:cubicBezTo>
                      <a:pt x="9" y="615"/>
                      <a:pt x="0" y="641"/>
                      <a:pt x="0" y="641"/>
                    </a:cubicBezTo>
                    <a:cubicBezTo>
                      <a:pt x="8" y="736"/>
                      <a:pt x="6" y="783"/>
                      <a:pt x="26" y="864"/>
                    </a:cubicBezTo>
                    <a:cubicBezTo>
                      <a:pt x="37" y="907"/>
                      <a:pt x="92" y="981"/>
                      <a:pt x="92" y="981"/>
                    </a:cubicBezTo>
                    <a:cubicBezTo>
                      <a:pt x="107" y="1027"/>
                      <a:pt x="95" y="1011"/>
                      <a:pt x="118" y="10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rot="19818600">
                <a:off x="884520" y="2010960"/>
                <a:ext cx="195120" cy="706680"/>
              </a:xfrm>
              <a:custGeom>
                <a:avLst/>
                <a:gdLst>
                  <a:gd name="textAreaLeft" fmla="*/ 45720 w 195120"/>
                  <a:gd name="textAreaRight" fmla="*/ 149400 w 195120"/>
                  <a:gd name="textAreaTop" fmla="*/ 82800 h 706680"/>
                  <a:gd name="textAreaBottom" fmla="*/ 443160 h 70668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rot="19818600">
                <a:off x="496800" y="3070080"/>
                <a:ext cx="122040" cy="706320"/>
              </a:xfrm>
              <a:custGeom>
                <a:avLst/>
                <a:gdLst>
                  <a:gd name="textAreaLeft" fmla="*/ 28440 w 122040"/>
                  <a:gd name="textAreaRight" fmla="*/ 93240 w 12204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H="1" rot="663000">
                <a:off x="432000" y="1447920"/>
                <a:ext cx="84960" cy="705960"/>
              </a:xfrm>
              <a:custGeom>
                <a:avLst/>
                <a:gdLst>
                  <a:gd name="textAreaLeft" fmla="*/ 19800 w 84960"/>
                  <a:gd name="textAreaRight" fmla="*/ 65160 w 84960"/>
                  <a:gd name="textAreaTop" fmla="*/ 82800 h 705960"/>
                  <a:gd name="textAreaBottom" fmla="*/ 442800 h 70596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rot="20752200">
                <a:off x="676800" y="4278240"/>
                <a:ext cx="122400" cy="706320"/>
              </a:xfrm>
              <a:custGeom>
                <a:avLst/>
                <a:gdLst>
                  <a:gd name="textAreaLeft" fmla="*/ 28800 w 122400"/>
                  <a:gd name="textAreaRight" fmla="*/ 93600 w 12240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rot="1330800">
                <a:off x="0" y="2041560"/>
                <a:ext cx="244440" cy="706680"/>
              </a:xfrm>
              <a:custGeom>
                <a:avLst/>
                <a:gdLst>
                  <a:gd name="textAreaLeft" fmla="*/ 57240 w 244440"/>
                  <a:gd name="textAreaRight" fmla="*/ 186840 w 244440"/>
                  <a:gd name="textAreaTop" fmla="*/ 82800 h 706680"/>
                  <a:gd name="textAreaBottom" fmla="*/ 443160 h 70668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rot="379200">
                <a:off x="676800" y="2285640"/>
                <a:ext cx="96840" cy="706680"/>
              </a:xfrm>
              <a:custGeom>
                <a:avLst/>
                <a:gdLst>
                  <a:gd name="textAreaLeft" fmla="*/ 22680 w 96840"/>
                  <a:gd name="textAreaRight" fmla="*/ 74160 w 96840"/>
                  <a:gd name="textAreaTop" fmla="*/ 82800 h 706680"/>
                  <a:gd name="textAreaBottom" fmla="*/ 443160 h 70668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rot="19691400">
                <a:off x="370800" y="4267080"/>
                <a:ext cx="61200" cy="706320"/>
              </a:xfrm>
              <a:custGeom>
                <a:avLst/>
                <a:gdLst>
                  <a:gd name="textAreaLeft" fmla="*/ 14400 w 61200"/>
                  <a:gd name="textAreaRight" fmla="*/ 46800 w 6120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rot="20752200">
                <a:off x="3240" y="761760"/>
                <a:ext cx="305640" cy="706320"/>
              </a:xfrm>
              <a:custGeom>
                <a:avLst/>
                <a:gdLst>
                  <a:gd name="textAreaLeft" fmla="*/ 71640 w 305640"/>
                  <a:gd name="textAreaRight" fmla="*/ 233640 w 30564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rot="21171600">
                <a:off x="185760" y="3353040"/>
                <a:ext cx="123120" cy="706320"/>
              </a:xfrm>
              <a:custGeom>
                <a:avLst/>
                <a:gdLst>
                  <a:gd name="textAreaLeft" fmla="*/ 28800 w 123120"/>
                  <a:gd name="textAreaRight" fmla="*/ 94320 w 12312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3" name=""/>
          <p:cNvGrpSpPr/>
          <p:nvPr/>
        </p:nvGrpSpPr>
        <p:grpSpPr>
          <a:xfrm>
            <a:off x="8153280" y="228600"/>
            <a:ext cx="990720" cy="1523880"/>
            <a:chOff x="8153280" y="228600"/>
            <a:chExt cx="990720" cy="1523880"/>
          </a:xfrm>
        </p:grpSpPr>
        <p:sp>
          <p:nvSpPr>
            <p:cNvPr id="444" name=""/>
            <p:cNvSpPr/>
            <p:nvPr/>
          </p:nvSpPr>
          <p:spPr>
            <a:xfrm>
              <a:off x="8153280" y="228600"/>
              <a:ext cx="990720" cy="15238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3c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305920" y="304920"/>
              <a:ext cx="685800" cy="129528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66ffff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3c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9900"/>
                  </a:solidFill>
                  <a:latin typeface="Times New Roman"/>
                  <a:ea typeface="华文楷体"/>
                </a:rPr>
                <a:t>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9900"/>
                  </a:solidFill>
                  <a:latin typeface="Times New Roman"/>
                  <a:ea typeface="华文楷体"/>
                </a:rPr>
                <a:t>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1745640" y="1143000"/>
            <a:ext cx="432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一个奇数相临的两个数（       ）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133720" y="155592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都是奇数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都是偶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一个是奇数，一个是偶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307120" y="1147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562760" y="2895480"/>
            <a:ext cx="34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个偶数的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       ）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525760" y="3352680"/>
            <a:ext cx="155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一定是偶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可能是偶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可能是奇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074120" y="2895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511720" y="4572000"/>
            <a:ext cx="300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何一个自然数都能被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       ）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859400" y="5146560"/>
            <a:ext cx="55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整除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除尽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除不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467680" y="4572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047600" y="581040"/>
            <a:ext cx="76212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ff00"/>
              </a:gs>
              <a:gs pos="100000">
                <a:srgbClr val="66ffff"/>
              </a:gs>
            </a:gsLst>
            <a:lin ang="135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选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2T08:32:17Z</dcterms:created>
  <dc:creator>yangjiuling</dc:creator>
  <dc:description/>
  <dc:language>en-US</dc:language>
  <cp:lastModifiedBy>番茄花园</cp:lastModifiedBy>
  <dcterms:modified xsi:type="dcterms:W3CDTF">2008-01-03T07:38:57Z</dcterms:modified>
  <cp:revision>140</cp:revision>
  <dc:subject/>
  <dc:title>PowerPoint 演示文稿</dc:title>
</cp:coreProperties>
</file>