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No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78B-8153-4E82-B12A-AD98D493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850-98EE-4E13-87A8-B101339C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EB0-593D-4245-B3B4-93AF979E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2B7-3E71-4512-B280-4C9856BA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AAB-F825-43A0-B962-0B0617C4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552-74C6-40E4-803B-12046022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648-19D3-477A-92C8-79618A26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8A7-5AF7-438B-ABD5-A313EF10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C31-C591-4CC4-8BFF-05870333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92F-8D6C-4DFB-A69B-0CF3A5C0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C0D-1C76-4341-AC0F-383985B5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C9A-32DF-4EE7-8DC3-A7E23BFE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C961-7983-4E51-A6D9-E3E51483B7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No.wav"/><Relationship Id="rId3" Type="http://schemas.openxmlformats.org/officeDocument/2006/relationships/audio" Target="../media/chimes.wav"/><Relationship Id="rId4" Type="http://schemas.openxmlformats.org/officeDocument/2006/relationships/audio" Target="../media/No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No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No.wav"/><Relationship Id="rId3" Type="http://schemas.openxmlformats.org/officeDocument/2006/relationships/audio" Target="../media/chimes.wav"/><Relationship Id="rId4" Type="http://schemas.openxmlformats.org/officeDocument/2006/relationships/audio" Target="../media/No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No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No.wav"/><Relationship Id="rId3" Type="http://schemas.openxmlformats.org/officeDocument/2006/relationships/audio" Target="../media/chimes.wav"/><Relationship Id="rId4" Type="http://schemas.openxmlformats.org/officeDocument/2006/relationships/audio" Target="../media/No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No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1280"/>
            <a:ext cx="9144000" cy="263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46836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197000"/>
            <a:ext cx="676764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能被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2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、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5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、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3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整除的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271620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人教版　小学数学第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56000" y="5853240"/>
            <a:ext cx="46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076720" y="3573360"/>
            <a:ext cx="3168720" cy="131292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观察：能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整除的数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1280"/>
            <a:ext cx="9144000" cy="263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46836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820000" y="6597720"/>
            <a:ext cx="324000" cy="32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85912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5×1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357336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5×2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29264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5×3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501336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5×4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573408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5×5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3586320"/>
            <a:ext cx="3168720" cy="1312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个位上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数，都能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整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6922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能被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整除的数（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的倍数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***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做一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4292280"/>
            <a:ext cx="8229600" cy="2405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既能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除又能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除的数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2                  24                 37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20               565               31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46              2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28640"/>
            <a:ext cx="8229600" cy="2405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的数能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整除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5        551         205        564        4570   7285          92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21765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60720" y="21049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21049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25639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20720" y="2681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5080" y="2060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56720" y="210492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5373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4360" y="5373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8000"/>
                            </p:stCondLst>
                            <p:childTnLst>
                              <p:par>
                                <p:cTn id="5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71280"/>
            <a:ext cx="9144000" cy="263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从上面的分析我们可以看出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46836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20000" y="6597720"/>
            <a:ext cx="324000" cy="32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276640"/>
            <a:ext cx="68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一个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的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倍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总能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这个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整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的倍数能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整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3716280"/>
            <a:ext cx="505080" cy="433440"/>
          </a:xfrm>
          <a:prstGeom prst="downArrow">
            <a:avLst>
              <a:gd name="adj1" fmla="val 42139"/>
              <a:gd name="adj2" fmla="val 28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414972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3</a:t>
            </a:r>
            <a:r>
              <a:rPr b="0" lang="zh-CN" sz="60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的倍数能被</a:t>
            </a:r>
            <a:r>
              <a:rPr b="0" lang="zh-CN" sz="60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3</a:t>
            </a:r>
            <a:r>
              <a:rPr b="0" lang="zh-CN" sz="60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整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5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77080" y="2637000"/>
            <a:ext cx="2016000" cy="1922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观察：能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整除的数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1280"/>
            <a:ext cx="9144000" cy="155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46836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20000" y="6597720"/>
            <a:ext cx="324000" cy="32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285912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3×1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350028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3×2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414972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3×3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79736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3×4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544500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3×15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80000" y="2637000"/>
            <a:ext cx="2629080" cy="2288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个数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各位上的数的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能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整除，这个数就能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整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2360" y="602136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3×26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7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4754520"/>
            <a:ext cx="1800000" cy="6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1+2=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5402160"/>
            <a:ext cx="1800000" cy="6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4+5=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6049800"/>
            <a:ext cx="1800000" cy="6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7+8=1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549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能被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整除的数（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的倍数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***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做一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3502080"/>
            <a:ext cx="8229600" cy="1295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既能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除又能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除的数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24                  324                 424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628640"/>
            <a:ext cx="8229600" cy="1800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的数能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整除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6        551         225        514        3570   7245          2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19280" y="21765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0720" y="21049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0720" y="21049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25639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20720" y="2681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5080" y="2060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56720" y="210492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16360" y="4076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4870440"/>
            <a:ext cx="8229600" cy="172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既能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除又能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除的数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15                  315                 415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59280" y="5373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000"/>
                            </p:stCondLst>
                            <p:childTnLst>
                              <p:par>
                                <p:cTn id="6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9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4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71280"/>
            <a:ext cx="9144000" cy="155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46836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820000" y="6597720"/>
            <a:ext cx="324000" cy="32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734080"/>
            <a:ext cx="914400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数的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各位上的数的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能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整除，这个数就能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整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4428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429000"/>
            <a:ext cx="9144000" cy="581400"/>
          </a:xfrm>
          <a:prstGeom prst="rect">
            <a:avLst/>
          </a:prstGeom>
          <a:solidFill>
            <a:srgbClr val="ffffcc"/>
          </a:solidFill>
          <a:ln w="3240">
            <a:solidFill>
              <a:srgbClr val="ff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个位上是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8…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数，都能被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00280"/>
            <a:ext cx="9144000" cy="106884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57240">
            <a:solidFill>
              <a:srgbClr val="ff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能被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整除的数叫做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偶数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(0 2 4 6 8……)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；不能被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整除的数叫做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奇数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(1 3 5 7 9……)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581360"/>
            <a:ext cx="914400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位上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数，都能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整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78136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能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整除的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0" y="400536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能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整除的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920" y="515772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能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整除的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05264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奇数和偶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280"/>
            <a:ext cx="9144000" cy="263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　　什么情况下我们说数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能被数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整除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什么是约数？什么是倍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46836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0000" y="6597720"/>
            <a:ext cx="324000" cy="32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2997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整除的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305748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被除数：必须是整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3705120"/>
            <a:ext cx="54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除数：必须是整数，不能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42242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商：必须是整数，没有余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08464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果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能被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整除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就叫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倍数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就叫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约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280"/>
            <a:ext cx="9144000" cy="263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　　说出几个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的倍数。这些数都能被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整除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46836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0000" y="6597720"/>
            <a:ext cx="324000" cy="32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2997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倍数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2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21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2181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这些数都能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整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2261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也就是说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倍数能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整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71280"/>
            <a:ext cx="9144000" cy="263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　　说出几个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的倍数。这些数都能被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整除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6836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0000" y="6597720"/>
            <a:ext cx="324000" cy="32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299736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倍数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5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1240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2181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这些数都能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整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2261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也就是５的倍数能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整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71280"/>
            <a:ext cx="9144000" cy="263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从上面的分析我们可以看出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46836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6597720"/>
            <a:ext cx="324000" cy="32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2276640"/>
            <a:ext cx="68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一个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的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倍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总能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这个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整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的倍数能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整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3716280"/>
            <a:ext cx="505080" cy="433440"/>
          </a:xfrm>
          <a:prstGeom prst="downArrow">
            <a:avLst>
              <a:gd name="adj1" fmla="val 42139"/>
              <a:gd name="adj2" fmla="val 28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414972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2</a:t>
            </a:r>
            <a:r>
              <a:rPr b="0" lang="zh-CN" sz="60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的倍数能被</a:t>
            </a:r>
            <a:r>
              <a:rPr b="0" lang="zh-CN" sz="60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2</a:t>
            </a:r>
            <a:r>
              <a:rPr b="0" lang="zh-CN" sz="60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整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71280"/>
            <a:ext cx="9144000" cy="263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46836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820000" y="6597720"/>
            <a:ext cx="324000" cy="32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6922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能被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整除的数（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的倍数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85912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×1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357336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×2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429264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×3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01336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×4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573408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×5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06920" y="2930400"/>
            <a:ext cx="4464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</a:rPr>
              <a:t>2×6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06920" y="364500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×7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06920" y="436392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×8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06920" y="508464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×9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06920" y="580536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倍：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×10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71280"/>
            <a:ext cx="91440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46836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12360" y="6418440"/>
            <a:ext cx="323640" cy="32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1305000"/>
            <a:ext cx="792360" cy="56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1484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观察规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2349360"/>
            <a:ext cx="6480360" cy="119124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57240">
            <a:solidFill>
              <a:srgbClr val="ff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个位上是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8…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的数，都能被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789360"/>
            <a:ext cx="6480360" cy="6426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57240">
            <a:solidFill>
              <a:srgbClr val="ff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能被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整除的数叫做偶数；不能被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整除的数叫做奇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8000" y="5205240"/>
            <a:ext cx="6480360" cy="13230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57240">
            <a:solidFill>
              <a:srgbClr val="ff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0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偶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1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奇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04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能被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整除的数（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的倍数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***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做一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的数哪些是偶数？哪些是奇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2                  24                 37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28               567               31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46              2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076640"/>
            <a:ext cx="8229600" cy="2405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的数能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除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13        25          24        565        4578   78          92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2060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偶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4653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45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2781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偶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3357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偶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2133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偶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84720" y="2708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奇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3357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奇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7080" y="2133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奇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20000" y="2708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奇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45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508464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5157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465300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85080" y="4581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1280"/>
            <a:ext cx="9144000" cy="263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从上面的分析我们可以看出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46836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0000" y="6597720"/>
            <a:ext cx="324000" cy="32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276640"/>
            <a:ext cx="68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一个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的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倍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总能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这个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整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的倍数能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整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3716280"/>
            <a:ext cx="505080" cy="433440"/>
          </a:xfrm>
          <a:prstGeom prst="downArrow">
            <a:avLst>
              <a:gd name="adj1" fmla="val 42139"/>
              <a:gd name="adj2" fmla="val 28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14972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5</a:t>
            </a:r>
            <a:r>
              <a:rPr b="0" lang="zh-CN" sz="60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的倍数能被</a:t>
            </a:r>
            <a:r>
              <a:rPr b="0" lang="zh-CN" sz="60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5</a:t>
            </a:r>
            <a:r>
              <a:rPr b="0" lang="zh-CN" sz="60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整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1:44:34Z</dcterms:created>
  <dc:creator>电子阅览室</dc:creator>
  <dc:description/>
  <dc:language>en-US</dc:language>
  <cp:lastModifiedBy>Dingdong</cp:lastModifiedBy>
  <dcterms:modified xsi:type="dcterms:W3CDTF">2007-12-10T09:46:27Z</dcterms:modified>
  <cp:revision>20</cp:revision>
  <dc:subject/>
  <dc:title>幻灯片 1</dc:title>
</cp:coreProperties>
</file>