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76320" y="5638680"/>
            <a:ext cx="1866960" cy="1066680"/>
            <a:chOff x="76320" y="5638680"/>
            <a:chExt cx="1866960" cy="1066680"/>
          </a:xfrm>
        </p:grpSpPr>
        <p:sp>
          <p:nvSpPr>
            <p:cNvPr id="2" name=""/>
            <p:cNvSpPr/>
            <p:nvPr/>
          </p:nvSpPr>
          <p:spPr>
            <a:xfrm rot="5400000">
              <a:off x="1181160" y="50670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5400000">
              <a:off x="952560" y="52956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5400000">
              <a:off x="647640" y="55242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5400000">
              <a:off x="952560" y="57528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5400000">
              <a:off x="1181160" y="594324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-124560" y="380880"/>
            <a:ext cx="1366560" cy="4608360"/>
            <a:chOff x="-124560" y="380880"/>
            <a:chExt cx="1366560" cy="4608360"/>
          </a:xfrm>
        </p:grpSpPr>
        <p:sp>
          <p:nvSpPr>
            <p:cNvPr id="9" name=""/>
            <p:cNvSpPr/>
            <p:nvPr/>
          </p:nvSpPr>
          <p:spPr>
            <a:xfrm>
              <a:off x="400320" y="395280"/>
              <a:ext cx="379800" cy="4176720"/>
            </a:xfrm>
            <a:custGeom>
              <a:avLst/>
              <a:gdLst/>
              <a:ahLst/>
              <a:rect l="l" t="t" r="r" b="b"/>
              <a:pathLst>
                <a:path w="298" h="2631">
                  <a:moveTo>
                    <a:pt x="79" y="0"/>
                  </a:moveTo>
                  <a:cubicBezTo>
                    <a:pt x="75" y="26"/>
                    <a:pt x="71" y="52"/>
                    <a:pt x="66" y="78"/>
                  </a:cubicBezTo>
                  <a:cubicBezTo>
                    <a:pt x="57" y="126"/>
                    <a:pt x="39" y="222"/>
                    <a:pt x="39" y="222"/>
                  </a:cubicBezTo>
                  <a:cubicBezTo>
                    <a:pt x="48" y="433"/>
                    <a:pt x="28" y="548"/>
                    <a:pt x="131" y="707"/>
                  </a:cubicBezTo>
                  <a:cubicBezTo>
                    <a:pt x="145" y="763"/>
                    <a:pt x="171" y="800"/>
                    <a:pt x="197" y="851"/>
                  </a:cubicBezTo>
                  <a:cubicBezTo>
                    <a:pt x="210" y="902"/>
                    <a:pt x="235" y="944"/>
                    <a:pt x="249" y="995"/>
                  </a:cubicBezTo>
                  <a:cubicBezTo>
                    <a:pt x="258" y="1029"/>
                    <a:pt x="275" y="1099"/>
                    <a:pt x="275" y="1099"/>
                  </a:cubicBezTo>
                  <a:cubicBezTo>
                    <a:pt x="269" y="1235"/>
                    <a:pt x="298" y="1513"/>
                    <a:pt x="170" y="1636"/>
                  </a:cubicBezTo>
                  <a:cubicBezTo>
                    <a:pt x="129" y="1718"/>
                    <a:pt x="77" y="1796"/>
                    <a:pt x="26" y="1872"/>
                  </a:cubicBezTo>
                  <a:cubicBezTo>
                    <a:pt x="21" y="1893"/>
                    <a:pt x="0" y="1972"/>
                    <a:pt x="0" y="1990"/>
                  </a:cubicBezTo>
                  <a:cubicBezTo>
                    <a:pt x="0" y="2147"/>
                    <a:pt x="74" y="2237"/>
                    <a:pt x="197" y="2317"/>
                  </a:cubicBezTo>
                  <a:cubicBezTo>
                    <a:pt x="206" y="2343"/>
                    <a:pt x="214" y="2369"/>
                    <a:pt x="223" y="2395"/>
                  </a:cubicBezTo>
                  <a:cubicBezTo>
                    <a:pt x="227" y="2408"/>
                    <a:pt x="232" y="2422"/>
                    <a:pt x="236" y="2435"/>
                  </a:cubicBezTo>
                  <a:cubicBezTo>
                    <a:pt x="240" y="2448"/>
                    <a:pt x="249" y="2474"/>
                    <a:pt x="249" y="2474"/>
                  </a:cubicBezTo>
                  <a:cubicBezTo>
                    <a:pt x="263" y="2615"/>
                    <a:pt x="242" y="2566"/>
                    <a:pt x="275" y="26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01280" y="1890720"/>
              <a:ext cx="517680" cy="811080"/>
            </a:xfrm>
            <a:custGeom>
              <a:avLst/>
              <a:gdLst/>
              <a:ahLst/>
              <a:rect l="l" t="t" r="r" b="b"/>
              <a:pathLst>
                <a:path w="406" h="511">
                  <a:moveTo>
                    <a:pt x="0" y="0"/>
                  </a:moveTo>
                  <a:cubicBezTo>
                    <a:pt x="105" y="35"/>
                    <a:pt x="108" y="47"/>
                    <a:pt x="183" y="131"/>
                  </a:cubicBezTo>
                  <a:cubicBezTo>
                    <a:pt x="204" y="154"/>
                    <a:pt x="249" y="197"/>
                    <a:pt x="249" y="197"/>
                  </a:cubicBezTo>
                  <a:cubicBezTo>
                    <a:pt x="280" y="290"/>
                    <a:pt x="260" y="252"/>
                    <a:pt x="301" y="314"/>
                  </a:cubicBezTo>
                  <a:cubicBezTo>
                    <a:pt x="333" y="411"/>
                    <a:pt x="335" y="440"/>
                    <a:pt x="406" y="5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1520" y="380880"/>
              <a:ext cx="272520" cy="3948120"/>
            </a:xfrm>
            <a:custGeom>
              <a:avLst/>
              <a:gdLst/>
              <a:ahLst/>
              <a:rect l="l" t="t" r="r" b="b"/>
              <a:pathLst>
                <a:path w="214" h="2487">
                  <a:moveTo>
                    <a:pt x="135" y="0"/>
                  </a:moveTo>
                  <a:cubicBezTo>
                    <a:pt x="120" y="59"/>
                    <a:pt x="95" y="97"/>
                    <a:pt x="83" y="157"/>
                  </a:cubicBezTo>
                  <a:cubicBezTo>
                    <a:pt x="90" y="299"/>
                    <a:pt x="88" y="438"/>
                    <a:pt x="122" y="576"/>
                  </a:cubicBezTo>
                  <a:cubicBezTo>
                    <a:pt x="149" y="874"/>
                    <a:pt x="152" y="1167"/>
                    <a:pt x="135" y="1466"/>
                  </a:cubicBezTo>
                  <a:cubicBezTo>
                    <a:pt x="131" y="1527"/>
                    <a:pt x="94" y="1583"/>
                    <a:pt x="70" y="1636"/>
                  </a:cubicBezTo>
                  <a:cubicBezTo>
                    <a:pt x="59" y="1661"/>
                    <a:pt x="52" y="1689"/>
                    <a:pt x="43" y="1715"/>
                  </a:cubicBezTo>
                  <a:cubicBezTo>
                    <a:pt x="39" y="1728"/>
                    <a:pt x="30" y="1754"/>
                    <a:pt x="30" y="1754"/>
                  </a:cubicBezTo>
                  <a:cubicBezTo>
                    <a:pt x="0" y="1938"/>
                    <a:pt x="8" y="1668"/>
                    <a:pt x="30" y="1999"/>
                  </a:cubicBezTo>
                  <a:cubicBezTo>
                    <a:pt x="33" y="2042"/>
                    <a:pt x="53" y="2275"/>
                    <a:pt x="83" y="2304"/>
                  </a:cubicBezTo>
                  <a:cubicBezTo>
                    <a:pt x="87" y="2317"/>
                    <a:pt x="88" y="2332"/>
                    <a:pt x="96" y="2343"/>
                  </a:cubicBezTo>
                  <a:cubicBezTo>
                    <a:pt x="119" y="2372"/>
                    <a:pt x="174" y="2422"/>
                    <a:pt x="174" y="2422"/>
                  </a:cubicBezTo>
                  <a:cubicBezTo>
                    <a:pt x="178" y="2435"/>
                    <a:pt x="180" y="2449"/>
                    <a:pt x="187" y="2461"/>
                  </a:cubicBezTo>
                  <a:cubicBezTo>
                    <a:pt x="194" y="2472"/>
                    <a:pt x="214" y="2487"/>
                    <a:pt x="214" y="24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-124560" y="735480"/>
              <a:ext cx="1366560" cy="4253760"/>
              <a:chOff x="-124560" y="735480"/>
              <a:chExt cx="1366560" cy="4253760"/>
            </a:xfrm>
          </p:grpSpPr>
          <p:sp>
            <p:nvSpPr>
              <p:cNvPr id="13" name=""/>
              <p:cNvSpPr/>
              <p:nvPr/>
            </p:nvSpPr>
            <p:spPr>
              <a:xfrm>
                <a:off x="170640" y="2051280"/>
                <a:ext cx="150120" cy="1641240"/>
              </a:xfrm>
              <a:custGeom>
                <a:avLst/>
                <a:gdLst/>
                <a:ahLst/>
                <a:rect l="l" t="t" r="r" b="b"/>
                <a:pathLst>
                  <a:path w="118" h="1034">
                    <a:moveTo>
                      <a:pt x="13" y="0"/>
                    </a:moveTo>
                    <a:cubicBezTo>
                      <a:pt x="37" y="73"/>
                      <a:pt x="59" y="147"/>
                      <a:pt x="78" y="222"/>
                    </a:cubicBezTo>
                    <a:cubicBezTo>
                      <a:pt x="63" y="455"/>
                      <a:pt x="81" y="355"/>
                      <a:pt x="39" y="523"/>
                    </a:cubicBezTo>
                    <a:cubicBezTo>
                      <a:pt x="32" y="550"/>
                      <a:pt x="22" y="576"/>
                      <a:pt x="13" y="602"/>
                    </a:cubicBezTo>
                    <a:cubicBezTo>
                      <a:pt x="9" y="615"/>
                      <a:pt x="0" y="641"/>
                      <a:pt x="0" y="641"/>
                    </a:cubicBezTo>
                    <a:cubicBezTo>
                      <a:pt x="8" y="736"/>
                      <a:pt x="6" y="783"/>
                      <a:pt x="26" y="864"/>
                    </a:cubicBezTo>
                    <a:cubicBezTo>
                      <a:pt x="37" y="907"/>
                      <a:pt x="92" y="981"/>
                      <a:pt x="92" y="981"/>
                    </a:cubicBezTo>
                    <a:cubicBezTo>
                      <a:pt x="107" y="1027"/>
                      <a:pt x="95" y="1011"/>
                      <a:pt x="118" y="10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rot="19818600">
                <a:off x="884520" y="2010960"/>
                <a:ext cx="195120" cy="706680"/>
              </a:xfrm>
              <a:custGeom>
                <a:avLst/>
                <a:gdLst>
                  <a:gd name="textAreaLeft" fmla="*/ 45720 w 195120"/>
                  <a:gd name="textAreaRight" fmla="*/ 149400 w 19512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rot="19818600">
                <a:off x="496800" y="3070080"/>
                <a:ext cx="122040" cy="706320"/>
              </a:xfrm>
              <a:custGeom>
                <a:avLst/>
                <a:gdLst>
                  <a:gd name="textAreaLeft" fmla="*/ 28440 w 122040"/>
                  <a:gd name="textAreaRight" fmla="*/ 93240 w 1220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 rot="663000">
                <a:off x="432000" y="1447920"/>
                <a:ext cx="84960" cy="705960"/>
              </a:xfrm>
              <a:custGeom>
                <a:avLst/>
                <a:gdLst>
                  <a:gd name="textAreaLeft" fmla="*/ 19800 w 84960"/>
                  <a:gd name="textAreaRight" fmla="*/ 65160 w 84960"/>
                  <a:gd name="textAreaTop" fmla="*/ 82800 h 705960"/>
                  <a:gd name="textAreaBottom" fmla="*/ 442800 h 70596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20752200">
                <a:off x="676800" y="4278240"/>
                <a:ext cx="122400" cy="706320"/>
              </a:xfrm>
              <a:custGeom>
                <a:avLst/>
                <a:gdLst>
                  <a:gd name="textAreaLeft" fmla="*/ 28800 w 122400"/>
                  <a:gd name="textAreaRight" fmla="*/ 93600 w 1224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1330800">
                <a:off x="0" y="2041560"/>
                <a:ext cx="244440" cy="706680"/>
              </a:xfrm>
              <a:custGeom>
                <a:avLst/>
                <a:gdLst>
                  <a:gd name="textAreaLeft" fmla="*/ 57240 w 244440"/>
                  <a:gd name="textAreaRight" fmla="*/ 186840 w 2444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379200">
                <a:off x="676800" y="2285640"/>
                <a:ext cx="96840" cy="706680"/>
              </a:xfrm>
              <a:custGeom>
                <a:avLst/>
                <a:gdLst>
                  <a:gd name="textAreaLeft" fmla="*/ 22680 w 96840"/>
                  <a:gd name="textAreaRight" fmla="*/ 74160 w 968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19691400">
                <a:off x="370800" y="4267080"/>
                <a:ext cx="61200" cy="706320"/>
              </a:xfrm>
              <a:custGeom>
                <a:avLst/>
                <a:gdLst>
                  <a:gd name="textAreaLeft" fmla="*/ 14400 w 61200"/>
                  <a:gd name="textAreaRight" fmla="*/ 46800 w 612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20752200">
                <a:off x="3240" y="761760"/>
                <a:ext cx="305640" cy="706320"/>
              </a:xfrm>
              <a:custGeom>
                <a:avLst/>
                <a:gdLst>
                  <a:gd name="textAreaLeft" fmla="*/ 71640 w 305640"/>
                  <a:gd name="textAreaRight" fmla="*/ 233640 w 3056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21171600">
                <a:off x="185760" y="3353040"/>
                <a:ext cx="123120" cy="706320"/>
              </a:xfrm>
              <a:custGeom>
                <a:avLst/>
                <a:gdLst>
                  <a:gd name="textAreaLeft" fmla="*/ 28800 w 123120"/>
                  <a:gd name="textAreaRight" fmla="*/ 94320 w 12312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" name=""/>
          <p:cNvGrpSpPr/>
          <p:nvPr/>
        </p:nvGrpSpPr>
        <p:grpSpPr>
          <a:xfrm>
            <a:off x="8153280" y="228600"/>
            <a:ext cx="990720" cy="1523880"/>
            <a:chOff x="8153280" y="228600"/>
            <a:chExt cx="990720" cy="1523880"/>
          </a:xfrm>
        </p:grpSpPr>
        <p:sp>
          <p:nvSpPr>
            <p:cNvPr id="24" name=""/>
            <p:cNvSpPr/>
            <p:nvPr/>
          </p:nvSpPr>
          <p:spPr>
            <a:xfrm>
              <a:off x="8153280" y="228600"/>
              <a:ext cx="990720" cy="1523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305920" y="304920"/>
              <a:ext cx="685800" cy="129528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66ffff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3c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6320" y="5638680"/>
            <a:ext cx="1866960" cy="1066680"/>
            <a:chOff x="76320" y="5638680"/>
            <a:chExt cx="1866960" cy="1066680"/>
          </a:xfrm>
        </p:grpSpPr>
        <p:sp>
          <p:nvSpPr>
            <p:cNvPr id="64" name=""/>
            <p:cNvSpPr/>
            <p:nvPr/>
          </p:nvSpPr>
          <p:spPr>
            <a:xfrm rot="5400000">
              <a:off x="1181160" y="50670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5400000">
              <a:off x="952560" y="52956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5400000">
              <a:off x="647640" y="55242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5400000">
              <a:off x="952560" y="57528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5400000">
              <a:off x="1181160" y="594324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-124560" y="380880"/>
            <a:ext cx="1366560" cy="4608360"/>
            <a:chOff x="-124560" y="380880"/>
            <a:chExt cx="1366560" cy="4608360"/>
          </a:xfrm>
        </p:grpSpPr>
        <p:sp>
          <p:nvSpPr>
            <p:cNvPr id="71" name=""/>
            <p:cNvSpPr/>
            <p:nvPr/>
          </p:nvSpPr>
          <p:spPr>
            <a:xfrm>
              <a:off x="400320" y="395280"/>
              <a:ext cx="379800" cy="4176720"/>
            </a:xfrm>
            <a:custGeom>
              <a:avLst/>
              <a:gdLst/>
              <a:ahLst/>
              <a:rect l="l" t="t" r="r" b="b"/>
              <a:pathLst>
                <a:path w="298" h="2631">
                  <a:moveTo>
                    <a:pt x="79" y="0"/>
                  </a:moveTo>
                  <a:cubicBezTo>
                    <a:pt x="75" y="26"/>
                    <a:pt x="71" y="52"/>
                    <a:pt x="66" y="78"/>
                  </a:cubicBezTo>
                  <a:cubicBezTo>
                    <a:pt x="57" y="126"/>
                    <a:pt x="39" y="222"/>
                    <a:pt x="39" y="222"/>
                  </a:cubicBezTo>
                  <a:cubicBezTo>
                    <a:pt x="48" y="433"/>
                    <a:pt x="28" y="548"/>
                    <a:pt x="131" y="707"/>
                  </a:cubicBezTo>
                  <a:cubicBezTo>
                    <a:pt x="145" y="763"/>
                    <a:pt x="171" y="800"/>
                    <a:pt x="197" y="851"/>
                  </a:cubicBezTo>
                  <a:cubicBezTo>
                    <a:pt x="210" y="902"/>
                    <a:pt x="235" y="944"/>
                    <a:pt x="249" y="995"/>
                  </a:cubicBezTo>
                  <a:cubicBezTo>
                    <a:pt x="258" y="1029"/>
                    <a:pt x="275" y="1099"/>
                    <a:pt x="275" y="1099"/>
                  </a:cubicBezTo>
                  <a:cubicBezTo>
                    <a:pt x="269" y="1235"/>
                    <a:pt x="298" y="1513"/>
                    <a:pt x="170" y="1636"/>
                  </a:cubicBezTo>
                  <a:cubicBezTo>
                    <a:pt x="129" y="1718"/>
                    <a:pt x="77" y="1796"/>
                    <a:pt x="26" y="1872"/>
                  </a:cubicBezTo>
                  <a:cubicBezTo>
                    <a:pt x="21" y="1893"/>
                    <a:pt x="0" y="1972"/>
                    <a:pt x="0" y="1990"/>
                  </a:cubicBezTo>
                  <a:cubicBezTo>
                    <a:pt x="0" y="2147"/>
                    <a:pt x="74" y="2237"/>
                    <a:pt x="197" y="2317"/>
                  </a:cubicBezTo>
                  <a:cubicBezTo>
                    <a:pt x="206" y="2343"/>
                    <a:pt x="214" y="2369"/>
                    <a:pt x="223" y="2395"/>
                  </a:cubicBezTo>
                  <a:cubicBezTo>
                    <a:pt x="227" y="2408"/>
                    <a:pt x="232" y="2422"/>
                    <a:pt x="236" y="2435"/>
                  </a:cubicBezTo>
                  <a:cubicBezTo>
                    <a:pt x="240" y="2448"/>
                    <a:pt x="249" y="2474"/>
                    <a:pt x="249" y="2474"/>
                  </a:cubicBezTo>
                  <a:cubicBezTo>
                    <a:pt x="263" y="2615"/>
                    <a:pt x="242" y="2566"/>
                    <a:pt x="275" y="26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01280" y="1890720"/>
              <a:ext cx="517680" cy="811080"/>
            </a:xfrm>
            <a:custGeom>
              <a:avLst/>
              <a:gdLst/>
              <a:ahLst/>
              <a:rect l="l" t="t" r="r" b="b"/>
              <a:pathLst>
                <a:path w="406" h="511">
                  <a:moveTo>
                    <a:pt x="0" y="0"/>
                  </a:moveTo>
                  <a:cubicBezTo>
                    <a:pt x="105" y="35"/>
                    <a:pt x="108" y="47"/>
                    <a:pt x="183" y="131"/>
                  </a:cubicBezTo>
                  <a:cubicBezTo>
                    <a:pt x="204" y="154"/>
                    <a:pt x="249" y="197"/>
                    <a:pt x="249" y="197"/>
                  </a:cubicBezTo>
                  <a:cubicBezTo>
                    <a:pt x="280" y="290"/>
                    <a:pt x="260" y="252"/>
                    <a:pt x="301" y="314"/>
                  </a:cubicBezTo>
                  <a:cubicBezTo>
                    <a:pt x="333" y="411"/>
                    <a:pt x="335" y="440"/>
                    <a:pt x="406" y="5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520" y="380880"/>
              <a:ext cx="272520" cy="3948120"/>
            </a:xfrm>
            <a:custGeom>
              <a:avLst/>
              <a:gdLst/>
              <a:ahLst/>
              <a:rect l="l" t="t" r="r" b="b"/>
              <a:pathLst>
                <a:path w="214" h="2487">
                  <a:moveTo>
                    <a:pt x="135" y="0"/>
                  </a:moveTo>
                  <a:cubicBezTo>
                    <a:pt x="120" y="59"/>
                    <a:pt x="95" y="97"/>
                    <a:pt x="83" y="157"/>
                  </a:cubicBezTo>
                  <a:cubicBezTo>
                    <a:pt x="90" y="299"/>
                    <a:pt x="88" y="438"/>
                    <a:pt x="122" y="576"/>
                  </a:cubicBezTo>
                  <a:cubicBezTo>
                    <a:pt x="149" y="874"/>
                    <a:pt x="152" y="1167"/>
                    <a:pt x="135" y="1466"/>
                  </a:cubicBezTo>
                  <a:cubicBezTo>
                    <a:pt x="131" y="1527"/>
                    <a:pt x="94" y="1583"/>
                    <a:pt x="70" y="1636"/>
                  </a:cubicBezTo>
                  <a:cubicBezTo>
                    <a:pt x="59" y="1661"/>
                    <a:pt x="52" y="1689"/>
                    <a:pt x="43" y="1715"/>
                  </a:cubicBezTo>
                  <a:cubicBezTo>
                    <a:pt x="39" y="1728"/>
                    <a:pt x="30" y="1754"/>
                    <a:pt x="30" y="1754"/>
                  </a:cubicBezTo>
                  <a:cubicBezTo>
                    <a:pt x="0" y="1938"/>
                    <a:pt x="8" y="1668"/>
                    <a:pt x="30" y="1999"/>
                  </a:cubicBezTo>
                  <a:cubicBezTo>
                    <a:pt x="33" y="2042"/>
                    <a:pt x="53" y="2275"/>
                    <a:pt x="83" y="2304"/>
                  </a:cubicBezTo>
                  <a:cubicBezTo>
                    <a:pt x="87" y="2317"/>
                    <a:pt x="88" y="2332"/>
                    <a:pt x="96" y="2343"/>
                  </a:cubicBezTo>
                  <a:cubicBezTo>
                    <a:pt x="119" y="2372"/>
                    <a:pt x="174" y="2422"/>
                    <a:pt x="174" y="2422"/>
                  </a:cubicBezTo>
                  <a:cubicBezTo>
                    <a:pt x="178" y="2435"/>
                    <a:pt x="180" y="2449"/>
                    <a:pt x="187" y="2461"/>
                  </a:cubicBezTo>
                  <a:cubicBezTo>
                    <a:pt x="194" y="2472"/>
                    <a:pt x="214" y="2487"/>
                    <a:pt x="214" y="24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-124560" y="735480"/>
              <a:ext cx="1366560" cy="4253760"/>
              <a:chOff x="-124560" y="735480"/>
              <a:chExt cx="1366560" cy="4253760"/>
            </a:xfrm>
          </p:grpSpPr>
          <p:sp>
            <p:nvSpPr>
              <p:cNvPr id="75" name=""/>
              <p:cNvSpPr/>
              <p:nvPr/>
            </p:nvSpPr>
            <p:spPr>
              <a:xfrm>
                <a:off x="170640" y="2051280"/>
                <a:ext cx="150120" cy="1641240"/>
              </a:xfrm>
              <a:custGeom>
                <a:avLst/>
                <a:gdLst/>
                <a:ahLst/>
                <a:rect l="l" t="t" r="r" b="b"/>
                <a:pathLst>
                  <a:path w="118" h="1034">
                    <a:moveTo>
                      <a:pt x="13" y="0"/>
                    </a:moveTo>
                    <a:cubicBezTo>
                      <a:pt x="37" y="73"/>
                      <a:pt x="59" y="147"/>
                      <a:pt x="78" y="222"/>
                    </a:cubicBezTo>
                    <a:cubicBezTo>
                      <a:pt x="63" y="455"/>
                      <a:pt x="81" y="355"/>
                      <a:pt x="39" y="523"/>
                    </a:cubicBezTo>
                    <a:cubicBezTo>
                      <a:pt x="32" y="550"/>
                      <a:pt x="22" y="576"/>
                      <a:pt x="13" y="602"/>
                    </a:cubicBezTo>
                    <a:cubicBezTo>
                      <a:pt x="9" y="615"/>
                      <a:pt x="0" y="641"/>
                      <a:pt x="0" y="641"/>
                    </a:cubicBezTo>
                    <a:cubicBezTo>
                      <a:pt x="8" y="736"/>
                      <a:pt x="6" y="783"/>
                      <a:pt x="26" y="864"/>
                    </a:cubicBezTo>
                    <a:cubicBezTo>
                      <a:pt x="37" y="907"/>
                      <a:pt x="92" y="981"/>
                      <a:pt x="92" y="981"/>
                    </a:cubicBezTo>
                    <a:cubicBezTo>
                      <a:pt x="107" y="1027"/>
                      <a:pt x="95" y="1011"/>
                      <a:pt x="118" y="10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818600">
                <a:off x="884520" y="2010960"/>
                <a:ext cx="195120" cy="706680"/>
              </a:xfrm>
              <a:custGeom>
                <a:avLst/>
                <a:gdLst>
                  <a:gd name="textAreaLeft" fmla="*/ 45720 w 195120"/>
                  <a:gd name="textAreaRight" fmla="*/ 149400 w 19512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818600">
                <a:off x="496800" y="3070080"/>
                <a:ext cx="122040" cy="706320"/>
              </a:xfrm>
              <a:custGeom>
                <a:avLst/>
                <a:gdLst>
                  <a:gd name="textAreaLeft" fmla="*/ 28440 w 122040"/>
                  <a:gd name="textAreaRight" fmla="*/ 93240 w 1220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663000">
                <a:off x="432000" y="1447920"/>
                <a:ext cx="84960" cy="705960"/>
              </a:xfrm>
              <a:custGeom>
                <a:avLst/>
                <a:gdLst>
                  <a:gd name="textAreaLeft" fmla="*/ 19800 w 84960"/>
                  <a:gd name="textAreaRight" fmla="*/ 65160 w 84960"/>
                  <a:gd name="textAreaTop" fmla="*/ 82800 h 705960"/>
                  <a:gd name="textAreaBottom" fmla="*/ 442800 h 70596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20752200">
                <a:off x="676800" y="4278240"/>
                <a:ext cx="122400" cy="706320"/>
              </a:xfrm>
              <a:custGeom>
                <a:avLst/>
                <a:gdLst>
                  <a:gd name="textAreaLeft" fmla="*/ 28800 w 122400"/>
                  <a:gd name="textAreaRight" fmla="*/ 93600 w 1224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1330800">
                <a:off x="0" y="2041560"/>
                <a:ext cx="244440" cy="706680"/>
              </a:xfrm>
              <a:custGeom>
                <a:avLst/>
                <a:gdLst>
                  <a:gd name="textAreaLeft" fmla="*/ 57240 w 244440"/>
                  <a:gd name="textAreaRight" fmla="*/ 186840 w 2444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379200">
                <a:off x="676800" y="2285640"/>
                <a:ext cx="96840" cy="706680"/>
              </a:xfrm>
              <a:custGeom>
                <a:avLst/>
                <a:gdLst>
                  <a:gd name="textAreaLeft" fmla="*/ 22680 w 96840"/>
                  <a:gd name="textAreaRight" fmla="*/ 74160 w 968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9691400">
                <a:off x="370800" y="4267080"/>
                <a:ext cx="61200" cy="706320"/>
              </a:xfrm>
              <a:custGeom>
                <a:avLst/>
                <a:gdLst>
                  <a:gd name="textAreaLeft" fmla="*/ 14400 w 61200"/>
                  <a:gd name="textAreaRight" fmla="*/ 46800 w 612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20752200">
                <a:off x="3240" y="761760"/>
                <a:ext cx="305640" cy="706320"/>
              </a:xfrm>
              <a:custGeom>
                <a:avLst/>
                <a:gdLst>
                  <a:gd name="textAreaLeft" fmla="*/ 71640 w 305640"/>
                  <a:gd name="textAreaRight" fmla="*/ 233640 w 3056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21171600">
                <a:off x="185760" y="3353040"/>
                <a:ext cx="123120" cy="706320"/>
              </a:xfrm>
              <a:custGeom>
                <a:avLst/>
                <a:gdLst>
                  <a:gd name="textAreaLeft" fmla="*/ 28800 w 123120"/>
                  <a:gd name="textAreaRight" fmla="*/ 94320 w 12312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8153280" y="228600"/>
            <a:ext cx="990720" cy="1523880"/>
            <a:chOff x="8153280" y="228600"/>
            <a:chExt cx="990720" cy="1523880"/>
          </a:xfrm>
        </p:grpSpPr>
        <p:sp>
          <p:nvSpPr>
            <p:cNvPr id="86" name=""/>
            <p:cNvSpPr/>
            <p:nvPr/>
          </p:nvSpPr>
          <p:spPr>
            <a:xfrm>
              <a:off x="8153280" y="228600"/>
              <a:ext cx="990720" cy="15238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05920" y="304920"/>
              <a:ext cx="685800" cy="129528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66ffff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3c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2362320" y="2362320"/>
            <a:ext cx="5028840" cy="1371240"/>
            <a:chOff x="2362320" y="2362320"/>
            <a:chExt cx="5028840" cy="1371240"/>
          </a:xfrm>
        </p:grpSpPr>
        <p:sp>
          <p:nvSpPr>
            <p:cNvPr id="89" name=""/>
            <p:cNvSpPr/>
            <p:nvPr/>
          </p:nvSpPr>
          <p:spPr>
            <a:xfrm>
              <a:off x="2601720" y="2499120"/>
              <a:ext cx="4629600" cy="10972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62320" y="3459240"/>
              <a:ext cx="318960" cy="2743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362320" y="2362320"/>
              <a:ext cx="318960" cy="2739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71840" y="3459240"/>
              <a:ext cx="319320" cy="2743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71840" y="2362320"/>
              <a:ext cx="319320" cy="2739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81280" y="2430360"/>
              <a:ext cx="43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21800" y="2636280"/>
              <a:ext cx="0" cy="82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681280" y="3665160"/>
              <a:ext cx="447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1240" y="2636280"/>
              <a:ext cx="0" cy="82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776680" y="2662200"/>
            <a:ext cx="4233600" cy="7642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 </a:t>
            </a:r>
            <a:r>
              <a:rPr b="0" lang="zh-CN" sz="44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能被</a:t>
            </a:r>
            <a:r>
              <a:rPr b="0" lang="zh-CN" sz="44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3</a:t>
            </a:r>
            <a:r>
              <a:rPr b="0" lang="zh-CN" sz="44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整除的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76320" y="5638680"/>
            <a:ext cx="1866960" cy="1066680"/>
            <a:chOff x="76320" y="5638680"/>
            <a:chExt cx="1866960" cy="1066680"/>
          </a:xfrm>
        </p:grpSpPr>
        <p:sp>
          <p:nvSpPr>
            <p:cNvPr id="534" name=""/>
            <p:cNvSpPr/>
            <p:nvPr/>
          </p:nvSpPr>
          <p:spPr>
            <a:xfrm rot="5400000">
              <a:off x="1181160" y="50670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5400000">
              <a:off x="952560" y="52956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5400000">
              <a:off x="647640" y="55242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5400000">
              <a:off x="952560" y="57528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5400000">
              <a:off x="1181160" y="594324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-124560" y="380880"/>
            <a:ext cx="1366560" cy="4608360"/>
            <a:chOff x="-124560" y="380880"/>
            <a:chExt cx="1366560" cy="4608360"/>
          </a:xfrm>
        </p:grpSpPr>
        <p:sp>
          <p:nvSpPr>
            <p:cNvPr id="540" name=""/>
            <p:cNvSpPr/>
            <p:nvPr/>
          </p:nvSpPr>
          <p:spPr>
            <a:xfrm>
              <a:off x="400320" y="395280"/>
              <a:ext cx="379800" cy="4176720"/>
            </a:xfrm>
            <a:custGeom>
              <a:avLst/>
              <a:gdLst/>
              <a:ahLst/>
              <a:rect l="l" t="t" r="r" b="b"/>
              <a:pathLst>
                <a:path w="298" h="2631">
                  <a:moveTo>
                    <a:pt x="79" y="0"/>
                  </a:moveTo>
                  <a:cubicBezTo>
                    <a:pt x="75" y="26"/>
                    <a:pt x="71" y="52"/>
                    <a:pt x="66" y="78"/>
                  </a:cubicBezTo>
                  <a:cubicBezTo>
                    <a:pt x="57" y="126"/>
                    <a:pt x="39" y="222"/>
                    <a:pt x="39" y="222"/>
                  </a:cubicBezTo>
                  <a:cubicBezTo>
                    <a:pt x="48" y="433"/>
                    <a:pt x="28" y="548"/>
                    <a:pt x="131" y="707"/>
                  </a:cubicBezTo>
                  <a:cubicBezTo>
                    <a:pt x="145" y="763"/>
                    <a:pt x="171" y="800"/>
                    <a:pt x="197" y="851"/>
                  </a:cubicBezTo>
                  <a:cubicBezTo>
                    <a:pt x="210" y="902"/>
                    <a:pt x="235" y="944"/>
                    <a:pt x="249" y="995"/>
                  </a:cubicBezTo>
                  <a:cubicBezTo>
                    <a:pt x="258" y="1029"/>
                    <a:pt x="275" y="1099"/>
                    <a:pt x="275" y="1099"/>
                  </a:cubicBezTo>
                  <a:cubicBezTo>
                    <a:pt x="269" y="1235"/>
                    <a:pt x="298" y="1513"/>
                    <a:pt x="170" y="1636"/>
                  </a:cubicBezTo>
                  <a:cubicBezTo>
                    <a:pt x="129" y="1718"/>
                    <a:pt x="77" y="1796"/>
                    <a:pt x="26" y="1872"/>
                  </a:cubicBezTo>
                  <a:cubicBezTo>
                    <a:pt x="21" y="1893"/>
                    <a:pt x="0" y="1972"/>
                    <a:pt x="0" y="1990"/>
                  </a:cubicBezTo>
                  <a:cubicBezTo>
                    <a:pt x="0" y="2147"/>
                    <a:pt x="74" y="2237"/>
                    <a:pt x="197" y="2317"/>
                  </a:cubicBezTo>
                  <a:cubicBezTo>
                    <a:pt x="206" y="2343"/>
                    <a:pt x="214" y="2369"/>
                    <a:pt x="223" y="2395"/>
                  </a:cubicBezTo>
                  <a:cubicBezTo>
                    <a:pt x="227" y="2408"/>
                    <a:pt x="232" y="2422"/>
                    <a:pt x="236" y="2435"/>
                  </a:cubicBezTo>
                  <a:cubicBezTo>
                    <a:pt x="240" y="2448"/>
                    <a:pt x="249" y="2474"/>
                    <a:pt x="249" y="2474"/>
                  </a:cubicBezTo>
                  <a:cubicBezTo>
                    <a:pt x="263" y="2615"/>
                    <a:pt x="242" y="2566"/>
                    <a:pt x="275" y="26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1280" y="1890720"/>
              <a:ext cx="517680" cy="811080"/>
            </a:xfrm>
            <a:custGeom>
              <a:avLst/>
              <a:gdLst/>
              <a:ahLst/>
              <a:rect l="l" t="t" r="r" b="b"/>
              <a:pathLst>
                <a:path w="406" h="511">
                  <a:moveTo>
                    <a:pt x="0" y="0"/>
                  </a:moveTo>
                  <a:cubicBezTo>
                    <a:pt x="105" y="35"/>
                    <a:pt x="108" y="47"/>
                    <a:pt x="183" y="131"/>
                  </a:cubicBezTo>
                  <a:cubicBezTo>
                    <a:pt x="204" y="154"/>
                    <a:pt x="249" y="197"/>
                    <a:pt x="249" y="197"/>
                  </a:cubicBezTo>
                  <a:cubicBezTo>
                    <a:pt x="280" y="290"/>
                    <a:pt x="260" y="252"/>
                    <a:pt x="301" y="314"/>
                  </a:cubicBezTo>
                  <a:cubicBezTo>
                    <a:pt x="333" y="411"/>
                    <a:pt x="335" y="440"/>
                    <a:pt x="406" y="5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1520" y="380880"/>
              <a:ext cx="272520" cy="3948120"/>
            </a:xfrm>
            <a:custGeom>
              <a:avLst/>
              <a:gdLst/>
              <a:ahLst/>
              <a:rect l="l" t="t" r="r" b="b"/>
              <a:pathLst>
                <a:path w="214" h="2487">
                  <a:moveTo>
                    <a:pt x="135" y="0"/>
                  </a:moveTo>
                  <a:cubicBezTo>
                    <a:pt x="120" y="59"/>
                    <a:pt x="95" y="97"/>
                    <a:pt x="83" y="157"/>
                  </a:cubicBezTo>
                  <a:cubicBezTo>
                    <a:pt x="90" y="299"/>
                    <a:pt x="88" y="438"/>
                    <a:pt x="122" y="576"/>
                  </a:cubicBezTo>
                  <a:cubicBezTo>
                    <a:pt x="149" y="874"/>
                    <a:pt x="152" y="1167"/>
                    <a:pt x="135" y="1466"/>
                  </a:cubicBezTo>
                  <a:cubicBezTo>
                    <a:pt x="131" y="1527"/>
                    <a:pt x="94" y="1583"/>
                    <a:pt x="70" y="1636"/>
                  </a:cubicBezTo>
                  <a:cubicBezTo>
                    <a:pt x="59" y="1661"/>
                    <a:pt x="52" y="1689"/>
                    <a:pt x="43" y="1715"/>
                  </a:cubicBezTo>
                  <a:cubicBezTo>
                    <a:pt x="39" y="1728"/>
                    <a:pt x="30" y="1754"/>
                    <a:pt x="30" y="1754"/>
                  </a:cubicBezTo>
                  <a:cubicBezTo>
                    <a:pt x="0" y="1938"/>
                    <a:pt x="8" y="1668"/>
                    <a:pt x="30" y="1999"/>
                  </a:cubicBezTo>
                  <a:cubicBezTo>
                    <a:pt x="33" y="2042"/>
                    <a:pt x="53" y="2275"/>
                    <a:pt x="83" y="2304"/>
                  </a:cubicBezTo>
                  <a:cubicBezTo>
                    <a:pt x="87" y="2317"/>
                    <a:pt x="88" y="2332"/>
                    <a:pt x="96" y="2343"/>
                  </a:cubicBezTo>
                  <a:cubicBezTo>
                    <a:pt x="119" y="2372"/>
                    <a:pt x="174" y="2422"/>
                    <a:pt x="174" y="2422"/>
                  </a:cubicBezTo>
                  <a:cubicBezTo>
                    <a:pt x="178" y="2435"/>
                    <a:pt x="180" y="2449"/>
                    <a:pt x="187" y="2461"/>
                  </a:cubicBezTo>
                  <a:cubicBezTo>
                    <a:pt x="194" y="2472"/>
                    <a:pt x="214" y="2487"/>
                    <a:pt x="214" y="24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3" name=""/>
            <p:cNvGrpSpPr/>
            <p:nvPr/>
          </p:nvGrpSpPr>
          <p:grpSpPr>
            <a:xfrm>
              <a:off x="-124560" y="735480"/>
              <a:ext cx="1366560" cy="4253760"/>
              <a:chOff x="-124560" y="735480"/>
              <a:chExt cx="1366560" cy="4253760"/>
            </a:xfrm>
          </p:grpSpPr>
          <p:sp>
            <p:nvSpPr>
              <p:cNvPr id="544" name=""/>
              <p:cNvSpPr/>
              <p:nvPr/>
            </p:nvSpPr>
            <p:spPr>
              <a:xfrm>
                <a:off x="170640" y="2051280"/>
                <a:ext cx="150120" cy="1641240"/>
              </a:xfrm>
              <a:custGeom>
                <a:avLst/>
                <a:gdLst/>
                <a:ahLst/>
                <a:rect l="l" t="t" r="r" b="b"/>
                <a:pathLst>
                  <a:path w="118" h="1034">
                    <a:moveTo>
                      <a:pt x="13" y="0"/>
                    </a:moveTo>
                    <a:cubicBezTo>
                      <a:pt x="37" y="73"/>
                      <a:pt x="59" y="147"/>
                      <a:pt x="78" y="222"/>
                    </a:cubicBezTo>
                    <a:cubicBezTo>
                      <a:pt x="63" y="455"/>
                      <a:pt x="81" y="355"/>
                      <a:pt x="39" y="523"/>
                    </a:cubicBezTo>
                    <a:cubicBezTo>
                      <a:pt x="32" y="550"/>
                      <a:pt x="22" y="576"/>
                      <a:pt x="13" y="602"/>
                    </a:cubicBezTo>
                    <a:cubicBezTo>
                      <a:pt x="9" y="615"/>
                      <a:pt x="0" y="641"/>
                      <a:pt x="0" y="641"/>
                    </a:cubicBezTo>
                    <a:cubicBezTo>
                      <a:pt x="8" y="736"/>
                      <a:pt x="6" y="783"/>
                      <a:pt x="26" y="864"/>
                    </a:cubicBezTo>
                    <a:cubicBezTo>
                      <a:pt x="37" y="907"/>
                      <a:pt x="92" y="981"/>
                      <a:pt x="92" y="981"/>
                    </a:cubicBezTo>
                    <a:cubicBezTo>
                      <a:pt x="107" y="1027"/>
                      <a:pt x="95" y="1011"/>
                      <a:pt x="118" y="10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19818600">
                <a:off x="884520" y="2010960"/>
                <a:ext cx="195120" cy="706680"/>
              </a:xfrm>
              <a:custGeom>
                <a:avLst/>
                <a:gdLst>
                  <a:gd name="textAreaLeft" fmla="*/ 45720 w 195120"/>
                  <a:gd name="textAreaRight" fmla="*/ 149400 w 19512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19818600">
                <a:off x="496800" y="3070080"/>
                <a:ext cx="122040" cy="706320"/>
              </a:xfrm>
              <a:custGeom>
                <a:avLst/>
                <a:gdLst>
                  <a:gd name="textAreaLeft" fmla="*/ 28440 w 122040"/>
                  <a:gd name="textAreaRight" fmla="*/ 93240 w 1220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 rot="663000">
                <a:off x="432000" y="1447920"/>
                <a:ext cx="84960" cy="705960"/>
              </a:xfrm>
              <a:custGeom>
                <a:avLst/>
                <a:gdLst>
                  <a:gd name="textAreaLeft" fmla="*/ 19800 w 84960"/>
                  <a:gd name="textAreaRight" fmla="*/ 65160 w 84960"/>
                  <a:gd name="textAreaTop" fmla="*/ 82800 h 705960"/>
                  <a:gd name="textAreaBottom" fmla="*/ 442800 h 70596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20752200">
                <a:off x="676800" y="4278240"/>
                <a:ext cx="122400" cy="706320"/>
              </a:xfrm>
              <a:custGeom>
                <a:avLst/>
                <a:gdLst>
                  <a:gd name="textAreaLeft" fmla="*/ 28800 w 122400"/>
                  <a:gd name="textAreaRight" fmla="*/ 93600 w 1224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1330800">
                <a:off x="0" y="2041560"/>
                <a:ext cx="244440" cy="706680"/>
              </a:xfrm>
              <a:custGeom>
                <a:avLst/>
                <a:gdLst>
                  <a:gd name="textAreaLeft" fmla="*/ 57240 w 244440"/>
                  <a:gd name="textAreaRight" fmla="*/ 186840 w 2444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379200">
                <a:off x="676800" y="2285640"/>
                <a:ext cx="96840" cy="706680"/>
              </a:xfrm>
              <a:custGeom>
                <a:avLst/>
                <a:gdLst>
                  <a:gd name="textAreaLeft" fmla="*/ 22680 w 96840"/>
                  <a:gd name="textAreaRight" fmla="*/ 74160 w 968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19691400">
                <a:off x="370800" y="4267080"/>
                <a:ext cx="61200" cy="706320"/>
              </a:xfrm>
              <a:custGeom>
                <a:avLst/>
                <a:gdLst>
                  <a:gd name="textAreaLeft" fmla="*/ 14400 w 61200"/>
                  <a:gd name="textAreaRight" fmla="*/ 46800 w 612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20752200">
                <a:off x="3240" y="761760"/>
                <a:ext cx="305640" cy="706320"/>
              </a:xfrm>
              <a:custGeom>
                <a:avLst/>
                <a:gdLst>
                  <a:gd name="textAreaLeft" fmla="*/ 71640 w 305640"/>
                  <a:gd name="textAreaRight" fmla="*/ 233640 w 3056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21171600">
                <a:off x="185760" y="3353040"/>
                <a:ext cx="123120" cy="706320"/>
              </a:xfrm>
              <a:custGeom>
                <a:avLst/>
                <a:gdLst>
                  <a:gd name="textAreaLeft" fmla="*/ 28800 w 123120"/>
                  <a:gd name="textAreaRight" fmla="*/ 94320 w 12312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4" name=""/>
          <p:cNvGrpSpPr/>
          <p:nvPr/>
        </p:nvGrpSpPr>
        <p:grpSpPr>
          <a:xfrm>
            <a:off x="8153280" y="228600"/>
            <a:ext cx="990720" cy="1523880"/>
            <a:chOff x="8153280" y="228600"/>
            <a:chExt cx="990720" cy="1523880"/>
          </a:xfrm>
        </p:grpSpPr>
        <p:sp>
          <p:nvSpPr>
            <p:cNvPr id="555" name=""/>
            <p:cNvSpPr/>
            <p:nvPr/>
          </p:nvSpPr>
          <p:spPr>
            <a:xfrm>
              <a:off x="8153280" y="228600"/>
              <a:ext cx="990720" cy="1523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305920" y="304920"/>
              <a:ext cx="685800" cy="129528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66ffff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3c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1047600" y="581040"/>
            <a:ext cx="76212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练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73920" y="1184400"/>
            <a:ext cx="351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中填几，这个数就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950840" y="2124000"/>
            <a:ext cx="7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11004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719520" y="2124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345200" y="2124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00200" y="41911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找出最小的数然后依次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967040" y="3124080"/>
            <a:ext cx="7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045240" y="3124080"/>
            <a:ext cx="17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676520" y="4114800"/>
            <a:ext cx="3886200" cy="57636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676520" y="4114800"/>
            <a:ext cx="3886200" cy="57636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evt="end">
                                        <p:tn val="478"/>
                                      </p:cond>
                                    </p:stCondLst>
                                  </p:cTn>
                                  <p:tgtEl>
                                    <p:spTgt spid="5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76320" y="5638680"/>
            <a:ext cx="1866960" cy="1066680"/>
            <a:chOff x="76320" y="5638680"/>
            <a:chExt cx="1866960" cy="1066680"/>
          </a:xfrm>
        </p:grpSpPr>
        <p:sp>
          <p:nvSpPr>
            <p:cNvPr id="570" name=""/>
            <p:cNvSpPr/>
            <p:nvPr/>
          </p:nvSpPr>
          <p:spPr>
            <a:xfrm rot="5400000">
              <a:off x="1181160" y="50670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5400000">
              <a:off x="952560" y="52956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5400000">
              <a:off x="647640" y="55242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5400000">
              <a:off x="952560" y="57528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5400000">
              <a:off x="1181160" y="594324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-124560" y="380880"/>
            <a:ext cx="1366560" cy="4608360"/>
            <a:chOff x="-124560" y="380880"/>
            <a:chExt cx="1366560" cy="4608360"/>
          </a:xfrm>
        </p:grpSpPr>
        <p:sp>
          <p:nvSpPr>
            <p:cNvPr id="576" name=""/>
            <p:cNvSpPr/>
            <p:nvPr/>
          </p:nvSpPr>
          <p:spPr>
            <a:xfrm>
              <a:off x="400320" y="395280"/>
              <a:ext cx="379800" cy="4176720"/>
            </a:xfrm>
            <a:custGeom>
              <a:avLst/>
              <a:gdLst/>
              <a:ahLst/>
              <a:rect l="l" t="t" r="r" b="b"/>
              <a:pathLst>
                <a:path w="298" h="2631">
                  <a:moveTo>
                    <a:pt x="79" y="0"/>
                  </a:moveTo>
                  <a:cubicBezTo>
                    <a:pt x="75" y="26"/>
                    <a:pt x="71" y="52"/>
                    <a:pt x="66" y="78"/>
                  </a:cubicBezTo>
                  <a:cubicBezTo>
                    <a:pt x="57" y="126"/>
                    <a:pt x="39" y="222"/>
                    <a:pt x="39" y="222"/>
                  </a:cubicBezTo>
                  <a:cubicBezTo>
                    <a:pt x="48" y="433"/>
                    <a:pt x="28" y="548"/>
                    <a:pt x="131" y="707"/>
                  </a:cubicBezTo>
                  <a:cubicBezTo>
                    <a:pt x="145" y="763"/>
                    <a:pt x="171" y="800"/>
                    <a:pt x="197" y="851"/>
                  </a:cubicBezTo>
                  <a:cubicBezTo>
                    <a:pt x="210" y="902"/>
                    <a:pt x="235" y="944"/>
                    <a:pt x="249" y="995"/>
                  </a:cubicBezTo>
                  <a:cubicBezTo>
                    <a:pt x="258" y="1029"/>
                    <a:pt x="275" y="1099"/>
                    <a:pt x="275" y="1099"/>
                  </a:cubicBezTo>
                  <a:cubicBezTo>
                    <a:pt x="269" y="1235"/>
                    <a:pt x="298" y="1513"/>
                    <a:pt x="170" y="1636"/>
                  </a:cubicBezTo>
                  <a:cubicBezTo>
                    <a:pt x="129" y="1718"/>
                    <a:pt x="77" y="1796"/>
                    <a:pt x="26" y="1872"/>
                  </a:cubicBezTo>
                  <a:cubicBezTo>
                    <a:pt x="21" y="1893"/>
                    <a:pt x="0" y="1972"/>
                    <a:pt x="0" y="1990"/>
                  </a:cubicBezTo>
                  <a:cubicBezTo>
                    <a:pt x="0" y="2147"/>
                    <a:pt x="74" y="2237"/>
                    <a:pt x="197" y="2317"/>
                  </a:cubicBezTo>
                  <a:cubicBezTo>
                    <a:pt x="206" y="2343"/>
                    <a:pt x="214" y="2369"/>
                    <a:pt x="223" y="2395"/>
                  </a:cubicBezTo>
                  <a:cubicBezTo>
                    <a:pt x="227" y="2408"/>
                    <a:pt x="232" y="2422"/>
                    <a:pt x="236" y="2435"/>
                  </a:cubicBezTo>
                  <a:cubicBezTo>
                    <a:pt x="240" y="2448"/>
                    <a:pt x="249" y="2474"/>
                    <a:pt x="249" y="2474"/>
                  </a:cubicBezTo>
                  <a:cubicBezTo>
                    <a:pt x="263" y="2615"/>
                    <a:pt x="242" y="2566"/>
                    <a:pt x="275" y="26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01280" y="1890720"/>
              <a:ext cx="517680" cy="811080"/>
            </a:xfrm>
            <a:custGeom>
              <a:avLst/>
              <a:gdLst/>
              <a:ahLst/>
              <a:rect l="l" t="t" r="r" b="b"/>
              <a:pathLst>
                <a:path w="406" h="511">
                  <a:moveTo>
                    <a:pt x="0" y="0"/>
                  </a:moveTo>
                  <a:cubicBezTo>
                    <a:pt x="105" y="35"/>
                    <a:pt x="108" y="47"/>
                    <a:pt x="183" y="131"/>
                  </a:cubicBezTo>
                  <a:cubicBezTo>
                    <a:pt x="204" y="154"/>
                    <a:pt x="249" y="197"/>
                    <a:pt x="249" y="197"/>
                  </a:cubicBezTo>
                  <a:cubicBezTo>
                    <a:pt x="280" y="290"/>
                    <a:pt x="260" y="252"/>
                    <a:pt x="301" y="314"/>
                  </a:cubicBezTo>
                  <a:cubicBezTo>
                    <a:pt x="333" y="411"/>
                    <a:pt x="335" y="440"/>
                    <a:pt x="406" y="5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1520" y="380880"/>
              <a:ext cx="272520" cy="3948120"/>
            </a:xfrm>
            <a:custGeom>
              <a:avLst/>
              <a:gdLst/>
              <a:ahLst/>
              <a:rect l="l" t="t" r="r" b="b"/>
              <a:pathLst>
                <a:path w="214" h="2487">
                  <a:moveTo>
                    <a:pt x="135" y="0"/>
                  </a:moveTo>
                  <a:cubicBezTo>
                    <a:pt x="120" y="59"/>
                    <a:pt x="95" y="97"/>
                    <a:pt x="83" y="157"/>
                  </a:cubicBezTo>
                  <a:cubicBezTo>
                    <a:pt x="90" y="299"/>
                    <a:pt x="88" y="438"/>
                    <a:pt x="122" y="576"/>
                  </a:cubicBezTo>
                  <a:cubicBezTo>
                    <a:pt x="149" y="874"/>
                    <a:pt x="152" y="1167"/>
                    <a:pt x="135" y="1466"/>
                  </a:cubicBezTo>
                  <a:cubicBezTo>
                    <a:pt x="131" y="1527"/>
                    <a:pt x="94" y="1583"/>
                    <a:pt x="70" y="1636"/>
                  </a:cubicBezTo>
                  <a:cubicBezTo>
                    <a:pt x="59" y="1661"/>
                    <a:pt x="52" y="1689"/>
                    <a:pt x="43" y="1715"/>
                  </a:cubicBezTo>
                  <a:cubicBezTo>
                    <a:pt x="39" y="1728"/>
                    <a:pt x="30" y="1754"/>
                    <a:pt x="30" y="1754"/>
                  </a:cubicBezTo>
                  <a:cubicBezTo>
                    <a:pt x="0" y="1938"/>
                    <a:pt x="8" y="1668"/>
                    <a:pt x="30" y="1999"/>
                  </a:cubicBezTo>
                  <a:cubicBezTo>
                    <a:pt x="33" y="2042"/>
                    <a:pt x="53" y="2275"/>
                    <a:pt x="83" y="2304"/>
                  </a:cubicBezTo>
                  <a:cubicBezTo>
                    <a:pt x="87" y="2317"/>
                    <a:pt x="88" y="2332"/>
                    <a:pt x="96" y="2343"/>
                  </a:cubicBezTo>
                  <a:cubicBezTo>
                    <a:pt x="119" y="2372"/>
                    <a:pt x="174" y="2422"/>
                    <a:pt x="174" y="2422"/>
                  </a:cubicBezTo>
                  <a:cubicBezTo>
                    <a:pt x="178" y="2435"/>
                    <a:pt x="180" y="2449"/>
                    <a:pt x="187" y="2461"/>
                  </a:cubicBezTo>
                  <a:cubicBezTo>
                    <a:pt x="194" y="2472"/>
                    <a:pt x="214" y="2487"/>
                    <a:pt x="214" y="24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9" name=""/>
            <p:cNvGrpSpPr/>
            <p:nvPr/>
          </p:nvGrpSpPr>
          <p:grpSpPr>
            <a:xfrm>
              <a:off x="-124560" y="735480"/>
              <a:ext cx="1366560" cy="4253760"/>
              <a:chOff x="-124560" y="735480"/>
              <a:chExt cx="1366560" cy="4253760"/>
            </a:xfrm>
          </p:grpSpPr>
          <p:sp>
            <p:nvSpPr>
              <p:cNvPr id="580" name=""/>
              <p:cNvSpPr/>
              <p:nvPr/>
            </p:nvSpPr>
            <p:spPr>
              <a:xfrm>
                <a:off x="170640" y="2051280"/>
                <a:ext cx="150120" cy="1641240"/>
              </a:xfrm>
              <a:custGeom>
                <a:avLst/>
                <a:gdLst/>
                <a:ahLst/>
                <a:rect l="l" t="t" r="r" b="b"/>
                <a:pathLst>
                  <a:path w="118" h="1034">
                    <a:moveTo>
                      <a:pt x="13" y="0"/>
                    </a:moveTo>
                    <a:cubicBezTo>
                      <a:pt x="37" y="73"/>
                      <a:pt x="59" y="147"/>
                      <a:pt x="78" y="222"/>
                    </a:cubicBezTo>
                    <a:cubicBezTo>
                      <a:pt x="63" y="455"/>
                      <a:pt x="81" y="355"/>
                      <a:pt x="39" y="523"/>
                    </a:cubicBezTo>
                    <a:cubicBezTo>
                      <a:pt x="32" y="550"/>
                      <a:pt x="22" y="576"/>
                      <a:pt x="13" y="602"/>
                    </a:cubicBezTo>
                    <a:cubicBezTo>
                      <a:pt x="9" y="615"/>
                      <a:pt x="0" y="641"/>
                      <a:pt x="0" y="641"/>
                    </a:cubicBezTo>
                    <a:cubicBezTo>
                      <a:pt x="8" y="736"/>
                      <a:pt x="6" y="783"/>
                      <a:pt x="26" y="864"/>
                    </a:cubicBezTo>
                    <a:cubicBezTo>
                      <a:pt x="37" y="907"/>
                      <a:pt x="92" y="981"/>
                      <a:pt x="92" y="981"/>
                    </a:cubicBezTo>
                    <a:cubicBezTo>
                      <a:pt x="107" y="1027"/>
                      <a:pt x="95" y="1011"/>
                      <a:pt x="118" y="10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19818600">
                <a:off x="884520" y="2010960"/>
                <a:ext cx="195120" cy="706680"/>
              </a:xfrm>
              <a:custGeom>
                <a:avLst/>
                <a:gdLst>
                  <a:gd name="textAreaLeft" fmla="*/ 45720 w 195120"/>
                  <a:gd name="textAreaRight" fmla="*/ 149400 w 19512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19818600">
                <a:off x="496800" y="3070080"/>
                <a:ext cx="122040" cy="706320"/>
              </a:xfrm>
              <a:custGeom>
                <a:avLst/>
                <a:gdLst>
                  <a:gd name="textAreaLeft" fmla="*/ 28440 w 122040"/>
                  <a:gd name="textAreaRight" fmla="*/ 93240 w 1220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 rot="663000">
                <a:off x="432000" y="1447920"/>
                <a:ext cx="84960" cy="705960"/>
              </a:xfrm>
              <a:custGeom>
                <a:avLst/>
                <a:gdLst>
                  <a:gd name="textAreaLeft" fmla="*/ 19800 w 84960"/>
                  <a:gd name="textAreaRight" fmla="*/ 65160 w 84960"/>
                  <a:gd name="textAreaTop" fmla="*/ 82800 h 705960"/>
                  <a:gd name="textAreaBottom" fmla="*/ 442800 h 70596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20752200">
                <a:off x="676800" y="4278240"/>
                <a:ext cx="122400" cy="706320"/>
              </a:xfrm>
              <a:custGeom>
                <a:avLst/>
                <a:gdLst>
                  <a:gd name="textAreaLeft" fmla="*/ 28800 w 122400"/>
                  <a:gd name="textAreaRight" fmla="*/ 93600 w 1224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rot="1330800">
                <a:off x="0" y="2041560"/>
                <a:ext cx="244440" cy="706680"/>
              </a:xfrm>
              <a:custGeom>
                <a:avLst/>
                <a:gdLst>
                  <a:gd name="textAreaLeft" fmla="*/ 57240 w 244440"/>
                  <a:gd name="textAreaRight" fmla="*/ 186840 w 2444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379200">
                <a:off x="676800" y="2285640"/>
                <a:ext cx="96840" cy="706680"/>
              </a:xfrm>
              <a:custGeom>
                <a:avLst/>
                <a:gdLst>
                  <a:gd name="textAreaLeft" fmla="*/ 22680 w 96840"/>
                  <a:gd name="textAreaRight" fmla="*/ 74160 w 968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19691400">
                <a:off x="370800" y="4267080"/>
                <a:ext cx="61200" cy="706320"/>
              </a:xfrm>
              <a:custGeom>
                <a:avLst/>
                <a:gdLst>
                  <a:gd name="textAreaLeft" fmla="*/ 14400 w 61200"/>
                  <a:gd name="textAreaRight" fmla="*/ 46800 w 612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rot="20752200">
                <a:off x="3240" y="761760"/>
                <a:ext cx="305640" cy="706320"/>
              </a:xfrm>
              <a:custGeom>
                <a:avLst/>
                <a:gdLst>
                  <a:gd name="textAreaLeft" fmla="*/ 71640 w 305640"/>
                  <a:gd name="textAreaRight" fmla="*/ 233640 w 3056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21171600">
                <a:off x="185760" y="3353040"/>
                <a:ext cx="123120" cy="706320"/>
              </a:xfrm>
              <a:custGeom>
                <a:avLst/>
                <a:gdLst>
                  <a:gd name="textAreaLeft" fmla="*/ 28800 w 123120"/>
                  <a:gd name="textAreaRight" fmla="*/ 94320 w 12312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0" name=""/>
          <p:cNvGrpSpPr/>
          <p:nvPr/>
        </p:nvGrpSpPr>
        <p:grpSpPr>
          <a:xfrm>
            <a:off x="8153280" y="228600"/>
            <a:ext cx="990720" cy="1523880"/>
            <a:chOff x="8153280" y="228600"/>
            <a:chExt cx="990720" cy="1523880"/>
          </a:xfrm>
        </p:grpSpPr>
        <p:sp>
          <p:nvSpPr>
            <p:cNvPr id="591" name=""/>
            <p:cNvSpPr/>
            <p:nvPr/>
          </p:nvSpPr>
          <p:spPr>
            <a:xfrm>
              <a:off x="8153280" y="228600"/>
              <a:ext cx="990720" cy="1523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305920" y="304920"/>
              <a:ext cx="685800" cy="129528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66ffff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3c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1047600" y="581040"/>
            <a:ext cx="76212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练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473920" y="1184400"/>
            <a:ext cx="351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中填几，这个数就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408040" y="1981080"/>
            <a:ext cx="9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555360" y="1981080"/>
            <a:ext cx="8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530240" y="1981080"/>
            <a:ext cx="8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520600" y="1981080"/>
            <a:ext cx="8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571200" y="2666880"/>
            <a:ext cx="8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561920" y="2666880"/>
            <a:ext cx="8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520600" y="2666880"/>
            <a:ext cx="8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663600" y="2666880"/>
            <a:ext cx="8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643200" y="32004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828800" y="41148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要保证四个数字的总和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286000" y="4038480"/>
            <a:ext cx="4800600" cy="53352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286000" y="4038480"/>
            <a:ext cx="4800600" cy="53352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4" dur="1" fill="hold">
                                    <p:stCondLst>
                                      <p:cond evt="end">
                                        <p:tn val="541"/>
                                      </p:cond>
                                    </p:stCondLst>
                                  </p:cTn>
                                  <p:tgtEl>
                                    <p:spTgt spid="6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76320" y="5638680"/>
            <a:ext cx="1866960" cy="1066680"/>
            <a:chOff x="76320" y="5638680"/>
            <a:chExt cx="1866960" cy="1066680"/>
          </a:xfrm>
        </p:grpSpPr>
        <p:sp>
          <p:nvSpPr>
            <p:cNvPr id="609" name=""/>
            <p:cNvSpPr/>
            <p:nvPr/>
          </p:nvSpPr>
          <p:spPr>
            <a:xfrm rot="5400000">
              <a:off x="1181160" y="50670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5400000">
              <a:off x="952560" y="52956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5400000">
              <a:off x="647640" y="55242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5400000">
              <a:off x="952560" y="57528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5400000">
              <a:off x="1181160" y="594324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-124560" y="380880"/>
            <a:ext cx="1366560" cy="4608360"/>
            <a:chOff x="-124560" y="380880"/>
            <a:chExt cx="1366560" cy="4608360"/>
          </a:xfrm>
        </p:grpSpPr>
        <p:sp>
          <p:nvSpPr>
            <p:cNvPr id="615" name=""/>
            <p:cNvSpPr/>
            <p:nvPr/>
          </p:nvSpPr>
          <p:spPr>
            <a:xfrm>
              <a:off x="400320" y="395280"/>
              <a:ext cx="379800" cy="4176720"/>
            </a:xfrm>
            <a:custGeom>
              <a:avLst/>
              <a:gdLst/>
              <a:ahLst/>
              <a:rect l="l" t="t" r="r" b="b"/>
              <a:pathLst>
                <a:path w="298" h="2631">
                  <a:moveTo>
                    <a:pt x="79" y="0"/>
                  </a:moveTo>
                  <a:cubicBezTo>
                    <a:pt x="75" y="26"/>
                    <a:pt x="71" y="52"/>
                    <a:pt x="66" y="78"/>
                  </a:cubicBezTo>
                  <a:cubicBezTo>
                    <a:pt x="57" y="126"/>
                    <a:pt x="39" y="222"/>
                    <a:pt x="39" y="222"/>
                  </a:cubicBezTo>
                  <a:cubicBezTo>
                    <a:pt x="48" y="433"/>
                    <a:pt x="28" y="548"/>
                    <a:pt x="131" y="707"/>
                  </a:cubicBezTo>
                  <a:cubicBezTo>
                    <a:pt x="145" y="763"/>
                    <a:pt x="171" y="800"/>
                    <a:pt x="197" y="851"/>
                  </a:cubicBezTo>
                  <a:cubicBezTo>
                    <a:pt x="210" y="902"/>
                    <a:pt x="235" y="944"/>
                    <a:pt x="249" y="995"/>
                  </a:cubicBezTo>
                  <a:cubicBezTo>
                    <a:pt x="258" y="1029"/>
                    <a:pt x="275" y="1099"/>
                    <a:pt x="275" y="1099"/>
                  </a:cubicBezTo>
                  <a:cubicBezTo>
                    <a:pt x="269" y="1235"/>
                    <a:pt x="298" y="1513"/>
                    <a:pt x="170" y="1636"/>
                  </a:cubicBezTo>
                  <a:cubicBezTo>
                    <a:pt x="129" y="1718"/>
                    <a:pt x="77" y="1796"/>
                    <a:pt x="26" y="1872"/>
                  </a:cubicBezTo>
                  <a:cubicBezTo>
                    <a:pt x="21" y="1893"/>
                    <a:pt x="0" y="1972"/>
                    <a:pt x="0" y="1990"/>
                  </a:cubicBezTo>
                  <a:cubicBezTo>
                    <a:pt x="0" y="2147"/>
                    <a:pt x="74" y="2237"/>
                    <a:pt x="197" y="2317"/>
                  </a:cubicBezTo>
                  <a:cubicBezTo>
                    <a:pt x="206" y="2343"/>
                    <a:pt x="214" y="2369"/>
                    <a:pt x="223" y="2395"/>
                  </a:cubicBezTo>
                  <a:cubicBezTo>
                    <a:pt x="227" y="2408"/>
                    <a:pt x="232" y="2422"/>
                    <a:pt x="236" y="2435"/>
                  </a:cubicBezTo>
                  <a:cubicBezTo>
                    <a:pt x="240" y="2448"/>
                    <a:pt x="249" y="2474"/>
                    <a:pt x="249" y="2474"/>
                  </a:cubicBezTo>
                  <a:cubicBezTo>
                    <a:pt x="263" y="2615"/>
                    <a:pt x="242" y="2566"/>
                    <a:pt x="275" y="26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01280" y="1890720"/>
              <a:ext cx="517680" cy="811080"/>
            </a:xfrm>
            <a:custGeom>
              <a:avLst/>
              <a:gdLst/>
              <a:ahLst/>
              <a:rect l="l" t="t" r="r" b="b"/>
              <a:pathLst>
                <a:path w="406" h="511">
                  <a:moveTo>
                    <a:pt x="0" y="0"/>
                  </a:moveTo>
                  <a:cubicBezTo>
                    <a:pt x="105" y="35"/>
                    <a:pt x="108" y="47"/>
                    <a:pt x="183" y="131"/>
                  </a:cubicBezTo>
                  <a:cubicBezTo>
                    <a:pt x="204" y="154"/>
                    <a:pt x="249" y="197"/>
                    <a:pt x="249" y="197"/>
                  </a:cubicBezTo>
                  <a:cubicBezTo>
                    <a:pt x="280" y="290"/>
                    <a:pt x="260" y="252"/>
                    <a:pt x="301" y="314"/>
                  </a:cubicBezTo>
                  <a:cubicBezTo>
                    <a:pt x="333" y="411"/>
                    <a:pt x="335" y="440"/>
                    <a:pt x="406" y="5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1520" y="380880"/>
              <a:ext cx="272520" cy="3948120"/>
            </a:xfrm>
            <a:custGeom>
              <a:avLst/>
              <a:gdLst/>
              <a:ahLst/>
              <a:rect l="l" t="t" r="r" b="b"/>
              <a:pathLst>
                <a:path w="214" h="2487">
                  <a:moveTo>
                    <a:pt x="135" y="0"/>
                  </a:moveTo>
                  <a:cubicBezTo>
                    <a:pt x="120" y="59"/>
                    <a:pt x="95" y="97"/>
                    <a:pt x="83" y="157"/>
                  </a:cubicBezTo>
                  <a:cubicBezTo>
                    <a:pt x="90" y="299"/>
                    <a:pt x="88" y="438"/>
                    <a:pt x="122" y="576"/>
                  </a:cubicBezTo>
                  <a:cubicBezTo>
                    <a:pt x="149" y="874"/>
                    <a:pt x="152" y="1167"/>
                    <a:pt x="135" y="1466"/>
                  </a:cubicBezTo>
                  <a:cubicBezTo>
                    <a:pt x="131" y="1527"/>
                    <a:pt x="94" y="1583"/>
                    <a:pt x="70" y="1636"/>
                  </a:cubicBezTo>
                  <a:cubicBezTo>
                    <a:pt x="59" y="1661"/>
                    <a:pt x="52" y="1689"/>
                    <a:pt x="43" y="1715"/>
                  </a:cubicBezTo>
                  <a:cubicBezTo>
                    <a:pt x="39" y="1728"/>
                    <a:pt x="30" y="1754"/>
                    <a:pt x="30" y="1754"/>
                  </a:cubicBezTo>
                  <a:cubicBezTo>
                    <a:pt x="0" y="1938"/>
                    <a:pt x="8" y="1668"/>
                    <a:pt x="30" y="1999"/>
                  </a:cubicBezTo>
                  <a:cubicBezTo>
                    <a:pt x="33" y="2042"/>
                    <a:pt x="53" y="2275"/>
                    <a:pt x="83" y="2304"/>
                  </a:cubicBezTo>
                  <a:cubicBezTo>
                    <a:pt x="87" y="2317"/>
                    <a:pt x="88" y="2332"/>
                    <a:pt x="96" y="2343"/>
                  </a:cubicBezTo>
                  <a:cubicBezTo>
                    <a:pt x="119" y="2372"/>
                    <a:pt x="174" y="2422"/>
                    <a:pt x="174" y="2422"/>
                  </a:cubicBezTo>
                  <a:cubicBezTo>
                    <a:pt x="178" y="2435"/>
                    <a:pt x="180" y="2449"/>
                    <a:pt x="187" y="2461"/>
                  </a:cubicBezTo>
                  <a:cubicBezTo>
                    <a:pt x="194" y="2472"/>
                    <a:pt x="214" y="2487"/>
                    <a:pt x="214" y="24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" name=""/>
            <p:cNvGrpSpPr/>
            <p:nvPr/>
          </p:nvGrpSpPr>
          <p:grpSpPr>
            <a:xfrm>
              <a:off x="-124560" y="735480"/>
              <a:ext cx="1366560" cy="4253760"/>
              <a:chOff x="-124560" y="735480"/>
              <a:chExt cx="1366560" cy="4253760"/>
            </a:xfrm>
          </p:grpSpPr>
          <p:sp>
            <p:nvSpPr>
              <p:cNvPr id="619" name=""/>
              <p:cNvSpPr/>
              <p:nvPr/>
            </p:nvSpPr>
            <p:spPr>
              <a:xfrm>
                <a:off x="170640" y="2051280"/>
                <a:ext cx="150120" cy="1641240"/>
              </a:xfrm>
              <a:custGeom>
                <a:avLst/>
                <a:gdLst/>
                <a:ahLst/>
                <a:rect l="l" t="t" r="r" b="b"/>
                <a:pathLst>
                  <a:path w="118" h="1034">
                    <a:moveTo>
                      <a:pt x="13" y="0"/>
                    </a:moveTo>
                    <a:cubicBezTo>
                      <a:pt x="37" y="73"/>
                      <a:pt x="59" y="147"/>
                      <a:pt x="78" y="222"/>
                    </a:cubicBezTo>
                    <a:cubicBezTo>
                      <a:pt x="63" y="455"/>
                      <a:pt x="81" y="355"/>
                      <a:pt x="39" y="523"/>
                    </a:cubicBezTo>
                    <a:cubicBezTo>
                      <a:pt x="32" y="550"/>
                      <a:pt x="22" y="576"/>
                      <a:pt x="13" y="602"/>
                    </a:cubicBezTo>
                    <a:cubicBezTo>
                      <a:pt x="9" y="615"/>
                      <a:pt x="0" y="641"/>
                      <a:pt x="0" y="641"/>
                    </a:cubicBezTo>
                    <a:cubicBezTo>
                      <a:pt x="8" y="736"/>
                      <a:pt x="6" y="783"/>
                      <a:pt x="26" y="864"/>
                    </a:cubicBezTo>
                    <a:cubicBezTo>
                      <a:pt x="37" y="907"/>
                      <a:pt x="92" y="981"/>
                      <a:pt x="92" y="981"/>
                    </a:cubicBezTo>
                    <a:cubicBezTo>
                      <a:pt x="107" y="1027"/>
                      <a:pt x="95" y="1011"/>
                      <a:pt x="118" y="10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19818600">
                <a:off x="884520" y="2010960"/>
                <a:ext cx="195120" cy="706680"/>
              </a:xfrm>
              <a:custGeom>
                <a:avLst/>
                <a:gdLst>
                  <a:gd name="textAreaLeft" fmla="*/ 45720 w 195120"/>
                  <a:gd name="textAreaRight" fmla="*/ 149400 w 19512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19818600">
                <a:off x="496800" y="3070080"/>
                <a:ext cx="122040" cy="706320"/>
              </a:xfrm>
              <a:custGeom>
                <a:avLst/>
                <a:gdLst>
                  <a:gd name="textAreaLeft" fmla="*/ 28440 w 122040"/>
                  <a:gd name="textAreaRight" fmla="*/ 93240 w 1220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 rot="663000">
                <a:off x="432000" y="1447920"/>
                <a:ext cx="84960" cy="705960"/>
              </a:xfrm>
              <a:custGeom>
                <a:avLst/>
                <a:gdLst>
                  <a:gd name="textAreaLeft" fmla="*/ 19800 w 84960"/>
                  <a:gd name="textAreaRight" fmla="*/ 65160 w 84960"/>
                  <a:gd name="textAreaTop" fmla="*/ 82800 h 705960"/>
                  <a:gd name="textAreaBottom" fmla="*/ 442800 h 70596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20752200">
                <a:off x="676800" y="4278240"/>
                <a:ext cx="122400" cy="706320"/>
              </a:xfrm>
              <a:custGeom>
                <a:avLst/>
                <a:gdLst>
                  <a:gd name="textAreaLeft" fmla="*/ 28800 w 122400"/>
                  <a:gd name="textAreaRight" fmla="*/ 93600 w 1224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1330800">
                <a:off x="0" y="2041560"/>
                <a:ext cx="244440" cy="706680"/>
              </a:xfrm>
              <a:custGeom>
                <a:avLst/>
                <a:gdLst>
                  <a:gd name="textAreaLeft" fmla="*/ 57240 w 244440"/>
                  <a:gd name="textAreaRight" fmla="*/ 186840 w 2444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379200">
                <a:off x="676800" y="2285640"/>
                <a:ext cx="96840" cy="706680"/>
              </a:xfrm>
              <a:custGeom>
                <a:avLst/>
                <a:gdLst>
                  <a:gd name="textAreaLeft" fmla="*/ 22680 w 96840"/>
                  <a:gd name="textAreaRight" fmla="*/ 74160 w 968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19691400">
                <a:off x="370800" y="4267080"/>
                <a:ext cx="61200" cy="706320"/>
              </a:xfrm>
              <a:custGeom>
                <a:avLst/>
                <a:gdLst>
                  <a:gd name="textAreaLeft" fmla="*/ 14400 w 61200"/>
                  <a:gd name="textAreaRight" fmla="*/ 46800 w 612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20752200">
                <a:off x="3240" y="761760"/>
                <a:ext cx="305640" cy="706320"/>
              </a:xfrm>
              <a:custGeom>
                <a:avLst/>
                <a:gdLst>
                  <a:gd name="textAreaLeft" fmla="*/ 71640 w 305640"/>
                  <a:gd name="textAreaRight" fmla="*/ 233640 w 3056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171600">
                <a:off x="185760" y="3353040"/>
                <a:ext cx="123120" cy="706320"/>
              </a:xfrm>
              <a:custGeom>
                <a:avLst/>
                <a:gdLst>
                  <a:gd name="textAreaLeft" fmla="*/ 28800 w 123120"/>
                  <a:gd name="textAreaRight" fmla="*/ 94320 w 12312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9" name=""/>
          <p:cNvGrpSpPr/>
          <p:nvPr/>
        </p:nvGrpSpPr>
        <p:grpSpPr>
          <a:xfrm>
            <a:off x="8153280" y="228600"/>
            <a:ext cx="990720" cy="1523880"/>
            <a:chOff x="8153280" y="228600"/>
            <a:chExt cx="990720" cy="1523880"/>
          </a:xfrm>
        </p:grpSpPr>
        <p:sp>
          <p:nvSpPr>
            <p:cNvPr id="630" name=""/>
            <p:cNvSpPr/>
            <p:nvPr/>
          </p:nvSpPr>
          <p:spPr>
            <a:xfrm>
              <a:off x="8153280" y="228600"/>
              <a:ext cx="990720" cy="1523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305920" y="304920"/>
              <a:ext cx="685800" cy="129528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66ffff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3c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1047600" y="581040"/>
            <a:ext cx="76212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练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218680" y="1184400"/>
            <a:ext cx="523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面的数是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，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，还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484360" y="2174760"/>
            <a:ext cx="46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8     115     207      80      108     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040840" y="2819520"/>
            <a:ext cx="15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895360" y="2819520"/>
            <a:ext cx="174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40840" y="3733920"/>
            <a:ext cx="174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052680" y="3733920"/>
            <a:ext cx="24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能同时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151000" y="4648320"/>
            <a:ext cx="25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能同时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84360" y="4572000"/>
            <a:ext cx="24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能同时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76320" y="5638680"/>
            <a:ext cx="1866960" cy="1066680"/>
            <a:chOff x="76320" y="5638680"/>
            <a:chExt cx="1866960" cy="1066680"/>
          </a:xfrm>
        </p:grpSpPr>
        <p:sp>
          <p:nvSpPr>
            <p:cNvPr id="643" name=""/>
            <p:cNvSpPr/>
            <p:nvPr/>
          </p:nvSpPr>
          <p:spPr>
            <a:xfrm rot="5400000">
              <a:off x="1181160" y="50670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5400000">
              <a:off x="952560" y="52956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5400000">
              <a:off x="647640" y="55242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5400000">
              <a:off x="952560" y="57528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5400000">
              <a:off x="1181160" y="594324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-124560" y="380880"/>
            <a:ext cx="1366560" cy="4608360"/>
            <a:chOff x="-124560" y="380880"/>
            <a:chExt cx="1366560" cy="4608360"/>
          </a:xfrm>
        </p:grpSpPr>
        <p:sp>
          <p:nvSpPr>
            <p:cNvPr id="649" name=""/>
            <p:cNvSpPr/>
            <p:nvPr/>
          </p:nvSpPr>
          <p:spPr>
            <a:xfrm>
              <a:off x="400320" y="395280"/>
              <a:ext cx="379800" cy="4176720"/>
            </a:xfrm>
            <a:custGeom>
              <a:avLst/>
              <a:gdLst/>
              <a:ahLst/>
              <a:rect l="l" t="t" r="r" b="b"/>
              <a:pathLst>
                <a:path w="298" h="2631">
                  <a:moveTo>
                    <a:pt x="79" y="0"/>
                  </a:moveTo>
                  <a:cubicBezTo>
                    <a:pt x="75" y="26"/>
                    <a:pt x="71" y="52"/>
                    <a:pt x="66" y="78"/>
                  </a:cubicBezTo>
                  <a:cubicBezTo>
                    <a:pt x="57" y="126"/>
                    <a:pt x="39" y="222"/>
                    <a:pt x="39" y="222"/>
                  </a:cubicBezTo>
                  <a:cubicBezTo>
                    <a:pt x="48" y="433"/>
                    <a:pt x="28" y="548"/>
                    <a:pt x="131" y="707"/>
                  </a:cubicBezTo>
                  <a:cubicBezTo>
                    <a:pt x="145" y="763"/>
                    <a:pt x="171" y="800"/>
                    <a:pt x="197" y="851"/>
                  </a:cubicBezTo>
                  <a:cubicBezTo>
                    <a:pt x="210" y="902"/>
                    <a:pt x="235" y="944"/>
                    <a:pt x="249" y="995"/>
                  </a:cubicBezTo>
                  <a:cubicBezTo>
                    <a:pt x="258" y="1029"/>
                    <a:pt x="275" y="1099"/>
                    <a:pt x="275" y="1099"/>
                  </a:cubicBezTo>
                  <a:cubicBezTo>
                    <a:pt x="269" y="1235"/>
                    <a:pt x="298" y="1513"/>
                    <a:pt x="170" y="1636"/>
                  </a:cubicBezTo>
                  <a:cubicBezTo>
                    <a:pt x="129" y="1718"/>
                    <a:pt x="77" y="1796"/>
                    <a:pt x="26" y="1872"/>
                  </a:cubicBezTo>
                  <a:cubicBezTo>
                    <a:pt x="21" y="1893"/>
                    <a:pt x="0" y="1972"/>
                    <a:pt x="0" y="1990"/>
                  </a:cubicBezTo>
                  <a:cubicBezTo>
                    <a:pt x="0" y="2147"/>
                    <a:pt x="74" y="2237"/>
                    <a:pt x="197" y="2317"/>
                  </a:cubicBezTo>
                  <a:cubicBezTo>
                    <a:pt x="206" y="2343"/>
                    <a:pt x="214" y="2369"/>
                    <a:pt x="223" y="2395"/>
                  </a:cubicBezTo>
                  <a:cubicBezTo>
                    <a:pt x="227" y="2408"/>
                    <a:pt x="232" y="2422"/>
                    <a:pt x="236" y="2435"/>
                  </a:cubicBezTo>
                  <a:cubicBezTo>
                    <a:pt x="240" y="2448"/>
                    <a:pt x="249" y="2474"/>
                    <a:pt x="249" y="2474"/>
                  </a:cubicBezTo>
                  <a:cubicBezTo>
                    <a:pt x="263" y="2615"/>
                    <a:pt x="242" y="2566"/>
                    <a:pt x="275" y="26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01280" y="1890720"/>
              <a:ext cx="517680" cy="811080"/>
            </a:xfrm>
            <a:custGeom>
              <a:avLst/>
              <a:gdLst/>
              <a:ahLst/>
              <a:rect l="l" t="t" r="r" b="b"/>
              <a:pathLst>
                <a:path w="406" h="511">
                  <a:moveTo>
                    <a:pt x="0" y="0"/>
                  </a:moveTo>
                  <a:cubicBezTo>
                    <a:pt x="105" y="35"/>
                    <a:pt x="108" y="47"/>
                    <a:pt x="183" y="131"/>
                  </a:cubicBezTo>
                  <a:cubicBezTo>
                    <a:pt x="204" y="154"/>
                    <a:pt x="249" y="197"/>
                    <a:pt x="249" y="197"/>
                  </a:cubicBezTo>
                  <a:cubicBezTo>
                    <a:pt x="280" y="290"/>
                    <a:pt x="260" y="252"/>
                    <a:pt x="301" y="314"/>
                  </a:cubicBezTo>
                  <a:cubicBezTo>
                    <a:pt x="333" y="411"/>
                    <a:pt x="335" y="440"/>
                    <a:pt x="406" y="5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1520" y="380880"/>
              <a:ext cx="272520" cy="3948120"/>
            </a:xfrm>
            <a:custGeom>
              <a:avLst/>
              <a:gdLst/>
              <a:ahLst/>
              <a:rect l="l" t="t" r="r" b="b"/>
              <a:pathLst>
                <a:path w="214" h="2487">
                  <a:moveTo>
                    <a:pt x="135" y="0"/>
                  </a:moveTo>
                  <a:cubicBezTo>
                    <a:pt x="120" y="59"/>
                    <a:pt x="95" y="97"/>
                    <a:pt x="83" y="157"/>
                  </a:cubicBezTo>
                  <a:cubicBezTo>
                    <a:pt x="90" y="299"/>
                    <a:pt x="88" y="438"/>
                    <a:pt x="122" y="576"/>
                  </a:cubicBezTo>
                  <a:cubicBezTo>
                    <a:pt x="149" y="874"/>
                    <a:pt x="152" y="1167"/>
                    <a:pt x="135" y="1466"/>
                  </a:cubicBezTo>
                  <a:cubicBezTo>
                    <a:pt x="131" y="1527"/>
                    <a:pt x="94" y="1583"/>
                    <a:pt x="70" y="1636"/>
                  </a:cubicBezTo>
                  <a:cubicBezTo>
                    <a:pt x="59" y="1661"/>
                    <a:pt x="52" y="1689"/>
                    <a:pt x="43" y="1715"/>
                  </a:cubicBezTo>
                  <a:cubicBezTo>
                    <a:pt x="39" y="1728"/>
                    <a:pt x="30" y="1754"/>
                    <a:pt x="30" y="1754"/>
                  </a:cubicBezTo>
                  <a:cubicBezTo>
                    <a:pt x="0" y="1938"/>
                    <a:pt x="8" y="1668"/>
                    <a:pt x="30" y="1999"/>
                  </a:cubicBezTo>
                  <a:cubicBezTo>
                    <a:pt x="33" y="2042"/>
                    <a:pt x="53" y="2275"/>
                    <a:pt x="83" y="2304"/>
                  </a:cubicBezTo>
                  <a:cubicBezTo>
                    <a:pt x="87" y="2317"/>
                    <a:pt x="88" y="2332"/>
                    <a:pt x="96" y="2343"/>
                  </a:cubicBezTo>
                  <a:cubicBezTo>
                    <a:pt x="119" y="2372"/>
                    <a:pt x="174" y="2422"/>
                    <a:pt x="174" y="2422"/>
                  </a:cubicBezTo>
                  <a:cubicBezTo>
                    <a:pt x="178" y="2435"/>
                    <a:pt x="180" y="2449"/>
                    <a:pt x="187" y="2461"/>
                  </a:cubicBezTo>
                  <a:cubicBezTo>
                    <a:pt x="194" y="2472"/>
                    <a:pt x="214" y="2487"/>
                    <a:pt x="214" y="24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"/>
            <p:cNvGrpSpPr/>
            <p:nvPr/>
          </p:nvGrpSpPr>
          <p:grpSpPr>
            <a:xfrm>
              <a:off x="-124560" y="735480"/>
              <a:ext cx="1366560" cy="4253760"/>
              <a:chOff x="-124560" y="735480"/>
              <a:chExt cx="1366560" cy="4253760"/>
            </a:xfrm>
          </p:grpSpPr>
          <p:sp>
            <p:nvSpPr>
              <p:cNvPr id="653" name=""/>
              <p:cNvSpPr/>
              <p:nvPr/>
            </p:nvSpPr>
            <p:spPr>
              <a:xfrm>
                <a:off x="170640" y="2051280"/>
                <a:ext cx="150120" cy="1641240"/>
              </a:xfrm>
              <a:custGeom>
                <a:avLst/>
                <a:gdLst/>
                <a:ahLst/>
                <a:rect l="l" t="t" r="r" b="b"/>
                <a:pathLst>
                  <a:path w="118" h="1034">
                    <a:moveTo>
                      <a:pt x="13" y="0"/>
                    </a:moveTo>
                    <a:cubicBezTo>
                      <a:pt x="37" y="73"/>
                      <a:pt x="59" y="147"/>
                      <a:pt x="78" y="222"/>
                    </a:cubicBezTo>
                    <a:cubicBezTo>
                      <a:pt x="63" y="455"/>
                      <a:pt x="81" y="355"/>
                      <a:pt x="39" y="523"/>
                    </a:cubicBezTo>
                    <a:cubicBezTo>
                      <a:pt x="32" y="550"/>
                      <a:pt x="22" y="576"/>
                      <a:pt x="13" y="602"/>
                    </a:cubicBezTo>
                    <a:cubicBezTo>
                      <a:pt x="9" y="615"/>
                      <a:pt x="0" y="641"/>
                      <a:pt x="0" y="641"/>
                    </a:cubicBezTo>
                    <a:cubicBezTo>
                      <a:pt x="8" y="736"/>
                      <a:pt x="6" y="783"/>
                      <a:pt x="26" y="864"/>
                    </a:cubicBezTo>
                    <a:cubicBezTo>
                      <a:pt x="37" y="907"/>
                      <a:pt x="92" y="981"/>
                      <a:pt x="92" y="981"/>
                    </a:cubicBezTo>
                    <a:cubicBezTo>
                      <a:pt x="107" y="1027"/>
                      <a:pt x="95" y="1011"/>
                      <a:pt x="118" y="10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19818600">
                <a:off x="884520" y="2010960"/>
                <a:ext cx="195120" cy="706680"/>
              </a:xfrm>
              <a:custGeom>
                <a:avLst/>
                <a:gdLst>
                  <a:gd name="textAreaLeft" fmla="*/ 45720 w 195120"/>
                  <a:gd name="textAreaRight" fmla="*/ 149400 w 19512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9818600">
                <a:off x="496800" y="3070080"/>
                <a:ext cx="122040" cy="706320"/>
              </a:xfrm>
              <a:custGeom>
                <a:avLst/>
                <a:gdLst>
                  <a:gd name="textAreaLeft" fmla="*/ 28440 w 122040"/>
                  <a:gd name="textAreaRight" fmla="*/ 93240 w 1220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 rot="663000">
                <a:off x="432000" y="1447920"/>
                <a:ext cx="84960" cy="705960"/>
              </a:xfrm>
              <a:custGeom>
                <a:avLst/>
                <a:gdLst>
                  <a:gd name="textAreaLeft" fmla="*/ 19800 w 84960"/>
                  <a:gd name="textAreaRight" fmla="*/ 65160 w 84960"/>
                  <a:gd name="textAreaTop" fmla="*/ 82800 h 705960"/>
                  <a:gd name="textAreaBottom" fmla="*/ 442800 h 70596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20752200">
                <a:off x="676800" y="4278240"/>
                <a:ext cx="122400" cy="706320"/>
              </a:xfrm>
              <a:custGeom>
                <a:avLst/>
                <a:gdLst>
                  <a:gd name="textAreaLeft" fmla="*/ 28800 w 122400"/>
                  <a:gd name="textAreaRight" fmla="*/ 93600 w 1224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330800">
                <a:off x="0" y="2041560"/>
                <a:ext cx="244440" cy="706680"/>
              </a:xfrm>
              <a:custGeom>
                <a:avLst/>
                <a:gdLst>
                  <a:gd name="textAreaLeft" fmla="*/ 57240 w 244440"/>
                  <a:gd name="textAreaRight" fmla="*/ 186840 w 2444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379200">
                <a:off x="676800" y="2285640"/>
                <a:ext cx="96840" cy="706680"/>
              </a:xfrm>
              <a:custGeom>
                <a:avLst/>
                <a:gdLst>
                  <a:gd name="textAreaLeft" fmla="*/ 22680 w 96840"/>
                  <a:gd name="textAreaRight" fmla="*/ 74160 w 968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9691400">
                <a:off x="370800" y="4267080"/>
                <a:ext cx="61200" cy="706320"/>
              </a:xfrm>
              <a:custGeom>
                <a:avLst/>
                <a:gdLst>
                  <a:gd name="textAreaLeft" fmla="*/ 14400 w 61200"/>
                  <a:gd name="textAreaRight" fmla="*/ 46800 w 612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20752200">
                <a:off x="3240" y="761760"/>
                <a:ext cx="305640" cy="706320"/>
              </a:xfrm>
              <a:custGeom>
                <a:avLst/>
                <a:gdLst>
                  <a:gd name="textAreaLeft" fmla="*/ 71640 w 305640"/>
                  <a:gd name="textAreaRight" fmla="*/ 233640 w 3056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21171600">
                <a:off x="185760" y="3353040"/>
                <a:ext cx="123120" cy="706320"/>
              </a:xfrm>
              <a:custGeom>
                <a:avLst/>
                <a:gdLst>
                  <a:gd name="textAreaLeft" fmla="*/ 28800 w 123120"/>
                  <a:gd name="textAreaRight" fmla="*/ 94320 w 12312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3" name=""/>
          <p:cNvGrpSpPr/>
          <p:nvPr/>
        </p:nvGrpSpPr>
        <p:grpSpPr>
          <a:xfrm>
            <a:off x="8153280" y="228600"/>
            <a:ext cx="990720" cy="1523880"/>
            <a:chOff x="8153280" y="228600"/>
            <a:chExt cx="990720" cy="1523880"/>
          </a:xfrm>
        </p:grpSpPr>
        <p:sp>
          <p:nvSpPr>
            <p:cNvPr id="664" name=""/>
            <p:cNvSpPr/>
            <p:nvPr/>
          </p:nvSpPr>
          <p:spPr>
            <a:xfrm>
              <a:off x="8153280" y="228600"/>
              <a:ext cx="990720" cy="1523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305920" y="304920"/>
              <a:ext cx="685800" cy="129528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66ffff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3c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047600" y="581040"/>
            <a:ext cx="76212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思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230560" y="1184400"/>
            <a:ext cx="521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看谁能用最快的方法判断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16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个四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能否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328120" y="2251080"/>
            <a:ext cx="50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169       5+1+6+9=21      516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3"/>
          <a:stretch/>
        </p:blipFill>
        <p:spPr>
          <a:xfrm>
            <a:off x="2247840" y="5638680"/>
            <a:ext cx="2629080" cy="1143000"/>
          </a:xfrm>
          <a:prstGeom prst="rect">
            <a:avLst/>
          </a:prstGeom>
          <a:ln w="0">
            <a:noFill/>
          </a:ln>
        </p:spPr>
      </p:pic>
      <p:sp>
        <p:nvSpPr>
          <p:cNvPr id="670" name=""/>
          <p:cNvSpPr/>
          <p:nvPr/>
        </p:nvSpPr>
        <p:spPr>
          <a:xfrm>
            <a:off x="3979440" y="56386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还有更快的方法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76320" y="5638680"/>
            <a:ext cx="1866960" cy="1066680"/>
            <a:chOff x="76320" y="5638680"/>
            <a:chExt cx="1866960" cy="1066680"/>
          </a:xfrm>
        </p:grpSpPr>
        <p:sp>
          <p:nvSpPr>
            <p:cNvPr id="673" name=""/>
            <p:cNvSpPr/>
            <p:nvPr/>
          </p:nvSpPr>
          <p:spPr>
            <a:xfrm rot="5400000">
              <a:off x="1181160" y="50670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5400000">
              <a:off x="952560" y="52956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5400000">
              <a:off x="647640" y="55242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5400000">
              <a:off x="952560" y="57528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5400000">
              <a:off x="1181160" y="594324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-124560" y="380880"/>
            <a:ext cx="1366560" cy="4608360"/>
            <a:chOff x="-124560" y="380880"/>
            <a:chExt cx="1366560" cy="4608360"/>
          </a:xfrm>
        </p:grpSpPr>
        <p:sp>
          <p:nvSpPr>
            <p:cNvPr id="679" name=""/>
            <p:cNvSpPr/>
            <p:nvPr/>
          </p:nvSpPr>
          <p:spPr>
            <a:xfrm>
              <a:off x="400320" y="395280"/>
              <a:ext cx="379800" cy="4176720"/>
            </a:xfrm>
            <a:custGeom>
              <a:avLst/>
              <a:gdLst/>
              <a:ahLst/>
              <a:rect l="l" t="t" r="r" b="b"/>
              <a:pathLst>
                <a:path w="298" h="2631">
                  <a:moveTo>
                    <a:pt x="79" y="0"/>
                  </a:moveTo>
                  <a:cubicBezTo>
                    <a:pt x="75" y="26"/>
                    <a:pt x="71" y="52"/>
                    <a:pt x="66" y="78"/>
                  </a:cubicBezTo>
                  <a:cubicBezTo>
                    <a:pt x="57" y="126"/>
                    <a:pt x="39" y="222"/>
                    <a:pt x="39" y="222"/>
                  </a:cubicBezTo>
                  <a:cubicBezTo>
                    <a:pt x="48" y="433"/>
                    <a:pt x="28" y="548"/>
                    <a:pt x="131" y="707"/>
                  </a:cubicBezTo>
                  <a:cubicBezTo>
                    <a:pt x="145" y="763"/>
                    <a:pt x="171" y="800"/>
                    <a:pt x="197" y="851"/>
                  </a:cubicBezTo>
                  <a:cubicBezTo>
                    <a:pt x="210" y="902"/>
                    <a:pt x="235" y="944"/>
                    <a:pt x="249" y="995"/>
                  </a:cubicBezTo>
                  <a:cubicBezTo>
                    <a:pt x="258" y="1029"/>
                    <a:pt x="275" y="1099"/>
                    <a:pt x="275" y="1099"/>
                  </a:cubicBezTo>
                  <a:cubicBezTo>
                    <a:pt x="269" y="1235"/>
                    <a:pt x="298" y="1513"/>
                    <a:pt x="170" y="1636"/>
                  </a:cubicBezTo>
                  <a:cubicBezTo>
                    <a:pt x="129" y="1718"/>
                    <a:pt x="77" y="1796"/>
                    <a:pt x="26" y="1872"/>
                  </a:cubicBezTo>
                  <a:cubicBezTo>
                    <a:pt x="21" y="1893"/>
                    <a:pt x="0" y="1972"/>
                    <a:pt x="0" y="1990"/>
                  </a:cubicBezTo>
                  <a:cubicBezTo>
                    <a:pt x="0" y="2147"/>
                    <a:pt x="74" y="2237"/>
                    <a:pt x="197" y="2317"/>
                  </a:cubicBezTo>
                  <a:cubicBezTo>
                    <a:pt x="206" y="2343"/>
                    <a:pt x="214" y="2369"/>
                    <a:pt x="223" y="2395"/>
                  </a:cubicBezTo>
                  <a:cubicBezTo>
                    <a:pt x="227" y="2408"/>
                    <a:pt x="232" y="2422"/>
                    <a:pt x="236" y="2435"/>
                  </a:cubicBezTo>
                  <a:cubicBezTo>
                    <a:pt x="240" y="2448"/>
                    <a:pt x="249" y="2474"/>
                    <a:pt x="249" y="2474"/>
                  </a:cubicBezTo>
                  <a:cubicBezTo>
                    <a:pt x="263" y="2615"/>
                    <a:pt x="242" y="2566"/>
                    <a:pt x="275" y="26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01280" y="1890720"/>
              <a:ext cx="517680" cy="811080"/>
            </a:xfrm>
            <a:custGeom>
              <a:avLst/>
              <a:gdLst/>
              <a:ahLst/>
              <a:rect l="l" t="t" r="r" b="b"/>
              <a:pathLst>
                <a:path w="406" h="511">
                  <a:moveTo>
                    <a:pt x="0" y="0"/>
                  </a:moveTo>
                  <a:cubicBezTo>
                    <a:pt x="105" y="35"/>
                    <a:pt x="108" y="47"/>
                    <a:pt x="183" y="131"/>
                  </a:cubicBezTo>
                  <a:cubicBezTo>
                    <a:pt x="204" y="154"/>
                    <a:pt x="249" y="197"/>
                    <a:pt x="249" y="197"/>
                  </a:cubicBezTo>
                  <a:cubicBezTo>
                    <a:pt x="280" y="290"/>
                    <a:pt x="260" y="252"/>
                    <a:pt x="301" y="314"/>
                  </a:cubicBezTo>
                  <a:cubicBezTo>
                    <a:pt x="333" y="411"/>
                    <a:pt x="335" y="440"/>
                    <a:pt x="406" y="5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1520" y="380880"/>
              <a:ext cx="272520" cy="3948120"/>
            </a:xfrm>
            <a:custGeom>
              <a:avLst/>
              <a:gdLst/>
              <a:ahLst/>
              <a:rect l="l" t="t" r="r" b="b"/>
              <a:pathLst>
                <a:path w="214" h="2487">
                  <a:moveTo>
                    <a:pt x="135" y="0"/>
                  </a:moveTo>
                  <a:cubicBezTo>
                    <a:pt x="120" y="59"/>
                    <a:pt x="95" y="97"/>
                    <a:pt x="83" y="157"/>
                  </a:cubicBezTo>
                  <a:cubicBezTo>
                    <a:pt x="90" y="299"/>
                    <a:pt x="88" y="438"/>
                    <a:pt x="122" y="576"/>
                  </a:cubicBezTo>
                  <a:cubicBezTo>
                    <a:pt x="149" y="874"/>
                    <a:pt x="152" y="1167"/>
                    <a:pt x="135" y="1466"/>
                  </a:cubicBezTo>
                  <a:cubicBezTo>
                    <a:pt x="131" y="1527"/>
                    <a:pt x="94" y="1583"/>
                    <a:pt x="70" y="1636"/>
                  </a:cubicBezTo>
                  <a:cubicBezTo>
                    <a:pt x="59" y="1661"/>
                    <a:pt x="52" y="1689"/>
                    <a:pt x="43" y="1715"/>
                  </a:cubicBezTo>
                  <a:cubicBezTo>
                    <a:pt x="39" y="1728"/>
                    <a:pt x="30" y="1754"/>
                    <a:pt x="30" y="1754"/>
                  </a:cubicBezTo>
                  <a:cubicBezTo>
                    <a:pt x="0" y="1938"/>
                    <a:pt x="8" y="1668"/>
                    <a:pt x="30" y="1999"/>
                  </a:cubicBezTo>
                  <a:cubicBezTo>
                    <a:pt x="33" y="2042"/>
                    <a:pt x="53" y="2275"/>
                    <a:pt x="83" y="2304"/>
                  </a:cubicBezTo>
                  <a:cubicBezTo>
                    <a:pt x="87" y="2317"/>
                    <a:pt x="88" y="2332"/>
                    <a:pt x="96" y="2343"/>
                  </a:cubicBezTo>
                  <a:cubicBezTo>
                    <a:pt x="119" y="2372"/>
                    <a:pt x="174" y="2422"/>
                    <a:pt x="174" y="2422"/>
                  </a:cubicBezTo>
                  <a:cubicBezTo>
                    <a:pt x="178" y="2435"/>
                    <a:pt x="180" y="2449"/>
                    <a:pt x="187" y="2461"/>
                  </a:cubicBezTo>
                  <a:cubicBezTo>
                    <a:pt x="194" y="2472"/>
                    <a:pt x="214" y="2487"/>
                    <a:pt x="214" y="24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2" name=""/>
            <p:cNvGrpSpPr/>
            <p:nvPr/>
          </p:nvGrpSpPr>
          <p:grpSpPr>
            <a:xfrm>
              <a:off x="-124560" y="735480"/>
              <a:ext cx="1366560" cy="4253760"/>
              <a:chOff x="-124560" y="735480"/>
              <a:chExt cx="1366560" cy="4253760"/>
            </a:xfrm>
          </p:grpSpPr>
          <p:sp>
            <p:nvSpPr>
              <p:cNvPr id="683" name=""/>
              <p:cNvSpPr/>
              <p:nvPr/>
            </p:nvSpPr>
            <p:spPr>
              <a:xfrm>
                <a:off x="170640" y="2051280"/>
                <a:ext cx="150120" cy="1641240"/>
              </a:xfrm>
              <a:custGeom>
                <a:avLst/>
                <a:gdLst/>
                <a:ahLst/>
                <a:rect l="l" t="t" r="r" b="b"/>
                <a:pathLst>
                  <a:path w="118" h="1034">
                    <a:moveTo>
                      <a:pt x="13" y="0"/>
                    </a:moveTo>
                    <a:cubicBezTo>
                      <a:pt x="37" y="73"/>
                      <a:pt x="59" y="147"/>
                      <a:pt x="78" y="222"/>
                    </a:cubicBezTo>
                    <a:cubicBezTo>
                      <a:pt x="63" y="455"/>
                      <a:pt x="81" y="355"/>
                      <a:pt x="39" y="523"/>
                    </a:cubicBezTo>
                    <a:cubicBezTo>
                      <a:pt x="32" y="550"/>
                      <a:pt x="22" y="576"/>
                      <a:pt x="13" y="602"/>
                    </a:cubicBezTo>
                    <a:cubicBezTo>
                      <a:pt x="9" y="615"/>
                      <a:pt x="0" y="641"/>
                      <a:pt x="0" y="641"/>
                    </a:cubicBezTo>
                    <a:cubicBezTo>
                      <a:pt x="8" y="736"/>
                      <a:pt x="6" y="783"/>
                      <a:pt x="26" y="864"/>
                    </a:cubicBezTo>
                    <a:cubicBezTo>
                      <a:pt x="37" y="907"/>
                      <a:pt x="92" y="981"/>
                      <a:pt x="92" y="981"/>
                    </a:cubicBezTo>
                    <a:cubicBezTo>
                      <a:pt x="107" y="1027"/>
                      <a:pt x="95" y="1011"/>
                      <a:pt x="118" y="10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818600">
                <a:off x="884520" y="2010960"/>
                <a:ext cx="195120" cy="706680"/>
              </a:xfrm>
              <a:custGeom>
                <a:avLst/>
                <a:gdLst>
                  <a:gd name="textAreaLeft" fmla="*/ 45720 w 195120"/>
                  <a:gd name="textAreaRight" fmla="*/ 149400 w 19512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19818600">
                <a:off x="496800" y="3070080"/>
                <a:ext cx="122040" cy="706320"/>
              </a:xfrm>
              <a:custGeom>
                <a:avLst/>
                <a:gdLst>
                  <a:gd name="textAreaLeft" fmla="*/ 28440 w 122040"/>
                  <a:gd name="textAreaRight" fmla="*/ 93240 w 1220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 rot="663000">
                <a:off x="432000" y="1447920"/>
                <a:ext cx="84960" cy="705960"/>
              </a:xfrm>
              <a:custGeom>
                <a:avLst/>
                <a:gdLst>
                  <a:gd name="textAreaLeft" fmla="*/ 19800 w 84960"/>
                  <a:gd name="textAreaRight" fmla="*/ 65160 w 84960"/>
                  <a:gd name="textAreaTop" fmla="*/ 82800 h 705960"/>
                  <a:gd name="textAreaBottom" fmla="*/ 442800 h 70596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20752200">
                <a:off x="676800" y="4278240"/>
                <a:ext cx="122400" cy="706320"/>
              </a:xfrm>
              <a:custGeom>
                <a:avLst/>
                <a:gdLst>
                  <a:gd name="textAreaLeft" fmla="*/ 28800 w 122400"/>
                  <a:gd name="textAreaRight" fmla="*/ 93600 w 1224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1330800">
                <a:off x="0" y="2041560"/>
                <a:ext cx="244440" cy="706680"/>
              </a:xfrm>
              <a:custGeom>
                <a:avLst/>
                <a:gdLst>
                  <a:gd name="textAreaLeft" fmla="*/ 57240 w 244440"/>
                  <a:gd name="textAreaRight" fmla="*/ 186840 w 2444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379200">
                <a:off x="676800" y="2285640"/>
                <a:ext cx="96840" cy="706680"/>
              </a:xfrm>
              <a:custGeom>
                <a:avLst/>
                <a:gdLst>
                  <a:gd name="textAreaLeft" fmla="*/ 22680 w 96840"/>
                  <a:gd name="textAreaRight" fmla="*/ 74160 w 968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19691400">
                <a:off x="370800" y="4267080"/>
                <a:ext cx="61200" cy="706320"/>
              </a:xfrm>
              <a:custGeom>
                <a:avLst/>
                <a:gdLst>
                  <a:gd name="textAreaLeft" fmla="*/ 14400 w 61200"/>
                  <a:gd name="textAreaRight" fmla="*/ 46800 w 612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20752200">
                <a:off x="3240" y="761760"/>
                <a:ext cx="305640" cy="706320"/>
              </a:xfrm>
              <a:custGeom>
                <a:avLst/>
                <a:gdLst>
                  <a:gd name="textAreaLeft" fmla="*/ 71640 w 305640"/>
                  <a:gd name="textAreaRight" fmla="*/ 233640 w 3056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21171600">
                <a:off x="185760" y="3353040"/>
                <a:ext cx="123120" cy="706320"/>
              </a:xfrm>
              <a:custGeom>
                <a:avLst/>
                <a:gdLst>
                  <a:gd name="textAreaLeft" fmla="*/ 28800 w 123120"/>
                  <a:gd name="textAreaRight" fmla="*/ 94320 w 12312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3" name=""/>
          <p:cNvGrpSpPr/>
          <p:nvPr/>
        </p:nvGrpSpPr>
        <p:grpSpPr>
          <a:xfrm>
            <a:off x="8153280" y="228600"/>
            <a:ext cx="990720" cy="1523880"/>
            <a:chOff x="8153280" y="228600"/>
            <a:chExt cx="990720" cy="1523880"/>
          </a:xfrm>
        </p:grpSpPr>
        <p:sp>
          <p:nvSpPr>
            <p:cNvPr id="694" name=""/>
            <p:cNvSpPr/>
            <p:nvPr/>
          </p:nvSpPr>
          <p:spPr>
            <a:xfrm>
              <a:off x="8153280" y="228600"/>
              <a:ext cx="990720" cy="1523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305920" y="304920"/>
              <a:ext cx="685800" cy="129528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66ffff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3c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1890720" y="1413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524400" y="1413000"/>
            <a:ext cx="419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都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，所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6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可以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906560" y="25891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620160" y="2556000"/>
            <a:ext cx="452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，但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，所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6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754280" y="3733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43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451320" y="3699000"/>
            <a:ext cx="492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+4+8=1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所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439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683800" y="495288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这种判断方法叫做弃３倍数法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76320" y="5638680"/>
            <a:ext cx="1866960" cy="1066680"/>
            <a:chOff x="76320" y="5638680"/>
            <a:chExt cx="1866960" cy="1066680"/>
          </a:xfrm>
        </p:grpSpPr>
        <p:sp>
          <p:nvSpPr>
            <p:cNvPr id="705" name=""/>
            <p:cNvSpPr/>
            <p:nvPr/>
          </p:nvSpPr>
          <p:spPr>
            <a:xfrm rot="5400000">
              <a:off x="1181160" y="50670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5400000">
              <a:off x="952560" y="52956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5400000">
              <a:off x="647640" y="55242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5400000">
              <a:off x="952560" y="57528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5400000">
              <a:off x="1181160" y="594324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-124560" y="380880"/>
            <a:ext cx="1366560" cy="4608360"/>
            <a:chOff x="-124560" y="380880"/>
            <a:chExt cx="1366560" cy="4608360"/>
          </a:xfrm>
        </p:grpSpPr>
        <p:sp>
          <p:nvSpPr>
            <p:cNvPr id="711" name=""/>
            <p:cNvSpPr/>
            <p:nvPr/>
          </p:nvSpPr>
          <p:spPr>
            <a:xfrm>
              <a:off x="400320" y="395280"/>
              <a:ext cx="379800" cy="4176720"/>
            </a:xfrm>
            <a:custGeom>
              <a:avLst/>
              <a:gdLst/>
              <a:ahLst/>
              <a:rect l="l" t="t" r="r" b="b"/>
              <a:pathLst>
                <a:path w="298" h="2631">
                  <a:moveTo>
                    <a:pt x="79" y="0"/>
                  </a:moveTo>
                  <a:cubicBezTo>
                    <a:pt x="75" y="26"/>
                    <a:pt x="71" y="52"/>
                    <a:pt x="66" y="78"/>
                  </a:cubicBezTo>
                  <a:cubicBezTo>
                    <a:pt x="57" y="126"/>
                    <a:pt x="39" y="222"/>
                    <a:pt x="39" y="222"/>
                  </a:cubicBezTo>
                  <a:cubicBezTo>
                    <a:pt x="48" y="433"/>
                    <a:pt x="28" y="548"/>
                    <a:pt x="131" y="707"/>
                  </a:cubicBezTo>
                  <a:cubicBezTo>
                    <a:pt x="145" y="763"/>
                    <a:pt x="171" y="800"/>
                    <a:pt x="197" y="851"/>
                  </a:cubicBezTo>
                  <a:cubicBezTo>
                    <a:pt x="210" y="902"/>
                    <a:pt x="235" y="944"/>
                    <a:pt x="249" y="995"/>
                  </a:cubicBezTo>
                  <a:cubicBezTo>
                    <a:pt x="258" y="1029"/>
                    <a:pt x="275" y="1099"/>
                    <a:pt x="275" y="1099"/>
                  </a:cubicBezTo>
                  <a:cubicBezTo>
                    <a:pt x="269" y="1235"/>
                    <a:pt x="298" y="1513"/>
                    <a:pt x="170" y="1636"/>
                  </a:cubicBezTo>
                  <a:cubicBezTo>
                    <a:pt x="129" y="1718"/>
                    <a:pt x="77" y="1796"/>
                    <a:pt x="26" y="1872"/>
                  </a:cubicBezTo>
                  <a:cubicBezTo>
                    <a:pt x="21" y="1893"/>
                    <a:pt x="0" y="1972"/>
                    <a:pt x="0" y="1990"/>
                  </a:cubicBezTo>
                  <a:cubicBezTo>
                    <a:pt x="0" y="2147"/>
                    <a:pt x="74" y="2237"/>
                    <a:pt x="197" y="2317"/>
                  </a:cubicBezTo>
                  <a:cubicBezTo>
                    <a:pt x="206" y="2343"/>
                    <a:pt x="214" y="2369"/>
                    <a:pt x="223" y="2395"/>
                  </a:cubicBezTo>
                  <a:cubicBezTo>
                    <a:pt x="227" y="2408"/>
                    <a:pt x="232" y="2422"/>
                    <a:pt x="236" y="2435"/>
                  </a:cubicBezTo>
                  <a:cubicBezTo>
                    <a:pt x="240" y="2448"/>
                    <a:pt x="249" y="2474"/>
                    <a:pt x="249" y="2474"/>
                  </a:cubicBezTo>
                  <a:cubicBezTo>
                    <a:pt x="263" y="2615"/>
                    <a:pt x="242" y="2566"/>
                    <a:pt x="275" y="26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01280" y="1890720"/>
              <a:ext cx="517680" cy="811080"/>
            </a:xfrm>
            <a:custGeom>
              <a:avLst/>
              <a:gdLst/>
              <a:ahLst/>
              <a:rect l="l" t="t" r="r" b="b"/>
              <a:pathLst>
                <a:path w="406" h="511">
                  <a:moveTo>
                    <a:pt x="0" y="0"/>
                  </a:moveTo>
                  <a:cubicBezTo>
                    <a:pt x="105" y="35"/>
                    <a:pt x="108" y="47"/>
                    <a:pt x="183" y="131"/>
                  </a:cubicBezTo>
                  <a:cubicBezTo>
                    <a:pt x="204" y="154"/>
                    <a:pt x="249" y="197"/>
                    <a:pt x="249" y="197"/>
                  </a:cubicBezTo>
                  <a:cubicBezTo>
                    <a:pt x="280" y="290"/>
                    <a:pt x="260" y="252"/>
                    <a:pt x="301" y="314"/>
                  </a:cubicBezTo>
                  <a:cubicBezTo>
                    <a:pt x="333" y="411"/>
                    <a:pt x="335" y="440"/>
                    <a:pt x="406" y="5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1520" y="380880"/>
              <a:ext cx="272520" cy="3948120"/>
            </a:xfrm>
            <a:custGeom>
              <a:avLst/>
              <a:gdLst/>
              <a:ahLst/>
              <a:rect l="l" t="t" r="r" b="b"/>
              <a:pathLst>
                <a:path w="214" h="2487">
                  <a:moveTo>
                    <a:pt x="135" y="0"/>
                  </a:moveTo>
                  <a:cubicBezTo>
                    <a:pt x="120" y="59"/>
                    <a:pt x="95" y="97"/>
                    <a:pt x="83" y="157"/>
                  </a:cubicBezTo>
                  <a:cubicBezTo>
                    <a:pt x="90" y="299"/>
                    <a:pt x="88" y="438"/>
                    <a:pt x="122" y="576"/>
                  </a:cubicBezTo>
                  <a:cubicBezTo>
                    <a:pt x="149" y="874"/>
                    <a:pt x="152" y="1167"/>
                    <a:pt x="135" y="1466"/>
                  </a:cubicBezTo>
                  <a:cubicBezTo>
                    <a:pt x="131" y="1527"/>
                    <a:pt x="94" y="1583"/>
                    <a:pt x="70" y="1636"/>
                  </a:cubicBezTo>
                  <a:cubicBezTo>
                    <a:pt x="59" y="1661"/>
                    <a:pt x="52" y="1689"/>
                    <a:pt x="43" y="1715"/>
                  </a:cubicBezTo>
                  <a:cubicBezTo>
                    <a:pt x="39" y="1728"/>
                    <a:pt x="30" y="1754"/>
                    <a:pt x="30" y="1754"/>
                  </a:cubicBezTo>
                  <a:cubicBezTo>
                    <a:pt x="0" y="1938"/>
                    <a:pt x="8" y="1668"/>
                    <a:pt x="30" y="1999"/>
                  </a:cubicBezTo>
                  <a:cubicBezTo>
                    <a:pt x="33" y="2042"/>
                    <a:pt x="53" y="2275"/>
                    <a:pt x="83" y="2304"/>
                  </a:cubicBezTo>
                  <a:cubicBezTo>
                    <a:pt x="87" y="2317"/>
                    <a:pt x="88" y="2332"/>
                    <a:pt x="96" y="2343"/>
                  </a:cubicBezTo>
                  <a:cubicBezTo>
                    <a:pt x="119" y="2372"/>
                    <a:pt x="174" y="2422"/>
                    <a:pt x="174" y="2422"/>
                  </a:cubicBezTo>
                  <a:cubicBezTo>
                    <a:pt x="178" y="2435"/>
                    <a:pt x="180" y="2449"/>
                    <a:pt x="187" y="2461"/>
                  </a:cubicBezTo>
                  <a:cubicBezTo>
                    <a:pt x="194" y="2472"/>
                    <a:pt x="214" y="2487"/>
                    <a:pt x="214" y="24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-124560" y="735480"/>
              <a:ext cx="1366560" cy="4253760"/>
              <a:chOff x="-124560" y="735480"/>
              <a:chExt cx="1366560" cy="4253760"/>
            </a:xfrm>
          </p:grpSpPr>
          <p:sp>
            <p:nvSpPr>
              <p:cNvPr id="715" name=""/>
              <p:cNvSpPr/>
              <p:nvPr/>
            </p:nvSpPr>
            <p:spPr>
              <a:xfrm>
                <a:off x="170640" y="2051280"/>
                <a:ext cx="150120" cy="1641240"/>
              </a:xfrm>
              <a:custGeom>
                <a:avLst/>
                <a:gdLst/>
                <a:ahLst/>
                <a:rect l="l" t="t" r="r" b="b"/>
                <a:pathLst>
                  <a:path w="118" h="1034">
                    <a:moveTo>
                      <a:pt x="13" y="0"/>
                    </a:moveTo>
                    <a:cubicBezTo>
                      <a:pt x="37" y="73"/>
                      <a:pt x="59" y="147"/>
                      <a:pt x="78" y="222"/>
                    </a:cubicBezTo>
                    <a:cubicBezTo>
                      <a:pt x="63" y="455"/>
                      <a:pt x="81" y="355"/>
                      <a:pt x="39" y="523"/>
                    </a:cubicBezTo>
                    <a:cubicBezTo>
                      <a:pt x="32" y="550"/>
                      <a:pt x="22" y="576"/>
                      <a:pt x="13" y="602"/>
                    </a:cubicBezTo>
                    <a:cubicBezTo>
                      <a:pt x="9" y="615"/>
                      <a:pt x="0" y="641"/>
                      <a:pt x="0" y="641"/>
                    </a:cubicBezTo>
                    <a:cubicBezTo>
                      <a:pt x="8" y="736"/>
                      <a:pt x="6" y="783"/>
                      <a:pt x="26" y="864"/>
                    </a:cubicBezTo>
                    <a:cubicBezTo>
                      <a:pt x="37" y="907"/>
                      <a:pt x="92" y="981"/>
                      <a:pt x="92" y="981"/>
                    </a:cubicBezTo>
                    <a:cubicBezTo>
                      <a:pt x="107" y="1027"/>
                      <a:pt x="95" y="1011"/>
                      <a:pt x="118" y="10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19818600">
                <a:off x="884520" y="2010960"/>
                <a:ext cx="195120" cy="706680"/>
              </a:xfrm>
              <a:custGeom>
                <a:avLst/>
                <a:gdLst>
                  <a:gd name="textAreaLeft" fmla="*/ 45720 w 195120"/>
                  <a:gd name="textAreaRight" fmla="*/ 149400 w 19512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rot="19818600">
                <a:off x="496800" y="3070080"/>
                <a:ext cx="122040" cy="706320"/>
              </a:xfrm>
              <a:custGeom>
                <a:avLst/>
                <a:gdLst>
                  <a:gd name="textAreaLeft" fmla="*/ 28440 w 122040"/>
                  <a:gd name="textAreaRight" fmla="*/ 93240 w 1220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 rot="663000">
                <a:off x="432000" y="1447920"/>
                <a:ext cx="84960" cy="705960"/>
              </a:xfrm>
              <a:custGeom>
                <a:avLst/>
                <a:gdLst>
                  <a:gd name="textAreaLeft" fmla="*/ 19800 w 84960"/>
                  <a:gd name="textAreaRight" fmla="*/ 65160 w 84960"/>
                  <a:gd name="textAreaTop" fmla="*/ 82800 h 705960"/>
                  <a:gd name="textAreaBottom" fmla="*/ 442800 h 70596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20752200">
                <a:off x="676800" y="4278240"/>
                <a:ext cx="122400" cy="706320"/>
              </a:xfrm>
              <a:custGeom>
                <a:avLst/>
                <a:gdLst>
                  <a:gd name="textAreaLeft" fmla="*/ 28800 w 122400"/>
                  <a:gd name="textAreaRight" fmla="*/ 93600 w 1224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rot="1330800">
                <a:off x="0" y="2041560"/>
                <a:ext cx="244440" cy="706680"/>
              </a:xfrm>
              <a:custGeom>
                <a:avLst/>
                <a:gdLst>
                  <a:gd name="textAreaLeft" fmla="*/ 57240 w 244440"/>
                  <a:gd name="textAreaRight" fmla="*/ 186840 w 2444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379200">
                <a:off x="676800" y="2285640"/>
                <a:ext cx="96840" cy="706680"/>
              </a:xfrm>
              <a:custGeom>
                <a:avLst/>
                <a:gdLst>
                  <a:gd name="textAreaLeft" fmla="*/ 22680 w 96840"/>
                  <a:gd name="textAreaRight" fmla="*/ 74160 w 968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rot="19691400">
                <a:off x="370800" y="4267080"/>
                <a:ext cx="61200" cy="706320"/>
              </a:xfrm>
              <a:custGeom>
                <a:avLst/>
                <a:gdLst>
                  <a:gd name="textAreaLeft" fmla="*/ 14400 w 61200"/>
                  <a:gd name="textAreaRight" fmla="*/ 46800 w 612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20752200">
                <a:off x="3240" y="761760"/>
                <a:ext cx="305640" cy="706320"/>
              </a:xfrm>
              <a:custGeom>
                <a:avLst/>
                <a:gdLst>
                  <a:gd name="textAreaLeft" fmla="*/ 71640 w 305640"/>
                  <a:gd name="textAreaRight" fmla="*/ 233640 w 3056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rot="21171600">
                <a:off x="185760" y="3353040"/>
                <a:ext cx="123120" cy="706320"/>
              </a:xfrm>
              <a:custGeom>
                <a:avLst/>
                <a:gdLst>
                  <a:gd name="textAreaLeft" fmla="*/ 28800 w 123120"/>
                  <a:gd name="textAreaRight" fmla="*/ 94320 w 12312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5" name=""/>
          <p:cNvGrpSpPr/>
          <p:nvPr/>
        </p:nvGrpSpPr>
        <p:grpSpPr>
          <a:xfrm>
            <a:off x="8153280" y="228600"/>
            <a:ext cx="990720" cy="1523880"/>
            <a:chOff x="8153280" y="228600"/>
            <a:chExt cx="990720" cy="1523880"/>
          </a:xfrm>
        </p:grpSpPr>
        <p:sp>
          <p:nvSpPr>
            <p:cNvPr id="726" name=""/>
            <p:cNvSpPr/>
            <p:nvPr/>
          </p:nvSpPr>
          <p:spPr>
            <a:xfrm>
              <a:off x="8153280" y="228600"/>
              <a:ext cx="990720" cy="1523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305920" y="304920"/>
              <a:ext cx="685800" cy="129528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66ffff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3c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1047600" y="581040"/>
            <a:ext cx="76212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思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230560" y="1184400"/>
            <a:ext cx="521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看谁能用最快的方法判断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16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个四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能否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328120" y="2251080"/>
            <a:ext cx="50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169       5+1+6+9=21      516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345040" y="3276720"/>
            <a:ext cx="45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169        5+1=6        516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76320" y="5638680"/>
            <a:ext cx="1866960" cy="1066680"/>
            <a:chOff x="76320" y="5638680"/>
            <a:chExt cx="1866960" cy="1066680"/>
          </a:xfrm>
        </p:grpSpPr>
        <p:sp>
          <p:nvSpPr>
            <p:cNvPr id="101" name=""/>
            <p:cNvSpPr/>
            <p:nvPr/>
          </p:nvSpPr>
          <p:spPr>
            <a:xfrm rot="5400000">
              <a:off x="1181160" y="50670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5400000">
              <a:off x="952560" y="52956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5400000">
              <a:off x="647640" y="55242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5400000">
              <a:off x="952560" y="57528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5400000">
              <a:off x="1181160" y="594324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-124560" y="380880"/>
            <a:ext cx="1366560" cy="4608360"/>
            <a:chOff x="-124560" y="380880"/>
            <a:chExt cx="1366560" cy="4608360"/>
          </a:xfrm>
        </p:grpSpPr>
        <p:sp>
          <p:nvSpPr>
            <p:cNvPr id="108" name=""/>
            <p:cNvSpPr/>
            <p:nvPr/>
          </p:nvSpPr>
          <p:spPr>
            <a:xfrm>
              <a:off x="400320" y="395280"/>
              <a:ext cx="379800" cy="4176720"/>
            </a:xfrm>
            <a:custGeom>
              <a:avLst/>
              <a:gdLst/>
              <a:ahLst/>
              <a:rect l="l" t="t" r="r" b="b"/>
              <a:pathLst>
                <a:path w="298" h="2631">
                  <a:moveTo>
                    <a:pt x="79" y="0"/>
                  </a:moveTo>
                  <a:cubicBezTo>
                    <a:pt x="75" y="26"/>
                    <a:pt x="71" y="52"/>
                    <a:pt x="66" y="78"/>
                  </a:cubicBezTo>
                  <a:cubicBezTo>
                    <a:pt x="57" y="126"/>
                    <a:pt x="39" y="222"/>
                    <a:pt x="39" y="222"/>
                  </a:cubicBezTo>
                  <a:cubicBezTo>
                    <a:pt x="48" y="433"/>
                    <a:pt x="28" y="548"/>
                    <a:pt x="131" y="707"/>
                  </a:cubicBezTo>
                  <a:cubicBezTo>
                    <a:pt x="145" y="763"/>
                    <a:pt x="171" y="800"/>
                    <a:pt x="197" y="851"/>
                  </a:cubicBezTo>
                  <a:cubicBezTo>
                    <a:pt x="210" y="902"/>
                    <a:pt x="235" y="944"/>
                    <a:pt x="249" y="995"/>
                  </a:cubicBezTo>
                  <a:cubicBezTo>
                    <a:pt x="258" y="1029"/>
                    <a:pt x="275" y="1099"/>
                    <a:pt x="275" y="1099"/>
                  </a:cubicBezTo>
                  <a:cubicBezTo>
                    <a:pt x="269" y="1235"/>
                    <a:pt x="298" y="1513"/>
                    <a:pt x="170" y="1636"/>
                  </a:cubicBezTo>
                  <a:cubicBezTo>
                    <a:pt x="129" y="1718"/>
                    <a:pt x="77" y="1796"/>
                    <a:pt x="26" y="1872"/>
                  </a:cubicBezTo>
                  <a:cubicBezTo>
                    <a:pt x="21" y="1893"/>
                    <a:pt x="0" y="1972"/>
                    <a:pt x="0" y="1990"/>
                  </a:cubicBezTo>
                  <a:cubicBezTo>
                    <a:pt x="0" y="2147"/>
                    <a:pt x="74" y="2237"/>
                    <a:pt x="197" y="2317"/>
                  </a:cubicBezTo>
                  <a:cubicBezTo>
                    <a:pt x="206" y="2343"/>
                    <a:pt x="214" y="2369"/>
                    <a:pt x="223" y="2395"/>
                  </a:cubicBezTo>
                  <a:cubicBezTo>
                    <a:pt x="227" y="2408"/>
                    <a:pt x="232" y="2422"/>
                    <a:pt x="236" y="2435"/>
                  </a:cubicBezTo>
                  <a:cubicBezTo>
                    <a:pt x="240" y="2448"/>
                    <a:pt x="249" y="2474"/>
                    <a:pt x="249" y="2474"/>
                  </a:cubicBezTo>
                  <a:cubicBezTo>
                    <a:pt x="263" y="2615"/>
                    <a:pt x="242" y="2566"/>
                    <a:pt x="275" y="26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1280" y="1890720"/>
              <a:ext cx="517680" cy="811080"/>
            </a:xfrm>
            <a:custGeom>
              <a:avLst/>
              <a:gdLst/>
              <a:ahLst/>
              <a:rect l="l" t="t" r="r" b="b"/>
              <a:pathLst>
                <a:path w="406" h="511">
                  <a:moveTo>
                    <a:pt x="0" y="0"/>
                  </a:moveTo>
                  <a:cubicBezTo>
                    <a:pt x="105" y="35"/>
                    <a:pt x="108" y="47"/>
                    <a:pt x="183" y="131"/>
                  </a:cubicBezTo>
                  <a:cubicBezTo>
                    <a:pt x="204" y="154"/>
                    <a:pt x="249" y="197"/>
                    <a:pt x="249" y="197"/>
                  </a:cubicBezTo>
                  <a:cubicBezTo>
                    <a:pt x="280" y="290"/>
                    <a:pt x="260" y="252"/>
                    <a:pt x="301" y="314"/>
                  </a:cubicBezTo>
                  <a:cubicBezTo>
                    <a:pt x="333" y="411"/>
                    <a:pt x="335" y="440"/>
                    <a:pt x="406" y="5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1520" y="380880"/>
              <a:ext cx="272520" cy="3948120"/>
            </a:xfrm>
            <a:custGeom>
              <a:avLst/>
              <a:gdLst/>
              <a:ahLst/>
              <a:rect l="l" t="t" r="r" b="b"/>
              <a:pathLst>
                <a:path w="214" h="2487">
                  <a:moveTo>
                    <a:pt x="135" y="0"/>
                  </a:moveTo>
                  <a:cubicBezTo>
                    <a:pt x="120" y="59"/>
                    <a:pt x="95" y="97"/>
                    <a:pt x="83" y="157"/>
                  </a:cubicBezTo>
                  <a:cubicBezTo>
                    <a:pt x="90" y="299"/>
                    <a:pt x="88" y="438"/>
                    <a:pt x="122" y="576"/>
                  </a:cubicBezTo>
                  <a:cubicBezTo>
                    <a:pt x="149" y="874"/>
                    <a:pt x="152" y="1167"/>
                    <a:pt x="135" y="1466"/>
                  </a:cubicBezTo>
                  <a:cubicBezTo>
                    <a:pt x="131" y="1527"/>
                    <a:pt x="94" y="1583"/>
                    <a:pt x="70" y="1636"/>
                  </a:cubicBezTo>
                  <a:cubicBezTo>
                    <a:pt x="59" y="1661"/>
                    <a:pt x="52" y="1689"/>
                    <a:pt x="43" y="1715"/>
                  </a:cubicBezTo>
                  <a:cubicBezTo>
                    <a:pt x="39" y="1728"/>
                    <a:pt x="30" y="1754"/>
                    <a:pt x="30" y="1754"/>
                  </a:cubicBezTo>
                  <a:cubicBezTo>
                    <a:pt x="0" y="1938"/>
                    <a:pt x="8" y="1668"/>
                    <a:pt x="30" y="1999"/>
                  </a:cubicBezTo>
                  <a:cubicBezTo>
                    <a:pt x="33" y="2042"/>
                    <a:pt x="53" y="2275"/>
                    <a:pt x="83" y="2304"/>
                  </a:cubicBezTo>
                  <a:cubicBezTo>
                    <a:pt x="87" y="2317"/>
                    <a:pt x="88" y="2332"/>
                    <a:pt x="96" y="2343"/>
                  </a:cubicBezTo>
                  <a:cubicBezTo>
                    <a:pt x="119" y="2372"/>
                    <a:pt x="174" y="2422"/>
                    <a:pt x="174" y="2422"/>
                  </a:cubicBezTo>
                  <a:cubicBezTo>
                    <a:pt x="178" y="2435"/>
                    <a:pt x="180" y="2449"/>
                    <a:pt x="187" y="2461"/>
                  </a:cubicBezTo>
                  <a:cubicBezTo>
                    <a:pt x="194" y="2472"/>
                    <a:pt x="214" y="2487"/>
                    <a:pt x="214" y="24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-124560" y="735480"/>
              <a:ext cx="1366560" cy="4253760"/>
              <a:chOff x="-124560" y="735480"/>
              <a:chExt cx="1366560" cy="4253760"/>
            </a:xfrm>
          </p:grpSpPr>
          <p:sp>
            <p:nvSpPr>
              <p:cNvPr id="112" name=""/>
              <p:cNvSpPr/>
              <p:nvPr/>
            </p:nvSpPr>
            <p:spPr>
              <a:xfrm>
                <a:off x="170640" y="2051280"/>
                <a:ext cx="150120" cy="1641240"/>
              </a:xfrm>
              <a:custGeom>
                <a:avLst/>
                <a:gdLst/>
                <a:ahLst/>
                <a:rect l="l" t="t" r="r" b="b"/>
                <a:pathLst>
                  <a:path w="118" h="1034">
                    <a:moveTo>
                      <a:pt x="13" y="0"/>
                    </a:moveTo>
                    <a:cubicBezTo>
                      <a:pt x="37" y="73"/>
                      <a:pt x="59" y="147"/>
                      <a:pt x="78" y="222"/>
                    </a:cubicBezTo>
                    <a:cubicBezTo>
                      <a:pt x="63" y="455"/>
                      <a:pt x="81" y="355"/>
                      <a:pt x="39" y="523"/>
                    </a:cubicBezTo>
                    <a:cubicBezTo>
                      <a:pt x="32" y="550"/>
                      <a:pt x="22" y="576"/>
                      <a:pt x="13" y="602"/>
                    </a:cubicBezTo>
                    <a:cubicBezTo>
                      <a:pt x="9" y="615"/>
                      <a:pt x="0" y="641"/>
                      <a:pt x="0" y="641"/>
                    </a:cubicBezTo>
                    <a:cubicBezTo>
                      <a:pt x="8" y="736"/>
                      <a:pt x="6" y="783"/>
                      <a:pt x="26" y="864"/>
                    </a:cubicBezTo>
                    <a:cubicBezTo>
                      <a:pt x="37" y="907"/>
                      <a:pt x="92" y="981"/>
                      <a:pt x="92" y="981"/>
                    </a:cubicBezTo>
                    <a:cubicBezTo>
                      <a:pt x="107" y="1027"/>
                      <a:pt x="95" y="1011"/>
                      <a:pt x="118" y="10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9818600">
                <a:off x="884520" y="2010960"/>
                <a:ext cx="195120" cy="706680"/>
              </a:xfrm>
              <a:custGeom>
                <a:avLst/>
                <a:gdLst>
                  <a:gd name="textAreaLeft" fmla="*/ 45720 w 195120"/>
                  <a:gd name="textAreaRight" fmla="*/ 149400 w 19512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818600">
                <a:off x="496800" y="3070080"/>
                <a:ext cx="122040" cy="706320"/>
              </a:xfrm>
              <a:custGeom>
                <a:avLst/>
                <a:gdLst>
                  <a:gd name="textAreaLeft" fmla="*/ 28440 w 122040"/>
                  <a:gd name="textAreaRight" fmla="*/ 93240 w 1220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663000">
                <a:off x="432000" y="1447920"/>
                <a:ext cx="84960" cy="705960"/>
              </a:xfrm>
              <a:custGeom>
                <a:avLst/>
                <a:gdLst>
                  <a:gd name="textAreaLeft" fmla="*/ 19800 w 84960"/>
                  <a:gd name="textAreaRight" fmla="*/ 65160 w 84960"/>
                  <a:gd name="textAreaTop" fmla="*/ 82800 h 705960"/>
                  <a:gd name="textAreaBottom" fmla="*/ 442800 h 70596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20752200">
                <a:off x="676800" y="4278240"/>
                <a:ext cx="122400" cy="706320"/>
              </a:xfrm>
              <a:custGeom>
                <a:avLst/>
                <a:gdLst>
                  <a:gd name="textAreaLeft" fmla="*/ 28800 w 122400"/>
                  <a:gd name="textAreaRight" fmla="*/ 93600 w 1224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1330800">
                <a:off x="0" y="2041560"/>
                <a:ext cx="244440" cy="706680"/>
              </a:xfrm>
              <a:custGeom>
                <a:avLst/>
                <a:gdLst>
                  <a:gd name="textAreaLeft" fmla="*/ 57240 w 244440"/>
                  <a:gd name="textAreaRight" fmla="*/ 186840 w 2444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379200">
                <a:off x="676800" y="2285640"/>
                <a:ext cx="96840" cy="706680"/>
              </a:xfrm>
              <a:custGeom>
                <a:avLst/>
                <a:gdLst>
                  <a:gd name="textAreaLeft" fmla="*/ 22680 w 96840"/>
                  <a:gd name="textAreaRight" fmla="*/ 74160 w 968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19691400">
                <a:off x="370800" y="4267080"/>
                <a:ext cx="61200" cy="706320"/>
              </a:xfrm>
              <a:custGeom>
                <a:avLst/>
                <a:gdLst>
                  <a:gd name="textAreaLeft" fmla="*/ 14400 w 61200"/>
                  <a:gd name="textAreaRight" fmla="*/ 46800 w 612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20752200">
                <a:off x="3240" y="761760"/>
                <a:ext cx="305640" cy="706320"/>
              </a:xfrm>
              <a:custGeom>
                <a:avLst/>
                <a:gdLst>
                  <a:gd name="textAreaLeft" fmla="*/ 71640 w 305640"/>
                  <a:gd name="textAreaRight" fmla="*/ 233640 w 3056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1171600">
                <a:off x="185760" y="3353040"/>
                <a:ext cx="123120" cy="706320"/>
              </a:xfrm>
              <a:custGeom>
                <a:avLst/>
                <a:gdLst>
                  <a:gd name="textAreaLeft" fmla="*/ 28800 w 123120"/>
                  <a:gd name="textAreaRight" fmla="*/ 94320 w 12312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8153280" y="228600"/>
            <a:ext cx="990720" cy="1523880"/>
            <a:chOff x="8153280" y="228600"/>
            <a:chExt cx="990720" cy="1523880"/>
          </a:xfrm>
        </p:grpSpPr>
        <p:sp>
          <p:nvSpPr>
            <p:cNvPr id="123" name=""/>
            <p:cNvSpPr/>
            <p:nvPr/>
          </p:nvSpPr>
          <p:spPr>
            <a:xfrm>
              <a:off x="8153280" y="228600"/>
              <a:ext cx="990720" cy="15238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05920" y="304920"/>
              <a:ext cx="685800" cy="129528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66ffff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3c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047600" y="581040"/>
            <a:ext cx="76212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复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20560" y="1219320"/>
            <a:ext cx="267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的数有什么特征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45400" y="1905120"/>
            <a:ext cx="47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个位上是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数都能被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整除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57360" y="2666880"/>
            <a:ext cx="267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的数有什么特征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76720" y="3405240"/>
            <a:ext cx="34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个位上是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或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数都能被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整除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4720" y="4191120"/>
            <a:ext cx="34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能同时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的数有什么特征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85520" y="4876920"/>
            <a:ext cx="36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个位上是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数能同时被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整除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76320" y="5638680"/>
            <a:ext cx="1866960" cy="1066680"/>
            <a:chOff x="76320" y="5638680"/>
            <a:chExt cx="1866960" cy="1066680"/>
          </a:xfrm>
        </p:grpSpPr>
        <p:sp>
          <p:nvSpPr>
            <p:cNvPr id="134" name=""/>
            <p:cNvSpPr/>
            <p:nvPr/>
          </p:nvSpPr>
          <p:spPr>
            <a:xfrm rot="5400000">
              <a:off x="1181160" y="50670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5400000">
              <a:off x="952560" y="52956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5400000">
              <a:off x="647640" y="55242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5400000">
              <a:off x="952560" y="57528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5400000">
              <a:off x="1181160" y="594324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-124560" y="380880"/>
            <a:ext cx="1366560" cy="4608360"/>
            <a:chOff x="-124560" y="380880"/>
            <a:chExt cx="1366560" cy="4608360"/>
          </a:xfrm>
        </p:grpSpPr>
        <p:sp>
          <p:nvSpPr>
            <p:cNvPr id="140" name=""/>
            <p:cNvSpPr/>
            <p:nvPr/>
          </p:nvSpPr>
          <p:spPr>
            <a:xfrm>
              <a:off x="400320" y="395280"/>
              <a:ext cx="379800" cy="4176720"/>
            </a:xfrm>
            <a:custGeom>
              <a:avLst/>
              <a:gdLst/>
              <a:ahLst/>
              <a:rect l="l" t="t" r="r" b="b"/>
              <a:pathLst>
                <a:path w="298" h="2631">
                  <a:moveTo>
                    <a:pt x="79" y="0"/>
                  </a:moveTo>
                  <a:cubicBezTo>
                    <a:pt x="75" y="26"/>
                    <a:pt x="71" y="52"/>
                    <a:pt x="66" y="78"/>
                  </a:cubicBezTo>
                  <a:cubicBezTo>
                    <a:pt x="57" y="126"/>
                    <a:pt x="39" y="222"/>
                    <a:pt x="39" y="222"/>
                  </a:cubicBezTo>
                  <a:cubicBezTo>
                    <a:pt x="48" y="433"/>
                    <a:pt x="28" y="548"/>
                    <a:pt x="131" y="707"/>
                  </a:cubicBezTo>
                  <a:cubicBezTo>
                    <a:pt x="145" y="763"/>
                    <a:pt x="171" y="800"/>
                    <a:pt x="197" y="851"/>
                  </a:cubicBezTo>
                  <a:cubicBezTo>
                    <a:pt x="210" y="902"/>
                    <a:pt x="235" y="944"/>
                    <a:pt x="249" y="995"/>
                  </a:cubicBezTo>
                  <a:cubicBezTo>
                    <a:pt x="258" y="1029"/>
                    <a:pt x="275" y="1099"/>
                    <a:pt x="275" y="1099"/>
                  </a:cubicBezTo>
                  <a:cubicBezTo>
                    <a:pt x="269" y="1235"/>
                    <a:pt x="298" y="1513"/>
                    <a:pt x="170" y="1636"/>
                  </a:cubicBezTo>
                  <a:cubicBezTo>
                    <a:pt x="129" y="1718"/>
                    <a:pt x="77" y="1796"/>
                    <a:pt x="26" y="1872"/>
                  </a:cubicBezTo>
                  <a:cubicBezTo>
                    <a:pt x="21" y="1893"/>
                    <a:pt x="0" y="1972"/>
                    <a:pt x="0" y="1990"/>
                  </a:cubicBezTo>
                  <a:cubicBezTo>
                    <a:pt x="0" y="2147"/>
                    <a:pt x="74" y="2237"/>
                    <a:pt x="197" y="2317"/>
                  </a:cubicBezTo>
                  <a:cubicBezTo>
                    <a:pt x="206" y="2343"/>
                    <a:pt x="214" y="2369"/>
                    <a:pt x="223" y="2395"/>
                  </a:cubicBezTo>
                  <a:cubicBezTo>
                    <a:pt x="227" y="2408"/>
                    <a:pt x="232" y="2422"/>
                    <a:pt x="236" y="2435"/>
                  </a:cubicBezTo>
                  <a:cubicBezTo>
                    <a:pt x="240" y="2448"/>
                    <a:pt x="249" y="2474"/>
                    <a:pt x="249" y="2474"/>
                  </a:cubicBezTo>
                  <a:cubicBezTo>
                    <a:pt x="263" y="2615"/>
                    <a:pt x="242" y="2566"/>
                    <a:pt x="275" y="26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1280" y="1890720"/>
              <a:ext cx="517680" cy="811080"/>
            </a:xfrm>
            <a:custGeom>
              <a:avLst/>
              <a:gdLst/>
              <a:ahLst/>
              <a:rect l="l" t="t" r="r" b="b"/>
              <a:pathLst>
                <a:path w="406" h="511">
                  <a:moveTo>
                    <a:pt x="0" y="0"/>
                  </a:moveTo>
                  <a:cubicBezTo>
                    <a:pt x="105" y="35"/>
                    <a:pt x="108" y="47"/>
                    <a:pt x="183" y="131"/>
                  </a:cubicBezTo>
                  <a:cubicBezTo>
                    <a:pt x="204" y="154"/>
                    <a:pt x="249" y="197"/>
                    <a:pt x="249" y="197"/>
                  </a:cubicBezTo>
                  <a:cubicBezTo>
                    <a:pt x="280" y="290"/>
                    <a:pt x="260" y="252"/>
                    <a:pt x="301" y="314"/>
                  </a:cubicBezTo>
                  <a:cubicBezTo>
                    <a:pt x="333" y="411"/>
                    <a:pt x="335" y="440"/>
                    <a:pt x="406" y="5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520" y="380880"/>
              <a:ext cx="272520" cy="3948120"/>
            </a:xfrm>
            <a:custGeom>
              <a:avLst/>
              <a:gdLst/>
              <a:ahLst/>
              <a:rect l="l" t="t" r="r" b="b"/>
              <a:pathLst>
                <a:path w="214" h="2487">
                  <a:moveTo>
                    <a:pt x="135" y="0"/>
                  </a:moveTo>
                  <a:cubicBezTo>
                    <a:pt x="120" y="59"/>
                    <a:pt x="95" y="97"/>
                    <a:pt x="83" y="157"/>
                  </a:cubicBezTo>
                  <a:cubicBezTo>
                    <a:pt x="90" y="299"/>
                    <a:pt x="88" y="438"/>
                    <a:pt x="122" y="576"/>
                  </a:cubicBezTo>
                  <a:cubicBezTo>
                    <a:pt x="149" y="874"/>
                    <a:pt x="152" y="1167"/>
                    <a:pt x="135" y="1466"/>
                  </a:cubicBezTo>
                  <a:cubicBezTo>
                    <a:pt x="131" y="1527"/>
                    <a:pt x="94" y="1583"/>
                    <a:pt x="70" y="1636"/>
                  </a:cubicBezTo>
                  <a:cubicBezTo>
                    <a:pt x="59" y="1661"/>
                    <a:pt x="52" y="1689"/>
                    <a:pt x="43" y="1715"/>
                  </a:cubicBezTo>
                  <a:cubicBezTo>
                    <a:pt x="39" y="1728"/>
                    <a:pt x="30" y="1754"/>
                    <a:pt x="30" y="1754"/>
                  </a:cubicBezTo>
                  <a:cubicBezTo>
                    <a:pt x="0" y="1938"/>
                    <a:pt x="8" y="1668"/>
                    <a:pt x="30" y="1999"/>
                  </a:cubicBezTo>
                  <a:cubicBezTo>
                    <a:pt x="33" y="2042"/>
                    <a:pt x="53" y="2275"/>
                    <a:pt x="83" y="2304"/>
                  </a:cubicBezTo>
                  <a:cubicBezTo>
                    <a:pt x="87" y="2317"/>
                    <a:pt x="88" y="2332"/>
                    <a:pt x="96" y="2343"/>
                  </a:cubicBezTo>
                  <a:cubicBezTo>
                    <a:pt x="119" y="2372"/>
                    <a:pt x="174" y="2422"/>
                    <a:pt x="174" y="2422"/>
                  </a:cubicBezTo>
                  <a:cubicBezTo>
                    <a:pt x="178" y="2435"/>
                    <a:pt x="180" y="2449"/>
                    <a:pt x="187" y="2461"/>
                  </a:cubicBezTo>
                  <a:cubicBezTo>
                    <a:pt x="194" y="2472"/>
                    <a:pt x="214" y="2487"/>
                    <a:pt x="214" y="24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-124560" y="735480"/>
              <a:ext cx="1366560" cy="4253760"/>
              <a:chOff x="-124560" y="735480"/>
              <a:chExt cx="1366560" cy="4253760"/>
            </a:xfrm>
          </p:grpSpPr>
          <p:sp>
            <p:nvSpPr>
              <p:cNvPr id="144" name=""/>
              <p:cNvSpPr/>
              <p:nvPr/>
            </p:nvSpPr>
            <p:spPr>
              <a:xfrm>
                <a:off x="170640" y="2051280"/>
                <a:ext cx="150120" cy="1641240"/>
              </a:xfrm>
              <a:custGeom>
                <a:avLst/>
                <a:gdLst/>
                <a:ahLst/>
                <a:rect l="l" t="t" r="r" b="b"/>
                <a:pathLst>
                  <a:path w="118" h="1034">
                    <a:moveTo>
                      <a:pt x="13" y="0"/>
                    </a:moveTo>
                    <a:cubicBezTo>
                      <a:pt x="37" y="73"/>
                      <a:pt x="59" y="147"/>
                      <a:pt x="78" y="222"/>
                    </a:cubicBezTo>
                    <a:cubicBezTo>
                      <a:pt x="63" y="455"/>
                      <a:pt x="81" y="355"/>
                      <a:pt x="39" y="523"/>
                    </a:cubicBezTo>
                    <a:cubicBezTo>
                      <a:pt x="32" y="550"/>
                      <a:pt x="22" y="576"/>
                      <a:pt x="13" y="602"/>
                    </a:cubicBezTo>
                    <a:cubicBezTo>
                      <a:pt x="9" y="615"/>
                      <a:pt x="0" y="641"/>
                      <a:pt x="0" y="641"/>
                    </a:cubicBezTo>
                    <a:cubicBezTo>
                      <a:pt x="8" y="736"/>
                      <a:pt x="6" y="783"/>
                      <a:pt x="26" y="864"/>
                    </a:cubicBezTo>
                    <a:cubicBezTo>
                      <a:pt x="37" y="907"/>
                      <a:pt x="92" y="981"/>
                      <a:pt x="92" y="981"/>
                    </a:cubicBezTo>
                    <a:cubicBezTo>
                      <a:pt x="107" y="1027"/>
                      <a:pt x="95" y="1011"/>
                      <a:pt x="118" y="10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9818600">
                <a:off x="884520" y="2010960"/>
                <a:ext cx="195120" cy="706680"/>
              </a:xfrm>
              <a:custGeom>
                <a:avLst/>
                <a:gdLst>
                  <a:gd name="textAreaLeft" fmla="*/ 45720 w 195120"/>
                  <a:gd name="textAreaRight" fmla="*/ 149400 w 19512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9818600">
                <a:off x="496800" y="3070080"/>
                <a:ext cx="122040" cy="706320"/>
              </a:xfrm>
              <a:custGeom>
                <a:avLst/>
                <a:gdLst>
                  <a:gd name="textAreaLeft" fmla="*/ 28440 w 122040"/>
                  <a:gd name="textAreaRight" fmla="*/ 93240 w 1220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 rot="663000">
                <a:off x="432000" y="1447920"/>
                <a:ext cx="84960" cy="705960"/>
              </a:xfrm>
              <a:custGeom>
                <a:avLst/>
                <a:gdLst>
                  <a:gd name="textAreaLeft" fmla="*/ 19800 w 84960"/>
                  <a:gd name="textAreaRight" fmla="*/ 65160 w 84960"/>
                  <a:gd name="textAreaTop" fmla="*/ 82800 h 705960"/>
                  <a:gd name="textAreaBottom" fmla="*/ 442800 h 70596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20752200">
                <a:off x="676800" y="4278240"/>
                <a:ext cx="122400" cy="706320"/>
              </a:xfrm>
              <a:custGeom>
                <a:avLst/>
                <a:gdLst>
                  <a:gd name="textAreaLeft" fmla="*/ 28800 w 122400"/>
                  <a:gd name="textAreaRight" fmla="*/ 93600 w 1224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1330800">
                <a:off x="0" y="2041560"/>
                <a:ext cx="244440" cy="706680"/>
              </a:xfrm>
              <a:custGeom>
                <a:avLst/>
                <a:gdLst>
                  <a:gd name="textAreaLeft" fmla="*/ 57240 w 244440"/>
                  <a:gd name="textAreaRight" fmla="*/ 186840 w 2444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379200">
                <a:off x="676800" y="2285640"/>
                <a:ext cx="96840" cy="706680"/>
              </a:xfrm>
              <a:custGeom>
                <a:avLst/>
                <a:gdLst>
                  <a:gd name="textAreaLeft" fmla="*/ 22680 w 96840"/>
                  <a:gd name="textAreaRight" fmla="*/ 74160 w 968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9691400">
                <a:off x="370800" y="4267080"/>
                <a:ext cx="61200" cy="706320"/>
              </a:xfrm>
              <a:custGeom>
                <a:avLst/>
                <a:gdLst>
                  <a:gd name="textAreaLeft" fmla="*/ 14400 w 61200"/>
                  <a:gd name="textAreaRight" fmla="*/ 46800 w 612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0752200">
                <a:off x="3240" y="761760"/>
                <a:ext cx="305640" cy="706320"/>
              </a:xfrm>
              <a:custGeom>
                <a:avLst/>
                <a:gdLst>
                  <a:gd name="textAreaLeft" fmla="*/ 71640 w 305640"/>
                  <a:gd name="textAreaRight" fmla="*/ 233640 w 3056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1171600">
                <a:off x="185760" y="3353040"/>
                <a:ext cx="123120" cy="706320"/>
              </a:xfrm>
              <a:custGeom>
                <a:avLst/>
                <a:gdLst>
                  <a:gd name="textAreaLeft" fmla="*/ 28800 w 123120"/>
                  <a:gd name="textAreaRight" fmla="*/ 94320 w 12312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8153280" y="228600"/>
            <a:ext cx="990720" cy="1523880"/>
            <a:chOff x="8153280" y="228600"/>
            <a:chExt cx="990720" cy="1523880"/>
          </a:xfrm>
        </p:grpSpPr>
        <p:sp>
          <p:nvSpPr>
            <p:cNvPr id="155" name=""/>
            <p:cNvSpPr/>
            <p:nvPr/>
          </p:nvSpPr>
          <p:spPr>
            <a:xfrm>
              <a:off x="8153280" y="228600"/>
              <a:ext cx="990720" cy="1523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05920" y="304920"/>
              <a:ext cx="685800" cy="129528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66ffff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3c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047600" y="581040"/>
            <a:ext cx="76212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13520" y="914400"/>
            <a:ext cx="232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什么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143160" y="1371600"/>
            <a:ext cx="2266920" cy="789120"/>
            <a:chOff x="3143160" y="1371600"/>
            <a:chExt cx="2266920" cy="789120"/>
          </a:xfrm>
        </p:grpSpPr>
        <p:pic>
          <p:nvPicPr>
            <p:cNvPr id="160" name="" descr=""/>
            <p:cNvPicPr/>
            <p:nvPr/>
          </p:nvPicPr>
          <p:blipFill>
            <a:blip r:embed="rId3"/>
            <a:stretch/>
          </p:blipFill>
          <p:spPr>
            <a:xfrm>
              <a:off x="3143160" y="1371600"/>
              <a:ext cx="914400" cy="789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1" name=""/>
            <p:cNvGrpSpPr/>
            <p:nvPr/>
          </p:nvGrpSpPr>
          <p:grpSpPr>
            <a:xfrm>
              <a:off x="4362480" y="1523880"/>
              <a:ext cx="1047600" cy="612720"/>
              <a:chOff x="4362480" y="1523880"/>
              <a:chExt cx="1047600" cy="612720"/>
            </a:xfrm>
          </p:grpSpPr>
          <p:pic>
            <p:nvPicPr>
              <p:cNvPr id="16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362480" y="1523880"/>
                <a:ext cx="743040" cy="53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667400" y="1600200"/>
                <a:ext cx="742680" cy="536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64" name=""/>
          <p:cNvGrpSpPr/>
          <p:nvPr/>
        </p:nvGrpSpPr>
        <p:grpSpPr>
          <a:xfrm>
            <a:off x="1219320" y="3124080"/>
            <a:ext cx="1523880" cy="761760"/>
            <a:chOff x="1219320" y="3124080"/>
            <a:chExt cx="1523880" cy="761760"/>
          </a:xfrm>
        </p:grpSpPr>
        <p:sp>
          <p:nvSpPr>
            <p:cNvPr id="165" name=""/>
            <p:cNvSpPr/>
            <p:nvPr/>
          </p:nvSpPr>
          <p:spPr>
            <a:xfrm>
              <a:off x="1219320" y="3124080"/>
              <a:ext cx="1523880" cy="76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6"/>
            <a:stretch/>
          </p:blipFill>
          <p:spPr>
            <a:xfrm>
              <a:off x="1371600" y="3124080"/>
              <a:ext cx="742320" cy="53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7"/>
            <a:stretch/>
          </p:blipFill>
          <p:spPr>
            <a:xfrm>
              <a:off x="1619280" y="3200040"/>
              <a:ext cx="742320" cy="53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8"/>
            <a:stretch/>
          </p:blipFill>
          <p:spPr>
            <a:xfrm>
              <a:off x="1923840" y="3276360"/>
              <a:ext cx="742680" cy="53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"/>
          <p:cNvGrpSpPr/>
          <p:nvPr/>
        </p:nvGrpSpPr>
        <p:grpSpPr>
          <a:xfrm>
            <a:off x="2819520" y="3124080"/>
            <a:ext cx="1523880" cy="761760"/>
            <a:chOff x="2819520" y="3124080"/>
            <a:chExt cx="1523880" cy="761760"/>
          </a:xfrm>
        </p:grpSpPr>
        <p:sp>
          <p:nvSpPr>
            <p:cNvPr id="170" name=""/>
            <p:cNvSpPr/>
            <p:nvPr/>
          </p:nvSpPr>
          <p:spPr>
            <a:xfrm>
              <a:off x="2819520" y="3124080"/>
              <a:ext cx="1523880" cy="76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1" name="" descr=""/>
            <p:cNvPicPr/>
            <p:nvPr/>
          </p:nvPicPr>
          <p:blipFill>
            <a:blip r:embed="rId9"/>
            <a:stretch/>
          </p:blipFill>
          <p:spPr>
            <a:xfrm>
              <a:off x="2971800" y="3124080"/>
              <a:ext cx="742320" cy="53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10"/>
            <a:stretch/>
          </p:blipFill>
          <p:spPr>
            <a:xfrm>
              <a:off x="3219480" y="3200040"/>
              <a:ext cx="742320" cy="53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11"/>
            <a:stretch/>
          </p:blipFill>
          <p:spPr>
            <a:xfrm>
              <a:off x="3524040" y="3276360"/>
              <a:ext cx="742680" cy="53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"/>
          <p:cNvGrpSpPr/>
          <p:nvPr/>
        </p:nvGrpSpPr>
        <p:grpSpPr>
          <a:xfrm>
            <a:off x="4419720" y="3124080"/>
            <a:ext cx="1523880" cy="761760"/>
            <a:chOff x="4419720" y="3124080"/>
            <a:chExt cx="1523880" cy="761760"/>
          </a:xfrm>
        </p:grpSpPr>
        <p:sp>
          <p:nvSpPr>
            <p:cNvPr id="175" name=""/>
            <p:cNvSpPr/>
            <p:nvPr/>
          </p:nvSpPr>
          <p:spPr>
            <a:xfrm>
              <a:off x="4419720" y="3124080"/>
              <a:ext cx="1523880" cy="76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12"/>
            <a:stretch/>
          </p:blipFill>
          <p:spPr>
            <a:xfrm>
              <a:off x="4572000" y="3124080"/>
              <a:ext cx="742320" cy="53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13"/>
            <a:stretch/>
          </p:blipFill>
          <p:spPr>
            <a:xfrm>
              <a:off x="4819680" y="3200040"/>
              <a:ext cx="742320" cy="53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14"/>
            <a:stretch/>
          </p:blipFill>
          <p:spPr>
            <a:xfrm>
              <a:off x="5124240" y="3276360"/>
              <a:ext cx="742680" cy="53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"/>
          <p:cNvSpPr/>
          <p:nvPr/>
        </p:nvSpPr>
        <p:spPr>
          <a:xfrm flipH="1">
            <a:off x="2437920" y="22096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2209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37760" y="22096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3124080"/>
            <a:ext cx="15238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5"/>
          <a:stretch/>
        </p:blipFill>
        <p:spPr>
          <a:xfrm>
            <a:off x="6553080" y="3124080"/>
            <a:ext cx="743040" cy="5367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109680" y="4114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6376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10040" y="4971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76320" y="5638680"/>
            <a:ext cx="1866960" cy="1066680"/>
            <a:chOff x="76320" y="5638680"/>
            <a:chExt cx="1866960" cy="1066680"/>
          </a:xfrm>
        </p:grpSpPr>
        <p:sp>
          <p:nvSpPr>
            <p:cNvPr id="189" name=""/>
            <p:cNvSpPr/>
            <p:nvPr/>
          </p:nvSpPr>
          <p:spPr>
            <a:xfrm rot="5400000">
              <a:off x="1181160" y="50670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5400000">
              <a:off x="952560" y="52956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5400000">
              <a:off x="647640" y="55242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5400000">
              <a:off x="952560" y="57528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5400000">
              <a:off x="1181160" y="594324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-124560" y="380880"/>
            <a:ext cx="1366560" cy="4608360"/>
            <a:chOff x="-124560" y="380880"/>
            <a:chExt cx="1366560" cy="4608360"/>
          </a:xfrm>
        </p:grpSpPr>
        <p:sp>
          <p:nvSpPr>
            <p:cNvPr id="195" name=""/>
            <p:cNvSpPr/>
            <p:nvPr/>
          </p:nvSpPr>
          <p:spPr>
            <a:xfrm>
              <a:off x="400320" y="395280"/>
              <a:ext cx="379800" cy="4176720"/>
            </a:xfrm>
            <a:custGeom>
              <a:avLst/>
              <a:gdLst/>
              <a:ahLst/>
              <a:rect l="l" t="t" r="r" b="b"/>
              <a:pathLst>
                <a:path w="298" h="2631">
                  <a:moveTo>
                    <a:pt x="79" y="0"/>
                  </a:moveTo>
                  <a:cubicBezTo>
                    <a:pt x="75" y="26"/>
                    <a:pt x="71" y="52"/>
                    <a:pt x="66" y="78"/>
                  </a:cubicBezTo>
                  <a:cubicBezTo>
                    <a:pt x="57" y="126"/>
                    <a:pt x="39" y="222"/>
                    <a:pt x="39" y="222"/>
                  </a:cubicBezTo>
                  <a:cubicBezTo>
                    <a:pt x="48" y="433"/>
                    <a:pt x="28" y="548"/>
                    <a:pt x="131" y="707"/>
                  </a:cubicBezTo>
                  <a:cubicBezTo>
                    <a:pt x="145" y="763"/>
                    <a:pt x="171" y="800"/>
                    <a:pt x="197" y="851"/>
                  </a:cubicBezTo>
                  <a:cubicBezTo>
                    <a:pt x="210" y="902"/>
                    <a:pt x="235" y="944"/>
                    <a:pt x="249" y="995"/>
                  </a:cubicBezTo>
                  <a:cubicBezTo>
                    <a:pt x="258" y="1029"/>
                    <a:pt x="275" y="1099"/>
                    <a:pt x="275" y="1099"/>
                  </a:cubicBezTo>
                  <a:cubicBezTo>
                    <a:pt x="269" y="1235"/>
                    <a:pt x="298" y="1513"/>
                    <a:pt x="170" y="1636"/>
                  </a:cubicBezTo>
                  <a:cubicBezTo>
                    <a:pt x="129" y="1718"/>
                    <a:pt x="77" y="1796"/>
                    <a:pt x="26" y="1872"/>
                  </a:cubicBezTo>
                  <a:cubicBezTo>
                    <a:pt x="21" y="1893"/>
                    <a:pt x="0" y="1972"/>
                    <a:pt x="0" y="1990"/>
                  </a:cubicBezTo>
                  <a:cubicBezTo>
                    <a:pt x="0" y="2147"/>
                    <a:pt x="74" y="2237"/>
                    <a:pt x="197" y="2317"/>
                  </a:cubicBezTo>
                  <a:cubicBezTo>
                    <a:pt x="206" y="2343"/>
                    <a:pt x="214" y="2369"/>
                    <a:pt x="223" y="2395"/>
                  </a:cubicBezTo>
                  <a:cubicBezTo>
                    <a:pt x="227" y="2408"/>
                    <a:pt x="232" y="2422"/>
                    <a:pt x="236" y="2435"/>
                  </a:cubicBezTo>
                  <a:cubicBezTo>
                    <a:pt x="240" y="2448"/>
                    <a:pt x="249" y="2474"/>
                    <a:pt x="249" y="2474"/>
                  </a:cubicBezTo>
                  <a:cubicBezTo>
                    <a:pt x="263" y="2615"/>
                    <a:pt x="242" y="2566"/>
                    <a:pt x="275" y="26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1280" y="1890720"/>
              <a:ext cx="517680" cy="811080"/>
            </a:xfrm>
            <a:custGeom>
              <a:avLst/>
              <a:gdLst/>
              <a:ahLst/>
              <a:rect l="l" t="t" r="r" b="b"/>
              <a:pathLst>
                <a:path w="406" h="511">
                  <a:moveTo>
                    <a:pt x="0" y="0"/>
                  </a:moveTo>
                  <a:cubicBezTo>
                    <a:pt x="105" y="35"/>
                    <a:pt x="108" y="47"/>
                    <a:pt x="183" y="131"/>
                  </a:cubicBezTo>
                  <a:cubicBezTo>
                    <a:pt x="204" y="154"/>
                    <a:pt x="249" y="197"/>
                    <a:pt x="249" y="197"/>
                  </a:cubicBezTo>
                  <a:cubicBezTo>
                    <a:pt x="280" y="290"/>
                    <a:pt x="260" y="252"/>
                    <a:pt x="301" y="314"/>
                  </a:cubicBezTo>
                  <a:cubicBezTo>
                    <a:pt x="333" y="411"/>
                    <a:pt x="335" y="440"/>
                    <a:pt x="406" y="5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520" y="380880"/>
              <a:ext cx="272520" cy="3948120"/>
            </a:xfrm>
            <a:custGeom>
              <a:avLst/>
              <a:gdLst/>
              <a:ahLst/>
              <a:rect l="l" t="t" r="r" b="b"/>
              <a:pathLst>
                <a:path w="214" h="2487">
                  <a:moveTo>
                    <a:pt x="135" y="0"/>
                  </a:moveTo>
                  <a:cubicBezTo>
                    <a:pt x="120" y="59"/>
                    <a:pt x="95" y="97"/>
                    <a:pt x="83" y="157"/>
                  </a:cubicBezTo>
                  <a:cubicBezTo>
                    <a:pt x="90" y="299"/>
                    <a:pt x="88" y="438"/>
                    <a:pt x="122" y="576"/>
                  </a:cubicBezTo>
                  <a:cubicBezTo>
                    <a:pt x="149" y="874"/>
                    <a:pt x="152" y="1167"/>
                    <a:pt x="135" y="1466"/>
                  </a:cubicBezTo>
                  <a:cubicBezTo>
                    <a:pt x="131" y="1527"/>
                    <a:pt x="94" y="1583"/>
                    <a:pt x="70" y="1636"/>
                  </a:cubicBezTo>
                  <a:cubicBezTo>
                    <a:pt x="59" y="1661"/>
                    <a:pt x="52" y="1689"/>
                    <a:pt x="43" y="1715"/>
                  </a:cubicBezTo>
                  <a:cubicBezTo>
                    <a:pt x="39" y="1728"/>
                    <a:pt x="30" y="1754"/>
                    <a:pt x="30" y="1754"/>
                  </a:cubicBezTo>
                  <a:cubicBezTo>
                    <a:pt x="0" y="1938"/>
                    <a:pt x="8" y="1668"/>
                    <a:pt x="30" y="1999"/>
                  </a:cubicBezTo>
                  <a:cubicBezTo>
                    <a:pt x="33" y="2042"/>
                    <a:pt x="53" y="2275"/>
                    <a:pt x="83" y="2304"/>
                  </a:cubicBezTo>
                  <a:cubicBezTo>
                    <a:pt x="87" y="2317"/>
                    <a:pt x="88" y="2332"/>
                    <a:pt x="96" y="2343"/>
                  </a:cubicBezTo>
                  <a:cubicBezTo>
                    <a:pt x="119" y="2372"/>
                    <a:pt x="174" y="2422"/>
                    <a:pt x="174" y="2422"/>
                  </a:cubicBezTo>
                  <a:cubicBezTo>
                    <a:pt x="178" y="2435"/>
                    <a:pt x="180" y="2449"/>
                    <a:pt x="187" y="2461"/>
                  </a:cubicBezTo>
                  <a:cubicBezTo>
                    <a:pt x="194" y="2472"/>
                    <a:pt x="214" y="2487"/>
                    <a:pt x="214" y="24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-124560" y="735480"/>
              <a:ext cx="1366560" cy="4253760"/>
              <a:chOff x="-124560" y="735480"/>
              <a:chExt cx="1366560" cy="4253760"/>
            </a:xfrm>
          </p:grpSpPr>
          <p:sp>
            <p:nvSpPr>
              <p:cNvPr id="199" name=""/>
              <p:cNvSpPr/>
              <p:nvPr/>
            </p:nvSpPr>
            <p:spPr>
              <a:xfrm>
                <a:off x="170640" y="2051280"/>
                <a:ext cx="150120" cy="1641240"/>
              </a:xfrm>
              <a:custGeom>
                <a:avLst/>
                <a:gdLst/>
                <a:ahLst/>
                <a:rect l="l" t="t" r="r" b="b"/>
                <a:pathLst>
                  <a:path w="118" h="1034">
                    <a:moveTo>
                      <a:pt x="13" y="0"/>
                    </a:moveTo>
                    <a:cubicBezTo>
                      <a:pt x="37" y="73"/>
                      <a:pt x="59" y="147"/>
                      <a:pt x="78" y="222"/>
                    </a:cubicBezTo>
                    <a:cubicBezTo>
                      <a:pt x="63" y="455"/>
                      <a:pt x="81" y="355"/>
                      <a:pt x="39" y="523"/>
                    </a:cubicBezTo>
                    <a:cubicBezTo>
                      <a:pt x="32" y="550"/>
                      <a:pt x="22" y="576"/>
                      <a:pt x="13" y="602"/>
                    </a:cubicBezTo>
                    <a:cubicBezTo>
                      <a:pt x="9" y="615"/>
                      <a:pt x="0" y="641"/>
                      <a:pt x="0" y="641"/>
                    </a:cubicBezTo>
                    <a:cubicBezTo>
                      <a:pt x="8" y="736"/>
                      <a:pt x="6" y="783"/>
                      <a:pt x="26" y="864"/>
                    </a:cubicBezTo>
                    <a:cubicBezTo>
                      <a:pt x="37" y="907"/>
                      <a:pt x="92" y="981"/>
                      <a:pt x="92" y="981"/>
                    </a:cubicBezTo>
                    <a:cubicBezTo>
                      <a:pt x="107" y="1027"/>
                      <a:pt x="95" y="1011"/>
                      <a:pt x="118" y="10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19818600">
                <a:off x="884520" y="2010960"/>
                <a:ext cx="195120" cy="706680"/>
              </a:xfrm>
              <a:custGeom>
                <a:avLst/>
                <a:gdLst>
                  <a:gd name="textAreaLeft" fmla="*/ 45720 w 195120"/>
                  <a:gd name="textAreaRight" fmla="*/ 149400 w 19512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9818600">
                <a:off x="496800" y="3070080"/>
                <a:ext cx="122040" cy="706320"/>
              </a:xfrm>
              <a:custGeom>
                <a:avLst/>
                <a:gdLst>
                  <a:gd name="textAreaLeft" fmla="*/ 28440 w 122040"/>
                  <a:gd name="textAreaRight" fmla="*/ 93240 w 1220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rot="663000">
                <a:off x="432000" y="1447920"/>
                <a:ext cx="84960" cy="705960"/>
              </a:xfrm>
              <a:custGeom>
                <a:avLst/>
                <a:gdLst>
                  <a:gd name="textAreaLeft" fmla="*/ 19800 w 84960"/>
                  <a:gd name="textAreaRight" fmla="*/ 65160 w 84960"/>
                  <a:gd name="textAreaTop" fmla="*/ 82800 h 705960"/>
                  <a:gd name="textAreaBottom" fmla="*/ 442800 h 70596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20752200">
                <a:off x="676800" y="4278240"/>
                <a:ext cx="122400" cy="706320"/>
              </a:xfrm>
              <a:custGeom>
                <a:avLst/>
                <a:gdLst>
                  <a:gd name="textAreaLeft" fmla="*/ 28800 w 122400"/>
                  <a:gd name="textAreaRight" fmla="*/ 93600 w 1224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1330800">
                <a:off x="0" y="2041560"/>
                <a:ext cx="244440" cy="706680"/>
              </a:xfrm>
              <a:custGeom>
                <a:avLst/>
                <a:gdLst>
                  <a:gd name="textAreaLeft" fmla="*/ 57240 w 244440"/>
                  <a:gd name="textAreaRight" fmla="*/ 186840 w 2444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379200">
                <a:off x="676800" y="2285640"/>
                <a:ext cx="96840" cy="706680"/>
              </a:xfrm>
              <a:custGeom>
                <a:avLst/>
                <a:gdLst>
                  <a:gd name="textAreaLeft" fmla="*/ 22680 w 96840"/>
                  <a:gd name="textAreaRight" fmla="*/ 74160 w 968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9691400">
                <a:off x="370800" y="4267080"/>
                <a:ext cx="61200" cy="706320"/>
              </a:xfrm>
              <a:custGeom>
                <a:avLst/>
                <a:gdLst>
                  <a:gd name="textAreaLeft" fmla="*/ 14400 w 61200"/>
                  <a:gd name="textAreaRight" fmla="*/ 46800 w 612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20752200">
                <a:off x="3240" y="761760"/>
                <a:ext cx="305640" cy="706320"/>
              </a:xfrm>
              <a:custGeom>
                <a:avLst/>
                <a:gdLst>
                  <a:gd name="textAreaLeft" fmla="*/ 71640 w 305640"/>
                  <a:gd name="textAreaRight" fmla="*/ 233640 w 3056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21171600">
                <a:off x="185760" y="3353040"/>
                <a:ext cx="123120" cy="706320"/>
              </a:xfrm>
              <a:custGeom>
                <a:avLst/>
                <a:gdLst>
                  <a:gd name="textAreaLeft" fmla="*/ 28800 w 123120"/>
                  <a:gd name="textAreaRight" fmla="*/ 94320 w 12312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9" name=""/>
          <p:cNvGrpSpPr/>
          <p:nvPr/>
        </p:nvGrpSpPr>
        <p:grpSpPr>
          <a:xfrm>
            <a:off x="8153280" y="228600"/>
            <a:ext cx="990720" cy="1523880"/>
            <a:chOff x="8153280" y="228600"/>
            <a:chExt cx="990720" cy="1523880"/>
          </a:xfrm>
        </p:grpSpPr>
        <p:sp>
          <p:nvSpPr>
            <p:cNvPr id="210" name=""/>
            <p:cNvSpPr/>
            <p:nvPr/>
          </p:nvSpPr>
          <p:spPr>
            <a:xfrm>
              <a:off x="8153280" y="228600"/>
              <a:ext cx="990720" cy="1523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305920" y="304920"/>
              <a:ext cx="685800" cy="129528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66ffff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3c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1047600" y="581040"/>
            <a:ext cx="76212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13520" y="914400"/>
            <a:ext cx="232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什么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3143160" y="1371600"/>
            <a:ext cx="914400" cy="789120"/>
          </a:xfrm>
          <a:prstGeom prst="rect">
            <a:avLst/>
          </a:prstGeom>
          <a:ln w="0">
            <a:noFill/>
          </a:ln>
        </p:spPr>
      </p:pic>
      <p:grpSp>
        <p:nvGrpSpPr>
          <p:cNvPr id="215" name=""/>
          <p:cNvGrpSpPr/>
          <p:nvPr/>
        </p:nvGrpSpPr>
        <p:grpSpPr>
          <a:xfrm>
            <a:off x="1219320" y="3124080"/>
            <a:ext cx="1523880" cy="761760"/>
            <a:chOff x="1219320" y="3124080"/>
            <a:chExt cx="1523880" cy="761760"/>
          </a:xfrm>
        </p:grpSpPr>
        <p:sp>
          <p:nvSpPr>
            <p:cNvPr id="216" name=""/>
            <p:cNvSpPr/>
            <p:nvPr/>
          </p:nvSpPr>
          <p:spPr>
            <a:xfrm>
              <a:off x="1219320" y="3124080"/>
              <a:ext cx="1523880" cy="76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7" name="" descr=""/>
            <p:cNvPicPr/>
            <p:nvPr/>
          </p:nvPicPr>
          <p:blipFill>
            <a:blip r:embed="rId4"/>
            <a:stretch/>
          </p:blipFill>
          <p:spPr>
            <a:xfrm>
              <a:off x="1371600" y="3124080"/>
              <a:ext cx="742320" cy="53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5"/>
            <a:stretch/>
          </p:blipFill>
          <p:spPr>
            <a:xfrm>
              <a:off x="1619280" y="3200040"/>
              <a:ext cx="742320" cy="53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6"/>
            <a:stretch/>
          </p:blipFill>
          <p:spPr>
            <a:xfrm>
              <a:off x="1923840" y="3276360"/>
              <a:ext cx="742680" cy="53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0" name=""/>
          <p:cNvGrpSpPr/>
          <p:nvPr/>
        </p:nvGrpSpPr>
        <p:grpSpPr>
          <a:xfrm>
            <a:off x="2819520" y="3124080"/>
            <a:ext cx="1523880" cy="761760"/>
            <a:chOff x="2819520" y="3124080"/>
            <a:chExt cx="1523880" cy="761760"/>
          </a:xfrm>
        </p:grpSpPr>
        <p:sp>
          <p:nvSpPr>
            <p:cNvPr id="221" name=""/>
            <p:cNvSpPr/>
            <p:nvPr/>
          </p:nvSpPr>
          <p:spPr>
            <a:xfrm>
              <a:off x="2819520" y="3124080"/>
              <a:ext cx="1523880" cy="76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2" name="" descr=""/>
            <p:cNvPicPr/>
            <p:nvPr/>
          </p:nvPicPr>
          <p:blipFill>
            <a:blip r:embed="rId7"/>
            <a:stretch/>
          </p:blipFill>
          <p:spPr>
            <a:xfrm>
              <a:off x="2971800" y="3124080"/>
              <a:ext cx="742320" cy="53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8"/>
            <a:stretch/>
          </p:blipFill>
          <p:spPr>
            <a:xfrm>
              <a:off x="3219480" y="3200040"/>
              <a:ext cx="742320" cy="53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9"/>
            <a:stretch/>
          </p:blipFill>
          <p:spPr>
            <a:xfrm>
              <a:off x="3524040" y="3276360"/>
              <a:ext cx="742680" cy="53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"/>
          <p:cNvGrpSpPr/>
          <p:nvPr/>
        </p:nvGrpSpPr>
        <p:grpSpPr>
          <a:xfrm>
            <a:off x="4419720" y="3124080"/>
            <a:ext cx="1523880" cy="761760"/>
            <a:chOff x="4419720" y="3124080"/>
            <a:chExt cx="1523880" cy="761760"/>
          </a:xfrm>
        </p:grpSpPr>
        <p:sp>
          <p:nvSpPr>
            <p:cNvPr id="226" name=""/>
            <p:cNvSpPr/>
            <p:nvPr/>
          </p:nvSpPr>
          <p:spPr>
            <a:xfrm>
              <a:off x="4419720" y="3124080"/>
              <a:ext cx="1523880" cy="76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10"/>
            <a:stretch/>
          </p:blipFill>
          <p:spPr>
            <a:xfrm>
              <a:off x="4572000" y="3124080"/>
              <a:ext cx="742320" cy="53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11"/>
            <a:stretch/>
          </p:blipFill>
          <p:spPr>
            <a:xfrm>
              <a:off x="4819680" y="3200040"/>
              <a:ext cx="742320" cy="53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12"/>
            <a:stretch/>
          </p:blipFill>
          <p:spPr>
            <a:xfrm>
              <a:off x="5124240" y="3276360"/>
              <a:ext cx="742680" cy="53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0" name=""/>
          <p:cNvSpPr/>
          <p:nvPr/>
        </p:nvSpPr>
        <p:spPr>
          <a:xfrm flipH="1">
            <a:off x="2437920" y="22096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2209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7760" y="22096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00800" y="3124080"/>
            <a:ext cx="15238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3"/>
          <a:stretch/>
        </p:blipFill>
        <p:spPr>
          <a:xfrm>
            <a:off x="6553080" y="3124080"/>
            <a:ext cx="743040" cy="5367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109680" y="4114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6376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10040" y="4971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781680" y="3197160"/>
            <a:ext cx="1047600" cy="612720"/>
            <a:chOff x="6781680" y="3197160"/>
            <a:chExt cx="1047600" cy="612720"/>
          </a:xfrm>
        </p:grpSpPr>
        <p:pic>
          <p:nvPicPr>
            <p:cNvPr id="239" name="" descr=""/>
            <p:cNvPicPr/>
            <p:nvPr/>
          </p:nvPicPr>
          <p:blipFill>
            <a:blip r:embed="rId14"/>
            <a:stretch/>
          </p:blipFill>
          <p:spPr>
            <a:xfrm>
              <a:off x="6781680" y="3197160"/>
              <a:ext cx="743040" cy="53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15"/>
            <a:stretch/>
          </p:blipFill>
          <p:spPr>
            <a:xfrm>
              <a:off x="7086600" y="3273480"/>
              <a:ext cx="742680" cy="53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1" name=""/>
          <p:cNvSpPr/>
          <p:nvPr/>
        </p:nvSpPr>
        <p:spPr>
          <a:xfrm>
            <a:off x="365436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6171200">
            <a:off x="3435480" y="5128560"/>
            <a:ext cx="75960" cy="60948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98520" y="5562720"/>
            <a:ext cx="8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09680" y="4971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44160" y="4917960"/>
            <a:ext cx="15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能被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整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320" y="5638680"/>
            <a:ext cx="1866960" cy="1066680"/>
            <a:chOff x="76320" y="5638680"/>
            <a:chExt cx="1866960" cy="1066680"/>
          </a:xfrm>
        </p:grpSpPr>
        <p:sp>
          <p:nvSpPr>
            <p:cNvPr id="248" name=""/>
            <p:cNvSpPr/>
            <p:nvPr/>
          </p:nvSpPr>
          <p:spPr>
            <a:xfrm rot="5400000">
              <a:off x="1181160" y="50670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5400000">
              <a:off x="952560" y="52956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00000">
              <a:off x="647640" y="55242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400000">
              <a:off x="952560" y="57528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5400000">
              <a:off x="1181160" y="594324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-124560" y="380880"/>
            <a:ext cx="1366560" cy="4608360"/>
            <a:chOff x="-124560" y="380880"/>
            <a:chExt cx="1366560" cy="4608360"/>
          </a:xfrm>
        </p:grpSpPr>
        <p:sp>
          <p:nvSpPr>
            <p:cNvPr id="254" name=""/>
            <p:cNvSpPr/>
            <p:nvPr/>
          </p:nvSpPr>
          <p:spPr>
            <a:xfrm>
              <a:off x="400320" y="395280"/>
              <a:ext cx="379800" cy="4176720"/>
            </a:xfrm>
            <a:custGeom>
              <a:avLst/>
              <a:gdLst/>
              <a:ahLst/>
              <a:rect l="l" t="t" r="r" b="b"/>
              <a:pathLst>
                <a:path w="298" h="2631">
                  <a:moveTo>
                    <a:pt x="79" y="0"/>
                  </a:moveTo>
                  <a:cubicBezTo>
                    <a:pt x="75" y="26"/>
                    <a:pt x="71" y="52"/>
                    <a:pt x="66" y="78"/>
                  </a:cubicBezTo>
                  <a:cubicBezTo>
                    <a:pt x="57" y="126"/>
                    <a:pt x="39" y="222"/>
                    <a:pt x="39" y="222"/>
                  </a:cubicBezTo>
                  <a:cubicBezTo>
                    <a:pt x="48" y="433"/>
                    <a:pt x="28" y="548"/>
                    <a:pt x="131" y="707"/>
                  </a:cubicBezTo>
                  <a:cubicBezTo>
                    <a:pt x="145" y="763"/>
                    <a:pt x="171" y="800"/>
                    <a:pt x="197" y="851"/>
                  </a:cubicBezTo>
                  <a:cubicBezTo>
                    <a:pt x="210" y="902"/>
                    <a:pt x="235" y="944"/>
                    <a:pt x="249" y="995"/>
                  </a:cubicBezTo>
                  <a:cubicBezTo>
                    <a:pt x="258" y="1029"/>
                    <a:pt x="275" y="1099"/>
                    <a:pt x="275" y="1099"/>
                  </a:cubicBezTo>
                  <a:cubicBezTo>
                    <a:pt x="269" y="1235"/>
                    <a:pt x="298" y="1513"/>
                    <a:pt x="170" y="1636"/>
                  </a:cubicBezTo>
                  <a:cubicBezTo>
                    <a:pt x="129" y="1718"/>
                    <a:pt x="77" y="1796"/>
                    <a:pt x="26" y="1872"/>
                  </a:cubicBezTo>
                  <a:cubicBezTo>
                    <a:pt x="21" y="1893"/>
                    <a:pt x="0" y="1972"/>
                    <a:pt x="0" y="1990"/>
                  </a:cubicBezTo>
                  <a:cubicBezTo>
                    <a:pt x="0" y="2147"/>
                    <a:pt x="74" y="2237"/>
                    <a:pt x="197" y="2317"/>
                  </a:cubicBezTo>
                  <a:cubicBezTo>
                    <a:pt x="206" y="2343"/>
                    <a:pt x="214" y="2369"/>
                    <a:pt x="223" y="2395"/>
                  </a:cubicBezTo>
                  <a:cubicBezTo>
                    <a:pt x="227" y="2408"/>
                    <a:pt x="232" y="2422"/>
                    <a:pt x="236" y="2435"/>
                  </a:cubicBezTo>
                  <a:cubicBezTo>
                    <a:pt x="240" y="2448"/>
                    <a:pt x="249" y="2474"/>
                    <a:pt x="249" y="2474"/>
                  </a:cubicBezTo>
                  <a:cubicBezTo>
                    <a:pt x="263" y="2615"/>
                    <a:pt x="242" y="2566"/>
                    <a:pt x="275" y="26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01280" y="1890720"/>
              <a:ext cx="517680" cy="811080"/>
            </a:xfrm>
            <a:custGeom>
              <a:avLst/>
              <a:gdLst/>
              <a:ahLst/>
              <a:rect l="l" t="t" r="r" b="b"/>
              <a:pathLst>
                <a:path w="406" h="511">
                  <a:moveTo>
                    <a:pt x="0" y="0"/>
                  </a:moveTo>
                  <a:cubicBezTo>
                    <a:pt x="105" y="35"/>
                    <a:pt x="108" y="47"/>
                    <a:pt x="183" y="131"/>
                  </a:cubicBezTo>
                  <a:cubicBezTo>
                    <a:pt x="204" y="154"/>
                    <a:pt x="249" y="197"/>
                    <a:pt x="249" y="197"/>
                  </a:cubicBezTo>
                  <a:cubicBezTo>
                    <a:pt x="280" y="290"/>
                    <a:pt x="260" y="252"/>
                    <a:pt x="301" y="314"/>
                  </a:cubicBezTo>
                  <a:cubicBezTo>
                    <a:pt x="333" y="411"/>
                    <a:pt x="335" y="440"/>
                    <a:pt x="406" y="5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1520" y="380880"/>
              <a:ext cx="272520" cy="3948120"/>
            </a:xfrm>
            <a:custGeom>
              <a:avLst/>
              <a:gdLst/>
              <a:ahLst/>
              <a:rect l="l" t="t" r="r" b="b"/>
              <a:pathLst>
                <a:path w="214" h="2487">
                  <a:moveTo>
                    <a:pt x="135" y="0"/>
                  </a:moveTo>
                  <a:cubicBezTo>
                    <a:pt x="120" y="59"/>
                    <a:pt x="95" y="97"/>
                    <a:pt x="83" y="157"/>
                  </a:cubicBezTo>
                  <a:cubicBezTo>
                    <a:pt x="90" y="299"/>
                    <a:pt x="88" y="438"/>
                    <a:pt x="122" y="576"/>
                  </a:cubicBezTo>
                  <a:cubicBezTo>
                    <a:pt x="149" y="874"/>
                    <a:pt x="152" y="1167"/>
                    <a:pt x="135" y="1466"/>
                  </a:cubicBezTo>
                  <a:cubicBezTo>
                    <a:pt x="131" y="1527"/>
                    <a:pt x="94" y="1583"/>
                    <a:pt x="70" y="1636"/>
                  </a:cubicBezTo>
                  <a:cubicBezTo>
                    <a:pt x="59" y="1661"/>
                    <a:pt x="52" y="1689"/>
                    <a:pt x="43" y="1715"/>
                  </a:cubicBezTo>
                  <a:cubicBezTo>
                    <a:pt x="39" y="1728"/>
                    <a:pt x="30" y="1754"/>
                    <a:pt x="30" y="1754"/>
                  </a:cubicBezTo>
                  <a:cubicBezTo>
                    <a:pt x="0" y="1938"/>
                    <a:pt x="8" y="1668"/>
                    <a:pt x="30" y="1999"/>
                  </a:cubicBezTo>
                  <a:cubicBezTo>
                    <a:pt x="33" y="2042"/>
                    <a:pt x="53" y="2275"/>
                    <a:pt x="83" y="2304"/>
                  </a:cubicBezTo>
                  <a:cubicBezTo>
                    <a:pt x="87" y="2317"/>
                    <a:pt x="88" y="2332"/>
                    <a:pt x="96" y="2343"/>
                  </a:cubicBezTo>
                  <a:cubicBezTo>
                    <a:pt x="119" y="2372"/>
                    <a:pt x="174" y="2422"/>
                    <a:pt x="174" y="2422"/>
                  </a:cubicBezTo>
                  <a:cubicBezTo>
                    <a:pt x="178" y="2435"/>
                    <a:pt x="180" y="2449"/>
                    <a:pt x="187" y="2461"/>
                  </a:cubicBezTo>
                  <a:cubicBezTo>
                    <a:pt x="194" y="2472"/>
                    <a:pt x="214" y="2487"/>
                    <a:pt x="214" y="24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-124560" y="735480"/>
              <a:ext cx="1366560" cy="4253760"/>
              <a:chOff x="-124560" y="735480"/>
              <a:chExt cx="1366560" cy="4253760"/>
            </a:xfrm>
          </p:grpSpPr>
          <p:sp>
            <p:nvSpPr>
              <p:cNvPr id="258" name=""/>
              <p:cNvSpPr/>
              <p:nvPr/>
            </p:nvSpPr>
            <p:spPr>
              <a:xfrm>
                <a:off x="170640" y="2051280"/>
                <a:ext cx="150120" cy="1641240"/>
              </a:xfrm>
              <a:custGeom>
                <a:avLst/>
                <a:gdLst/>
                <a:ahLst/>
                <a:rect l="l" t="t" r="r" b="b"/>
                <a:pathLst>
                  <a:path w="118" h="1034">
                    <a:moveTo>
                      <a:pt x="13" y="0"/>
                    </a:moveTo>
                    <a:cubicBezTo>
                      <a:pt x="37" y="73"/>
                      <a:pt x="59" y="147"/>
                      <a:pt x="78" y="222"/>
                    </a:cubicBezTo>
                    <a:cubicBezTo>
                      <a:pt x="63" y="455"/>
                      <a:pt x="81" y="355"/>
                      <a:pt x="39" y="523"/>
                    </a:cubicBezTo>
                    <a:cubicBezTo>
                      <a:pt x="32" y="550"/>
                      <a:pt x="22" y="576"/>
                      <a:pt x="13" y="602"/>
                    </a:cubicBezTo>
                    <a:cubicBezTo>
                      <a:pt x="9" y="615"/>
                      <a:pt x="0" y="641"/>
                      <a:pt x="0" y="641"/>
                    </a:cubicBezTo>
                    <a:cubicBezTo>
                      <a:pt x="8" y="736"/>
                      <a:pt x="6" y="783"/>
                      <a:pt x="26" y="864"/>
                    </a:cubicBezTo>
                    <a:cubicBezTo>
                      <a:pt x="37" y="907"/>
                      <a:pt x="92" y="981"/>
                      <a:pt x="92" y="981"/>
                    </a:cubicBezTo>
                    <a:cubicBezTo>
                      <a:pt x="107" y="1027"/>
                      <a:pt x="95" y="1011"/>
                      <a:pt x="118" y="10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19818600">
                <a:off x="884520" y="2010960"/>
                <a:ext cx="195120" cy="706680"/>
              </a:xfrm>
              <a:custGeom>
                <a:avLst/>
                <a:gdLst>
                  <a:gd name="textAreaLeft" fmla="*/ 45720 w 195120"/>
                  <a:gd name="textAreaRight" fmla="*/ 149400 w 19512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19818600">
                <a:off x="496800" y="3070080"/>
                <a:ext cx="122040" cy="706320"/>
              </a:xfrm>
              <a:custGeom>
                <a:avLst/>
                <a:gdLst>
                  <a:gd name="textAreaLeft" fmla="*/ 28440 w 122040"/>
                  <a:gd name="textAreaRight" fmla="*/ 93240 w 1220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 rot="663000">
                <a:off x="432000" y="1447920"/>
                <a:ext cx="84960" cy="705960"/>
              </a:xfrm>
              <a:custGeom>
                <a:avLst/>
                <a:gdLst>
                  <a:gd name="textAreaLeft" fmla="*/ 19800 w 84960"/>
                  <a:gd name="textAreaRight" fmla="*/ 65160 w 84960"/>
                  <a:gd name="textAreaTop" fmla="*/ 82800 h 705960"/>
                  <a:gd name="textAreaBottom" fmla="*/ 442800 h 70596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752200">
                <a:off x="676800" y="4278240"/>
                <a:ext cx="122400" cy="706320"/>
              </a:xfrm>
              <a:custGeom>
                <a:avLst/>
                <a:gdLst>
                  <a:gd name="textAreaLeft" fmla="*/ 28800 w 122400"/>
                  <a:gd name="textAreaRight" fmla="*/ 93600 w 1224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330800">
                <a:off x="0" y="2041560"/>
                <a:ext cx="244440" cy="706680"/>
              </a:xfrm>
              <a:custGeom>
                <a:avLst/>
                <a:gdLst>
                  <a:gd name="textAreaLeft" fmla="*/ 57240 w 244440"/>
                  <a:gd name="textAreaRight" fmla="*/ 186840 w 2444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379200">
                <a:off x="676800" y="2285640"/>
                <a:ext cx="96840" cy="706680"/>
              </a:xfrm>
              <a:custGeom>
                <a:avLst/>
                <a:gdLst>
                  <a:gd name="textAreaLeft" fmla="*/ 22680 w 96840"/>
                  <a:gd name="textAreaRight" fmla="*/ 74160 w 968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691400">
                <a:off x="370800" y="4267080"/>
                <a:ext cx="61200" cy="706320"/>
              </a:xfrm>
              <a:custGeom>
                <a:avLst/>
                <a:gdLst>
                  <a:gd name="textAreaLeft" fmla="*/ 14400 w 61200"/>
                  <a:gd name="textAreaRight" fmla="*/ 46800 w 612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20752200">
                <a:off x="3240" y="761760"/>
                <a:ext cx="305640" cy="706320"/>
              </a:xfrm>
              <a:custGeom>
                <a:avLst/>
                <a:gdLst>
                  <a:gd name="textAreaLeft" fmla="*/ 71640 w 305640"/>
                  <a:gd name="textAreaRight" fmla="*/ 233640 w 3056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21171600">
                <a:off x="185760" y="3353040"/>
                <a:ext cx="123120" cy="706320"/>
              </a:xfrm>
              <a:custGeom>
                <a:avLst/>
                <a:gdLst>
                  <a:gd name="textAreaLeft" fmla="*/ 28800 w 123120"/>
                  <a:gd name="textAreaRight" fmla="*/ 94320 w 12312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8153280" y="228600"/>
            <a:ext cx="990720" cy="1523880"/>
            <a:chOff x="8153280" y="228600"/>
            <a:chExt cx="990720" cy="1523880"/>
          </a:xfrm>
        </p:grpSpPr>
        <p:sp>
          <p:nvSpPr>
            <p:cNvPr id="269" name=""/>
            <p:cNvSpPr/>
            <p:nvPr/>
          </p:nvSpPr>
          <p:spPr>
            <a:xfrm>
              <a:off x="8153280" y="228600"/>
              <a:ext cx="990720" cy="1523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05920" y="304920"/>
              <a:ext cx="685800" cy="129528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66ffff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3c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1047600" y="581040"/>
            <a:ext cx="76212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13520" y="914400"/>
            <a:ext cx="232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什么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2437920" y="25909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90400" y="25909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09680" y="4343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6376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10040" y="520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590920" y="1371600"/>
            <a:ext cx="4266720" cy="1143000"/>
            <a:chOff x="2590920" y="1371600"/>
            <a:chExt cx="4266720" cy="1143000"/>
          </a:xfrm>
        </p:grpSpPr>
        <p:grpSp>
          <p:nvGrpSpPr>
            <p:cNvPr id="279" name=""/>
            <p:cNvGrpSpPr/>
            <p:nvPr/>
          </p:nvGrpSpPr>
          <p:grpSpPr>
            <a:xfrm>
              <a:off x="5219640" y="1523880"/>
              <a:ext cx="1638000" cy="762120"/>
              <a:chOff x="5219640" y="1523880"/>
              <a:chExt cx="1638000" cy="762120"/>
            </a:xfrm>
          </p:grpSpPr>
          <p:grpSp>
            <p:nvGrpSpPr>
              <p:cNvPr id="280" name=""/>
              <p:cNvGrpSpPr/>
              <p:nvPr/>
            </p:nvGrpSpPr>
            <p:grpSpPr>
              <a:xfrm>
                <a:off x="5219640" y="1523880"/>
                <a:ext cx="1047600" cy="612720"/>
                <a:chOff x="5219640" y="1523880"/>
                <a:chExt cx="1047600" cy="612720"/>
              </a:xfrm>
            </p:grpSpPr>
            <p:pic>
              <p:nvPicPr>
                <p:cNvPr id="28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19640" y="1523880"/>
                  <a:ext cx="743040" cy="53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524560" y="1600200"/>
                  <a:ext cx="742680" cy="536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83" name=""/>
              <p:cNvGrpSpPr/>
              <p:nvPr/>
            </p:nvGrpSpPr>
            <p:grpSpPr>
              <a:xfrm>
                <a:off x="5810040" y="1673280"/>
                <a:ext cx="1047600" cy="612720"/>
                <a:chOff x="5810040" y="1673280"/>
                <a:chExt cx="1047600" cy="612720"/>
              </a:xfrm>
            </p:grpSpPr>
            <p:pic>
              <p:nvPicPr>
                <p:cNvPr id="28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810040" y="1673280"/>
                  <a:ext cx="743040" cy="53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14960" y="1749600"/>
                  <a:ext cx="742680" cy="536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86" name=""/>
            <p:cNvGrpSpPr/>
            <p:nvPr/>
          </p:nvGrpSpPr>
          <p:grpSpPr>
            <a:xfrm>
              <a:off x="2590920" y="1371600"/>
              <a:ext cx="1981080" cy="1143000"/>
              <a:chOff x="2590920" y="1371600"/>
              <a:chExt cx="1981080" cy="1143000"/>
            </a:xfrm>
          </p:grpSpPr>
          <p:sp>
            <p:nvSpPr>
              <p:cNvPr id="287" name=""/>
              <p:cNvSpPr/>
              <p:nvPr/>
            </p:nvSpPr>
            <p:spPr>
              <a:xfrm>
                <a:off x="2590920" y="1371600"/>
                <a:ext cx="1981080" cy="1143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8" name=""/>
              <p:cNvGrpSpPr/>
              <p:nvPr/>
            </p:nvGrpSpPr>
            <p:grpSpPr>
              <a:xfrm>
                <a:off x="2666880" y="1496880"/>
                <a:ext cx="1752840" cy="860400"/>
                <a:chOff x="2666880" y="1496880"/>
                <a:chExt cx="1752840" cy="860400"/>
              </a:xfrm>
            </p:grpSpPr>
            <p:pic>
              <p:nvPicPr>
                <p:cNvPr id="289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05320" y="1568520"/>
                  <a:ext cx="914400" cy="788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0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2666880" y="1496880"/>
                  <a:ext cx="914400" cy="789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291" name=""/>
          <p:cNvGrpSpPr/>
          <p:nvPr/>
        </p:nvGrpSpPr>
        <p:grpSpPr>
          <a:xfrm>
            <a:off x="4114800" y="3386160"/>
            <a:ext cx="1904760" cy="957240"/>
            <a:chOff x="4114800" y="3386160"/>
            <a:chExt cx="1904760" cy="957240"/>
          </a:xfrm>
        </p:grpSpPr>
        <p:sp>
          <p:nvSpPr>
            <p:cNvPr id="292" name=""/>
            <p:cNvSpPr/>
            <p:nvPr/>
          </p:nvSpPr>
          <p:spPr>
            <a:xfrm>
              <a:off x="4114800" y="3386160"/>
              <a:ext cx="1828800" cy="9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4190760" y="3462120"/>
              <a:ext cx="1828800" cy="838080"/>
              <a:chOff x="4190760" y="3462120"/>
              <a:chExt cx="1828800" cy="83808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4190760" y="3462120"/>
                <a:ext cx="1295280" cy="688320"/>
                <a:chOff x="4190760" y="3462120"/>
                <a:chExt cx="1295280" cy="688320"/>
              </a:xfrm>
            </p:grpSpPr>
            <p:pic>
              <p:nvPicPr>
                <p:cNvPr id="295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190760" y="3462120"/>
                  <a:ext cx="743040" cy="536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438440" y="3538080"/>
                  <a:ext cx="743040" cy="536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743360" y="3614040"/>
                  <a:ext cx="742680" cy="536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647960" y="3557160"/>
                  <a:ext cx="743040" cy="536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4362120" y="3480840"/>
                  <a:ext cx="743040" cy="536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00" name=""/>
              <p:cNvGrpSpPr/>
              <p:nvPr/>
            </p:nvGrpSpPr>
            <p:grpSpPr>
              <a:xfrm>
                <a:off x="4895640" y="3630240"/>
                <a:ext cx="1123920" cy="669960"/>
                <a:chOff x="4895640" y="3630240"/>
                <a:chExt cx="1123920" cy="669960"/>
              </a:xfrm>
            </p:grpSpPr>
            <p:pic>
              <p:nvPicPr>
                <p:cNvPr id="30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4971960" y="3687480"/>
                  <a:ext cx="743040" cy="536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2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5276880" y="3763800"/>
                  <a:ext cx="742680" cy="536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3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5181480" y="3706560"/>
                  <a:ext cx="743040" cy="536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4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4895640" y="3630240"/>
                  <a:ext cx="743040" cy="536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305" name=""/>
          <p:cNvGrpSpPr/>
          <p:nvPr/>
        </p:nvGrpSpPr>
        <p:grpSpPr>
          <a:xfrm>
            <a:off x="1295280" y="3352680"/>
            <a:ext cx="1905120" cy="957240"/>
            <a:chOff x="1295280" y="3352680"/>
            <a:chExt cx="1905120" cy="957240"/>
          </a:xfrm>
        </p:grpSpPr>
        <p:sp>
          <p:nvSpPr>
            <p:cNvPr id="306" name=""/>
            <p:cNvSpPr/>
            <p:nvPr/>
          </p:nvSpPr>
          <p:spPr>
            <a:xfrm>
              <a:off x="1295280" y="3352680"/>
              <a:ext cx="1828800" cy="9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1371600" y="3428640"/>
              <a:ext cx="1828800" cy="838080"/>
              <a:chOff x="1371600" y="3428640"/>
              <a:chExt cx="1828800" cy="83808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1371600" y="3428640"/>
                <a:ext cx="1295280" cy="688320"/>
                <a:chOff x="1371600" y="3428640"/>
                <a:chExt cx="1295280" cy="688320"/>
              </a:xfrm>
            </p:grpSpPr>
            <p:pic>
              <p:nvPicPr>
                <p:cNvPr id="30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1371600" y="3428640"/>
                  <a:ext cx="743040" cy="536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1619280" y="3504600"/>
                  <a:ext cx="743040" cy="536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1924200" y="3580560"/>
                  <a:ext cx="742680" cy="536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1828800" y="3523680"/>
                  <a:ext cx="743040" cy="536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1542960" y="3447360"/>
                  <a:ext cx="743040" cy="536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14" name=""/>
              <p:cNvGrpSpPr/>
              <p:nvPr/>
            </p:nvGrpSpPr>
            <p:grpSpPr>
              <a:xfrm>
                <a:off x="2076480" y="3596760"/>
                <a:ext cx="1123920" cy="669960"/>
                <a:chOff x="2076480" y="3596760"/>
                <a:chExt cx="1123920" cy="669960"/>
              </a:xfrm>
            </p:grpSpPr>
            <p:pic>
              <p:nvPicPr>
                <p:cNvPr id="31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2152800" y="3654000"/>
                  <a:ext cx="743040" cy="536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2457720" y="3730320"/>
                  <a:ext cx="742680" cy="536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2362320" y="3673080"/>
                  <a:ext cx="743040" cy="536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2076480" y="3596760"/>
                  <a:ext cx="743040" cy="536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319" name=""/>
          <p:cNvGrpSpPr/>
          <p:nvPr/>
        </p:nvGrpSpPr>
        <p:grpSpPr>
          <a:xfrm>
            <a:off x="6324480" y="3505320"/>
            <a:ext cx="1676520" cy="799920"/>
            <a:chOff x="6324480" y="3505320"/>
            <a:chExt cx="1676520" cy="799920"/>
          </a:xfrm>
        </p:grpSpPr>
        <p:sp>
          <p:nvSpPr>
            <p:cNvPr id="320" name=""/>
            <p:cNvSpPr/>
            <p:nvPr/>
          </p:nvSpPr>
          <p:spPr>
            <a:xfrm>
              <a:off x="6324480" y="3505320"/>
              <a:ext cx="1676520" cy="799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400800" y="3616200"/>
              <a:ext cx="971640" cy="574920"/>
              <a:chOff x="6400800" y="3616200"/>
              <a:chExt cx="971640" cy="574920"/>
            </a:xfrm>
          </p:grpSpPr>
          <p:pic>
            <p:nvPicPr>
              <p:cNvPr id="322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6400800" y="3616200"/>
                <a:ext cx="743040" cy="53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3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6629400" y="3654360"/>
                <a:ext cx="743040" cy="536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24" name=""/>
          <p:cNvGrpSpPr/>
          <p:nvPr/>
        </p:nvGrpSpPr>
        <p:grpSpPr>
          <a:xfrm>
            <a:off x="1855080" y="2971800"/>
            <a:ext cx="3605040" cy="459720"/>
            <a:chOff x="1855080" y="2971800"/>
            <a:chExt cx="3605040" cy="459720"/>
          </a:xfrm>
        </p:grpSpPr>
        <p:sp>
          <p:nvSpPr>
            <p:cNvPr id="325" name=""/>
            <p:cNvSpPr/>
            <p:nvPr/>
          </p:nvSpPr>
          <p:spPr>
            <a:xfrm>
              <a:off x="1855080" y="2971800"/>
              <a:ext cx="58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871160" y="2971800"/>
              <a:ext cx="58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blinds dir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76320" y="5638680"/>
            <a:ext cx="1866960" cy="1066680"/>
            <a:chOff x="76320" y="5638680"/>
            <a:chExt cx="1866960" cy="1066680"/>
          </a:xfrm>
        </p:grpSpPr>
        <p:sp>
          <p:nvSpPr>
            <p:cNvPr id="329" name=""/>
            <p:cNvSpPr/>
            <p:nvPr/>
          </p:nvSpPr>
          <p:spPr>
            <a:xfrm rot="5400000">
              <a:off x="1181160" y="50670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5400000">
              <a:off x="952560" y="52956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5400000">
              <a:off x="647640" y="55242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5400000">
              <a:off x="952560" y="57528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5400000">
              <a:off x="1181160" y="594324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-124560" y="380880"/>
            <a:ext cx="1366560" cy="4608360"/>
            <a:chOff x="-124560" y="380880"/>
            <a:chExt cx="1366560" cy="4608360"/>
          </a:xfrm>
        </p:grpSpPr>
        <p:sp>
          <p:nvSpPr>
            <p:cNvPr id="335" name=""/>
            <p:cNvSpPr/>
            <p:nvPr/>
          </p:nvSpPr>
          <p:spPr>
            <a:xfrm>
              <a:off x="400320" y="395280"/>
              <a:ext cx="379800" cy="4176720"/>
            </a:xfrm>
            <a:custGeom>
              <a:avLst/>
              <a:gdLst/>
              <a:ahLst/>
              <a:rect l="l" t="t" r="r" b="b"/>
              <a:pathLst>
                <a:path w="298" h="2631">
                  <a:moveTo>
                    <a:pt x="79" y="0"/>
                  </a:moveTo>
                  <a:cubicBezTo>
                    <a:pt x="75" y="26"/>
                    <a:pt x="71" y="52"/>
                    <a:pt x="66" y="78"/>
                  </a:cubicBezTo>
                  <a:cubicBezTo>
                    <a:pt x="57" y="126"/>
                    <a:pt x="39" y="222"/>
                    <a:pt x="39" y="222"/>
                  </a:cubicBezTo>
                  <a:cubicBezTo>
                    <a:pt x="48" y="433"/>
                    <a:pt x="28" y="548"/>
                    <a:pt x="131" y="707"/>
                  </a:cubicBezTo>
                  <a:cubicBezTo>
                    <a:pt x="145" y="763"/>
                    <a:pt x="171" y="800"/>
                    <a:pt x="197" y="851"/>
                  </a:cubicBezTo>
                  <a:cubicBezTo>
                    <a:pt x="210" y="902"/>
                    <a:pt x="235" y="944"/>
                    <a:pt x="249" y="995"/>
                  </a:cubicBezTo>
                  <a:cubicBezTo>
                    <a:pt x="258" y="1029"/>
                    <a:pt x="275" y="1099"/>
                    <a:pt x="275" y="1099"/>
                  </a:cubicBezTo>
                  <a:cubicBezTo>
                    <a:pt x="269" y="1235"/>
                    <a:pt x="298" y="1513"/>
                    <a:pt x="170" y="1636"/>
                  </a:cubicBezTo>
                  <a:cubicBezTo>
                    <a:pt x="129" y="1718"/>
                    <a:pt x="77" y="1796"/>
                    <a:pt x="26" y="1872"/>
                  </a:cubicBezTo>
                  <a:cubicBezTo>
                    <a:pt x="21" y="1893"/>
                    <a:pt x="0" y="1972"/>
                    <a:pt x="0" y="1990"/>
                  </a:cubicBezTo>
                  <a:cubicBezTo>
                    <a:pt x="0" y="2147"/>
                    <a:pt x="74" y="2237"/>
                    <a:pt x="197" y="2317"/>
                  </a:cubicBezTo>
                  <a:cubicBezTo>
                    <a:pt x="206" y="2343"/>
                    <a:pt x="214" y="2369"/>
                    <a:pt x="223" y="2395"/>
                  </a:cubicBezTo>
                  <a:cubicBezTo>
                    <a:pt x="227" y="2408"/>
                    <a:pt x="232" y="2422"/>
                    <a:pt x="236" y="2435"/>
                  </a:cubicBezTo>
                  <a:cubicBezTo>
                    <a:pt x="240" y="2448"/>
                    <a:pt x="249" y="2474"/>
                    <a:pt x="249" y="2474"/>
                  </a:cubicBezTo>
                  <a:cubicBezTo>
                    <a:pt x="263" y="2615"/>
                    <a:pt x="242" y="2566"/>
                    <a:pt x="275" y="26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01280" y="1890720"/>
              <a:ext cx="517680" cy="811080"/>
            </a:xfrm>
            <a:custGeom>
              <a:avLst/>
              <a:gdLst/>
              <a:ahLst/>
              <a:rect l="l" t="t" r="r" b="b"/>
              <a:pathLst>
                <a:path w="406" h="511">
                  <a:moveTo>
                    <a:pt x="0" y="0"/>
                  </a:moveTo>
                  <a:cubicBezTo>
                    <a:pt x="105" y="35"/>
                    <a:pt x="108" y="47"/>
                    <a:pt x="183" y="131"/>
                  </a:cubicBezTo>
                  <a:cubicBezTo>
                    <a:pt x="204" y="154"/>
                    <a:pt x="249" y="197"/>
                    <a:pt x="249" y="197"/>
                  </a:cubicBezTo>
                  <a:cubicBezTo>
                    <a:pt x="280" y="290"/>
                    <a:pt x="260" y="252"/>
                    <a:pt x="301" y="314"/>
                  </a:cubicBezTo>
                  <a:cubicBezTo>
                    <a:pt x="333" y="411"/>
                    <a:pt x="335" y="440"/>
                    <a:pt x="406" y="5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520" y="380880"/>
              <a:ext cx="272520" cy="3948120"/>
            </a:xfrm>
            <a:custGeom>
              <a:avLst/>
              <a:gdLst/>
              <a:ahLst/>
              <a:rect l="l" t="t" r="r" b="b"/>
              <a:pathLst>
                <a:path w="214" h="2487">
                  <a:moveTo>
                    <a:pt x="135" y="0"/>
                  </a:moveTo>
                  <a:cubicBezTo>
                    <a:pt x="120" y="59"/>
                    <a:pt x="95" y="97"/>
                    <a:pt x="83" y="157"/>
                  </a:cubicBezTo>
                  <a:cubicBezTo>
                    <a:pt x="90" y="299"/>
                    <a:pt x="88" y="438"/>
                    <a:pt x="122" y="576"/>
                  </a:cubicBezTo>
                  <a:cubicBezTo>
                    <a:pt x="149" y="874"/>
                    <a:pt x="152" y="1167"/>
                    <a:pt x="135" y="1466"/>
                  </a:cubicBezTo>
                  <a:cubicBezTo>
                    <a:pt x="131" y="1527"/>
                    <a:pt x="94" y="1583"/>
                    <a:pt x="70" y="1636"/>
                  </a:cubicBezTo>
                  <a:cubicBezTo>
                    <a:pt x="59" y="1661"/>
                    <a:pt x="52" y="1689"/>
                    <a:pt x="43" y="1715"/>
                  </a:cubicBezTo>
                  <a:cubicBezTo>
                    <a:pt x="39" y="1728"/>
                    <a:pt x="30" y="1754"/>
                    <a:pt x="30" y="1754"/>
                  </a:cubicBezTo>
                  <a:cubicBezTo>
                    <a:pt x="0" y="1938"/>
                    <a:pt x="8" y="1668"/>
                    <a:pt x="30" y="1999"/>
                  </a:cubicBezTo>
                  <a:cubicBezTo>
                    <a:pt x="33" y="2042"/>
                    <a:pt x="53" y="2275"/>
                    <a:pt x="83" y="2304"/>
                  </a:cubicBezTo>
                  <a:cubicBezTo>
                    <a:pt x="87" y="2317"/>
                    <a:pt x="88" y="2332"/>
                    <a:pt x="96" y="2343"/>
                  </a:cubicBezTo>
                  <a:cubicBezTo>
                    <a:pt x="119" y="2372"/>
                    <a:pt x="174" y="2422"/>
                    <a:pt x="174" y="2422"/>
                  </a:cubicBezTo>
                  <a:cubicBezTo>
                    <a:pt x="178" y="2435"/>
                    <a:pt x="180" y="2449"/>
                    <a:pt x="187" y="2461"/>
                  </a:cubicBezTo>
                  <a:cubicBezTo>
                    <a:pt x="194" y="2472"/>
                    <a:pt x="214" y="2487"/>
                    <a:pt x="214" y="24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-124560" y="735480"/>
              <a:ext cx="1366560" cy="4253760"/>
              <a:chOff x="-124560" y="735480"/>
              <a:chExt cx="1366560" cy="4253760"/>
            </a:xfrm>
          </p:grpSpPr>
          <p:sp>
            <p:nvSpPr>
              <p:cNvPr id="339" name=""/>
              <p:cNvSpPr/>
              <p:nvPr/>
            </p:nvSpPr>
            <p:spPr>
              <a:xfrm>
                <a:off x="170640" y="2051280"/>
                <a:ext cx="150120" cy="1641240"/>
              </a:xfrm>
              <a:custGeom>
                <a:avLst/>
                <a:gdLst/>
                <a:ahLst/>
                <a:rect l="l" t="t" r="r" b="b"/>
                <a:pathLst>
                  <a:path w="118" h="1034">
                    <a:moveTo>
                      <a:pt x="13" y="0"/>
                    </a:moveTo>
                    <a:cubicBezTo>
                      <a:pt x="37" y="73"/>
                      <a:pt x="59" y="147"/>
                      <a:pt x="78" y="222"/>
                    </a:cubicBezTo>
                    <a:cubicBezTo>
                      <a:pt x="63" y="455"/>
                      <a:pt x="81" y="355"/>
                      <a:pt x="39" y="523"/>
                    </a:cubicBezTo>
                    <a:cubicBezTo>
                      <a:pt x="32" y="550"/>
                      <a:pt x="22" y="576"/>
                      <a:pt x="13" y="602"/>
                    </a:cubicBezTo>
                    <a:cubicBezTo>
                      <a:pt x="9" y="615"/>
                      <a:pt x="0" y="641"/>
                      <a:pt x="0" y="641"/>
                    </a:cubicBezTo>
                    <a:cubicBezTo>
                      <a:pt x="8" y="736"/>
                      <a:pt x="6" y="783"/>
                      <a:pt x="26" y="864"/>
                    </a:cubicBezTo>
                    <a:cubicBezTo>
                      <a:pt x="37" y="907"/>
                      <a:pt x="92" y="981"/>
                      <a:pt x="92" y="981"/>
                    </a:cubicBezTo>
                    <a:cubicBezTo>
                      <a:pt x="107" y="1027"/>
                      <a:pt x="95" y="1011"/>
                      <a:pt x="118" y="10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9818600">
                <a:off x="884520" y="2010960"/>
                <a:ext cx="195120" cy="706680"/>
              </a:xfrm>
              <a:custGeom>
                <a:avLst/>
                <a:gdLst>
                  <a:gd name="textAreaLeft" fmla="*/ 45720 w 195120"/>
                  <a:gd name="textAreaRight" fmla="*/ 149400 w 19512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9818600">
                <a:off x="496800" y="3070080"/>
                <a:ext cx="122040" cy="706320"/>
              </a:xfrm>
              <a:custGeom>
                <a:avLst/>
                <a:gdLst>
                  <a:gd name="textAreaLeft" fmla="*/ 28440 w 122040"/>
                  <a:gd name="textAreaRight" fmla="*/ 93240 w 1220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 rot="663000">
                <a:off x="432000" y="1447920"/>
                <a:ext cx="84960" cy="705960"/>
              </a:xfrm>
              <a:custGeom>
                <a:avLst/>
                <a:gdLst>
                  <a:gd name="textAreaLeft" fmla="*/ 19800 w 84960"/>
                  <a:gd name="textAreaRight" fmla="*/ 65160 w 84960"/>
                  <a:gd name="textAreaTop" fmla="*/ 82800 h 705960"/>
                  <a:gd name="textAreaBottom" fmla="*/ 442800 h 70596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20752200">
                <a:off x="676800" y="4278240"/>
                <a:ext cx="122400" cy="706320"/>
              </a:xfrm>
              <a:custGeom>
                <a:avLst/>
                <a:gdLst>
                  <a:gd name="textAreaLeft" fmla="*/ 28800 w 122400"/>
                  <a:gd name="textAreaRight" fmla="*/ 93600 w 1224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1330800">
                <a:off x="0" y="2041560"/>
                <a:ext cx="244440" cy="706680"/>
              </a:xfrm>
              <a:custGeom>
                <a:avLst/>
                <a:gdLst>
                  <a:gd name="textAreaLeft" fmla="*/ 57240 w 244440"/>
                  <a:gd name="textAreaRight" fmla="*/ 186840 w 2444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379200">
                <a:off x="676800" y="2285640"/>
                <a:ext cx="96840" cy="706680"/>
              </a:xfrm>
              <a:custGeom>
                <a:avLst/>
                <a:gdLst>
                  <a:gd name="textAreaLeft" fmla="*/ 22680 w 96840"/>
                  <a:gd name="textAreaRight" fmla="*/ 74160 w 968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9691400">
                <a:off x="370800" y="4267080"/>
                <a:ext cx="61200" cy="706320"/>
              </a:xfrm>
              <a:custGeom>
                <a:avLst/>
                <a:gdLst>
                  <a:gd name="textAreaLeft" fmla="*/ 14400 w 61200"/>
                  <a:gd name="textAreaRight" fmla="*/ 46800 w 612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0752200">
                <a:off x="3240" y="761760"/>
                <a:ext cx="305640" cy="706320"/>
              </a:xfrm>
              <a:custGeom>
                <a:avLst/>
                <a:gdLst>
                  <a:gd name="textAreaLeft" fmla="*/ 71640 w 305640"/>
                  <a:gd name="textAreaRight" fmla="*/ 233640 w 3056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21171600">
                <a:off x="185760" y="3353040"/>
                <a:ext cx="123120" cy="706320"/>
              </a:xfrm>
              <a:custGeom>
                <a:avLst/>
                <a:gdLst>
                  <a:gd name="textAreaLeft" fmla="*/ 28800 w 123120"/>
                  <a:gd name="textAreaRight" fmla="*/ 94320 w 12312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9" name=""/>
          <p:cNvGrpSpPr/>
          <p:nvPr/>
        </p:nvGrpSpPr>
        <p:grpSpPr>
          <a:xfrm>
            <a:off x="8153280" y="228600"/>
            <a:ext cx="990720" cy="1523880"/>
            <a:chOff x="8153280" y="228600"/>
            <a:chExt cx="990720" cy="1523880"/>
          </a:xfrm>
        </p:grpSpPr>
        <p:sp>
          <p:nvSpPr>
            <p:cNvPr id="350" name=""/>
            <p:cNvSpPr/>
            <p:nvPr/>
          </p:nvSpPr>
          <p:spPr>
            <a:xfrm>
              <a:off x="8153280" y="228600"/>
              <a:ext cx="990720" cy="1523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305920" y="304920"/>
              <a:ext cx="685800" cy="129528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66ffff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3c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047600" y="581040"/>
            <a:ext cx="76212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513520" y="914400"/>
            <a:ext cx="232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什么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437920" y="25909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90400" y="25909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590920" y="1371600"/>
            <a:ext cx="1981080" cy="1143000"/>
            <a:chOff x="2590920" y="1371600"/>
            <a:chExt cx="1981080" cy="1143000"/>
          </a:xfrm>
        </p:grpSpPr>
        <p:sp>
          <p:nvSpPr>
            <p:cNvPr id="357" name=""/>
            <p:cNvSpPr/>
            <p:nvPr/>
          </p:nvSpPr>
          <p:spPr>
            <a:xfrm>
              <a:off x="2590920" y="1371600"/>
              <a:ext cx="1981080" cy="11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2666880" y="1496880"/>
              <a:ext cx="1752840" cy="860400"/>
              <a:chOff x="2666880" y="1496880"/>
              <a:chExt cx="1752840" cy="860400"/>
            </a:xfrm>
          </p:grpSpPr>
          <p:pic>
            <p:nvPicPr>
              <p:cNvPr id="35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505320" y="1568520"/>
                <a:ext cx="914400" cy="78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666880" y="1496880"/>
                <a:ext cx="914400" cy="789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61" name=""/>
          <p:cNvGrpSpPr/>
          <p:nvPr/>
        </p:nvGrpSpPr>
        <p:grpSpPr>
          <a:xfrm>
            <a:off x="4114800" y="3386160"/>
            <a:ext cx="1904760" cy="957240"/>
            <a:chOff x="4114800" y="3386160"/>
            <a:chExt cx="1904760" cy="957240"/>
          </a:xfrm>
        </p:grpSpPr>
        <p:sp>
          <p:nvSpPr>
            <p:cNvPr id="362" name=""/>
            <p:cNvSpPr/>
            <p:nvPr/>
          </p:nvSpPr>
          <p:spPr>
            <a:xfrm>
              <a:off x="4114800" y="3386160"/>
              <a:ext cx="1828800" cy="9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4190760" y="3462120"/>
              <a:ext cx="1828800" cy="838080"/>
              <a:chOff x="4190760" y="3462120"/>
              <a:chExt cx="1828800" cy="838080"/>
            </a:xfrm>
          </p:grpSpPr>
          <p:grpSp>
            <p:nvGrpSpPr>
              <p:cNvPr id="364" name=""/>
              <p:cNvGrpSpPr/>
              <p:nvPr/>
            </p:nvGrpSpPr>
            <p:grpSpPr>
              <a:xfrm>
                <a:off x="4190760" y="3462120"/>
                <a:ext cx="1295280" cy="688320"/>
                <a:chOff x="4190760" y="3462120"/>
                <a:chExt cx="1295280" cy="688320"/>
              </a:xfrm>
            </p:grpSpPr>
            <p:pic>
              <p:nvPicPr>
                <p:cNvPr id="36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190760" y="3462120"/>
                  <a:ext cx="743040" cy="536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438440" y="3538080"/>
                  <a:ext cx="743040" cy="536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743360" y="3614040"/>
                  <a:ext cx="742680" cy="536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647960" y="3557160"/>
                  <a:ext cx="743040" cy="536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362120" y="3480840"/>
                  <a:ext cx="743040" cy="536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70" name=""/>
              <p:cNvGrpSpPr/>
              <p:nvPr/>
            </p:nvGrpSpPr>
            <p:grpSpPr>
              <a:xfrm>
                <a:off x="4895640" y="3630240"/>
                <a:ext cx="1123920" cy="669960"/>
                <a:chOff x="4895640" y="3630240"/>
                <a:chExt cx="1123920" cy="669960"/>
              </a:xfrm>
            </p:grpSpPr>
            <p:pic>
              <p:nvPicPr>
                <p:cNvPr id="37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971960" y="3687480"/>
                  <a:ext cx="743040" cy="536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5276880" y="3763800"/>
                  <a:ext cx="742680" cy="536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181480" y="3706560"/>
                  <a:ext cx="743040" cy="536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4895640" y="3630240"/>
                  <a:ext cx="743040" cy="536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375" name=""/>
          <p:cNvGrpSpPr/>
          <p:nvPr/>
        </p:nvGrpSpPr>
        <p:grpSpPr>
          <a:xfrm>
            <a:off x="1295280" y="3352680"/>
            <a:ext cx="1905120" cy="957240"/>
            <a:chOff x="1295280" y="3352680"/>
            <a:chExt cx="1905120" cy="957240"/>
          </a:xfrm>
        </p:grpSpPr>
        <p:sp>
          <p:nvSpPr>
            <p:cNvPr id="376" name=""/>
            <p:cNvSpPr/>
            <p:nvPr/>
          </p:nvSpPr>
          <p:spPr>
            <a:xfrm>
              <a:off x="1295280" y="3352680"/>
              <a:ext cx="1828800" cy="9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1371600" y="3428640"/>
              <a:ext cx="1828800" cy="838080"/>
              <a:chOff x="1371600" y="3428640"/>
              <a:chExt cx="1828800" cy="838080"/>
            </a:xfrm>
          </p:grpSpPr>
          <p:grpSp>
            <p:nvGrpSpPr>
              <p:cNvPr id="378" name=""/>
              <p:cNvGrpSpPr/>
              <p:nvPr/>
            </p:nvGrpSpPr>
            <p:grpSpPr>
              <a:xfrm>
                <a:off x="1371600" y="3428640"/>
                <a:ext cx="1295280" cy="688320"/>
                <a:chOff x="1371600" y="3428640"/>
                <a:chExt cx="1295280" cy="688320"/>
              </a:xfrm>
            </p:grpSpPr>
            <p:pic>
              <p:nvPicPr>
                <p:cNvPr id="37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1371600" y="3428640"/>
                  <a:ext cx="743040" cy="536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619280" y="3504600"/>
                  <a:ext cx="743040" cy="536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924200" y="3580560"/>
                  <a:ext cx="742680" cy="536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1828800" y="3523680"/>
                  <a:ext cx="743040" cy="536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1542960" y="3447360"/>
                  <a:ext cx="743040" cy="536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84" name=""/>
              <p:cNvGrpSpPr/>
              <p:nvPr/>
            </p:nvGrpSpPr>
            <p:grpSpPr>
              <a:xfrm>
                <a:off x="2076480" y="3596760"/>
                <a:ext cx="1123920" cy="669960"/>
                <a:chOff x="2076480" y="3596760"/>
                <a:chExt cx="1123920" cy="669960"/>
              </a:xfrm>
            </p:grpSpPr>
            <p:pic>
              <p:nvPicPr>
                <p:cNvPr id="38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2152800" y="3654000"/>
                  <a:ext cx="743040" cy="536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2457720" y="3730320"/>
                  <a:ext cx="742680" cy="536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2362320" y="3673080"/>
                  <a:ext cx="743040" cy="536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2076480" y="3596760"/>
                  <a:ext cx="743040" cy="536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389" name=""/>
          <p:cNvSpPr/>
          <p:nvPr/>
        </p:nvSpPr>
        <p:spPr>
          <a:xfrm>
            <a:off x="6324480" y="3505320"/>
            <a:ext cx="1676520" cy="799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3"/>
          <a:stretch/>
        </p:blipFill>
        <p:spPr>
          <a:xfrm>
            <a:off x="6419880" y="3578400"/>
            <a:ext cx="743040" cy="5364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4"/>
          <a:stretch/>
        </p:blipFill>
        <p:spPr>
          <a:xfrm>
            <a:off x="6553080" y="3654360"/>
            <a:ext cx="743040" cy="5367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1855080" y="297180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871160" y="297180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6781680" y="3651120"/>
            <a:ext cx="1257480" cy="542880"/>
            <a:chOff x="6781680" y="3651120"/>
            <a:chExt cx="1257480" cy="542880"/>
          </a:xfrm>
        </p:grpSpPr>
        <p:grpSp>
          <p:nvGrpSpPr>
            <p:cNvPr id="395" name=""/>
            <p:cNvGrpSpPr/>
            <p:nvPr/>
          </p:nvGrpSpPr>
          <p:grpSpPr>
            <a:xfrm>
              <a:off x="6781680" y="3651120"/>
              <a:ext cx="1143000" cy="539640"/>
              <a:chOff x="6781680" y="3651120"/>
              <a:chExt cx="1143000" cy="539640"/>
            </a:xfrm>
          </p:grpSpPr>
          <p:pic>
            <p:nvPicPr>
              <p:cNvPr id="396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6781680" y="3651120"/>
                <a:ext cx="743040" cy="53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7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7182000" y="3654360"/>
                <a:ext cx="742680" cy="536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98" name=""/>
            <p:cNvGrpSpPr/>
            <p:nvPr/>
          </p:nvGrpSpPr>
          <p:grpSpPr>
            <a:xfrm>
              <a:off x="7010280" y="3657600"/>
              <a:ext cx="1028880" cy="536400"/>
              <a:chOff x="7010280" y="3657600"/>
              <a:chExt cx="1028880" cy="536400"/>
            </a:xfrm>
          </p:grpSpPr>
          <p:pic>
            <p:nvPicPr>
              <p:cNvPr id="399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7010280" y="3657600"/>
                <a:ext cx="743040" cy="536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0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7296120" y="3657600"/>
                <a:ext cx="743040" cy="536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01" name=""/>
          <p:cNvSpPr/>
          <p:nvPr/>
        </p:nvSpPr>
        <p:spPr>
          <a:xfrm>
            <a:off x="3109680" y="4343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26376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10040" y="520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64320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472200" y="5189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16171200">
            <a:off x="3416400" y="5357160"/>
            <a:ext cx="75960" cy="60948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79440" y="5791320"/>
            <a:ext cx="8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84040" y="5029200"/>
            <a:ext cx="15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能被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整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76320" y="5638680"/>
            <a:ext cx="1866960" cy="1066680"/>
            <a:chOff x="76320" y="5638680"/>
            <a:chExt cx="1866960" cy="1066680"/>
          </a:xfrm>
        </p:grpSpPr>
        <p:sp>
          <p:nvSpPr>
            <p:cNvPr id="411" name=""/>
            <p:cNvSpPr/>
            <p:nvPr/>
          </p:nvSpPr>
          <p:spPr>
            <a:xfrm rot="5400000">
              <a:off x="1181160" y="50670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5400000">
              <a:off x="952560" y="52956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5400000">
              <a:off x="647640" y="55242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5400000">
              <a:off x="952560" y="57528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5400000">
              <a:off x="1181160" y="594324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-124560" y="380880"/>
            <a:ext cx="1366560" cy="4608360"/>
            <a:chOff x="-124560" y="380880"/>
            <a:chExt cx="1366560" cy="4608360"/>
          </a:xfrm>
        </p:grpSpPr>
        <p:sp>
          <p:nvSpPr>
            <p:cNvPr id="417" name=""/>
            <p:cNvSpPr/>
            <p:nvPr/>
          </p:nvSpPr>
          <p:spPr>
            <a:xfrm>
              <a:off x="400320" y="395280"/>
              <a:ext cx="379800" cy="4176720"/>
            </a:xfrm>
            <a:custGeom>
              <a:avLst/>
              <a:gdLst/>
              <a:ahLst/>
              <a:rect l="l" t="t" r="r" b="b"/>
              <a:pathLst>
                <a:path w="298" h="2631">
                  <a:moveTo>
                    <a:pt x="79" y="0"/>
                  </a:moveTo>
                  <a:cubicBezTo>
                    <a:pt x="75" y="26"/>
                    <a:pt x="71" y="52"/>
                    <a:pt x="66" y="78"/>
                  </a:cubicBezTo>
                  <a:cubicBezTo>
                    <a:pt x="57" y="126"/>
                    <a:pt x="39" y="222"/>
                    <a:pt x="39" y="222"/>
                  </a:cubicBezTo>
                  <a:cubicBezTo>
                    <a:pt x="48" y="433"/>
                    <a:pt x="28" y="548"/>
                    <a:pt x="131" y="707"/>
                  </a:cubicBezTo>
                  <a:cubicBezTo>
                    <a:pt x="145" y="763"/>
                    <a:pt x="171" y="800"/>
                    <a:pt x="197" y="851"/>
                  </a:cubicBezTo>
                  <a:cubicBezTo>
                    <a:pt x="210" y="902"/>
                    <a:pt x="235" y="944"/>
                    <a:pt x="249" y="995"/>
                  </a:cubicBezTo>
                  <a:cubicBezTo>
                    <a:pt x="258" y="1029"/>
                    <a:pt x="275" y="1099"/>
                    <a:pt x="275" y="1099"/>
                  </a:cubicBezTo>
                  <a:cubicBezTo>
                    <a:pt x="269" y="1235"/>
                    <a:pt x="298" y="1513"/>
                    <a:pt x="170" y="1636"/>
                  </a:cubicBezTo>
                  <a:cubicBezTo>
                    <a:pt x="129" y="1718"/>
                    <a:pt x="77" y="1796"/>
                    <a:pt x="26" y="1872"/>
                  </a:cubicBezTo>
                  <a:cubicBezTo>
                    <a:pt x="21" y="1893"/>
                    <a:pt x="0" y="1972"/>
                    <a:pt x="0" y="1990"/>
                  </a:cubicBezTo>
                  <a:cubicBezTo>
                    <a:pt x="0" y="2147"/>
                    <a:pt x="74" y="2237"/>
                    <a:pt x="197" y="2317"/>
                  </a:cubicBezTo>
                  <a:cubicBezTo>
                    <a:pt x="206" y="2343"/>
                    <a:pt x="214" y="2369"/>
                    <a:pt x="223" y="2395"/>
                  </a:cubicBezTo>
                  <a:cubicBezTo>
                    <a:pt x="227" y="2408"/>
                    <a:pt x="232" y="2422"/>
                    <a:pt x="236" y="2435"/>
                  </a:cubicBezTo>
                  <a:cubicBezTo>
                    <a:pt x="240" y="2448"/>
                    <a:pt x="249" y="2474"/>
                    <a:pt x="249" y="2474"/>
                  </a:cubicBezTo>
                  <a:cubicBezTo>
                    <a:pt x="263" y="2615"/>
                    <a:pt x="242" y="2566"/>
                    <a:pt x="275" y="26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1280" y="1890720"/>
              <a:ext cx="517680" cy="811080"/>
            </a:xfrm>
            <a:custGeom>
              <a:avLst/>
              <a:gdLst/>
              <a:ahLst/>
              <a:rect l="l" t="t" r="r" b="b"/>
              <a:pathLst>
                <a:path w="406" h="511">
                  <a:moveTo>
                    <a:pt x="0" y="0"/>
                  </a:moveTo>
                  <a:cubicBezTo>
                    <a:pt x="105" y="35"/>
                    <a:pt x="108" y="47"/>
                    <a:pt x="183" y="131"/>
                  </a:cubicBezTo>
                  <a:cubicBezTo>
                    <a:pt x="204" y="154"/>
                    <a:pt x="249" y="197"/>
                    <a:pt x="249" y="197"/>
                  </a:cubicBezTo>
                  <a:cubicBezTo>
                    <a:pt x="280" y="290"/>
                    <a:pt x="260" y="252"/>
                    <a:pt x="301" y="314"/>
                  </a:cubicBezTo>
                  <a:cubicBezTo>
                    <a:pt x="333" y="411"/>
                    <a:pt x="335" y="440"/>
                    <a:pt x="406" y="5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1520" y="380880"/>
              <a:ext cx="272520" cy="3948120"/>
            </a:xfrm>
            <a:custGeom>
              <a:avLst/>
              <a:gdLst/>
              <a:ahLst/>
              <a:rect l="l" t="t" r="r" b="b"/>
              <a:pathLst>
                <a:path w="214" h="2487">
                  <a:moveTo>
                    <a:pt x="135" y="0"/>
                  </a:moveTo>
                  <a:cubicBezTo>
                    <a:pt x="120" y="59"/>
                    <a:pt x="95" y="97"/>
                    <a:pt x="83" y="157"/>
                  </a:cubicBezTo>
                  <a:cubicBezTo>
                    <a:pt x="90" y="299"/>
                    <a:pt x="88" y="438"/>
                    <a:pt x="122" y="576"/>
                  </a:cubicBezTo>
                  <a:cubicBezTo>
                    <a:pt x="149" y="874"/>
                    <a:pt x="152" y="1167"/>
                    <a:pt x="135" y="1466"/>
                  </a:cubicBezTo>
                  <a:cubicBezTo>
                    <a:pt x="131" y="1527"/>
                    <a:pt x="94" y="1583"/>
                    <a:pt x="70" y="1636"/>
                  </a:cubicBezTo>
                  <a:cubicBezTo>
                    <a:pt x="59" y="1661"/>
                    <a:pt x="52" y="1689"/>
                    <a:pt x="43" y="1715"/>
                  </a:cubicBezTo>
                  <a:cubicBezTo>
                    <a:pt x="39" y="1728"/>
                    <a:pt x="30" y="1754"/>
                    <a:pt x="30" y="1754"/>
                  </a:cubicBezTo>
                  <a:cubicBezTo>
                    <a:pt x="0" y="1938"/>
                    <a:pt x="8" y="1668"/>
                    <a:pt x="30" y="1999"/>
                  </a:cubicBezTo>
                  <a:cubicBezTo>
                    <a:pt x="33" y="2042"/>
                    <a:pt x="53" y="2275"/>
                    <a:pt x="83" y="2304"/>
                  </a:cubicBezTo>
                  <a:cubicBezTo>
                    <a:pt x="87" y="2317"/>
                    <a:pt x="88" y="2332"/>
                    <a:pt x="96" y="2343"/>
                  </a:cubicBezTo>
                  <a:cubicBezTo>
                    <a:pt x="119" y="2372"/>
                    <a:pt x="174" y="2422"/>
                    <a:pt x="174" y="2422"/>
                  </a:cubicBezTo>
                  <a:cubicBezTo>
                    <a:pt x="178" y="2435"/>
                    <a:pt x="180" y="2449"/>
                    <a:pt x="187" y="2461"/>
                  </a:cubicBezTo>
                  <a:cubicBezTo>
                    <a:pt x="194" y="2472"/>
                    <a:pt x="214" y="2487"/>
                    <a:pt x="214" y="24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-124560" y="735480"/>
              <a:ext cx="1366560" cy="4253760"/>
              <a:chOff x="-124560" y="735480"/>
              <a:chExt cx="1366560" cy="4253760"/>
            </a:xfrm>
          </p:grpSpPr>
          <p:sp>
            <p:nvSpPr>
              <p:cNvPr id="421" name=""/>
              <p:cNvSpPr/>
              <p:nvPr/>
            </p:nvSpPr>
            <p:spPr>
              <a:xfrm>
                <a:off x="170640" y="2051280"/>
                <a:ext cx="150120" cy="1641240"/>
              </a:xfrm>
              <a:custGeom>
                <a:avLst/>
                <a:gdLst/>
                <a:ahLst/>
                <a:rect l="l" t="t" r="r" b="b"/>
                <a:pathLst>
                  <a:path w="118" h="1034">
                    <a:moveTo>
                      <a:pt x="13" y="0"/>
                    </a:moveTo>
                    <a:cubicBezTo>
                      <a:pt x="37" y="73"/>
                      <a:pt x="59" y="147"/>
                      <a:pt x="78" y="222"/>
                    </a:cubicBezTo>
                    <a:cubicBezTo>
                      <a:pt x="63" y="455"/>
                      <a:pt x="81" y="355"/>
                      <a:pt x="39" y="523"/>
                    </a:cubicBezTo>
                    <a:cubicBezTo>
                      <a:pt x="32" y="550"/>
                      <a:pt x="22" y="576"/>
                      <a:pt x="13" y="602"/>
                    </a:cubicBezTo>
                    <a:cubicBezTo>
                      <a:pt x="9" y="615"/>
                      <a:pt x="0" y="641"/>
                      <a:pt x="0" y="641"/>
                    </a:cubicBezTo>
                    <a:cubicBezTo>
                      <a:pt x="8" y="736"/>
                      <a:pt x="6" y="783"/>
                      <a:pt x="26" y="864"/>
                    </a:cubicBezTo>
                    <a:cubicBezTo>
                      <a:pt x="37" y="907"/>
                      <a:pt x="92" y="981"/>
                      <a:pt x="92" y="981"/>
                    </a:cubicBezTo>
                    <a:cubicBezTo>
                      <a:pt x="107" y="1027"/>
                      <a:pt x="95" y="1011"/>
                      <a:pt x="118" y="10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19818600">
                <a:off x="884520" y="2010960"/>
                <a:ext cx="195120" cy="706680"/>
              </a:xfrm>
              <a:custGeom>
                <a:avLst/>
                <a:gdLst>
                  <a:gd name="textAreaLeft" fmla="*/ 45720 w 195120"/>
                  <a:gd name="textAreaRight" fmla="*/ 149400 w 19512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19818600">
                <a:off x="496800" y="3070080"/>
                <a:ext cx="122040" cy="706320"/>
              </a:xfrm>
              <a:custGeom>
                <a:avLst/>
                <a:gdLst>
                  <a:gd name="textAreaLeft" fmla="*/ 28440 w 122040"/>
                  <a:gd name="textAreaRight" fmla="*/ 93240 w 1220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 rot="663000">
                <a:off x="432000" y="1447920"/>
                <a:ext cx="84960" cy="705960"/>
              </a:xfrm>
              <a:custGeom>
                <a:avLst/>
                <a:gdLst>
                  <a:gd name="textAreaLeft" fmla="*/ 19800 w 84960"/>
                  <a:gd name="textAreaRight" fmla="*/ 65160 w 84960"/>
                  <a:gd name="textAreaTop" fmla="*/ 82800 h 705960"/>
                  <a:gd name="textAreaBottom" fmla="*/ 442800 h 70596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20752200">
                <a:off x="676800" y="4278240"/>
                <a:ext cx="122400" cy="706320"/>
              </a:xfrm>
              <a:custGeom>
                <a:avLst/>
                <a:gdLst>
                  <a:gd name="textAreaLeft" fmla="*/ 28800 w 122400"/>
                  <a:gd name="textAreaRight" fmla="*/ 93600 w 1224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1330800">
                <a:off x="0" y="2041560"/>
                <a:ext cx="244440" cy="706680"/>
              </a:xfrm>
              <a:custGeom>
                <a:avLst/>
                <a:gdLst>
                  <a:gd name="textAreaLeft" fmla="*/ 57240 w 244440"/>
                  <a:gd name="textAreaRight" fmla="*/ 186840 w 2444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379200">
                <a:off x="676800" y="2285640"/>
                <a:ext cx="96840" cy="706680"/>
              </a:xfrm>
              <a:custGeom>
                <a:avLst/>
                <a:gdLst>
                  <a:gd name="textAreaLeft" fmla="*/ 22680 w 96840"/>
                  <a:gd name="textAreaRight" fmla="*/ 74160 w 968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19691400">
                <a:off x="370800" y="4267080"/>
                <a:ext cx="61200" cy="706320"/>
              </a:xfrm>
              <a:custGeom>
                <a:avLst/>
                <a:gdLst>
                  <a:gd name="textAreaLeft" fmla="*/ 14400 w 61200"/>
                  <a:gd name="textAreaRight" fmla="*/ 46800 w 612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20752200">
                <a:off x="3240" y="761760"/>
                <a:ext cx="305640" cy="706320"/>
              </a:xfrm>
              <a:custGeom>
                <a:avLst/>
                <a:gdLst>
                  <a:gd name="textAreaLeft" fmla="*/ 71640 w 305640"/>
                  <a:gd name="textAreaRight" fmla="*/ 233640 w 3056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rot="21171600">
                <a:off x="185760" y="3353040"/>
                <a:ext cx="123120" cy="706320"/>
              </a:xfrm>
              <a:custGeom>
                <a:avLst/>
                <a:gdLst>
                  <a:gd name="textAreaLeft" fmla="*/ 28800 w 123120"/>
                  <a:gd name="textAreaRight" fmla="*/ 94320 w 12312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1" name=""/>
          <p:cNvGrpSpPr/>
          <p:nvPr/>
        </p:nvGrpSpPr>
        <p:grpSpPr>
          <a:xfrm>
            <a:off x="8153280" y="228600"/>
            <a:ext cx="990720" cy="1523880"/>
            <a:chOff x="8153280" y="228600"/>
            <a:chExt cx="990720" cy="1523880"/>
          </a:xfrm>
        </p:grpSpPr>
        <p:sp>
          <p:nvSpPr>
            <p:cNvPr id="432" name=""/>
            <p:cNvSpPr/>
            <p:nvPr/>
          </p:nvSpPr>
          <p:spPr>
            <a:xfrm>
              <a:off x="8153280" y="228600"/>
              <a:ext cx="990720" cy="1523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305920" y="304920"/>
              <a:ext cx="685800" cy="129528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66ffff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3c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1047600" y="581040"/>
            <a:ext cx="76212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03680" y="1219320"/>
            <a:ext cx="232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什么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392200" y="1981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54628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392560" y="283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92572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754360" y="2827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rot="16171200">
            <a:off x="2698560" y="2995560"/>
            <a:ext cx="76320" cy="609480"/>
          </a:xfrm>
          <a:custGeom>
            <a:avLst/>
            <a:gdLst>
              <a:gd name="textAreaLeft" fmla="*/ 48960 w 76320"/>
              <a:gd name="textAreaRight" fmla="*/ 76320 w 763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361960" y="3429000"/>
            <a:ext cx="8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40840" y="4343400"/>
            <a:ext cx="15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7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能被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整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01000" y="121932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什么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992920" y="1981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  2 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14664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992920" y="283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52608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355080" y="2827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rot="16171200">
            <a:off x="6525360" y="2845080"/>
            <a:ext cx="74520" cy="990720"/>
          </a:xfrm>
          <a:custGeom>
            <a:avLst/>
            <a:gdLst>
              <a:gd name="textAreaLeft" fmla="*/ 47520 w 74520"/>
              <a:gd name="textAreaRight" fmla="*/ 74880 w 745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114600" y="3429000"/>
            <a:ext cx="8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919920" y="24242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72480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819040" y="4343400"/>
            <a:ext cx="174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26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能被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整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5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000"/>
                            </p:stCondLst>
                            <p:childTnLst>
                              <p:par>
                                <p:cTn id="29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76320" y="5638680"/>
            <a:ext cx="1866960" cy="1066680"/>
            <a:chOff x="76320" y="5638680"/>
            <a:chExt cx="1866960" cy="1066680"/>
          </a:xfrm>
        </p:grpSpPr>
        <p:sp>
          <p:nvSpPr>
            <p:cNvPr id="457" name=""/>
            <p:cNvSpPr/>
            <p:nvPr/>
          </p:nvSpPr>
          <p:spPr>
            <a:xfrm rot="5400000">
              <a:off x="1181160" y="50670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5400000">
              <a:off x="952560" y="52956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5400000">
              <a:off x="647640" y="55242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5400000">
              <a:off x="952560" y="57528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5400000">
              <a:off x="1181160" y="594324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-124560" y="380880"/>
            <a:ext cx="1366560" cy="4608360"/>
            <a:chOff x="-124560" y="380880"/>
            <a:chExt cx="1366560" cy="4608360"/>
          </a:xfrm>
        </p:grpSpPr>
        <p:sp>
          <p:nvSpPr>
            <p:cNvPr id="463" name=""/>
            <p:cNvSpPr/>
            <p:nvPr/>
          </p:nvSpPr>
          <p:spPr>
            <a:xfrm>
              <a:off x="400320" y="395280"/>
              <a:ext cx="379800" cy="4176720"/>
            </a:xfrm>
            <a:custGeom>
              <a:avLst/>
              <a:gdLst/>
              <a:ahLst/>
              <a:rect l="l" t="t" r="r" b="b"/>
              <a:pathLst>
                <a:path w="298" h="2631">
                  <a:moveTo>
                    <a:pt x="79" y="0"/>
                  </a:moveTo>
                  <a:cubicBezTo>
                    <a:pt x="75" y="26"/>
                    <a:pt x="71" y="52"/>
                    <a:pt x="66" y="78"/>
                  </a:cubicBezTo>
                  <a:cubicBezTo>
                    <a:pt x="57" y="126"/>
                    <a:pt x="39" y="222"/>
                    <a:pt x="39" y="222"/>
                  </a:cubicBezTo>
                  <a:cubicBezTo>
                    <a:pt x="48" y="433"/>
                    <a:pt x="28" y="548"/>
                    <a:pt x="131" y="707"/>
                  </a:cubicBezTo>
                  <a:cubicBezTo>
                    <a:pt x="145" y="763"/>
                    <a:pt x="171" y="800"/>
                    <a:pt x="197" y="851"/>
                  </a:cubicBezTo>
                  <a:cubicBezTo>
                    <a:pt x="210" y="902"/>
                    <a:pt x="235" y="944"/>
                    <a:pt x="249" y="995"/>
                  </a:cubicBezTo>
                  <a:cubicBezTo>
                    <a:pt x="258" y="1029"/>
                    <a:pt x="275" y="1099"/>
                    <a:pt x="275" y="1099"/>
                  </a:cubicBezTo>
                  <a:cubicBezTo>
                    <a:pt x="269" y="1235"/>
                    <a:pt x="298" y="1513"/>
                    <a:pt x="170" y="1636"/>
                  </a:cubicBezTo>
                  <a:cubicBezTo>
                    <a:pt x="129" y="1718"/>
                    <a:pt x="77" y="1796"/>
                    <a:pt x="26" y="1872"/>
                  </a:cubicBezTo>
                  <a:cubicBezTo>
                    <a:pt x="21" y="1893"/>
                    <a:pt x="0" y="1972"/>
                    <a:pt x="0" y="1990"/>
                  </a:cubicBezTo>
                  <a:cubicBezTo>
                    <a:pt x="0" y="2147"/>
                    <a:pt x="74" y="2237"/>
                    <a:pt x="197" y="2317"/>
                  </a:cubicBezTo>
                  <a:cubicBezTo>
                    <a:pt x="206" y="2343"/>
                    <a:pt x="214" y="2369"/>
                    <a:pt x="223" y="2395"/>
                  </a:cubicBezTo>
                  <a:cubicBezTo>
                    <a:pt x="227" y="2408"/>
                    <a:pt x="232" y="2422"/>
                    <a:pt x="236" y="2435"/>
                  </a:cubicBezTo>
                  <a:cubicBezTo>
                    <a:pt x="240" y="2448"/>
                    <a:pt x="249" y="2474"/>
                    <a:pt x="249" y="2474"/>
                  </a:cubicBezTo>
                  <a:cubicBezTo>
                    <a:pt x="263" y="2615"/>
                    <a:pt x="242" y="2566"/>
                    <a:pt x="275" y="26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01280" y="1890720"/>
              <a:ext cx="517680" cy="811080"/>
            </a:xfrm>
            <a:custGeom>
              <a:avLst/>
              <a:gdLst/>
              <a:ahLst/>
              <a:rect l="l" t="t" r="r" b="b"/>
              <a:pathLst>
                <a:path w="406" h="511">
                  <a:moveTo>
                    <a:pt x="0" y="0"/>
                  </a:moveTo>
                  <a:cubicBezTo>
                    <a:pt x="105" y="35"/>
                    <a:pt x="108" y="47"/>
                    <a:pt x="183" y="131"/>
                  </a:cubicBezTo>
                  <a:cubicBezTo>
                    <a:pt x="204" y="154"/>
                    <a:pt x="249" y="197"/>
                    <a:pt x="249" y="197"/>
                  </a:cubicBezTo>
                  <a:cubicBezTo>
                    <a:pt x="280" y="290"/>
                    <a:pt x="260" y="252"/>
                    <a:pt x="301" y="314"/>
                  </a:cubicBezTo>
                  <a:cubicBezTo>
                    <a:pt x="333" y="411"/>
                    <a:pt x="335" y="440"/>
                    <a:pt x="406" y="5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1520" y="380880"/>
              <a:ext cx="272520" cy="3948120"/>
            </a:xfrm>
            <a:custGeom>
              <a:avLst/>
              <a:gdLst/>
              <a:ahLst/>
              <a:rect l="l" t="t" r="r" b="b"/>
              <a:pathLst>
                <a:path w="214" h="2487">
                  <a:moveTo>
                    <a:pt x="135" y="0"/>
                  </a:moveTo>
                  <a:cubicBezTo>
                    <a:pt x="120" y="59"/>
                    <a:pt x="95" y="97"/>
                    <a:pt x="83" y="157"/>
                  </a:cubicBezTo>
                  <a:cubicBezTo>
                    <a:pt x="90" y="299"/>
                    <a:pt x="88" y="438"/>
                    <a:pt x="122" y="576"/>
                  </a:cubicBezTo>
                  <a:cubicBezTo>
                    <a:pt x="149" y="874"/>
                    <a:pt x="152" y="1167"/>
                    <a:pt x="135" y="1466"/>
                  </a:cubicBezTo>
                  <a:cubicBezTo>
                    <a:pt x="131" y="1527"/>
                    <a:pt x="94" y="1583"/>
                    <a:pt x="70" y="1636"/>
                  </a:cubicBezTo>
                  <a:cubicBezTo>
                    <a:pt x="59" y="1661"/>
                    <a:pt x="52" y="1689"/>
                    <a:pt x="43" y="1715"/>
                  </a:cubicBezTo>
                  <a:cubicBezTo>
                    <a:pt x="39" y="1728"/>
                    <a:pt x="30" y="1754"/>
                    <a:pt x="30" y="1754"/>
                  </a:cubicBezTo>
                  <a:cubicBezTo>
                    <a:pt x="0" y="1938"/>
                    <a:pt x="8" y="1668"/>
                    <a:pt x="30" y="1999"/>
                  </a:cubicBezTo>
                  <a:cubicBezTo>
                    <a:pt x="33" y="2042"/>
                    <a:pt x="53" y="2275"/>
                    <a:pt x="83" y="2304"/>
                  </a:cubicBezTo>
                  <a:cubicBezTo>
                    <a:pt x="87" y="2317"/>
                    <a:pt x="88" y="2332"/>
                    <a:pt x="96" y="2343"/>
                  </a:cubicBezTo>
                  <a:cubicBezTo>
                    <a:pt x="119" y="2372"/>
                    <a:pt x="174" y="2422"/>
                    <a:pt x="174" y="2422"/>
                  </a:cubicBezTo>
                  <a:cubicBezTo>
                    <a:pt x="178" y="2435"/>
                    <a:pt x="180" y="2449"/>
                    <a:pt x="187" y="2461"/>
                  </a:cubicBezTo>
                  <a:cubicBezTo>
                    <a:pt x="194" y="2472"/>
                    <a:pt x="214" y="2487"/>
                    <a:pt x="214" y="24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6" name=""/>
            <p:cNvGrpSpPr/>
            <p:nvPr/>
          </p:nvGrpSpPr>
          <p:grpSpPr>
            <a:xfrm>
              <a:off x="-124560" y="735480"/>
              <a:ext cx="1366560" cy="4253760"/>
              <a:chOff x="-124560" y="735480"/>
              <a:chExt cx="1366560" cy="4253760"/>
            </a:xfrm>
          </p:grpSpPr>
          <p:sp>
            <p:nvSpPr>
              <p:cNvPr id="467" name=""/>
              <p:cNvSpPr/>
              <p:nvPr/>
            </p:nvSpPr>
            <p:spPr>
              <a:xfrm>
                <a:off x="170640" y="2051280"/>
                <a:ext cx="150120" cy="1641240"/>
              </a:xfrm>
              <a:custGeom>
                <a:avLst/>
                <a:gdLst/>
                <a:ahLst/>
                <a:rect l="l" t="t" r="r" b="b"/>
                <a:pathLst>
                  <a:path w="118" h="1034">
                    <a:moveTo>
                      <a:pt x="13" y="0"/>
                    </a:moveTo>
                    <a:cubicBezTo>
                      <a:pt x="37" y="73"/>
                      <a:pt x="59" y="147"/>
                      <a:pt x="78" y="222"/>
                    </a:cubicBezTo>
                    <a:cubicBezTo>
                      <a:pt x="63" y="455"/>
                      <a:pt x="81" y="355"/>
                      <a:pt x="39" y="523"/>
                    </a:cubicBezTo>
                    <a:cubicBezTo>
                      <a:pt x="32" y="550"/>
                      <a:pt x="22" y="576"/>
                      <a:pt x="13" y="602"/>
                    </a:cubicBezTo>
                    <a:cubicBezTo>
                      <a:pt x="9" y="615"/>
                      <a:pt x="0" y="641"/>
                      <a:pt x="0" y="641"/>
                    </a:cubicBezTo>
                    <a:cubicBezTo>
                      <a:pt x="8" y="736"/>
                      <a:pt x="6" y="783"/>
                      <a:pt x="26" y="864"/>
                    </a:cubicBezTo>
                    <a:cubicBezTo>
                      <a:pt x="37" y="907"/>
                      <a:pt x="92" y="981"/>
                      <a:pt x="92" y="981"/>
                    </a:cubicBezTo>
                    <a:cubicBezTo>
                      <a:pt x="107" y="1027"/>
                      <a:pt x="95" y="1011"/>
                      <a:pt x="118" y="10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19818600">
                <a:off x="884520" y="2010960"/>
                <a:ext cx="195120" cy="706680"/>
              </a:xfrm>
              <a:custGeom>
                <a:avLst/>
                <a:gdLst>
                  <a:gd name="textAreaLeft" fmla="*/ 45720 w 195120"/>
                  <a:gd name="textAreaRight" fmla="*/ 149400 w 19512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rot="19818600">
                <a:off x="496800" y="3070080"/>
                <a:ext cx="122040" cy="706320"/>
              </a:xfrm>
              <a:custGeom>
                <a:avLst/>
                <a:gdLst>
                  <a:gd name="textAreaLeft" fmla="*/ 28440 w 122040"/>
                  <a:gd name="textAreaRight" fmla="*/ 93240 w 1220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 rot="663000">
                <a:off x="432000" y="1447920"/>
                <a:ext cx="84960" cy="705960"/>
              </a:xfrm>
              <a:custGeom>
                <a:avLst/>
                <a:gdLst>
                  <a:gd name="textAreaLeft" fmla="*/ 19800 w 84960"/>
                  <a:gd name="textAreaRight" fmla="*/ 65160 w 84960"/>
                  <a:gd name="textAreaTop" fmla="*/ 82800 h 705960"/>
                  <a:gd name="textAreaBottom" fmla="*/ 442800 h 70596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20752200">
                <a:off x="676800" y="4278240"/>
                <a:ext cx="122400" cy="706320"/>
              </a:xfrm>
              <a:custGeom>
                <a:avLst/>
                <a:gdLst>
                  <a:gd name="textAreaLeft" fmla="*/ 28800 w 122400"/>
                  <a:gd name="textAreaRight" fmla="*/ 93600 w 1224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1330800">
                <a:off x="0" y="2041560"/>
                <a:ext cx="244440" cy="706680"/>
              </a:xfrm>
              <a:custGeom>
                <a:avLst/>
                <a:gdLst>
                  <a:gd name="textAreaLeft" fmla="*/ 57240 w 244440"/>
                  <a:gd name="textAreaRight" fmla="*/ 186840 w 2444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379200">
                <a:off x="676800" y="2285640"/>
                <a:ext cx="96840" cy="706680"/>
              </a:xfrm>
              <a:custGeom>
                <a:avLst/>
                <a:gdLst>
                  <a:gd name="textAreaLeft" fmla="*/ 22680 w 96840"/>
                  <a:gd name="textAreaRight" fmla="*/ 74160 w 968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19691400">
                <a:off x="370800" y="4267080"/>
                <a:ext cx="61200" cy="706320"/>
              </a:xfrm>
              <a:custGeom>
                <a:avLst/>
                <a:gdLst>
                  <a:gd name="textAreaLeft" fmla="*/ 14400 w 61200"/>
                  <a:gd name="textAreaRight" fmla="*/ 46800 w 612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20752200">
                <a:off x="3240" y="761760"/>
                <a:ext cx="305640" cy="706320"/>
              </a:xfrm>
              <a:custGeom>
                <a:avLst/>
                <a:gdLst>
                  <a:gd name="textAreaLeft" fmla="*/ 71640 w 305640"/>
                  <a:gd name="textAreaRight" fmla="*/ 233640 w 3056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21171600">
                <a:off x="185760" y="3353040"/>
                <a:ext cx="123120" cy="706320"/>
              </a:xfrm>
              <a:custGeom>
                <a:avLst/>
                <a:gdLst>
                  <a:gd name="textAreaLeft" fmla="*/ 28800 w 123120"/>
                  <a:gd name="textAreaRight" fmla="*/ 94320 w 12312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7" name=""/>
          <p:cNvGrpSpPr/>
          <p:nvPr/>
        </p:nvGrpSpPr>
        <p:grpSpPr>
          <a:xfrm>
            <a:off x="8153280" y="228600"/>
            <a:ext cx="990720" cy="1523880"/>
            <a:chOff x="8153280" y="228600"/>
            <a:chExt cx="990720" cy="1523880"/>
          </a:xfrm>
        </p:grpSpPr>
        <p:sp>
          <p:nvSpPr>
            <p:cNvPr id="478" name=""/>
            <p:cNvSpPr/>
            <p:nvPr/>
          </p:nvSpPr>
          <p:spPr>
            <a:xfrm>
              <a:off x="8153280" y="228600"/>
              <a:ext cx="990720" cy="1523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305920" y="304920"/>
              <a:ext cx="685800" cy="129528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66ffff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3c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1047600" y="581040"/>
            <a:ext cx="76212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26480" y="121932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2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能否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706920" y="1981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   2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86064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706920" y="283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4008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069080" y="2827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rot="16171200">
            <a:off x="4239360" y="2845080"/>
            <a:ext cx="74520" cy="990720"/>
          </a:xfrm>
          <a:custGeom>
            <a:avLst/>
            <a:gdLst>
              <a:gd name="textAreaLeft" fmla="*/ 47520 w 74520"/>
              <a:gd name="textAreaRight" fmla="*/ 74880 w 745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708000" y="3429000"/>
            <a:ext cx="9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633920" y="24242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43880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695400" y="415620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因为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不能被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整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711240" y="4952880"/>
            <a:ext cx="236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所以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2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不能被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整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500"/>
                            </p:stCondLst>
                            <p:childTnLst>
                              <p:par>
                                <p:cTn id="34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0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76320" y="5638680"/>
            <a:ext cx="1866960" cy="1066680"/>
            <a:chOff x="76320" y="5638680"/>
            <a:chExt cx="1866960" cy="1066680"/>
          </a:xfrm>
        </p:grpSpPr>
        <p:sp>
          <p:nvSpPr>
            <p:cNvPr id="495" name=""/>
            <p:cNvSpPr/>
            <p:nvPr/>
          </p:nvSpPr>
          <p:spPr>
            <a:xfrm rot="5400000">
              <a:off x="1181160" y="50670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5400000">
              <a:off x="952560" y="52956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5400000">
              <a:off x="647640" y="55242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5400000">
              <a:off x="952560" y="57528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5400000">
              <a:off x="1181160" y="594324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-124560" y="380880"/>
            <a:ext cx="1366560" cy="4608360"/>
            <a:chOff x="-124560" y="380880"/>
            <a:chExt cx="1366560" cy="4608360"/>
          </a:xfrm>
        </p:grpSpPr>
        <p:sp>
          <p:nvSpPr>
            <p:cNvPr id="501" name=""/>
            <p:cNvSpPr/>
            <p:nvPr/>
          </p:nvSpPr>
          <p:spPr>
            <a:xfrm>
              <a:off x="400320" y="395280"/>
              <a:ext cx="379800" cy="4176720"/>
            </a:xfrm>
            <a:custGeom>
              <a:avLst/>
              <a:gdLst/>
              <a:ahLst/>
              <a:rect l="l" t="t" r="r" b="b"/>
              <a:pathLst>
                <a:path w="298" h="2631">
                  <a:moveTo>
                    <a:pt x="79" y="0"/>
                  </a:moveTo>
                  <a:cubicBezTo>
                    <a:pt x="75" y="26"/>
                    <a:pt x="71" y="52"/>
                    <a:pt x="66" y="78"/>
                  </a:cubicBezTo>
                  <a:cubicBezTo>
                    <a:pt x="57" y="126"/>
                    <a:pt x="39" y="222"/>
                    <a:pt x="39" y="222"/>
                  </a:cubicBezTo>
                  <a:cubicBezTo>
                    <a:pt x="48" y="433"/>
                    <a:pt x="28" y="548"/>
                    <a:pt x="131" y="707"/>
                  </a:cubicBezTo>
                  <a:cubicBezTo>
                    <a:pt x="145" y="763"/>
                    <a:pt x="171" y="800"/>
                    <a:pt x="197" y="851"/>
                  </a:cubicBezTo>
                  <a:cubicBezTo>
                    <a:pt x="210" y="902"/>
                    <a:pt x="235" y="944"/>
                    <a:pt x="249" y="995"/>
                  </a:cubicBezTo>
                  <a:cubicBezTo>
                    <a:pt x="258" y="1029"/>
                    <a:pt x="275" y="1099"/>
                    <a:pt x="275" y="1099"/>
                  </a:cubicBezTo>
                  <a:cubicBezTo>
                    <a:pt x="269" y="1235"/>
                    <a:pt x="298" y="1513"/>
                    <a:pt x="170" y="1636"/>
                  </a:cubicBezTo>
                  <a:cubicBezTo>
                    <a:pt x="129" y="1718"/>
                    <a:pt x="77" y="1796"/>
                    <a:pt x="26" y="1872"/>
                  </a:cubicBezTo>
                  <a:cubicBezTo>
                    <a:pt x="21" y="1893"/>
                    <a:pt x="0" y="1972"/>
                    <a:pt x="0" y="1990"/>
                  </a:cubicBezTo>
                  <a:cubicBezTo>
                    <a:pt x="0" y="2147"/>
                    <a:pt x="74" y="2237"/>
                    <a:pt x="197" y="2317"/>
                  </a:cubicBezTo>
                  <a:cubicBezTo>
                    <a:pt x="206" y="2343"/>
                    <a:pt x="214" y="2369"/>
                    <a:pt x="223" y="2395"/>
                  </a:cubicBezTo>
                  <a:cubicBezTo>
                    <a:pt x="227" y="2408"/>
                    <a:pt x="232" y="2422"/>
                    <a:pt x="236" y="2435"/>
                  </a:cubicBezTo>
                  <a:cubicBezTo>
                    <a:pt x="240" y="2448"/>
                    <a:pt x="249" y="2474"/>
                    <a:pt x="249" y="2474"/>
                  </a:cubicBezTo>
                  <a:cubicBezTo>
                    <a:pt x="263" y="2615"/>
                    <a:pt x="242" y="2566"/>
                    <a:pt x="275" y="26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01280" y="1890720"/>
              <a:ext cx="517680" cy="811080"/>
            </a:xfrm>
            <a:custGeom>
              <a:avLst/>
              <a:gdLst/>
              <a:ahLst/>
              <a:rect l="l" t="t" r="r" b="b"/>
              <a:pathLst>
                <a:path w="406" h="511">
                  <a:moveTo>
                    <a:pt x="0" y="0"/>
                  </a:moveTo>
                  <a:cubicBezTo>
                    <a:pt x="105" y="35"/>
                    <a:pt x="108" y="47"/>
                    <a:pt x="183" y="131"/>
                  </a:cubicBezTo>
                  <a:cubicBezTo>
                    <a:pt x="204" y="154"/>
                    <a:pt x="249" y="197"/>
                    <a:pt x="249" y="197"/>
                  </a:cubicBezTo>
                  <a:cubicBezTo>
                    <a:pt x="280" y="290"/>
                    <a:pt x="260" y="252"/>
                    <a:pt x="301" y="314"/>
                  </a:cubicBezTo>
                  <a:cubicBezTo>
                    <a:pt x="333" y="411"/>
                    <a:pt x="335" y="440"/>
                    <a:pt x="406" y="5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1520" y="380880"/>
              <a:ext cx="272520" cy="3948120"/>
            </a:xfrm>
            <a:custGeom>
              <a:avLst/>
              <a:gdLst/>
              <a:ahLst/>
              <a:rect l="l" t="t" r="r" b="b"/>
              <a:pathLst>
                <a:path w="214" h="2487">
                  <a:moveTo>
                    <a:pt x="135" y="0"/>
                  </a:moveTo>
                  <a:cubicBezTo>
                    <a:pt x="120" y="59"/>
                    <a:pt x="95" y="97"/>
                    <a:pt x="83" y="157"/>
                  </a:cubicBezTo>
                  <a:cubicBezTo>
                    <a:pt x="90" y="299"/>
                    <a:pt x="88" y="438"/>
                    <a:pt x="122" y="576"/>
                  </a:cubicBezTo>
                  <a:cubicBezTo>
                    <a:pt x="149" y="874"/>
                    <a:pt x="152" y="1167"/>
                    <a:pt x="135" y="1466"/>
                  </a:cubicBezTo>
                  <a:cubicBezTo>
                    <a:pt x="131" y="1527"/>
                    <a:pt x="94" y="1583"/>
                    <a:pt x="70" y="1636"/>
                  </a:cubicBezTo>
                  <a:cubicBezTo>
                    <a:pt x="59" y="1661"/>
                    <a:pt x="52" y="1689"/>
                    <a:pt x="43" y="1715"/>
                  </a:cubicBezTo>
                  <a:cubicBezTo>
                    <a:pt x="39" y="1728"/>
                    <a:pt x="30" y="1754"/>
                    <a:pt x="30" y="1754"/>
                  </a:cubicBezTo>
                  <a:cubicBezTo>
                    <a:pt x="0" y="1938"/>
                    <a:pt x="8" y="1668"/>
                    <a:pt x="30" y="1999"/>
                  </a:cubicBezTo>
                  <a:cubicBezTo>
                    <a:pt x="33" y="2042"/>
                    <a:pt x="53" y="2275"/>
                    <a:pt x="83" y="2304"/>
                  </a:cubicBezTo>
                  <a:cubicBezTo>
                    <a:pt x="87" y="2317"/>
                    <a:pt x="88" y="2332"/>
                    <a:pt x="96" y="2343"/>
                  </a:cubicBezTo>
                  <a:cubicBezTo>
                    <a:pt x="119" y="2372"/>
                    <a:pt x="174" y="2422"/>
                    <a:pt x="174" y="2422"/>
                  </a:cubicBezTo>
                  <a:cubicBezTo>
                    <a:pt x="178" y="2435"/>
                    <a:pt x="180" y="2449"/>
                    <a:pt x="187" y="2461"/>
                  </a:cubicBezTo>
                  <a:cubicBezTo>
                    <a:pt x="194" y="2472"/>
                    <a:pt x="214" y="2487"/>
                    <a:pt x="214" y="24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-124560" y="735480"/>
              <a:ext cx="1366560" cy="4253760"/>
              <a:chOff x="-124560" y="735480"/>
              <a:chExt cx="1366560" cy="4253760"/>
            </a:xfrm>
          </p:grpSpPr>
          <p:sp>
            <p:nvSpPr>
              <p:cNvPr id="505" name=""/>
              <p:cNvSpPr/>
              <p:nvPr/>
            </p:nvSpPr>
            <p:spPr>
              <a:xfrm>
                <a:off x="170640" y="2051280"/>
                <a:ext cx="150120" cy="1641240"/>
              </a:xfrm>
              <a:custGeom>
                <a:avLst/>
                <a:gdLst/>
                <a:ahLst/>
                <a:rect l="l" t="t" r="r" b="b"/>
                <a:pathLst>
                  <a:path w="118" h="1034">
                    <a:moveTo>
                      <a:pt x="13" y="0"/>
                    </a:moveTo>
                    <a:cubicBezTo>
                      <a:pt x="37" y="73"/>
                      <a:pt x="59" y="147"/>
                      <a:pt x="78" y="222"/>
                    </a:cubicBezTo>
                    <a:cubicBezTo>
                      <a:pt x="63" y="455"/>
                      <a:pt x="81" y="355"/>
                      <a:pt x="39" y="523"/>
                    </a:cubicBezTo>
                    <a:cubicBezTo>
                      <a:pt x="32" y="550"/>
                      <a:pt x="22" y="576"/>
                      <a:pt x="13" y="602"/>
                    </a:cubicBezTo>
                    <a:cubicBezTo>
                      <a:pt x="9" y="615"/>
                      <a:pt x="0" y="641"/>
                      <a:pt x="0" y="641"/>
                    </a:cubicBezTo>
                    <a:cubicBezTo>
                      <a:pt x="8" y="736"/>
                      <a:pt x="6" y="783"/>
                      <a:pt x="26" y="864"/>
                    </a:cubicBezTo>
                    <a:cubicBezTo>
                      <a:pt x="37" y="907"/>
                      <a:pt x="92" y="981"/>
                      <a:pt x="92" y="981"/>
                    </a:cubicBezTo>
                    <a:cubicBezTo>
                      <a:pt x="107" y="1027"/>
                      <a:pt x="95" y="1011"/>
                      <a:pt x="118" y="10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19818600">
                <a:off x="884520" y="2010960"/>
                <a:ext cx="195120" cy="706680"/>
              </a:xfrm>
              <a:custGeom>
                <a:avLst/>
                <a:gdLst>
                  <a:gd name="textAreaLeft" fmla="*/ 45720 w 195120"/>
                  <a:gd name="textAreaRight" fmla="*/ 149400 w 19512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rot="19818600">
                <a:off x="496800" y="3070080"/>
                <a:ext cx="122040" cy="706320"/>
              </a:xfrm>
              <a:custGeom>
                <a:avLst/>
                <a:gdLst>
                  <a:gd name="textAreaLeft" fmla="*/ 28440 w 122040"/>
                  <a:gd name="textAreaRight" fmla="*/ 93240 w 1220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 rot="663000">
                <a:off x="432000" y="1447920"/>
                <a:ext cx="84960" cy="705960"/>
              </a:xfrm>
              <a:custGeom>
                <a:avLst/>
                <a:gdLst>
                  <a:gd name="textAreaLeft" fmla="*/ 19800 w 84960"/>
                  <a:gd name="textAreaRight" fmla="*/ 65160 w 84960"/>
                  <a:gd name="textAreaTop" fmla="*/ 82800 h 705960"/>
                  <a:gd name="textAreaBottom" fmla="*/ 442800 h 70596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20752200">
                <a:off x="676800" y="4278240"/>
                <a:ext cx="122400" cy="706320"/>
              </a:xfrm>
              <a:custGeom>
                <a:avLst/>
                <a:gdLst>
                  <a:gd name="textAreaLeft" fmla="*/ 28800 w 122400"/>
                  <a:gd name="textAreaRight" fmla="*/ 93600 w 1224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1330800">
                <a:off x="0" y="2041560"/>
                <a:ext cx="244440" cy="706680"/>
              </a:xfrm>
              <a:custGeom>
                <a:avLst/>
                <a:gdLst>
                  <a:gd name="textAreaLeft" fmla="*/ 57240 w 244440"/>
                  <a:gd name="textAreaRight" fmla="*/ 186840 w 2444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379200">
                <a:off x="676800" y="2285640"/>
                <a:ext cx="96840" cy="706680"/>
              </a:xfrm>
              <a:custGeom>
                <a:avLst/>
                <a:gdLst>
                  <a:gd name="textAreaLeft" fmla="*/ 22680 w 96840"/>
                  <a:gd name="textAreaRight" fmla="*/ 74160 w 968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19691400">
                <a:off x="370800" y="4267080"/>
                <a:ext cx="61200" cy="706320"/>
              </a:xfrm>
              <a:custGeom>
                <a:avLst/>
                <a:gdLst>
                  <a:gd name="textAreaLeft" fmla="*/ 14400 w 61200"/>
                  <a:gd name="textAreaRight" fmla="*/ 46800 w 612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20752200">
                <a:off x="3240" y="761760"/>
                <a:ext cx="305640" cy="706320"/>
              </a:xfrm>
              <a:custGeom>
                <a:avLst/>
                <a:gdLst>
                  <a:gd name="textAreaLeft" fmla="*/ 71640 w 305640"/>
                  <a:gd name="textAreaRight" fmla="*/ 233640 w 3056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rot="21171600">
                <a:off x="185760" y="3353040"/>
                <a:ext cx="123120" cy="706320"/>
              </a:xfrm>
              <a:custGeom>
                <a:avLst/>
                <a:gdLst>
                  <a:gd name="textAreaLeft" fmla="*/ 28800 w 123120"/>
                  <a:gd name="textAreaRight" fmla="*/ 94320 w 12312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5" name=""/>
          <p:cNvGrpSpPr/>
          <p:nvPr/>
        </p:nvGrpSpPr>
        <p:grpSpPr>
          <a:xfrm>
            <a:off x="8153280" y="228600"/>
            <a:ext cx="990720" cy="1523880"/>
            <a:chOff x="8153280" y="228600"/>
            <a:chExt cx="990720" cy="1523880"/>
          </a:xfrm>
        </p:grpSpPr>
        <p:sp>
          <p:nvSpPr>
            <p:cNvPr id="516" name=""/>
            <p:cNvSpPr/>
            <p:nvPr/>
          </p:nvSpPr>
          <p:spPr>
            <a:xfrm>
              <a:off x="8153280" y="228600"/>
              <a:ext cx="990720" cy="1523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305920" y="304920"/>
              <a:ext cx="685800" cy="129528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66ffff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3c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1047600" y="581040"/>
            <a:ext cx="76212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练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45360" y="1184400"/>
            <a:ext cx="606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判断下面各数能否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9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2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211480" y="21747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98760" y="2174760"/>
            <a:ext cx="34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+0+7=9       20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211480" y="28195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398760" y="2819520"/>
            <a:ext cx="34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+9+1=18     89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211480" y="3429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459600" y="3429000"/>
            <a:ext cx="35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+9+3=13     19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211480" y="41004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398760" y="4100400"/>
            <a:ext cx="34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+5+0=9       4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211480" y="4786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398400" y="4786200"/>
            <a:ext cx="34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+2+2=6        22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211480" y="5457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59600" y="5457960"/>
            <a:ext cx="35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+3+6=10     13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08:32:17Z</dcterms:created>
  <dc:creator>yangjiuling</dc:creator>
  <dc:description/>
  <dc:language>en-US</dc:language>
  <cp:lastModifiedBy>番茄花园</cp:lastModifiedBy>
  <dcterms:modified xsi:type="dcterms:W3CDTF">2008-01-03T07:37:24Z</dcterms:modified>
  <cp:revision>160</cp:revision>
  <dc:subject/>
  <dc:title>PowerPoint 演示文稿</dc:title>
</cp:coreProperties>
</file>