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F48-1050-4D61-89BD-EB01454D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FAC-D847-449C-A9DD-EC2B656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BAD-5F47-4AA3-8363-F46F99E6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B52-08CA-4D98-94FB-CBE72E76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F50-D74F-4B38-A37E-C537F4E5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DCE9-807E-4542-9FBD-4BE38FE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97C-AC23-41DB-94FC-EEAA7C1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AFBF-27EE-4182-A563-E4A40B19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2070-0C41-4F20-AF23-4CAA51D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9C2-CE2D-423C-A7C8-C365B07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AB8C-B44E-465C-BFC2-ABB5AB7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B46-6553-46B6-B5B0-8219FA9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B75E-4AA0-46CD-831E-234998B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1C31-5A8A-40AF-AA0A-3A62F8E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5043-2F4E-47E0-84D2-0D9636B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C23F-83D7-4FE5-B856-A4AD478C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BDA4-F2AB-498C-8867-9C3C3A12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C07-9F90-4557-AFD0-FA44BCA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3F0-45E5-4D3D-890F-E01BE16C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334-783E-4554-B1E9-388DA31C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305-EFE2-4D72-91D0-A0BABB8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DC6-BD24-42DD-A0AB-E789818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E09-97F6-4E1E-9853-00A1318D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46C-547E-464C-884F-DF7CCFF8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71A-5B37-4474-9B39-8C898EFC31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E6E-62DC-41A8-81E5-19D1E0F97D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83440" y="1143000"/>
            <a:ext cx="2649600" cy="916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正方体的认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71800" y="1447920"/>
            <a:ext cx="3276720" cy="312408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ji" descr=""/>
          <p:cNvPicPr/>
          <p:nvPr/>
        </p:nvPicPr>
        <p:blipFill>
          <a:blip r:embed="rId2"/>
          <a:stretch/>
        </p:blipFill>
        <p:spPr>
          <a:xfrm>
            <a:off x="2666880" y="5334120"/>
            <a:ext cx="838440" cy="772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6200" y="5486400"/>
            <a:ext cx="17524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正方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H="1">
            <a:off x="3733560" y="3790800"/>
            <a:ext cx="243828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5300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447920"/>
            <a:ext cx="327672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124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510552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733560" y="3790800"/>
            <a:ext cx="243828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5300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447920"/>
            <a:ext cx="327672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1447920"/>
            <a:ext cx="327672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33560" y="3790800"/>
            <a:ext cx="243828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53000" y="152388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52720" y="4572000"/>
            <a:ext cx="251460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228760"/>
            <a:ext cx="251460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447920"/>
            <a:ext cx="251460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67320" y="2209680"/>
            <a:ext cx="0" cy="23623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1447560"/>
            <a:ext cx="0" cy="23619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2209680"/>
            <a:ext cx="0" cy="23623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1800" y="1467000"/>
            <a:ext cx="762120" cy="7617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67320" y="3809520"/>
            <a:ext cx="762120" cy="762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86400" y="1447920"/>
            <a:ext cx="762120" cy="76176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00520"/>
            <a:ext cx="2514600" cy="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753000" y="1447560"/>
            <a:ext cx="0" cy="236196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3816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838080" cy="773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733560" y="3790800"/>
            <a:ext cx="243828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5300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3086280" y="5638680"/>
            <a:ext cx="6094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510552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71800" y="1447920"/>
            <a:ext cx="3276720" cy="31240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33560" y="3790800"/>
            <a:ext cx="2438280" cy="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71800" y="3809520"/>
            <a:ext cx="762120" cy="76212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753000" y="152388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5486400"/>
            <a:ext cx="838080" cy="773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3753000" y="1504800"/>
            <a:ext cx="0" cy="2286000"/>
          </a:xfrm>
          <a:prstGeom prst="line">
            <a:avLst/>
          </a:prstGeom>
          <a:ln w="255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3124080" y="5638680"/>
            <a:ext cx="609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5105520" y="5638680"/>
            <a:ext cx="1371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  <a:ea typeface="华文新魏"/>
              </a:rPr>
              <a:t>顶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924280" y="451152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10080" y="45054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692520" y="374328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2908440" y="217188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689280" y="140328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6188040" y="374004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5410080" y="21654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184800" y="1400040"/>
            <a:ext cx="136800" cy="1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05:46:41Z</dcterms:created>
  <dc:creator>yanchao</dc:creator>
  <dc:description/>
  <dc:language>en-US</dc:language>
  <cp:lastModifiedBy>番茄花园</cp:lastModifiedBy>
  <dcterms:modified xsi:type="dcterms:W3CDTF">2007-12-18T06:25:47Z</dcterms:modified>
  <cp:revision>36</cp:revision>
  <dc:subject/>
  <dc:title>PowerPoint 演示文稿</dc:title>
</cp:coreProperties>
</file>