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9E45-6DBA-423D-B2FC-2A774A63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C430-BA36-4BEC-A133-E216B506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7BFA-BEFB-43F1-8D39-D8129152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5A9-2F37-4C27-9769-0CCE1A79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01F8-6360-4916-9E37-2CB52E86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0776-CBB3-4575-A66F-6A2C4C51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E253-64F5-436F-81DA-E6EF6070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D502-AEDE-483E-A3A3-938A399C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5AD3-1A92-4CC6-8E61-2D2FBC17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EF8B-CE88-4D1A-8152-001B9276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504C-F626-4561-A6CE-620DB753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BFF-41B1-4C05-8A67-7CB68CC7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E7C9-E8FE-4867-B439-AE8DEB46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EE89-7EB3-4947-80A4-715BCA54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21E0-DBBE-43B4-BD64-B561E1CE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19B4-674B-48A0-A17D-E0FD1645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99EC-7907-4103-AF82-AD5D7D1F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104-0A4E-433F-B653-C2F04F2D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6CF-8198-4C57-AB52-1DB999EC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FFA-298B-42A1-9724-76D9709C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7F1A-4A28-4702-BB68-A6057159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8A7-D11D-469A-8B18-C60988AE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E4F-5C7A-4621-81E7-4E9383D0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CC33-3F33-4F3D-9C52-144ACFE5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7667-2B2D-4A30-8129-7AC889D446F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6DB7-1E47-4884-9AF8-A041C3EAD074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38271;&#26041;&#20307;&#12289;&#27491;&#26041;&#20307;3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00200" y="2209680"/>
            <a:ext cx="5105520" cy="259092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00200" y="2209680"/>
            <a:ext cx="2590920" cy="259092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00200" y="2209680"/>
            <a:ext cx="5105520" cy="259092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00200" y="2209680"/>
            <a:ext cx="2590920" cy="259092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>
            <a:hlinkClick r:id="rId1"/>
          </p:cNvPr>
          <p:cNvSpPr/>
          <p:nvPr/>
        </p:nvSpPr>
        <p:spPr>
          <a:xfrm>
            <a:off x="7848720" y="60958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25358" y="10800"/>
                </a:lnTo>
                <a:lnTo>
                  <a:pt x="11345" y="17806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00200" y="2209680"/>
            <a:ext cx="2514600" cy="259092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00200" y="2209680"/>
            <a:ext cx="5105520" cy="259092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00200" y="2209680"/>
            <a:ext cx="4876920" cy="259092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00200" y="2209680"/>
            <a:ext cx="4648320" cy="259092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00200" y="2209680"/>
            <a:ext cx="4343400" cy="259092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00200" y="2209680"/>
            <a:ext cx="3962520" cy="259092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00200" y="2209680"/>
            <a:ext cx="3581280" cy="259092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600200" y="2209680"/>
            <a:ext cx="3200400" cy="259092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2T11:24:08Z</dcterms:created>
  <dc:creator>xjh</dc:creator>
  <dc:description/>
  <dc:language>en-US</dc:language>
  <cp:lastModifiedBy>lsc</cp:lastModifiedBy>
  <dcterms:modified xsi:type="dcterms:W3CDTF">2000-09-14T03:25:36Z</dcterms:modified>
  <cp:revision>5</cp:revision>
  <dc:subject/>
  <dc:title>没有幻灯片标题</dc:title>
</cp:coreProperties>
</file>