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433-74A2-49AA-B45C-874B3A38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F4C-229F-4BBA-8C50-8F4C4E13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5E2-F32B-49A3-B8D5-E3688CC6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D53-D4ED-4B20-9DF0-62B75D77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CCD-2F76-4F55-B8C2-D25610BB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BFC-58B6-42E8-A797-517CA1B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D13-7FB3-4AE9-9F85-49D30EE2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1A53-70DA-40EA-A32D-D04C9465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E2E-9AC4-45D9-8274-5216DEDA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03D-0DB6-4303-A0DF-1249DBF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6F0-1A63-47E4-A5EB-C0262A9E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317-9FF2-4AE4-83E7-950A174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7BF6-3FA9-4A1E-9E4A-1AEC3629F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19320"/>
            <a:ext cx="2438640" cy="2438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95480" y="182844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95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7652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28600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371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952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52388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828800"/>
            <a:ext cx="609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438280"/>
            <a:ext cx="6098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438280"/>
            <a:ext cx="6094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8120"/>
            <a:ext cx="609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6002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13716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371600"/>
            <a:ext cx="838440" cy="228600"/>
          </a:xfrm>
          <a:prstGeom prst="parallelogram">
            <a:avLst>
              <a:gd name="adj" fmla="val 10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1219320"/>
            <a:ext cx="761760" cy="152280"/>
          </a:xfrm>
          <a:prstGeom prst="parallelogram">
            <a:avLst>
              <a:gd name="adj" fmla="val 1115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600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81952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19810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1219320"/>
            <a:ext cx="15264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438280"/>
            <a:ext cx="152640" cy="76212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2438280"/>
            <a:ext cx="6094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828800"/>
            <a:ext cx="609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048120"/>
            <a:ext cx="609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048120"/>
            <a:ext cx="609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16002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600200"/>
            <a:ext cx="838440" cy="228600"/>
          </a:xfrm>
          <a:prstGeom prst="parallelogram">
            <a:avLst>
              <a:gd name="adj" fmla="val 1000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13716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219320"/>
            <a:ext cx="762120" cy="152280"/>
          </a:xfrm>
          <a:prstGeom prst="parallelogram">
            <a:avLst>
              <a:gd name="adj" fmla="val 1115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219320"/>
            <a:ext cx="762120" cy="152280"/>
          </a:xfrm>
          <a:prstGeom prst="parallelogram">
            <a:avLst>
              <a:gd name="adj" fmla="val 1115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2096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13716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59092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828800"/>
            <a:ext cx="152640" cy="76212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286000"/>
            <a:ext cx="1219320" cy="12193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362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2819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2971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419720" y="2590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1981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4193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2481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98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48160" y="3809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198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419360" y="3809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3809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81080"/>
            <a:ext cx="2438280" cy="24386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198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419720" y="3809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3809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las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4995" y="17806"/>
                </a:lnTo>
                <a:lnTo>
                  <a:pt x="4995" y="3794"/>
                </a:lnTo>
                <a:close/>
              </a:path>
              <a:path fill="darken" w="24003" h="21600">
                <a:moveTo>
                  <a:pt x="17345" y="3794"/>
                </a:moveTo>
                <a:lnTo>
                  <a:pt x="17345" y="17806"/>
                </a:lnTo>
                <a:lnTo>
                  <a:pt x="19008" y="17806"/>
                </a:lnTo>
                <a:lnTo>
                  <a:pt x="19008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219320"/>
            <a:ext cx="2438640" cy="2438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895480" y="182844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95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67652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28600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371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952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52388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828800"/>
            <a:ext cx="6094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438280"/>
            <a:ext cx="60984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438280"/>
            <a:ext cx="60948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048120"/>
            <a:ext cx="6094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16002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3716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1371600"/>
            <a:ext cx="838440" cy="228600"/>
          </a:xfrm>
          <a:prstGeom prst="parallelogram">
            <a:avLst>
              <a:gd name="adj" fmla="val 10003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1219320"/>
            <a:ext cx="761760" cy="152280"/>
          </a:xfrm>
          <a:prstGeom prst="parallelogram">
            <a:avLst>
              <a:gd name="adj" fmla="val 11151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1600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81952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19810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219320"/>
            <a:ext cx="15264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438280"/>
            <a:ext cx="152640" cy="76212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438280"/>
            <a:ext cx="60948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828800"/>
            <a:ext cx="6098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048120"/>
            <a:ext cx="6094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3048120"/>
            <a:ext cx="6098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16002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600200"/>
            <a:ext cx="838440" cy="228600"/>
          </a:xfrm>
          <a:prstGeom prst="parallelogram">
            <a:avLst>
              <a:gd name="adj" fmla="val 10003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371600"/>
            <a:ext cx="838080" cy="228600"/>
          </a:xfrm>
          <a:prstGeom prst="parallelogram">
            <a:avLst>
              <a:gd name="adj" fmla="val 999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219320"/>
            <a:ext cx="762120" cy="152280"/>
          </a:xfrm>
          <a:prstGeom prst="parallelogram">
            <a:avLst>
              <a:gd name="adj" fmla="val 1115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1219320"/>
            <a:ext cx="762120" cy="152280"/>
          </a:xfrm>
          <a:prstGeom prst="parallelogram">
            <a:avLst>
              <a:gd name="adj" fmla="val 1115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3716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59092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44" y="128"/>
                  <a:pt x="144" y="256"/>
                  <a:pt x="144" y="384"/>
                </a:cubicBezTo>
                <a:lnTo>
                  <a:pt x="0" y="528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828800"/>
            <a:ext cx="152640" cy="762120"/>
          </a:xfrm>
          <a:custGeom>
            <a:avLst/>
            <a:gdLst/>
            <a:ahLst/>
            <a:rect l="l" t="t" r="r" b="b"/>
            <a:pathLst>
              <a:path w="96" h="480">
                <a:moveTo>
                  <a:pt x="96" y="0"/>
                </a:moveTo>
                <a:cubicBezTo>
                  <a:pt x="96" y="132"/>
                  <a:pt x="96" y="264"/>
                  <a:pt x="96" y="396"/>
                </a:cubicBezTo>
                <a:lnTo>
                  <a:pt x="0" y="48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286000"/>
            <a:ext cx="1219320" cy="12193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2362320"/>
            <a:ext cx="152280" cy="1522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124080"/>
            <a:ext cx="152640" cy="152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819520"/>
            <a:ext cx="152640" cy="152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666880"/>
            <a:ext cx="76320" cy="763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2819520"/>
            <a:ext cx="75960" cy="7596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971800"/>
            <a:ext cx="76320" cy="763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19720" y="2590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1981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4193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2481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198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248160" y="3809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98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419360" y="3809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3809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1981080"/>
            <a:ext cx="609480" cy="2419560"/>
          </a:xfrm>
          <a:custGeom>
            <a:avLst/>
            <a:gdLst/>
            <a:ahLst/>
            <a:rect l="l" t="t" r="r" b="b"/>
            <a:pathLst>
              <a:path w="384" h="1524">
                <a:moveTo>
                  <a:pt x="384" y="0"/>
                </a:moveTo>
                <a:cubicBezTo>
                  <a:pt x="384" y="380"/>
                  <a:pt x="384" y="760"/>
                  <a:pt x="384" y="1140"/>
                </a:cubicBezTo>
                <a:lnTo>
                  <a:pt x="0" y="1524"/>
                </a:lnTo>
                <a:lnTo>
                  <a:pt x="0" y="372"/>
                </a:lnTo>
                <a:lnTo>
                  <a:pt x="38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809880"/>
            <a:ext cx="2438280" cy="609840"/>
          </a:xfrm>
          <a:prstGeom prst="parallelogram">
            <a:avLst>
              <a:gd name="adj" fmla="val 9995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259092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1981080"/>
            <a:ext cx="609480" cy="2419560"/>
          </a:xfrm>
          <a:custGeom>
            <a:avLst/>
            <a:gdLst/>
            <a:ahLst/>
            <a:rect l="l" t="t" r="r" b="b"/>
            <a:pathLst>
              <a:path w="384" h="1524">
                <a:moveTo>
                  <a:pt x="384" y="0"/>
                </a:moveTo>
                <a:cubicBezTo>
                  <a:pt x="384" y="380"/>
                  <a:pt x="384" y="760"/>
                  <a:pt x="384" y="1140"/>
                </a:cubicBezTo>
                <a:lnTo>
                  <a:pt x="0" y="1524"/>
                </a:lnTo>
                <a:lnTo>
                  <a:pt x="0" y="372"/>
                </a:lnTo>
                <a:lnTo>
                  <a:pt x="38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1981080"/>
            <a:ext cx="2438280" cy="609840"/>
          </a:xfrm>
          <a:prstGeom prst="parallelogram">
            <a:avLst>
              <a:gd name="adj" fmla="val 9995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1981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193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2481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198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248160" y="3809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198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419360" y="3809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3809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029200" y="1522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38098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198108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1981080"/>
            <a:ext cx="18288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2T11:24:08Z</dcterms:created>
  <dc:creator>xjh</dc:creator>
  <dc:description/>
  <dc:language>en-US</dc:language>
  <cp:lastModifiedBy>xjh</cp:lastModifiedBy>
  <dcterms:modified xsi:type="dcterms:W3CDTF">2000-11-14T12:28:25Z</dcterms:modified>
  <cp:revision>10</cp:revision>
  <dc:subject/>
  <dc:title>没有幻灯片标题</dc:title>
</cp:coreProperties>
</file>