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type.wav" ContentType="audio/x-wav"/>
  <Override PartName="/ppt/media/chimes.wav" ContentType="audio/x-wav"/>
  <Override PartName="/ppt/media/image3.png" ContentType="image/png"/>
  <Override PartName="/ppt/media/laser.wav" ContentType="audio/x-wav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993-B9DE-407F-B34A-F8A9B3B7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402-217A-4D7C-9BCD-39E03960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585-2AA8-4405-8C7F-9CC522E9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B57-7ADB-474D-875A-EDF75D81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21D-C3E0-4822-A787-4B94DC8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A99-E8EA-4865-BA40-77440E92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440-D7E3-4A1C-B006-F5641394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6FB-BE0C-4BC5-855E-FC21242F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2CC-042D-4D3C-A04A-E7D888A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10A-F0D3-4176-8FDE-1EB7B66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692-D62B-4718-8E3D-9F658CF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FF2-41EC-4EDF-A6D2-37E173E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67E-F992-4FD7-B8FC-EA34BC2A0E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2.xml"/><Relationship Id="rId3" Type="http://schemas.openxmlformats.org/officeDocument/2006/relationships/slide" Target="slide36.xml"/><Relationship Id="rId4" Type="http://schemas.openxmlformats.org/officeDocument/2006/relationships/slide" Target="slide38.xml"/><Relationship Id="rId5" Type="http://schemas.openxmlformats.org/officeDocument/2006/relationships/slide" Target="slide44.xml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4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8271;&#26041;&#20307;&#12289;&#27491;&#26041;&#20307;2.ppt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118800" y="-48463200"/>
            <a:ext cx="914400" cy="914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2128200" y="-9667800"/>
            <a:ext cx="150883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Document: 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32128920" y="-1800360"/>
            <a:ext cx="14632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Printed By: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32127480" y="6172200"/>
            <a:ext cx="140198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Printed At: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1040840" y="-966780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1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1040840" y="-180036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2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0888200" y="6172200"/>
            <a:ext cx="6402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600" spc="-1" strike="noStrike">
                <a:solidFill>
                  <a:srgbClr val="000000"/>
                </a:solidFill>
                <a:latin typeface="Arial"/>
              </a:rPr>
              <a:t>%3%</a:t>
            </a:r>
            <a:endParaRPr b="0" lang="en-US" sz="2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8801360" y="-44167320"/>
            <a:ext cx="33335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800" spc="-1" strike="noStrike">
                <a:solidFill>
                  <a:srgbClr val="000000"/>
                </a:solidFill>
                <a:latin typeface="Arial"/>
              </a:rPr>
              <a:t>Windows 98            </a:t>
            </a:r>
            <a:endParaRPr b="0" lang="en-US" sz="2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8771480" y="-39890880"/>
            <a:ext cx="26836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800" spc="-1" strike="noStrike">
                <a:solidFill>
                  <a:srgbClr val="000000"/>
                </a:solidFill>
                <a:latin typeface="Arial"/>
              </a:rPr>
              <a:t>Separator Page</a:t>
            </a:r>
            <a:endParaRPr b="0" lang="en-US" sz="2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33832800" y="-32004000"/>
            <a:ext cx="75438000" cy="14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77200" y="55321200"/>
            <a:ext cx="447840" cy="447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61200" y="-43891200"/>
            <a:ext cx="10058400" cy="794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3352680"/>
            <a:ext cx="388620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352680"/>
            <a:ext cx="205740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352680"/>
            <a:ext cx="358128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352680"/>
            <a:ext cx="304776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838080" y="5867280"/>
            <a:ext cx="1828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进入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30492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长方体和正方体的认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572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棱                        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638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长方体有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面，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条棱，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顶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2819520"/>
            <a:ext cx="5486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64008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876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6680" y="1219320"/>
            <a:ext cx="2438640" cy="2438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895480" y="1828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895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765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8600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2952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238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182880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438280"/>
            <a:ext cx="609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2438280"/>
            <a:ext cx="6094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304812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13716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1219320"/>
            <a:ext cx="761760" cy="152280"/>
          </a:xfrm>
          <a:prstGeom prst="parallelogram">
            <a:avLst>
              <a:gd name="adj" fmla="val 1115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00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28195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981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1219320"/>
            <a:ext cx="15264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243828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438280"/>
            <a:ext cx="609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82880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304812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304812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6002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22096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13716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25909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182880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286000"/>
            <a:ext cx="121932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362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64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971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20040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200040" y="2209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028840" y="2209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09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2884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2819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819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2209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20004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2209680"/>
            <a:ext cx="2438280" cy="2438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2209680"/>
            <a:ext cx="0" cy="1828800"/>
          </a:xfrm>
          <a:prstGeom prst="line">
            <a:avLst/>
          </a:prstGeom>
          <a:ln w="93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200400" y="4038480"/>
            <a:ext cx="609480" cy="609840"/>
          </a:xfrm>
          <a:prstGeom prst="line">
            <a:avLst/>
          </a:prstGeom>
          <a:ln w="93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4038480"/>
            <a:ext cx="1828800" cy="0"/>
          </a:xfrm>
          <a:prstGeom prst="line">
            <a:avLst/>
          </a:prstGeom>
          <a:ln w="93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5181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正方体有六个面，它们是上面、下面、左面、右面、前面、后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500"/>
                            </p:stCondLst>
                            <p:childTnLst>
                              <p:par>
                                <p:cTn id="56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000"/>
                            </p:stCondLst>
                            <p:childTnLst>
                              <p:par>
                                <p:cTn id="5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195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9625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1337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3049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3049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39625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2133720"/>
            <a:ext cx="1828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579132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体有六个相等的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500"/>
                            </p:stCondLst>
                            <p:childTnLst>
                              <p:par>
                                <p:cTn id="59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1143000" y="380988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方体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143000" y="480060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正方体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105520" y="380988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5105520" y="4800600"/>
            <a:ext cx="31240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666880"/>
            <a:ext cx="2209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3581280" y="5715000"/>
            <a:ext cx="2286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4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29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273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657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03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182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5632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47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3284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960" y="762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956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038480" y="2590920"/>
            <a:ext cx="609840" cy="241920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4419720"/>
            <a:ext cx="2438640" cy="609480"/>
          </a:xfrm>
          <a:prstGeom prst="parallelogram">
            <a:avLst>
              <a:gd name="adj" fmla="val 1000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320040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2590920"/>
            <a:ext cx="18288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590920"/>
            <a:ext cx="609840" cy="241920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2590920"/>
            <a:ext cx="2438640" cy="609480"/>
          </a:xfrm>
          <a:prstGeom prst="parallelogram">
            <a:avLst>
              <a:gd name="adj" fmla="val 1000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20040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259092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0384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867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59092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867280" y="44197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502920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20040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259092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38480" y="44197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41972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41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419720" y="25909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198108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419360" y="19810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248160" y="19810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198108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248160" y="38098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2590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44197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8520" y="2590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19360" y="3809880"/>
            <a:ext cx="609480" cy="609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5105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正方体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个面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条棱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8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个顶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1828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816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057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4267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6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7500"/>
                            </p:stCondLst>
                            <p:childTnLst>
                              <p:par>
                                <p:cTn id="6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90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3500"/>
                            </p:stCondLst>
                            <p:childTnLst>
                              <p:par>
                                <p:cTn id="73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7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2500"/>
                            </p:stCondLst>
                            <p:childTnLst>
                              <p:par>
                                <p:cTn id="76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00200" y="2209680"/>
            <a:ext cx="25146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600200" y="2209680"/>
            <a:ext cx="4876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600200" y="2209680"/>
            <a:ext cx="46483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600200" y="2209680"/>
            <a:ext cx="43434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29000" y="25146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9000" y="32004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1981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上海制笔销售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宜兴洋新兴化工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195400">
            <a:off x="3276720" y="312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高级碳素墨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3080" y="2590920"/>
            <a:ext cx="110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Dolphin"/>
                <a:ea typeface="隶书"/>
              </a:rPr>
              <a:t>新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（     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433000">
            <a:off x="3353040" y="28954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514600"/>
            <a:ext cx="0" cy="1676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733920"/>
            <a:ext cx="220968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38280" y="3200400"/>
            <a:ext cx="609840" cy="533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北   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666880" y="25142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66880" y="28191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419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648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077320" y="2057400"/>
            <a:ext cx="6858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153280" y="213372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229600" y="213336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492600">
            <a:off x="6552720" y="2209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学生字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00200" y="2209680"/>
            <a:ext cx="3962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600200" y="2209680"/>
            <a:ext cx="358128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600200" y="2209680"/>
            <a:ext cx="320040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64008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48640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600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95280" y="1447920"/>
            <a:ext cx="6705720" cy="4114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895480"/>
            <a:ext cx="4572000" cy="1524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1828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3200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正方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50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380880" y="762120"/>
          <a:ext cx="8382240" cy="5278320"/>
        </p:xfrm>
        <a:graphic>
          <a:graphicData uri="http://schemas.openxmlformats.org/drawingml/2006/table">
            <a:tbl>
              <a:tblPr/>
              <a:tblGrid>
                <a:gridCol w="838440"/>
                <a:gridCol w="1066680"/>
                <a:gridCol w="5208480"/>
                <a:gridCol w="1268640"/>
              </a:tblGrid>
              <a:tr h="812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方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方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个面都是长方形（也可能          相对的两个面是正方形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都是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相等（可能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相等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都相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相交于一个顶点的棱为长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、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371600" y="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方体和正方体的特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6629400" y="62164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019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0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57200" y="1295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  正方体有（         ）个面，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都是（               ），    正方形各面的（         ）相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295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2057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正方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78280" y="2666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886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  长方体有（       ）个面，它们一般都是（             ），长方形相对的面的（          ）相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340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方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4952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 、 口答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5715000"/>
            <a:ext cx="266688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巩固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85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 rot="20780400">
            <a:off x="1329840" y="740880"/>
            <a:ext cx="7226280" cy="287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2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47" name=""/>
          <p:cNvSpPr/>
          <p:nvPr/>
        </p:nvSpPr>
        <p:spPr>
          <a:xfrm>
            <a:off x="1064880" y="4502160"/>
            <a:ext cx="767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有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面，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12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条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8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顶点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55627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7500"/>
                            </p:stCondLst>
                            <p:childTnLst>
                              <p:par>
                                <p:cTn id="89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 rot="20780400">
            <a:off x="1301400" y="825120"/>
            <a:ext cx="715500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4429080"/>
            <a:ext cx="86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2    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有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面，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12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条棱，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8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个顶点的都是长方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8168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 rot="20780400">
            <a:off x="1523880" y="837720"/>
            <a:ext cx="723924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文字判断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/>
          <p:nvPr/>
        </p:nvSpPr>
        <p:spPr>
          <a:xfrm>
            <a:off x="714240" y="4492800"/>
            <a:ext cx="672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5050"/>
                </a:solidFill>
                <a:latin typeface="Times New Roman"/>
                <a:ea typeface="隶书"/>
              </a:rPr>
              <a:t>3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的相对的面面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相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28240" y="39625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5050"/>
                </a:solidFill>
                <a:latin typeface="Times New Roman"/>
                <a:ea typeface="黑体"/>
              </a:rPr>
              <a:t>    </a:t>
            </a:r>
            <a:r>
              <a:rPr b="1" i="1" lang="zh-CN" sz="4800" spc="-1" strike="noStrike">
                <a:solidFill>
                  <a:srgbClr val="ff5050"/>
                </a:solidFill>
                <a:latin typeface="隶书"/>
                <a:ea typeface="隶书"/>
              </a:rPr>
              <a:t>4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长方体有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6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个面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每个面有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条棱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,  </a:t>
            </a:r>
            <a:r>
              <a:rPr b="1" i="1" lang="zh-CN" sz="4800" spc="-1" strike="noStrike">
                <a:solidFill>
                  <a:srgbClr val="3333cc"/>
                </a:solidFill>
                <a:latin typeface="隶书"/>
                <a:ea typeface="隶书"/>
              </a:rPr>
              <a:t>共四六二十四条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56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" y="609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三、    说一说长方体和正方体的相同点和不同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长方体和正方体的面、棱和顶点的数目都一样；只是正方体的棱长都相等。正方体可以说是长、宽、高都相等的长方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4267080"/>
            <a:ext cx="32004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4495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2880" y="5181480"/>
            <a:ext cx="1905120" cy="762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9fcef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1" action="ppaction://hlinksldjump"/>
          </p:cNvPr>
          <p:cNvSpPr/>
          <p:nvPr/>
        </p:nvSpPr>
        <p:spPr>
          <a:xfrm>
            <a:off x="7086600" y="586728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4008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rId3" action="ppaction://hlinksldjump"/>
          </p:cNvPr>
          <p:cNvSpPr/>
          <p:nvPr/>
        </p:nvSpPr>
        <p:spPr>
          <a:xfrm>
            <a:off x="228600" y="5943600"/>
            <a:ext cx="20574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500"/>
                            </p:stCondLst>
                            <p:childTnLst>
                              <p:par>
                                <p:cTn id="9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－－         －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76720" y="1600200"/>
            <a:ext cx="2819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6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1905120"/>
            <a:ext cx="5105520" cy="2590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53341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方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5268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后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33720" y="1981080"/>
            <a:ext cx="4952160" cy="3199680"/>
            <a:chOff x="2133720" y="1981080"/>
            <a:chExt cx="4952160" cy="3199680"/>
          </a:xfrm>
        </p:grpSpPr>
        <p:sp>
          <p:nvSpPr>
            <p:cNvPr id="130" name=""/>
            <p:cNvSpPr/>
            <p:nvPr/>
          </p:nvSpPr>
          <p:spPr>
            <a:xfrm>
              <a:off x="3318120" y="1981080"/>
              <a:ext cx="376776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133720" y="198108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901480" y="198108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3159720"/>
              <a:ext cx="387432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901480" y="3911760"/>
              <a:ext cx="1184400" cy="11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5880" y="2088000"/>
              <a:ext cx="0" cy="19299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8120" y="1981080"/>
              <a:ext cx="0" cy="2144520"/>
            </a:xfrm>
            <a:prstGeom prst="line">
              <a:avLst/>
            </a:prstGeom>
            <a:ln w="93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318120" y="4018320"/>
              <a:ext cx="3767760" cy="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33720" y="4018320"/>
              <a:ext cx="1184400" cy="1072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3159720"/>
              <a:ext cx="0" cy="1865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91040" y="3159720"/>
              <a:ext cx="0" cy="20210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720" y="5025240"/>
              <a:ext cx="375732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7903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前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276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右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276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55960" y="421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23880" y="205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方体有六个面，它们是前面、后面、左面、右面、上面、下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88620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rot="5400000">
            <a:off x="990360" y="2895480"/>
            <a:ext cx="2590560" cy="609840"/>
          </a:xfrm>
          <a:prstGeom prst="parallelogram">
            <a:avLst>
              <a:gd name="adj" fmla="val 10279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90512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rot="5400000">
            <a:off x="5485680" y="2895480"/>
            <a:ext cx="2590560" cy="609480"/>
          </a:xfrm>
          <a:prstGeom prst="parallelogram">
            <a:avLst>
              <a:gd name="adj" fmla="val 10285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2514600"/>
            <a:ext cx="449604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190512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71720" y="1490760"/>
          <a:ext cx="45622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90760"/>
                    <a:ext cx="45622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066680" y="342900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4792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rot="5400000">
            <a:off x="39614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5400000">
            <a:off x="752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1337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286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14479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0020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447920"/>
            <a:ext cx="4572000" cy="26668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447920"/>
            <a:ext cx="0" cy="190476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752120" y="3429000"/>
            <a:ext cx="38862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066680" y="3505320"/>
            <a:ext cx="609840" cy="68580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2286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286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4290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4479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46483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4479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46483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1218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4479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5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39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15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4500"/>
                            </p:stCondLst>
                            <p:childTnLst>
                              <p:par>
                                <p:cTn id="4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5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3000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3:40:00Z</dcterms:created>
  <dc:creator>松阳一中</dc:creator>
  <dc:description/>
  <dc:language>en-US</dc:language>
  <cp:lastModifiedBy>番茄花园</cp:lastModifiedBy>
  <dcterms:modified xsi:type="dcterms:W3CDTF">2007-12-18T06:22:47Z</dcterms:modified>
  <cp:revision>15</cp:revision>
  <dc:subject/>
  <dc:title>PowerPoint 演示文稿</dc:title>
</cp:coreProperties>
</file>