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EF9-6BD1-47F9-AC29-FFF485D3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CA6-B1FD-41CE-893A-88637D71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EB7C-2DBE-40DE-9E5B-48B8AC12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EB5-5E85-4E18-A91E-56A1F887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011B-A018-46E6-8F61-971F5CD9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82D2-1E73-40BD-AED7-5EA87CE0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98BF-203F-49BE-A5CC-BB8B41A9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4844-CC4F-49EF-B2C1-FE27DAF9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6A11-3A5F-4307-AB29-860DACCE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C142-6C19-4DDC-B069-4C5D5C56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A24E-B43F-4327-AFB9-8E296DE2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CB48-78D9-464C-AB6F-7C9DEBA3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21CF-DAE2-4480-A703-B5238F75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0F8A-90D7-42ED-A4C7-8BD40174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C8E6-DF23-40C2-9EF8-BCFEC16B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95CE-59DB-4623-BEF6-8A37BBA7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727F-580F-4E21-8632-4AB391D4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6AD-C613-4FF6-A6AE-70134FDE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4FC-D82D-4396-82BE-E42732A9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7D6-DD4B-4869-99E0-7335F0E0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228-4F4E-4B6A-8D45-24EC480C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25C-7A4B-4268-9BB1-2666672E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6DC-DB08-43E7-806E-E47C5EF5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C80-962C-4233-AFCD-51EDB9F7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537A-4810-4BF3-9F49-BCEA5DAC872C}" type="slidenum"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120C-6D2A-4E86-B5D6-B6B5873449ED}" type="slidenum"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image" Target="../media/image2.png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image" Target="../media/image2.png"/><Relationship Id="rId16" Type="http://schemas.openxmlformats.org/officeDocument/2006/relationships/image" Target="../media/image3.gif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image" Target="../media/image2.png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image" Target="../media/image2.png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image" Target="../media/image2.png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69560" y="2209320"/>
            <a:ext cx="541044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cc"/>
                </a:solidFill>
                <a:latin typeface="Arial"/>
                <a:ea typeface="黑体"/>
              </a:rPr>
              <a:t>长方体的认识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016720"/>
            <a:ext cx="638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1905120"/>
                <a:tab algn="l" pos="2664000"/>
                <a:tab algn="l" pos="2946240"/>
                <a:tab algn="l" pos="4375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再见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09680" y="1447920"/>
            <a:ext cx="4724640" cy="3124080"/>
          </a:xfrm>
          <a:prstGeom prst="cube">
            <a:avLst>
              <a:gd name="adj" fmla="val 25000"/>
            </a:avLst>
          </a:prstGeom>
          <a:solidFill>
            <a:srgbClr val="cc3300"/>
          </a:solidFill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666880" y="5334120"/>
            <a:ext cx="838440" cy="772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86200" y="5486400"/>
            <a:ext cx="17524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华文新魏"/>
              </a:rPr>
              <a:t>长方体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09680" y="1447920"/>
            <a:ext cx="4724640" cy="312408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971440" y="3790800"/>
            <a:ext cx="3962520" cy="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209680" y="3809520"/>
            <a:ext cx="762120" cy="76212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990880" y="1504800"/>
            <a:ext cx="0" cy="228600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09680" y="1447920"/>
            <a:ext cx="4724640" cy="312408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971440" y="3790800"/>
            <a:ext cx="3962520" cy="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209680" y="3809520"/>
            <a:ext cx="762120" cy="76212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990880" y="1504800"/>
            <a:ext cx="0" cy="228600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1219320" y="5638680"/>
            <a:ext cx="60948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棱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2705040" y="5638680"/>
            <a:ext cx="1371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顶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4724280" y="5638680"/>
            <a:ext cx="6098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长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6210360" y="5638680"/>
            <a:ext cx="60948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宽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96080" y="5638680"/>
            <a:ext cx="6098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高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0010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09680" y="1447920"/>
            <a:ext cx="4724640" cy="312408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71440" y="3790800"/>
            <a:ext cx="3962520" cy="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209680" y="3809520"/>
            <a:ext cx="762120" cy="76212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990880" y="1504800"/>
            <a:ext cx="0" cy="228600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572000"/>
            <a:ext cx="396252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2228760"/>
            <a:ext cx="396252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1447920"/>
            <a:ext cx="396252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153120" y="2209680"/>
            <a:ext cx="0" cy="23623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934320" y="1447560"/>
            <a:ext cx="0" cy="236196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209680" y="2209680"/>
            <a:ext cx="0" cy="23623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09680" y="1467000"/>
            <a:ext cx="762120" cy="76176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153120" y="3809520"/>
            <a:ext cx="762120" cy="762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172200" y="1447920"/>
            <a:ext cx="762120" cy="76176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1219320" y="5638680"/>
            <a:ext cx="60948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Arial"/>
                <a:ea typeface="华文新魏"/>
              </a:rPr>
              <a:t>棱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2705040" y="5638680"/>
            <a:ext cx="1371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顶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4724280" y="5638680"/>
            <a:ext cx="6098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长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6210360" y="5638680"/>
            <a:ext cx="60948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宽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>
            <a:hlinkClick r:id="rId6" action="ppaction://hlinksldjump"/>
          </p:cNvPr>
          <p:cNvSpPr/>
          <p:nvPr/>
        </p:nvSpPr>
        <p:spPr>
          <a:xfrm>
            <a:off x="7696080" y="5638680"/>
            <a:ext cx="6098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高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3800520"/>
            <a:ext cx="3962520" cy="0"/>
          </a:xfrm>
          <a:prstGeom prst="line">
            <a:avLst/>
          </a:prstGeom>
          <a:ln w="3816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990880" y="1447560"/>
            <a:ext cx="0" cy="2361960"/>
          </a:xfrm>
          <a:prstGeom prst="line">
            <a:avLst/>
          </a:prstGeom>
          <a:ln w="3816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09680" y="3809520"/>
            <a:ext cx="762120" cy="762120"/>
          </a:xfrm>
          <a:prstGeom prst="line">
            <a:avLst/>
          </a:prstGeom>
          <a:ln w="3816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609480" y="5334120"/>
            <a:ext cx="838440" cy="77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80010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09680" y="1447920"/>
            <a:ext cx="4724640" cy="312408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971440" y="3790800"/>
            <a:ext cx="3962520" cy="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209680" y="3809520"/>
            <a:ext cx="762120" cy="76212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90880" y="1504800"/>
            <a:ext cx="0" cy="228600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52800" y="4511520"/>
            <a:ext cx="136440" cy="136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02360" y="450540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933640" y="374328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877080" y="3740040"/>
            <a:ext cx="136440" cy="136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2149560" y="217188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6099120" y="216540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2930400" y="140328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6873840" y="1400040"/>
            <a:ext cx="136440" cy="13680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10" action="ppaction://hlinksldjump"/>
          </p:cNvPr>
          <p:cNvSpPr/>
          <p:nvPr/>
        </p:nvSpPr>
        <p:spPr>
          <a:xfrm>
            <a:off x="1219320" y="5638680"/>
            <a:ext cx="60948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棱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">
            <a:hlinkClick r:id="rId11" action="ppaction://hlinksldjump"/>
          </p:cNvPr>
          <p:cNvSpPr/>
          <p:nvPr/>
        </p:nvSpPr>
        <p:spPr>
          <a:xfrm>
            <a:off x="2705040" y="5638680"/>
            <a:ext cx="1371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Arial"/>
                <a:ea typeface="华文新魏"/>
              </a:rPr>
              <a:t>顶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4724280" y="5638680"/>
            <a:ext cx="6098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长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>
            <a:hlinkClick r:id="rId13" action="ppaction://hlinksldjump"/>
          </p:cNvPr>
          <p:cNvSpPr/>
          <p:nvPr/>
        </p:nvSpPr>
        <p:spPr>
          <a:xfrm>
            <a:off x="6210360" y="5638680"/>
            <a:ext cx="60948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宽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>
            <a:hlinkClick r:id="rId14" action="ppaction://hlinksldjump"/>
          </p:cNvPr>
          <p:cNvSpPr/>
          <p:nvPr/>
        </p:nvSpPr>
        <p:spPr>
          <a:xfrm>
            <a:off x="7696080" y="5638680"/>
            <a:ext cx="6098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高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5"/>
          <a:stretch/>
        </p:blipFill>
        <p:spPr>
          <a:xfrm>
            <a:off x="2057400" y="5334120"/>
            <a:ext cx="838080" cy="772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6"/>
          <a:stretch/>
        </p:blipFill>
        <p:spPr>
          <a:xfrm>
            <a:off x="80010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09680" y="1447920"/>
            <a:ext cx="4724640" cy="312408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971440" y="3790800"/>
            <a:ext cx="3962520" cy="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209680" y="3809520"/>
            <a:ext cx="762120" cy="76212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990880" y="1504800"/>
            <a:ext cx="0" cy="228600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572000"/>
            <a:ext cx="396252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228760"/>
            <a:ext cx="396252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3790800"/>
            <a:ext cx="3962520" cy="0"/>
          </a:xfrm>
          <a:prstGeom prst="line">
            <a:avLst/>
          </a:prstGeom>
          <a:ln w="3816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1447920"/>
            <a:ext cx="396252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1219320" y="5638680"/>
            <a:ext cx="60948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棱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2705040" y="5638680"/>
            <a:ext cx="1371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顶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4724280" y="5638680"/>
            <a:ext cx="6098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Arial"/>
                <a:ea typeface="华文新魏"/>
              </a:rPr>
              <a:t>长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">
            <a:hlinkClick r:id="rId5" action="ppaction://hlinksldjump"/>
          </p:cNvPr>
          <p:cNvSpPr/>
          <p:nvPr/>
        </p:nvSpPr>
        <p:spPr>
          <a:xfrm>
            <a:off x="6210360" y="5638680"/>
            <a:ext cx="60948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宽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>
            <a:hlinkClick r:id="rId6" action="ppaction://hlinksldjump"/>
          </p:cNvPr>
          <p:cNvSpPr/>
          <p:nvPr/>
        </p:nvSpPr>
        <p:spPr>
          <a:xfrm>
            <a:off x="7696080" y="5638680"/>
            <a:ext cx="6098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高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4038480" y="5334120"/>
            <a:ext cx="838440" cy="772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80010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09680" y="1447920"/>
            <a:ext cx="4724640" cy="312408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971440" y="3790800"/>
            <a:ext cx="3962520" cy="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209680" y="3809520"/>
            <a:ext cx="762120" cy="76212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990880" y="1504800"/>
            <a:ext cx="0" cy="228600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209680" y="3809520"/>
            <a:ext cx="762120" cy="762120"/>
          </a:xfrm>
          <a:prstGeom prst="line">
            <a:avLst/>
          </a:prstGeom>
          <a:ln w="38160">
            <a:solidFill>
              <a:srgbClr val="99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209680" y="1467000"/>
            <a:ext cx="7621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153120" y="3809520"/>
            <a:ext cx="762120" cy="762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172200" y="1447920"/>
            <a:ext cx="7621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1219320" y="5638680"/>
            <a:ext cx="60948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棱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2705040" y="5638680"/>
            <a:ext cx="1371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顶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>
            <a:hlinkClick r:id="rId4" action="ppaction://hlinksldjump"/>
          </p:cNvPr>
          <p:cNvSpPr/>
          <p:nvPr/>
        </p:nvSpPr>
        <p:spPr>
          <a:xfrm>
            <a:off x="4724280" y="5638680"/>
            <a:ext cx="6098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长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>
            <a:hlinkClick r:id="rId5" action="ppaction://hlinksldjump"/>
          </p:cNvPr>
          <p:cNvSpPr/>
          <p:nvPr/>
        </p:nvSpPr>
        <p:spPr>
          <a:xfrm>
            <a:off x="6210360" y="5638680"/>
            <a:ext cx="60948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Arial"/>
                <a:ea typeface="华文新魏"/>
              </a:rPr>
              <a:t>宽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>
            <a:hlinkClick r:id="rId6" action="ppaction://hlinksldjump"/>
          </p:cNvPr>
          <p:cNvSpPr/>
          <p:nvPr/>
        </p:nvSpPr>
        <p:spPr>
          <a:xfrm>
            <a:off x="7696080" y="5638680"/>
            <a:ext cx="6098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高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5562720" y="5334120"/>
            <a:ext cx="838080" cy="772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80010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09680" y="1447920"/>
            <a:ext cx="4724640" cy="312408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971440" y="3790800"/>
            <a:ext cx="3962520" cy="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209680" y="3809520"/>
            <a:ext cx="762120" cy="76212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990880" y="1504800"/>
            <a:ext cx="0" cy="228600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153120" y="2209680"/>
            <a:ext cx="0" cy="23623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934320" y="1447560"/>
            <a:ext cx="0" cy="23619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09680" y="2209680"/>
            <a:ext cx="0" cy="23623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990880" y="1447560"/>
            <a:ext cx="0" cy="2361960"/>
          </a:xfrm>
          <a:prstGeom prst="line">
            <a:avLst/>
          </a:prstGeom>
          <a:ln w="38160">
            <a:solidFill>
              <a:srgbClr val="99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209680" y="3809520"/>
            <a:ext cx="762120" cy="7621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1219320" y="5638680"/>
            <a:ext cx="60948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棱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>
            <a:hlinkClick r:id="rId3" action="ppaction://hlinksldjump"/>
          </p:cNvPr>
          <p:cNvSpPr/>
          <p:nvPr/>
        </p:nvSpPr>
        <p:spPr>
          <a:xfrm>
            <a:off x="2705040" y="5638680"/>
            <a:ext cx="1371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顶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>
            <a:hlinkClick r:id="rId4" action="ppaction://hlinksldjump"/>
          </p:cNvPr>
          <p:cNvSpPr/>
          <p:nvPr/>
        </p:nvSpPr>
        <p:spPr>
          <a:xfrm>
            <a:off x="4724280" y="5638680"/>
            <a:ext cx="6098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长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">
            <a:hlinkClick r:id="rId5" action="ppaction://hlinksldjump"/>
          </p:cNvPr>
          <p:cNvSpPr/>
          <p:nvPr/>
        </p:nvSpPr>
        <p:spPr>
          <a:xfrm>
            <a:off x="6210360" y="5638680"/>
            <a:ext cx="60948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宽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>
            <a:hlinkClick r:id="rId6" action="ppaction://hlinksldjump"/>
          </p:cNvPr>
          <p:cNvSpPr/>
          <p:nvPr/>
        </p:nvSpPr>
        <p:spPr>
          <a:xfrm>
            <a:off x="7696080" y="5638680"/>
            <a:ext cx="6098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Arial"/>
                <a:ea typeface="华文新魏"/>
              </a:rPr>
              <a:t>高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7010280" y="5334120"/>
            <a:ext cx="838440" cy="772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80010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05:46:41Z</dcterms:created>
  <dc:creator>yanchao</dc:creator>
  <dc:description/>
  <dc:language>en-US</dc:language>
  <cp:lastModifiedBy>番茄花园</cp:lastModifiedBy>
  <dcterms:modified xsi:type="dcterms:W3CDTF">2008-01-03T07:54:51Z</dcterms:modified>
  <cp:revision>26</cp:revision>
  <dc:subject/>
  <dc:title>PowerPoint 演示文稿</dc:title>
</cp:coreProperties>
</file>