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AE6-730B-4D69-9E67-F4044768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9F3-0270-42DD-816E-6AE6DFA1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945-6DA3-4E5C-9564-E8A998CF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FEF-66BC-45ED-AF81-C4801A31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2E29-789E-40F8-A57A-A4916B32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FA72-6DCD-4D02-AC61-DE97D488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31EC-FD7B-4DEB-987C-8CFE4BF2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7DA4-8B1C-436F-9F61-3D4548DD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2420-7C35-4FA0-ACD5-6D65D710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C880-9912-4585-B37A-06572F61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920F-DB3C-4415-A0D0-B51BD27E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D9D-D955-47EE-8891-E2B8ADA0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16EF-5CE8-4336-936F-2094E663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730B-2680-4EBF-AC70-6B94DA3F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BCE7-3DA8-4086-BE8D-3BFA5ED9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37D1-8456-42D1-B22C-27056806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2547-7DEF-4D6C-B8CC-468EDD50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192-AFAD-4426-8A56-D811D3E4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93C-05A7-4FE4-8316-821D09F4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742-298E-4D9D-B4BF-790F10B0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23D-2E2A-4FC1-A15E-EA265887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F33-3B58-40F8-A04C-7347757B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1FC-C0CC-48F0-9D13-EE65F13D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C91-F227-4053-A4D5-3F1D89B1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1580-22B3-4377-8A03-D2F8C69DA2C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61F7-F450-4790-BFC1-6C8F4D27B5B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05280" y="1142640"/>
            <a:ext cx="5715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体积单位间的进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1905120"/>
            <a:ext cx="6248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立方分米＝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1000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立方厘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6248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立方米＝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1000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立方分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3520" y="2181240"/>
          <a:ext cx="8229600" cy="2496960"/>
        </p:xfrm>
        <a:graphic>
          <a:graphicData uri="http://schemas.openxmlformats.org/drawingml/2006/table">
            <a:tbl>
              <a:tblPr/>
              <a:tblGrid>
                <a:gridCol w="1295640"/>
                <a:gridCol w="4952880"/>
                <a:gridCol w="1981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仿宋_GB2312"/>
                        </a:rPr>
                        <a:t>单位名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仿宋_GB2312"/>
                        </a:rPr>
                        <a:t>相邻两个单位间的进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仿宋_GB2312"/>
                        </a:rPr>
                        <a:t>长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仿宋_GB2312"/>
                        </a:rPr>
                        <a:t>米、分米、厘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仿宋_GB2312"/>
                        </a:rPr>
                        <a:t>面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仿宋_GB2312"/>
                        </a:rPr>
                        <a:t>平方米、平方分米、平方厘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仿宋_GB2312"/>
                        </a:rPr>
                        <a:t>体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仿宋_GB2312"/>
                        </a:rPr>
                        <a:t>立方米、立方分米、立方厘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7467480" y="3135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91520" y="36417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1450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143000"/>
            <a:ext cx="91440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91800" y="1143000"/>
            <a:ext cx="42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方米、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0.54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方米各是多少立方分米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5480" y="222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仿宋_GB2312"/>
                <a:ea typeface="仿宋_GB2312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0360" y="228132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ffff"/>
                </a:solidFill>
                <a:latin typeface="仿宋_GB2312"/>
                <a:ea typeface="仿宋_GB2312"/>
              </a:rPr>
              <a:t>立方米＝（     ）立方分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97920" y="3230640"/>
            <a:ext cx="39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方米＝（    ）立方分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37080" y="4830840"/>
            <a:ext cx="46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0.54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方米＝（    ）立方分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66080" y="3257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仿宋_GB2312"/>
                <a:ea typeface="仿宋_GB2312"/>
              </a:rPr>
              <a:t>8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19840" y="4876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仿宋_GB2312"/>
                <a:ea typeface="仿宋_GB2312"/>
              </a:rPr>
              <a:t>5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40440" y="403848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8 × 1000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8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40080" y="565308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0.54× 1000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5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143000"/>
            <a:ext cx="91440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22920" y="1143000"/>
            <a:ext cx="46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400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方厘米、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96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方厘米各是多少立方分米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53280" y="222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仿宋_GB2312"/>
                <a:ea typeface="仿宋_GB2312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71600" y="22813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仿宋_GB2312"/>
                <a:ea typeface="仿宋_GB2312"/>
              </a:rPr>
              <a:t>（　　　）立方厘米＝１立方分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8440" y="3230640"/>
            <a:ext cx="49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400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方厘米＝（    ）立方分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38600" y="4830840"/>
            <a:ext cx="46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96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方厘米＝（     ）立方分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29520" y="3224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仿宋_GB2312"/>
                <a:ea typeface="仿宋_GB2312"/>
              </a:rPr>
              <a:t>3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42720" y="4857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仿宋_GB2312"/>
                <a:ea typeface="仿宋_GB2312"/>
              </a:rPr>
              <a:t>0.0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42600" y="403848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400 ÷ 1000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2600" y="565308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96 ÷ 1000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0.0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85800" y="1143000"/>
            <a:ext cx="1828080" cy="609120"/>
            <a:chOff x="685800" y="1143000"/>
            <a:chExt cx="1828080" cy="609120"/>
          </a:xfrm>
        </p:grpSpPr>
        <p:sp>
          <p:nvSpPr>
            <p:cNvPr id="110" name=""/>
            <p:cNvSpPr/>
            <p:nvPr/>
          </p:nvSpPr>
          <p:spPr>
            <a:xfrm>
              <a:off x="685800" y="1143000"/>
              <a:ext cx="1280160" cy="609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仿宋_GB2312"/>
                </a:rPr>
                <a:t>做一做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1935000" y="1173240"/>
              <a:ext cx="609120" cy="5482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471400" y="2620800"/>
            <a:ext cx="44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80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方分米＝（    ）立方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19680" y="2614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仿宋_GB2312"/>
                <a:ea typeface="仿宋_GB2312"/>
              </a:rPr>
              <a:t>0.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52760" y="3763800"/>
            <a:ext cx="46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.2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方分米＝（    ）立方厘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19680" y="3757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仿宋_GB2312"/>
                <a:ea typeface="仿宋_GB2312"/>
              </a:rPr>
              <a:t>1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143000"/>
            <a:ext cx="91440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3400" y="1143000"/>
            <a:ext cx="488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块长方体的钢板长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.2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米，宽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.5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米，厚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0.01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米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它的体积是多少立方分米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53720" y="3306600"/>
            <a:ext cx="60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.2×1.5×0.01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0.033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立方米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2160" y="4343400"/>
            <a:ext cx="46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0.033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方米＝（   ）立方分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31640" y="4370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仿宋_GB2312"/>
                <a:ea typeface="仿宋_GB2312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53760" y="56386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答：这块钢板的体积是（    ）立方分米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68280" y="559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仿宋_GB2312"/>
                <a:ea typeface="仿宋_GB2312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05:16:58Z</dcterms:created>
  <dc:creator>yanchao</dc:creator>
  <dc:description/>
  <dc:language>en-US</dc:language>
  <cp:lastModifiedBy>genius</cp:lastModifiedBy>
  <dcterms:modified xsi:type="dcterms:W3CDTF">2005-11-05T05:02:26Z</dcterms:modified>
  <cp:revision>46</cp:revision>
  <dc:subject/>
  <dc:title>长方体体积</dc:title>
</cp:coreProperties>
</file>