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explode.wav" ContentType="audio/x-wav"/>
  <Override PartName="/ppt/media/image6.png" ContentType="image/png"/>
  <Override PartName="/ppt/media/image9.png" ContentType="image/png"/>
  <Override PartName="/ppt/media/projctor.wav" ContentType="audio/x-wav"/>
  <Override PartName="/ppt/media/CAMERA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cashreg.wav" ContentType="audio/x-wav"/>
  <Override PartName="/ppt/media/image13.png" ContentType="image/png"/>
  <Override PartName="/ppt/media/image11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2B2-B2AA-407B-BA1A-933D435C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0DC-132F-409F-BF93-2951A3FD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D88-CF61-403C-865B-D7724210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F37-DF9E-4DBA-9CD1-B537B8A4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88E-7765-4E2F-9AC3-474FEE59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F10-987E-4A1C-ABF8-8F94EC25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5CF-F0C5-4180-8086-A1B74EA3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40E-06AA-4F6A-834B-5E54C653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830-827B-4009-84FD-526F62BF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DF2-34B9-4D3C-AA0F-F564CB3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D32-6910-4ABF-BA8F-741ECB2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BB7-6BE8-430C-8579-4C47762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3CAD-D63B-4658-8721-7DCFD61F22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projctor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ng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ng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160956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幼圆"/>
              </a:rPr>
              <a:t>分数的意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66680" y="1066680"/>
            <a:ext cx="7086600" cy="297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456080" y="4724280"/>
                <a:ext cx="5731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9" name=""/>
          <p:cNvGraphicFramePr/>
          <p:nvPr/>
        </p:nvGraphicFramePr>
        <p:xfrm>
          <a:off x="2610000" y="1600200"/>
          <a:ext cx="11239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0000" y="160020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076480" y="2514600"/>
          <a:ext cx="1123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6480" y="251460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219480" y="2514600"/>
          <a:ext cx="112392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19480" y="251460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562720" y="1600200"/>
          <a:ext cx="112392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160020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952880" y="2514600"/>
          <a:ext cx="112392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251460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19920" y="2514600"/>
          <a:ext cx="112392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9920" y="251460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648320" y="1066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14400" y="1371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2860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51460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17524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895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286000"/>
            <a:ext cx="838440" cy="152280"/>
          </a:xfrm>
          <a:prstGeom prst="rightArrow">
            <a:avLst>
              <a:gd name="adj1" fmla="val 50000"/>
              <a:gd name="adj2" fmla="val 13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1523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分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1337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分数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288756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分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1371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15238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表示有这样的多少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示把单位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均分成多少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1752480"/>
            <a:ext cx="1219320" cy="152640"/>
          </a:xfrm>
          <a:prstGeom prst="rightArrow">
            <a:avLst>
              <a:gd name="adj1" fmla="val 50000"/>
              <a:gd name="adj2" fmla="val 1997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312408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533520"/>
            <a:ext cx="86104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你们小组的人数是全班人数的（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你是全班人数的（  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你们小组的女生人数是你们小组总人数的（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666880" y="1854360"/>
            <a:ext cx="381024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343400" y="5334120"/>
                <a:ext cx="573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252360" y="198360"/>
            <a:ext cx="1871640" cy="792360"/>
            <a:chOff x="252360" y="198360"/>
            <a:chExt cx="1871640" cy="792360"/>
          </a:xfrm>
        </p:grpSpPr>
        <p:sp>
          <p:nvSpPr>
            <p:cNvPr id="200" name=""/>
            <p:cNvSpPr/>
            <p:nvPr/>
          </p:nvSpPr>
          <p:spPr>
            <a:xfrm>
              <a:off x="252360" y="198360"/>
              <a:ext cx="1728720" cy="792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2360" y="342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913400" y="1186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用分数表示下列图中的绿色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94000" y="4267080"/>
                <a:ext cx="5302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209680" y="1079640"/>
            <a:ext cx="4267440" cy="31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86200" y="4038480"/>
                <a:ext cx="10987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2512080" y="1519920"/>
            <a:ext cx="3662640" cy="1835640"/>
            <a:chOff x="2512080" y="1519920"/>
            <a:chExt cx="3662640" cy="1835640"/>
          </a:xfrm>
        </p:grpSpPr>
        <p:sp>
          <p:nvSpPr>
            <p:cNvPr id="207" name=""/>
            <p:cNvSpPr/>
            <p:nvPr/>
          </p:nvSpPr>
          <p:spPr>
            <a:xfrm>
              <a:off x="2514600" y="152388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560" y="152388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779000">
              <a:off x="2514600" y="243756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52880" y="152388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040" y="243792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4080" y="243792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0779000">
              <a:off x="4952880" y="243756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0779000">
              <a:off x="3733560" y="243756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779000">
              <a:off x="4343040" y="152352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0779000">
              <a:off x="3124080" y="1523520"/>
              <a:ext cx="1218960" cy="914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581280" y="3419640"/>
            <a:ext cx="838440" cy="1676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3419640"/>
            <a:ext cx="838080" cy="1676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175248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71920" y="175248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175248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1752480"/>
            <a:ext cx="838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752480"/>
            <a:ext cx="8384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3429000"/>
            <a:ext cx="838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429000"/>
            <a:ext cx="8384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1752480"/>
            <a:ext cx="838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342900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342900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1752480"/>
            <a:ext cx="83808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04440" y="6091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下图中，用涂色部分表示各个分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038480" y="5181480"/>
                <a:ext cx="7621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 rot="7129200">
            <a:off x="2226960" y="2649600"/>
            <a:ext cx="3317760" cy="91440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05040" y="3314880"/>
            <a:ext cx="3162240" cy="99828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084560" y="4724280"/>
                <a:ext cx="822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 flipH="1" rot="14470800">
            <a:off x="3027600" y="2630520"/>
            <a:ext cx="3317760" cy="9140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7129200">
            <a:off x="2226960" y="2649600"/>
            <a:ext cx="3317760" cy="9144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05040" y="3276720"/>
            <a:ext cx="3162240" cy="10555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825640" y="168912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832120" y="1689120"/>
            <a:ext cx="3479760" cy="3479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330800" y="3429000"/>
            <a:ext cx="12063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32280" y="10666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4920" y="990720"/>
            <a:ext cx="1268280" cy="99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93880" y="990720"/>
            <a:ext cx="1268640" cy="99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93880" y="990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58840" y="990720"/>
            <a:ext cx="379440" cy="861480"/>
            <a:chOff x="2058840" y="990720"/>
            <a:chExt cx="379440" cy="861480"/>
          </a:xfrm>
        </p:grpSpPr>
        <p:sp>
          <p:nvSpPr>
            <p:cNvPr id="48" name=""/>
            <p:cNvSpPr/>
            <p:nvPr/>
          </p:nvSpPr>
          <p:spPr>
            <a:xfrm>
              <a:off x="2058840" y="990720"/>
              <a:ext cx="35892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81160" y="143532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049560" y="990720"/>
            <a:ext cx="379440" cy="861480"/>
            <a:chOff x="3049560" y="990720"/>
            <a:chExt cx="379440" cy="861480"/>
          </a:xfrm>
        </p:grpSpPr>
        <p:sp>
          <p:nvSpPr>
            <p:cNvPr id="51" name=""/>
            <p:cNvSpPr/>
            <p:nvPr/>
          </p:nvSpPr>
          <p:spPr>
            <a:xfrm>
              <a:off x="3049560" y="990720"/>
              <a:ext cx="35892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71880" y="143532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930280" y="1066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均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1000" y="113184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832120" y="1689120"/>
            <a:ext cx="3479760" cy="34797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083120" y="3429000"/>
            <a:ext cx="134604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832120" y="1689120"/>
            <a:ext cx="3479760" cy="3479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884760" y="3446640"/>
            <a:ext cx="137160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832120" y="1689120"/>
            <a:ext cx="3479760" cy="3479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133344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832120" y="1689120"/>
            <a:ext cx="3479760" cy="3479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598920" y="3429000"/>
            <a:ext cx="12063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832120" y="1689120"/>
            <a:ext cx="3479760" cy="3479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564000" y="3422520"/>
            <a:ext cx="99036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832120" y="1689120"/>
            <a:ext cx="3479760" cy="34797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564000" y="3422520"/>
            <a:ext cx="990360" cy="100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66680" y="556272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阴影部分是大圆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334120" y="5562720"/>
            <a:ext cx="990360" cy="1020600"/>
            <a:chOff x="5334120" y="5562720"/>
            <a:chExt cx="990360" cy="1020600"/>
          </a:xfrm>
        </p:grpSpPr>
        <p:sp>
          <p:nvSpPr>
            <p:cNvPr id="255" name=""/>
            <p:cNvSpPr/>
            <p:nvPr/>
          </p:nvSpPr>
          <p:spPr>
            <a:xfrm>
              <a:off x="5334120" y="5562720"/>
              <a:ext cx="99036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60199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32280" y="10666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74920" y="990720"/>
            <a:ext cx="1268280" cy="993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93880" y="990720"/>
            <a:ext cx="1268640" cy="99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93880" y="990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058840" y="990720"/>
            <a:ext cx="379440" cy="861480"/>
            <a:chOff x="2058840" y="990720"/>
            <a:chExt cx="379440" cy="861480"/>
          </a:xfrm>
        </p:grpSpPr>
        <p:sp>
          <p:nvSpPr>
            <p:cNvPr id="60" name=""/>
            <p:cNvSpPr/>
            <p:nvPr/>
          </p:nvSpPr>
          <p:spPr>
            <a:xfrm>
              <a:off x="2058840" y="990720"/>
              <a:ext cx="35892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81160" y="143532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49560" y="990720"/>
            <a:ext cx="379440" cy="861480"/>
            <a:chOff x="3049560" y="990720"/>
            <a:chExt cx="379440" cy="861480"/>
          </a:xfrm>
        </p:grpSpPr>
        <p:sp>
          <p:nvSpPr>
            <p:cNvPr id="63" name=""/>
            <p:cNvSpPr/>
            <p:nvPr/>
          </p:nvSpPr>
          <p:spPr>
            <a:xfrm>
              <a:off x="3049560" y="990720"/>
              <a:ext cx="35892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71880" y="143532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930280" y="1066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均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1000" y="113184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469880" y="3360600"/>
            <a:ext cx="1635120" cy="98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048120" y="3373560"/>
            <a:ext cx="892080" cy="96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32000" y="3357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11120" y="3352680"/>
            <a:ext cx="379440" cy="861480"/>
            <a:chOff x="2211120" y="3352680"/>
            <a:chExt cx="379440" cy="861480"/>
          </a:xfrm>
        </p:grpSpPr>
        <p:sp>
          <p:nvSpPr>
            <p:cNvPr id="71" name=""/>
            <p:cNvSpPr/>
            <p:nvPr/>
          </p:nvSpPr>
          <p:spPr>
            <a:xfrm>
              <a:off x="2211120" y="3352680"/>
              <a:ext cx="35892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33440" y="37972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278160" y="3330720"/>
            <a:ext cx="379440" cy="861480"/>
            <a:chOff x="3278160" y="3330720"/>
            <a:chExt cx="379440" cy="861480"/>
          </a:xfrm>
        </p:grpSpPr>
        <p:sp>
          <p:nvSpPr>
            <p:cNvPr id="74" name=""/>
            <p:cNvSpPr/>
            <p:nvPr/>
          </p:nvSpPr>
          <p:spPr>
            <a:xfrm>
              <a:off x="3278160" y="3330720"/>
              <a:ext cx="35892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00480" y="377532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695840" y="3384360"/>
            <a:ext cx="557280" cy="959040"/>
            <a:chOff x="4695840" y="3384360"/>
            <a:chExt cx="557280" cy="959040"/>
          </a:xfrm>
        </p:grpSpPr>
        <p:sp>
          <p:nvSpPr>
            <p:cNvPr id="77" name=""/>
            <p:cNvSpPr/>
            <p:nvPr/>
          </p:nvSpPr>
          <p:spPr>
            <a:xfrm>
              <a:off x="4724280" y="3429000"/>
              <a:ext cx="528840" cy="914400"/>
            </a:xfrm>
            <a:prstGeom prst="line">
              <a:avLst/>
            </a:prstGeom>
            <a:ln w="69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695840" y="3384360"/>
              <a:ext cx="514440" cy="922680"/>
            </a:xfrm>
            <a:prstGeom prst="line">
              <a:avLst/>
            </a:prstGeom>
            <a:ln w="69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352680" y="1600200"/>
            <a:ext cx="11430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600200"/>
            <a:ext cx="11430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57200"/>
            <a:ext cx="11430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5720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492960" y="838080"/>
                <a:ext cx="822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52480" y="914400"/>
                <a:ext cx="7779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52680" y="1600200"/>
            <a:ext cx="11430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1600200"/>
            <a:ext cx="11430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57200"/>
            <a:ext cx="11430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5720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492960" y="838080"/>
                <a:ext cx="822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752480" y="914400"/>
                <a:ext cx="7779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2438280" y="3124080"/>
          <a:ext cx="4038840" cy="240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3124080"/>
                    <a:ext cx="403884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043000" y="5562720"/>
            <a:ext cx="52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图中阴影部分用    表示对不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184720" y="5410080"/>
                <a:ext cx="530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3292560"/>
            <a:ext cx="573408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46440" y="2971800"/>
            <a:ext cx="5692320" cy="317160"/>
            <a:chOff x="1846440" y="2971800"/>
            <a:chExt cx="5692320" cy="317160"/>
          </a:xfrm>
        </p:grpSpPr>
        <p:sp>
          <p:nvSpPr>
            <p:cNvPr id="97" name=""/>
            <p:cNvSpPr/>
            <p:nvPr/>
          </p:nvSpPr>
          <p:spPr>
            <a:xfrm>
              <a:off x="1846440" y="297180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69640" y="297180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36040" y="297180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91640" y="297180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26360" y="297180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38760" y="297180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16200000">
            <a:off x="2081880" y="2000880"/>
            <a:ext cx="588960" cy="1060200"/>
          </a:xfrm>
          <a:custGeom>
            <a:avLst/>
            <a:gdLst>
              <a:gd name="textAreaLeft" fmla="*/ 0 w 588960"/>
              <a:gd name="textAreaRight" fmla="*/ 212760 w 588960"/>
              <a:gd name="textAreaTop" fmla="*/ 48600 h 1060200"/>
              <a:gd name="textAreaBottom" fmla="*/ 1011600 h 10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92"/>
                  <a:pt x="10800" y="3184"/>
                </a:cubicBezTo>
                <a:lnTo>
                  <a:pt x="10800" y="7616"/>
                </a:lnTo>
                <a:cubicBezTo>
                  <a:pt x="10800" y="9208"/>
                  <a:pt x="16200" y="10800"/>
                  <a:pt x="21600" y="10800"/>
                </a:cubicBezTo>
                <a:cubicBezTo>
                  <a:pt x="16200" y="10800"/>
                  <a:pt x="10800" y="12392"/>
                  <a:pt x="10800" y="13984"/>
                </a:cubicBezTo>
                <a:lnTo>
                  <a:pt x="10800" y="18416"/>
                </a:lnTo>
                <a:cubicBezTo>
                  <a:pt x="10800" y="2000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83040" y="205920"/>
            <a:ext cx="725400" cy="4548240"/>
          </a:xfrm>
          <a:custGeom>
            <a:avLst/>
            <a:gdLst>
              <a:gd name="textAreaLeft" fmla="*/ 0 w 725400"/>
              <a:gd name="textAreaRight" fmla="*/ 262080 w 725400"/>
              <a:gd name="textAreaTop" fmla="*/ 78120 h 4548240"/>
              <a:gd name="textAreaBottom" fmla="*/ 4470120 h 454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4"/>
                  <a:pt x="10800" y="1188"/>
                </a:cubicBezTo>
                <a:lnTo>
                  <a:pt x="10800" y="9612"/>
                </a:lnTo>
                <a:cubicBezTo>
                  <a:pt x="10800" y="10206"/>
                  <a:pt x="16200" y="10800"/>
                  <a:pt x="21600" y="10800"/>
                </a:cubicBezTo>
                <a:cubicBezTo>
                  <a:pt x="16200" y="10800"/>
                  <a:pt x="10800" y="11394"/>
                  <a:pt x="10800" y="11988"/>
                </a:cubicBezTo>
                <a:lnTo>
                  <a:pt x="10800" y="20412"/>
                </a:lnTo>
                <a:cubicBezTo>
                  <a:pt x="10800" y="2100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2040" y="1447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9560" y="1447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179800" y="1295280"/>
            <a:ext cx="333000" cy="752040"/>
            <a:chOff x="2179800" y="1295280"/>
            <a:chExt cx="333000" cy="752040"/>
          </a:xfrm>
        </p:grpSpPr>
        <p:sp>
          <p:nvSpPr>
            <p:cNvPr id="108" name=""/>
            <p:cNvSpPr/>
            <p:nvPr/>
          </p:nvSpPr>
          <p:spPr>
            <a:xfrm>
              <a:off x="2179800" y="1295280"/>
              <a:ext cx="333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95640" y="168120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06960" y="1219320"/>
            <a:ext cx="337680" cy="752040"/>
            <a:chOff x="5106960" y="1219320"/>
            <a:chExt cx="337680" cy="752040"/>
          </a:xfrm>
        </p:grpSpPr>
        <p:sp>
          <p:nvSpPr>
            <p:cNvPr id="111" name=""/>
            <p:cNvSpPr/>
            <p:nvPr/>
          </p:nvSpPr>
          <p:spPr>
            <a:xfrm>
              <a:off x="5106960" y="1219320"/>
              <a:ext cx="333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40080" y="1606320"/>
              <a:ext cx="304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903400" y="4419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条线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000" y="4373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均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0560" y="44434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76360" y="1413000"/>
            <a:ext cx="609588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1838160"/>
          <a:ext cx="1076400" cy="113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838160"/>
                    <a:ext cx="10764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343320" y="1838160"/>
          <a:ext cx="1076400" cy="113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1838160"/>
                    <a:ext cx="10764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62640" y="1838160"/>
          <a:ext cx="1076040" cy="113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62640" y="1838160"/>
                    <a:ext cx="107604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867280" y="1828800"/>
          <a:ext cx="1076400" cy="113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1828800"/>
                    <a:ext cx="10764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200400" y="1523880"/>
            <a:ext cx="3240" cy="183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1413000"/>
            <a:ext cx="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29320" y="1484280"/>
            <a:ext cx="22320" cy="19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6800" y="464832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个苹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0400" y="461628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个整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6520" y="4600440"/>
            <a:ext cx="17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平均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772400" y="4343400"/>
                <a:ext cx="573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52440" y="1266840"/>
            <a:ext cx="8534520" cy="18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752480"/>
          <a:ext cx="11239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133720" y="1752480"/>
          <a:ext cx="1123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7524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76720" y="1752480"/>
          <a:ext cx="112392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17524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419720" y="1752480"/>
          <a:ext cx="112392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17524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562720" y="1752480"/>
          <a:ext cx="112392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62720" y="17524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705720" y="1752480"/>
          <a:ext cx="112392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05720" y="17524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05720" y="1371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1295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0640" y="1276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19480" y="1305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123640" y="1447920"/>
            <a:ext cx="9720" cy="14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114800" y="3809880"/>
                <a:ext cx="822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1676520"/>
            <a:ext cx="7162560" cy="2590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267080" y="4495680"/>
                <a:ext cx="5302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1771560" y="1981080"/>
          <a:ext cx="11239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1560" y="19810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771560" y="2895480"/>
          <a:ext cx="1123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71560" y="28954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809880" y="1981080"/>
          <a:ext cx="112392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19810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809880" y="2895480"/>
          <a:ext cx="112392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28954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943600" y="1981080"/>
          <a:ext cx="112392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3600" y="19810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943600" y="2895480"/>
          <a:ext cx="112392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43600" y="28954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352680" y="17524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1752480"/>
            <a:ext cx="12960" cy="24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2:30:57Z</dcterms:created>
  <dc:creator/>
  <dc:description/>
  <dc:language>en-US</dc:language>
  <cp:lastModifiedBy>何采风</cp:lastModifiedBy>
  <dcterms:modified xsi:type="dcterms:W3CDTF">2006-10-12T08:21:11Z</dcterms:modified>
  <cp:revision>11</cp:revision>
  <dc:subject/>
  <dc:title>幻灯片 1</dc:title>
</cp:coreProperties>
</file>