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1.wav" ContentType="audio/x-wav"/>
  <Override PartName="/ppt/media/j12.wav" ContentType="audio/x-wav"/>
  <Override PartName="/ppt/media/image1.png" ContentType="image/png"/>
  <Override PartName="/ppt/media/image2.png" ContentType="image/png"/>
  <Override PartName="/ppt/media/j6.wav" ContentType="audio/x-wav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FCF-FCEE-4B57-8BC6-6159B2D9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DA4E-7D0B-4280-9888-04CC174C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84D-FE30-4C81-BF6D-773C160D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D5A7-E294-4519-AF2F-EB4B4345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BB85-8773-488F-8F79-CC954C9E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CB5B-2D2C-43FD-BCD2-5F65387B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CF3-1B8F-4872-B4E2-037964F2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793-8A48-48E1-ACF9-7B6ADE9F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59E-301A-4F82-8CCF-488AA3A1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E60A-EB9E-4EC1-A296-21879030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927-D369-419D-AA08-3A794DE4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680-FE44-4FB4-9E18-E6E8268E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9767-9CA5-4958-8451-53F9ED746C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1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" Target="slide13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4.xml"/><Relationship Id="rId13" Type="http://schemas.openxmlformats.org/officeDocument/2006/relationships/audio" Target="../media/j12.wav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hyperlink" Target="file:///tmp/home/.config/libreoffice/4/user/gallery/j15.wav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.png"/><Relationship Id="rId11" Type="http://schemas.openxmlformats.org/officeDocument/2006/relationships/audio" Target="../media/j6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57200"/>
            <a:ext cx="8381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2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华文隶书"/>
                <a:ea typeface="华文隶书"/>
              </a:rPr>
              <a:t>假 分 数 化 成 整 数 或 带 分 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2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2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仿宋_GB2312"/>
              </a:rPr>
              <a:t>教学内容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</a:rPr>
              <a:t>书上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P99—100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</a:rPr>
              <a:t>假分数化成整数或带分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学习目的： 通过本课学习，学会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</a:rPr>
              <a:t>假分数化成整数或带分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学习本课时应用以下基本概念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分数的意义：把单位 “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平均分成若干份，表示这样的一份或者几份的数                     叫做分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分数单位：把单位“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平均分成若干份，表示这样的一份或者几份的数，      叫做分数。表示其中一份的数，叫做分数单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分数与除法的关系：被除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除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734000" y="4743360"/>
                <a:ext cx="752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被除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除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53452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133720" y="1219320"/>
            <a:ext cx="4876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分子是分母的倍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564000" y="2459160"/>
                <a:ext cx="304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04920" y="8380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2268360" y="987480"/>
            <a:ext cx="5334120" cy="4483080"/>
            <a:chOff x="2268360" y="987480"/>
            <a:chExt cx="5334120" cy="4483080"/>
          </a:xfrm>
        </p:grpSpPr>
        <p:sp>
          <p:nvSpPr>
            <p:cNvPr id="124" name=""/>
            <p:cNvSpPr/>
            <p:nvPr/>
          </p:nvSpPr>
          <p:spPr>
            <a:xfrm>
              <a:off x="2268360" y="987480"/>
              <a:ext cx="533412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如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3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当分子是分母的倍数时，结果是整数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3951360" y="1563480"/>
                  <a:ext cx="222120" cy="7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3995640" y="2334960"/>
                  <a:ext cx="216000" cy="70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3924360" y="3219480"/>
                  <a:ext cx="37296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5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8" name=""/>
          <p:cNvSpPr/>
          <p:nvPr/>
        </p:nvSpPr>
        <p:spPr>
          <a:xfrm>
            <a:off x="304920" y="8380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280" y="5789520"/>
            <a:ext cx="746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四、总结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你能试着说一说怎样把假分数化成带分数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33520"/>
            <a:ext cx="70106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看图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你能说说这张图的意思吗？结果是怎样的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你会计算吗？你是怎样计算的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它的结果是整数还是带分数？这个假分数的分子是分   母的倍数吗？ 什么样的假分数能化成带分数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97040" y="461880"/>
                <a:ext cx="193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>
            <a:hlinkClick r:id="" action="ppaction://hlinkshowjump?jump=lastslide"/>
          </p:cNvPr>
          <p:cNvSpPr/>
          <p:nvPr/>
        </p:nvSpPr>
        <p:spPr>
          <a:xfrm>
            <a:off x="853452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861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38080" y="914400"/>
            <a:ext cx="7480440" cy="2547720"/>
            <a:chOff x="838080" y="914400"/>
            <a:chExt cx="7480440" cy="2547720"/>
          </a:xfrm>
        </p:grpSpPr>
        <p:sp>
          <p:nvSpPr>
            <p:cNvPr id="135" name=""/>
            <p:cNvSpPr/>
            <p:nvPr/>
          </p:nvSpPr>
          <p:spPr>
            <a:xfrm>
              <a:off x="1828800" y="1828800"/>
              <a:ext cx="1828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︸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91320" y="1905120"/>
              <a:ext cx="1828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︸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838080" y="914400"/>
            <a:ext cx="1447920" cy="144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914400"/>
                      <a:ext cx="144792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"/>
            <p:cNvGraphicFramePr/>
            <p:nvPr/>
          </p:nvGraphicFramePr>
          <p:xfrm>
            <a:off x="1905120" y="914400"/>
            <a:ext cx="1447560" cy="1447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914400"/>
                      <a:ext cx="144756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"/>
            <p:cNvSpPr/>
            <p:nvPr/>
          </p:nvSpPr>
          <p:spPr>
            <a:xfrm>
              <a:off x="4952880" y="1190520"/>
              <a:ext cx="990720" cy="990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19920" y="1219320"/>
              <a:ext cx="990360" cy="9903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3" name=""/>
            <p:cNvGraphicFramePr/>
            <p:nvPr/>
          </p:nvGraphicFramePr>
          <p:xfrm>
            <a:off x="6870600" y="1035000"/>
            <a:ext cx="1447920" cy="1447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70600" y="1035000"/>
                      <a:ext cx="144792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" name=""/>
            <p:cNvSpPr/>
            <p:nvPr/>
          </p:nvSpPr>
          <p:spPr>
            <a:xfrm>
              <a:off x="4268880" y="11271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6" name=""/>
            <p:cNvGraphicFramePr/>
            <p:nvPr/>
          </p:nvGraphicFramePr>
          <p:xfrm>
            <a:off x="2971800" y="914400"/>
            <a:ext cx="1447920" cy="1447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71800" y="914400"/>
                      <a:ext cx="144792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8" name="">
            <a:hlinkClick r:id="rId9" action="ppaction://hlinksldjump"/>
          </p:cNvPr>
          <p:cNvSpPr/>
          <p:nvPr/>
        </p:nvSpPr>
        <p:spPr>
          <a:xfrm>
            <a:off x="539640" y="3284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答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0" action="ppaction://hlinksldjump"/>
          </p:cNvPr>
          <p:cNvSpPr/>
          <p:nvPr/>
        </p:nvSpPr>
        <p:spPr>
          <a:xfrm>
            <a:off x="539640" y="5013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答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1" action="ppaction://hlinksldjump"/>
          </p:cNvPr>
          <p:cNvSpPr/>
          <p:nvPr/>
        </p:nvSpPr>
        <p:spPr>
          <a:xfrm>
            <a:off x="611280" y="6381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答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12" action="ppaction://hlinksldjump"/>
          </p:cNvPr>
          <p:cNvSpPr/>
          <p:nvPr/>
        </p:nvSpPr>
        <p:spPr>
          <a:xfrm>
            <a:off x="539640" y="414828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答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411280" y="2421000"/>
                <a:ext cx="241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3" name=""/>
          <p:cNvGrpSpPr/>
          <p:nvPr/>
        </p:nvGrpSpPr>
        <p:grpSpPr>
          <a:xfrm>
            <a:off x="6226200" y="2421000"/>
            <a:ext cx="531720" cy="838080"/>
            <a:chOff x="6226200" y="2421000"/>
            <a:chExt cx="531720" cy="838080"/>
          </a:xfrm>
        </p:grpSpPr>
        <p:sp>
          <p:nvSpPr>
            <p:cNvPr id="154" name=""/>
            <p:cNvSpPr/>
            <p:nvPr/>
          </p:nvSpPr>
          <p:spPr>
            <a:xfrm>
              <a:off x="6226200" y="2637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6516720" y="2421000"/>
                  <a:ext cx="2412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44560" y="1600200"/>
            <a:ext cx="6248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这张图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     等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就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     合成的数，等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254480" y="2292480"/>
                <a:ext cx="24624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443640" y="2276640"/>
                <a:ext cx="24624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403280" y="3965400"/>
                <a:ext cx="2462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467160" y="3967200"/>
                <a:ext cx="2412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516720" y="3967200"/>
                <a:ext cx="2412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304920" y="8380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828800" y="2284560"/>
            <a:ext cx="5410080" cy="1373760"/>
            <a:chOff x="1828800" y="2284560"/>
            <a:chExt cx="5410080" cy="1373760"/>
          </a:xfrm>
        </p:grpSpPr>
        <p:sp>
          <p:nvSpPr>
            <p:cNvPr id="164" name=""/>
            <p:cNvSpPr/>
            <p:nvPr/>
          </p:nvSpPr>
          <p:spPr>
            <a:xfrm>
              <a:off x="1828800" y="2284560"/>
              <a:ext cx="5410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81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81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用分子除以分母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8÷3=2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81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5029200" y="2521080"/>
                  <a:ext cx="246240" cy="83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6705720" y="2536920"/>
                  <a:ext cx="241200" cy="8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7" name=""/>
          <p:cNvSpPr/>
          <p:nvPr/>
        </p:nvSpPr>
        <p:spPr>
          <a:xfrm>
            <a:off x="304920" y="8380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19320" y="1827360"/>
            <a:ext cx="7010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的结果是带分数。这个假分数分子不是分母的倍数。分子不是分母的倍数的假分数能化成带分数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8380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38080" y="24382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用分子除以分母。能整除的，所得的商就是整数；不能整除的，商就是带分数的整数部分，余数是分数部分的分子，分母不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8380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14400" y="692280"/>
            <a:ext cx="72388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五、练习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  应用你所学过的方法，把假分数化成带分数。如果你做的又快又好，你的成绩就是“优”，错一题为“良”，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在下面的○里填上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=”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＞”或“＜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六、作业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93  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79640" y="2205000"/>
            <a:ext cx="3825720" cy="609120"/>
            <a:chOff x="1979640" y="2205000"/>
            <a:chExt cx="3825720" cy="609120"/>
          </a:xfrm>
        </p:grpSpPr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1979640" y="2211120"/>
                  <a:ext cx="195120" cy="60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2436840" y="2205000"/>
                  <a:ext cx="299880" cy="60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4875120" y="2209320"/>
                  <a:ext cx="32220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5484960" y="2205000"/>
                  <a:ext cx="320400" cy="60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3274920" y="2211120"/>
                  <a:ext cx="300240" cy="60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3884760" y="2209320"/>
                  <a:ext cx="29988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952800" y="5388120"/>
                <a:ext cx="1875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106800" y="5388120"/>
                <a:ext cx="3254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1763640" y="3500280"/>
            <a:ext cx="4032360" cy="2535480"/>
            <a:chOff x="1763640" y="3500280"/>
            <a:chExt cx="4032360" cy="2535480"/>
          </a:xfrm>
        </p:grpSpPr>
        <p:sp>
          <p:nvSpPr>
            <p:cNvPr id="183" name=""/>
            <p:cNvSpPr/>
            <p:nvPr/>
          </p:nvSpPr>
          <p:spPr>
            <a:xfrm>
              <a:off x="5219640" y="4494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1806480" y="5318280"/>
                  <a:ext cx="21276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5" name=""/>
            <p:cNvSpPr/>
            <p:nvPr/>
          </p:nvSpPr>
          <p:spPr>
            <a:xfrm>
              <a:off x="2268360" y="3676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645080" y="4421160"/>
                  <a:ext cx="299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468760" y="3557520"/>
                  <a:ext cx="1828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1763640" y="3557520"/>
                  <a:ext cx="18252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4656240" y="3557520"/>
                  <a:ext cx="2775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3203640" y="4363920"/>
                  <a:ext cx="212760" cy="7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1806480" y="4363920"/>
                  <a:ext cx="212760" cy="7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3711600" y="4349880"/>
                  <a:ext cx="212760" cy="71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93" name=""/>
            <p:cNvSpPr/>
            <p:nvPr/>
          </p:nvSpPr>
          <p:spPr>
            <a:xfrm>
              <a:off x="1908000" y="37018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3035160" y="3500280"/>
                  <a:ext cx="325440" cy="7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95" name=""/>
            <p:cNvSpPr/>
            <p:nvPr/>
          </p:nvSpPr>
          <p:spPr>
            <a:xfrm>
              <a:off x="3276720" y="36766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35280" y="37018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89400" y="36352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59280" y="362916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46560" y="4510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79640" y="44942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87640" y="4494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59280" y="449424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5583240" y="5318280"/>
                  <a:ext cx="21276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4705200" y="5318280"/>
                  <a:ext cx="32400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"/>
            <p:cNvSpPr/>
            <p:nvPr/>
          </p:nvSpPr>
          <p:spPr>
            <a:xfrm>
              <a:off x="2340000" y="450540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40000" y="544500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08360" y="55166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43480" y="54720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03640" y="54450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78240" y="55227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59120" y="54658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1332000" y="2276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答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2" action="ppaction://hlinksldjump"/>
          </p:cNvPr>
          <p:cNvSpPr/>
          <p:nvPr/>
        </p:nvSpPr>
        <p:spPr>
          <a:xfrm>
            <a:off x="1332000" y="4437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答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endshow"/>
          </p:cNvPr>
          <p:cNvSpPr/>
          <p:nvPr/>
        </p:nvSpPr>
        <p:spPr>
          <a:xfrm>
            <a:off x="8170920" y="6337440"/>
            <a:ext cx="865080" cy="404640"/>
          </a:xfrm>
          <a:custGeom>
            <a:avLst/>
            <a:gdLst>
              <a:gd name="textAreaLeft" fmla="*/ 25920 w 865080"/>
              <a:gd name="textAreaRight" fmla="*/ 839160 w 86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157" h="21600">
                <a:moveTo>
                  <a:pt x="0" y="0"/>
                </a:moveTo>
                <a:lnTo>
                  <a:pt x="46157" y="0"/>
                </a:lnTo>
                <a:lnTo>
                  <a:pt x="46157" y="21600"/>
                </a:lnTo>
                <a:lnTo>
                  <a:pt x="0" y="21600"/>
                </a:lnTo>
                <a:close/>
              </a:path>
              <a:path fill="lightenLess" w="46157" h="21600">
                <a:moveTo>
                  <a:pt x="0" y="0"/>
                </a:moveTo>
                <a:lnTo>
                  <a:pt x="46157" y="0"/>
                </a:lnTo>
                <a:lnTo>
                  <a:pt x="44757" y="1400"/>
                </a:lnTo>
                <a:lnTo>
                  <a:pt x="1400" y="1400"/>
                </a:lnTo>
                <a:close/>
              </a:path>
              <a:path fill="darken" w="46157" h="21600">
                <a:moveTo>
                  <a:pt x="46157" y="0"/>
                </a:moveTo>
                <a:lnTo>
                  <a:pt x="46157" y="21600"/>
                </a:lnTo>
                <a:lnTo>
                  <a:pt x="44757" y="20200"/>
                </a:lnTo>
                <a:lnTo>
                  <a:pt x="44757" y="1400"/>
                </a:lnTo>
                <a:close/>
              </a:path>
              <a:path fill="darkenLess" w="46157" h="21600">
                <a:moveTo>
                  <a:pt x="46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57" y="20200"/>
                </a:lnTo>
                <a:close/>
              </a:path>
              <a:path fill="lighten" w="46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结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801800" y="836640"/>
            <a:ext cx="3417840" cy="3846240"/>
            <a:chOff x="1801800" y="836640"/>
            <a:chExt cx="3417840" cy="384624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1836720" y="836640"/>
                  <a:ext cx="293760" cy="113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3819600" y="909360"/>
                  <a:ext cx="46512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1835280" y="3695400"/>
                  <a:ext cx="46332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3894120" y="3695400"/>
                  <a:ext cx="46188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1801800" y="2349360"/>
                  <a:ext cx="46656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3819600" y="2341440"/>
                  <a:ext cx="450720" cy="101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2" name=""/>
            <p:cNvSpPr/>
            <p:nvPr/>
          </p:nvSpPr>
          <p:spPr>
            <a:xfrm>
              <a:off x="2122560" y="112680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2576520" y="909360"/>
                  <a:ext cx="26676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4716360" y="952200"/>
                  <a:ext cx="241560" cy="96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4716360" y="2422440"/>
                  <a:ext cx="26676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"/>
            <p:cNvSpPr/>
            <p:nvPr/>
          </p:nvSpPr>
          <p:spPr>
            <a:xfrm>
              <a:off x="4211640" y="119844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95640" y="393048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11640" y="263520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95640" y="263844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82920" y="393516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788000" y="3717720"/>
                  <a:ext cx="43164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853452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2340000" y="1630440"/>
            <a:ext cx="4032360" cy="2590200"/>
            <a:chOff x="2340000" y="1630440"/>
            <a:chExt cx="4032360" cy="2590200"/>
          </a:xfrm>
        </p:grpSpPr>
        <p:sp>
          <p:nvSpPr>
            <p:cNvPr id="234" name=""/>
            <p:cNvSpPr/>
            <p:nvPr/>
          </p:nvSpPr>
          <p:spPr>
            <a:xfrm>
              <a:off x="5796000" y="26240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382840" y="3448080"/>
                  <a:ext cx="212760" cy="71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2843280" y="18064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5221440" y="2550960"/>
                  <a:ext cx="299880" cy="60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6045120" y="1687320"/>
                  <a:ext cx="182520" cy="60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340000" y="1687320"/>
                  <a:ext cx="182520" cy="60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5232240" y="1687320"/>
                  <a:ext cx="277920" cy="60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3780000" y="2493720"/>
                  <a:ext cx="212400" cy="71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2382840" y="2493720"/>
                  <a:ext cx="212760" cy="71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4287960" y="2479680"/>
                  <a:ext cx="212760" cy="71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2484360" y="18208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3611520" y="1630440"/>
                  <a:ext cx="325440" cy="71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"/>
            <p:cNvSpPr/>
            <p:nvPr/>
          </p:nvSpPr>
          <p:spPr>
            <a:xfrm>
              <a:off x="3873600" y="17859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＞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11640" y="18316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65760" y="17650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35640" y="175896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22560" y="26398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56000" y="26240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64000" y="26240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35640" y="26240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＞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6159600" y="3448080"/>
                  <a:ext cx="212760" cy="71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5281560" y="3448080"/>
                  <a:ext cx="324000" cy="71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56" name=""/>
            <p:cNvSpPr/>
            <p:nvPr/>
          </p:nvSpPr>
          <p:spPr>
            <a:xfrm>
              <a:off x="2916360" y="263520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16360" y="357480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84720" y="36464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19840" y="360180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80000" y="35748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54600" y="36525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35120" y="35956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＞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3738600" y="3501720"/>
                  <a:ext cx="325440" cy="71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4529160" y="3493800"/>
                  <a:ext cx="187200" cy="71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853452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685800"/>
            <a:ext cx="70866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学习指导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一、回答问题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如图，图中的阴影部分是用什么作为单位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图中阴影部分共包含多少个这样的分数单位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请你说出   的分数单位。它包含有多少个这样的分数单位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505320" y="2514600"/>
          <a:ext cx="106668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514600"/>
                    <a:ext cx="10666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590920" y="5396040"/>
                <a:ext cx="1778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8" name=""/>
          <p:cNvGraphicFramePr/>
          <p:nvPr/>
        </p:nvGraphicFramePr>
        <p:xfrm>
          <a:off x="2133720" y="2514600"/>
          <a:ext cx="106668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514600"/>
                    <a:ext cx="10666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853452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132000" y="141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答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3392640"/>
            <a:ext cx="99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32000" y="3787920"/>
                <a:ext cx="3286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50920" y="189000"/>
            <a:ext cx="876276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、学习新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把    和    化成整数或带分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看图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请你动脑筋想一想，这张图等式左边和右边分别表示什么意思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根据分数与除法的关系，    应该怎样计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它的结果是整数还是带分数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     中分子和分母有什么关系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试一试，想一想，分子是分母的倍数时，化成的数都是什么数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619280" y="736560"/>
                <a:ext cx="2998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195640" y="736560"/>
                <a:ext cx="195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826920" y="1341360"/>
                <a:ext cx="3002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403280" y="5272200"/>
                <a:ext cx="3002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4140360" y="4121280"/>
                <a:ext cx="29988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483080" y="3244680"/>
                <a:ext cx="17784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8728200" y="63565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324000" y="3645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答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3" action="ppaction://hlinksldjump"/>
          </p:cNvPr>
          <p:cNvSpPr/>
          <p:nvPr/>
        </p:nvSpPr>
        <p:spPr>
          <a:xfrm>
            <a:off x="324000" y="4221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答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4" action="ppaction://hlinksldjump"/>
          </p:cNvPr>
          <p:cNvSpPr/>
          <p:nvPr/>
        </p:nvSpPr>
        <p:spPr>
          <a:xfrm>
            <a:off x="324000" y="479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答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5" action="ppaction://hlinksldjump"/>
          </p:cNvPr>
          <p:cNvSpPr/>
          <p:nvPr/>
        </p:nvSpPr>
        <p:spPr>
          <a:xfrm>
            <a:off x="324000" y="5445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答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6" action="ppaction://hlinksldjump"/>
          </p:cNvPr>
          <p:cNvSpPr/>
          <p:nvPr/>
        </p:nvSpPr>
        <p:spPr>
          <a:xfrm>
            <a:off x="324000" y="6093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答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982880" y="1557360"/>
            <a:ext cx="5181120" cy="2029320"/>
            <a:chOff x="1982880" y="1557360"/>
            <a:chExt cx="5181120" cy="2029320"/>
          </a:xfrm>
        </p:grpSpPr>
        <p:grpSp>
          <p:nvGrpSpPr>
            <p:cNvPr id="280" name=""/>
            <p:cNvGrpSpPr/>
            <p:nvPr/>
          </p:nvGrpSpPr>
          <p:grpSpPr>
            <a:xfrm>
              <a:off x="1982880" y="1557360"/>
              <a:ext cx="5181120" cy="2029320"/>
              <a:chOff x="1982880" y="1557360"/>
              <a:chExt cx="5181120" cy="2029320"/>
            </a:xfrm>
          </p:grpSpPr>
          <p:graphicFrame>
            <p:nvGraphicFramePr>
              <p:cNvPr id="281" name=""/>
              <p:cNvGraphicFramePr/>
              <p:nvPr/>
            </p:nvGraphicFramePr>
            <p:xfrm>
              <a:off x="3125520" y="1557360"/>
              <a:ext cx="1066680" cy="1066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82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125520" y="155736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83" name=""/>
              <p:cNvGraphicFramePr/>
              <p:nvPr/>
            </p:nvGraphicFramePr>
            <p:xfrm>
              <a:off x="1982880" y="1557360"/>
              <a:ext cx="1066680" cy="10666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84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982880" y="155736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5" name=""/>
              <p:cNvSpPr/>
              <p:nvPr/>
            </p:nvSpPr>
            <p:spPr>
              <a:xfrm>
                <a:off x="6097320" y="1557360"/>
                <a:ext cx="1066680" cy="106668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954320" y="1557360"/>
                <a:ext cx="1066680" cy="106668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54840" y="1620720"/>
                <a:ext cx="592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5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592360" y="2395440"/>
                <a:ext cx="990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200" spc="-1" strike="noStrike">
                    <a:solidFill>
                      <a:srgbClr val="000000"/>
                    </a:solidFill>
                    <a:latin typeface="Times New Roman"/>
                  </a:rPr>
                  <a:t>︸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564160" y="2395440"/>
                <a:ext cx="990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200" spc="-1" strike="noStrike">
                    <a:solidFill>
                      <a:srgbClr val="000000"/>
                    </a:solidFill>
                    <a:latin typeface="Times New Roman"/>
                  </a:rPr>
                  <a:t>︸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2987640" y="2890800"/>
                  <a:ext cx="3049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1" name=""/>
            <p:cNvSpPr/>
            <p:nvPr/>
          </p:nvSpPr>
          <p:spPr>
            <a:xfrm>
              <a:off x="5940360" y="2827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52280" y="5789520"/>
            <a:ext cx="746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四、总结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你能试着说一说怎样把假分数化成带分数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533520"/>
            <a:ext cx="70106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看图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你能说说这张图的意思吗？结果是怎样的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你会计算吗？你是怎样计算的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它的结果是整数还是带分数？这个假分数的分子是分   母的倍数吗？ 什么样的假分数能化成带分数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97040" y="461880"/>
                <a:ext cx="193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853452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861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838080" y="914400"/>
            <a:ext cx="7480440" cy="2547720"/>
            <a:chOff x="838080" y="914400"/>
            <a:chExt cx="7480440" cy="2547720"/>
          </a:xfrm>
        </p:grpSpPr>
        <p:sp>
          <p:nvSpPr>
            <p:cNvPr id="298" name=""/>
            <p:cNvSpPr/>
            <p:nvPr/>
          </p:nvSpPr>
          <p:spPr>
            <a:xfrm>
              <a:off x="1828800" y="1828800"/>
              <a:ext cx="1828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︸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91320" y="1905120"/>
              <a:ext cx="1828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︸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0" name=""/>
            <p:cNvGraphicFramePr/>
            <p:nvPr/>
          </p:nvGraphicFramePr>
          <p:xfrm>
            <a:off x="838080" y="914400"/>
            <a:ext cx="1447920" cy="144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914400"/>
                      <a:ext cx="144792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2" name=""/>
            <p:cNvGraphicFramePr/>
            <p:nvPr/>
          </p:nvGraphicFramePr>
          <p:xfrm>
            <a:off x="1905120" y="914400"/>
            <a:ext cx="1447560" cy="1447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914400"/>
                      <a:ext cx="144756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4" name=""/>
            <p:cNvSpPr/>
            <p:nvPr/>
          </p:nvSpPr>
          <p:spPr>
            <a:xfrm>
              <a:off x="4952880" y="1190520"/>
              <a:ext cx="990720" cy="990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19920" y="1219320"/>
              <a:ext cx="990360" cy="9903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6" name=""/>
            <p:cNvGraphicFramePr/>
            <p:nvPr/>
          </p:nvGraphicFramePr>
          <p:xfrm>
            <a:off x="6870600" y="1035000"/>
            <a:ext cx="1447920" cy="1447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70600" y="1035000"/>
                      <a:ext cx="144792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"/>
            <p:cNvSpPr/>
            <p:nvPr/>
          </p:nvSpPr>
          <p:spPr>
            <a:xfrm>
              <a:off x="4268880" y="11271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9" name=""/>
            <p:cNvGraphicFramePr/>
            <p:nvPr/>
          </p:nvGraphicFramePr>
          <p:xfrm>
            <a:off x="2971800" y="914400"/>
            <a:ext cx="1447920" cy="1447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71800" y="914400"/>
                      <a:ext cx="144792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1" name=""/>
          <p:cNvSpPr/>
          <p:nvPr/>
        </p:nvSpPr>
        <p:spPr>
          <a:xfrm>
            <a:off x="539640" y="3284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答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>
            <a:hlinkClick r:id="rId9"/>
          </p:cNvPr>
          <p:cNvSpPr/>
          <p:nvPr/>
        </p:nvSpPr>
        <p:spPr>
          <a:xfrm>
            <a:off x="539640" y="5013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答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6381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答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9640" y="414828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答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2411280" y="2421000"/>
                <a:ext cx="241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6" name=""/>
          <p:cNvGrpSpPr/>
          <p:nvPr/>
        </p:nvGrpSpPr>
        <p:grpSpPr>
          <a:xfrm>
            <a:off x="6226200" y="2421000"/>
            <a:ext cx="531720" cy="838080"/>
            <a:chOff x="6226200" y="2421000"/>
            <a:chExt cx="531720" cy="838080"/>
          </a:xfrm>
        </p:grpSpPr>
        <p:sp>
          <p:nvSpPr>
            <p:cNvPr id="317" name=""/>
            <p:cNvSpPr/>
            <p:nvPr/>
          </p:nvSpPr>
          <p:spPr>
            <a:xfrm>
              <a:off x="6226200" y="2637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6516720" y="2421000"/>
                  <a:ext cx="2412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1017720"/>
            <a:ext cx="7086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图中阴影部分是用一个圆作为单位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 图中共包含着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这样的分数单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   的分数单位是    ，它含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这样的分数单位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600200" y="3102120"/>
                <a:ext cx="177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246480" y="3102120"/>
                <a:ext cx="1825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228600" y="9907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457200"/>
            <a:ext cx="5486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二、准备题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用分数表示下列各式的商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÷3=         11÷5=      20÷7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填空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=(  )÷(  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=(  )÷( 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258920" y="4632480"/>
                <a:ext cx="2746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311720" y="4643280"/>
                <a:ext cx="291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853452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2627280" y="549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答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57400" y="457200"/>
            <a:ext cx="5486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÷3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÷5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÷7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076640" y="1793880"/>
                <a:ext cx="3430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127400" y="2868480"/>
                <a:ext cx="3682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046400" y="685800"/>
                <a:ext cx="220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304920" y="8380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24000" y="3573360"/>
            <a:ext cx="61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( 14 )÷( 5 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( 28 )÷( 9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059280" y="3881520"/>
                <a:ext cx="2743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059280" y="4581360"/>
                <a:ext cx="291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189000"/>
            <a:ext cx="876276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、学习新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把    和    化成整数或带分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看图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请你动脑筋想一想，这张图等式左边和右边分别表示什么意思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根据分数与除法的关系，    应该怎样计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它的结果是整数还是带分数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     中分子和分母有什么关系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试一试，想一想，分子是分母的倍数时，化成的数都是什么数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619280" y="736560"/>
                <a:ext cx="2998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195640" y="736560"/>
                <a:ext cx="195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826920" y="1341360"/>
                <a:ext cx="3002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403280" y="5272200"/>
                <a:ext cx="3002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140360" y="4121280"/>
                <a:ext cx="29988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483080" y="3244680"/>
                <a:ext cx="17784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8728200" y="63565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324000" y="3645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答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324000" y="4221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答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324000" y="479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答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5" action="ppaction://hlinksldjump"/>
          </p:cNvPr>
          <p:cNvSpPr/>
          <p:nvPr/>
        </p:nvSpPr>
        <p:spPr>
          <a:xfrm>
            <a:off x="324000" y="5445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答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6" action="ppaction://hlinksldjump"/>
          </p:cNvPr>
          <p:cNvSpPr/>
          <p:nvPr/>
        </p:nvSpPr>
        <p:spPr>
          <a:xfrm>
            <a:off x="324000" y="6093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答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982880" y="1557360"/>
            <a:ext cx="5181120" cy="2029320"/>
            <a:chOff x="1982880" y="1557360"/>
            <a:chExt cx="5181120" cy="2029320"/>
          </a:xfrm>
        </p:grpSpPr>
        <p:grpSp>
          <p:nvGrpSpPr>
            <p:cNvPr id="85" name=""/>
            <p:cNvGrpSpPr/>
            <p:nvPr/>
          </p:nvGrpSpPr>
          <p:grpSpPr>
            <a:xfrm>
              <a:off x="1982880" y="1557360"/>
              <a:ext cx="5181120" cy="2029320"/>
              <a:chOff x="1982880" y="1557360"/>
              <a:chExt cx="5181120" cy="2029320"/>
            </a:xfrm>
          </p:grpSpPr>
          <p:graphicFrame>
            <p:nvGraphicFramePr>
              <p:cNvPr id="86" name=""/>
              <p:cNvGraphicFramePr/>
              <p:nvPr/>
            </p:nvGraphicFramePr>
            <p:xfrm>
              <a:off x="3125520" y="1557360"/>
              <a:ext cx="1066680" cy="1066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8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125520" y="155736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" name=""/>
              <p:cNvGraphicFramePr/>
              <p:nvPr/>
            </p:nvGraphicFramePr>
            <p:xfrm>
              <a:off x="1982880" y="1557360"/>
              <a:ext cx="1066680" cy="10666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89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982880" y="155736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0" name=""/>
              <p:cNvSpPr/>
              <p:nvPr/>
            </p:nvSpPr>
            <p:spPr>
              <a:xfrm>
                <a:off x="6097320" y="1557360"/>
                <a:ext cx="1066680" cy="106668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954320" y="1557360"/>
                <a:ext cx="1066680" cy="106668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254840" y="1620720"/>
                <a:ext cx="592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5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592360" y="2395440"/>
                <a:ext cx="990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200" spc="-1" strike="noStrike">
                    <a:solidFill>
                      <a:srgbClr val="000000"/>
                    </a:solidFill>
                    <a:latin typeface="Times New Roman"/>
                  </a:rPr>
                  <a:t>︸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64160" y="2395440"/>
                <a:ext cx="990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200" spc="-1" strike="noStrike">
                    <a:solidFill>
                      <a:srgbClr val="000000"/>
                    </a:solidFill>
                    <a:latin typeface="Times New Roman"/>
                  </a:rPr>
                  <a:t>︸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2987640" y="2890800"/>
                  <a:ext cx="3049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" name=""/>
            <p:cNvSpPr/>
            <p:nvPr/>
          </p:nvSpPr>
          <p:spPr>
            <a:xfrm>
              <a:off x="5940360" y="2827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971640" y="3389400"/>
            <a:ext cx="7086600" cy="1557000"/>
            <a:chOff x="971640" y="3389400"/>
            <a:chExt cx="7086600" cy="1557000"/>
          </a:xfrm>
        </p:grpSpPr>
        <p:sp>
          <p:nvSpPr>
            <p:cNvPr id="98" name=""/>
            <p:cNvSpPr/>
            <p:nvPr/>
          </p:nvSpPr>
          <p:spPr>
            <a:xfrm>
              <a:off x="971640" y="3389400"/>
              <a:ext cx="7086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左边表示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    ，右边表示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4102200" y="3614400"/>
                  <a:ext cx="222120" cy="71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0" name=""/>
          <p:cNvSpPr/>
          <p:nvPr/>
        </p:nvSpPr>
        <p:spPr>
          <a:xfrm>
            <a:off x="304920" y="8380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82880" y="1557360"/>
            <a:ext cx="5181120" cy="2029320"/>
            <a:chOff x="1982880" y="1557360"/>
            <a:chExt cx="5181120" cy="2029320"/>
          </a:xfrm>
        </p:grpSpPr>
        <p:grpSp>
          <p:nvGrpSpPr>
            <p:cNvPr id="102" name=""/>
            <p:cNvGrpSpPr/>
            <p:nvPr/>
          </p:nvGrpSpPr>
          <p:grpSpPr>
            <a:xfrm>
              <a:off x="1982880" y="1557360"/>
              <a:ext cx="5181120" cy="2029320"/>
              <a:chOff x="1982880" y="1557360"/>
              <a:chExt cx="5181120" cy="2029320"/>
            </a:xfrm>
          </p:grpSpPr>
          <p:graphicFrame>
            <p:nvGraphicFramePr>
              <p:cNvPr id="103" name=""/>
              <p:cNvGraphicFramePr/>
              <p:nvPr/>
            </p:nvGraphicFramePr>
            <p:xfrm>
              <a:off x="3125520" y="1557360"/>
              <a:ext cx="1066680" cy="1066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25520" y="155736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5" name=""/>
              <p:cNvGraphicFramePr/>
              <p:nvPr/>
            </p:nvGraphicFramePr>
            <p:xfrm>
              <a:off x="1982880" y="1557360"/>
              <a:ext cx="1066680" cy="10666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0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82880" y="155736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7" name=""/>
              <p:cNvSpPr/>
              <p:nvPr/>
            </p:nvSpPr>
            <p:spPr>
              <a:xfrm>
                <a:off x="6097320" y="1557360"/>
                <a:ext cx="1066680" cy="106668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954320" y="1557360"/>
                <a:ext cx="1066680" cy="106668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254840" y="1620720"/>
                <a:ext cx="592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5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92360" y="2395440"/>
                <a:ext cx="990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200" spc="-1" strike="noStrike">
                    <a:solidFill>
                      <a:srgbClr val="000000"/>
                    </a:solidFill>
                    <a:latin typeface="Times New Roman"/>
                  </a:rPr>
                  <a:t>︸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564160" y="2395440"/>
                <a:ext cx="990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200" spc="-1" strike="noStrike">
                    <a:solidFill>
                      <a:srgbClr val="000000"/>
                    </a:solidFill>
                    <a:latin typeface="Times New Roman"/>
                  </a:rPr>
                  <a:t>︸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2987640" y="2890800"/>
                  <a:ext cx="3049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"/>
            <p:cNvSpPr/>
            <p:nvPr/>
          </p:nvSpPr>
          <p:spPr>
            <a:xfrm>
              <a:off x="5940360" y="2827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1752480" y="1438200"/>
            <a:ext cx="7086600" cy="3751560"/>
            <a:chOff x="1752480" y="1438200"/>
            <a:chExt cx="7086600" cy="3751560"/>
          </a:xfrm>
        </p:grpSpPr>
        <p:sp>
          <p:nvSpPr>
            <p:cNvPr id="115" name=""/>
            <p:cNvSpPr/>
            <p:nvPr/>
          </p:nvSpPr>
          <p:spPr>
            <a:xfrm>
              <a:off x="1752480" y="1438200"/>
              <a:ext cx="70866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10÷5=2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11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3090960" y="2405160"/>
                  <a:ext cx="338040" cy="71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304920" y="8380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1527120"/>
            <a:ext cx="48006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它的结果是整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304920" y="8380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13:53:17Z</dcterms:created>
  <dc:creator/>
  <dc:description/>
  <dc:language>en-US</dc:language>
  <cp:lastModifiedBy>gongyanling</cp:lastModifiedBy>
  <dcterms:modified xsi:type="dcterms:W3CDTF">2005-04-26T02:15:01Z</dcterms:modified>
  <cp:revision>16</cp:revision>
  <dc:subject/>
  <dc:title/>
</cp:coreProperties>
</file>