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18C-19EB-47C2-9898-1AE49D8D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ACD-921F-4C7E-8034-124668E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F10-3327-4856-B79B-C622DA32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9C9-8F0D-4B12-A992-A87B17E2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BBE2-319D-472F-A181-08B5618A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F73E-4B2B-4EF5-BBC6-594C39FA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813-533F-488F-A647-1F0A068E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0778-CFE3-4027-8E90-FFD573C7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4B73-BBEC-4C7D-AB1F-83BA4129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FA72-AB5B-458E-9D40-66A545EC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769-F2C2-4B48-98ED-8133048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E00-16BB-48D2-9D14-0A0126C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684C-72CF-4F21-AE93-A03B592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1F4D-F656-424D-91EF-0351E1D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4BD5-94D0-47A2-96F8-DBE05D5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5FBA-4806-49CE-8122-FEDA5B6D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1AA5-A3B8-481A-AE02-49B947CA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E45-3686-43CB-BFA9-854F7824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F0E-EEC7-400E-A334-B1B1121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020-349D-43EC-8B45-76160032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9DF-0497-4C8C-879A-E765390F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980-8B97-453C-912A-ABA8E6A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429-17EC-4E74-A5D1-42D4BE9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F11-C47C-42F5-85B1-FA93B19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789A-72CF-435D-B7B9-9CE77A9620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2BA2-35DA-4AF3-B17E-ACC32D0835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23880" y="2133720"/>
            <a:ext cx="6553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把整数化成假分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Untitled-1" descr=""/>
          <p:cNvPicPr/>
          <p:nvPr/>
        </p:nvPicPr>
        <p:blipFill>
          <a:blip r:embed="rId1"/>
          <a:stretch/>
        </p:blipFill>
        <p:spPr>
          <a:xfrm flipH="1">
            <a:off x="380880" y="457200"/>
            <a:ext cx="3562560" cy="2590920"/>
          </a:xfrm>
          <a:prstGeom prst="rect">
            <a:avLst/>
          </a:prstGeom>
          <a:ln w="0">
            <a:noFill/>
          </a:ln>
        </p:spPr>
      </p:pic>
      <p:pic>
        <p:nvPicPr>
          <p:cNvPr id="89" name="Untitled-2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Untitled-3" descr=""/>
          <p:cNvPicPr/>
          <p:nvPr/>
        </p:nvPicPr>
        <p:blipFill>
          <a:blip r:embed="rId3"/>
          <a:stretch/>
        </p:blipFill>
        <p:spPr>
          <a:xfrm>
            <a:off x="4800600" y="990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Untitled-4" descr=""/>
          <p:cNvPicPr/>
          <p:nvPr/>
        </p:nvPicPr>
        <p:blipFill>
          <a:blip r:embed="rId4"/>
          <a:stretch/>
        </p:blipFill>
        <p:spPr>
          <a:xfrm>
            <a:off x="6800760" y="990720"/>
            <a:ext cx="13525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2068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化成分母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389400" y="2362320"/>
            <a:ext cx="419040" cy="1019160"/>
            <a:chOff x="3389400" y="2362320"/>
            <a:chExt cx="419040" cy="1019160"/>
          </a:xfrm>
        </p:grpSpPr>
        <p:sp>
          <p:nvSpPr>
            <p:cNvPr id="94" name=""/>
            <p:cNvSpPr/>
            <p:nvPr/>
          </p:nvSpPr>
          <p:spPr>
            <a:xfrm>
              <a:off x="3422160" y="2362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89400" y="2895480"/>
              <a:ext cx="3808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3600" y="280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94160" y="2362320"/>
            <a:ext cx="419400" cy="1019160"/>
            <a:chOff x="5294160" y="2362320"/>
            <a:chExt cx="419400" cy="1019160"/>
          </a:xfrm>
        </p:grpSpPr>
        <p:sp>
          <p:nvSpPr>
            <p:cNvPr id="98" name=""/>
            <p:cNvSpPr/>
            <p:nvPr/>
          </p:nvSpPr>
          <p:spPr>
            <a:xfrm>
              <a:off x="5327280" y="2362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94160" y="2895480"/>
              <a:ext cx="38124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28720" y="280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275600" y="2362320"/>
            <a:ext cx="419040" cy="1019160"/>
            <a:chOff x="7275600" y="2362320"/>
            <a:chExt cx="419040" cy="1019160"/>
          </a:xfrm>
        </p:grpSpPr>
        <p:sp>
          <p:nvSpPr>
            <p:cNvPr id="102" name=""/>
            <p:cNvSpPr/>
            <p:nvPr/>
          </p:nvSpPr>
          <p:spPr>
            <a:xfrm>
              <a:off x="7308360" y="2362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75600" y="2895480"/>
              <a:ext cx="3808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9800" y="280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447920" y="2362320"/>
            <a:ext cx="419040" cy="1019160"/>
            <a:chOff x="1447920" y="2362320"/>
            <a:chExt cx="419040" cy="1019160"/>
          </a:xfrm>
        </p:grpSpPr>
        <p:sp>
          <p:nvSpPr>
            <p:cNvPr id="106" name=""/>
            <p:cNvSpPr/>
            <p:nvPr/>
          </p:nvSpPr>
          <p:spPr>
            <a:xfrm>
              <a:off x="1480680" y="2362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920" y="2895480"/>
              <a:ext cx="3808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82120" y="280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05160" y="3610080"/>
            <a:ext cx="3524040" cy="1019520"/>
            <a:chOff x="1505160" y="3610080"/>
            <a:chExt cx="3524040" cy="1019520"/>
          </a:xfrm>
        </p:grpSpPr>
        <p:sp>
          <p:nvSpPr>
            <p:cNvPr id="110" name=""/>
            <p:cNvSpPr/>
            <p:nvPr/>
          </p:nvSpPr>
          <p:spPr>
            <a:xfrm>
              <a:off x="1505160" y="3840120"/>
              <a:ext cx="83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190240" y="3610080"/>
              <a:ext cx="395640" cy="1019160"/>
              <a:chOff x="2190240" y="3610080"/>
              <a:chExt cx="395640" cy="1019160"/>
            </a:xfrm>
          </p:grpSpPr>
          <p:sp>
            <p:nvSpPr>
              <p:cNvPr id="112" name=""/>
              <p:cNvSpPr/>
              <p:nvPr/>
            </p:nvSpPr>
            <p:spPr>
              <a:xfrm>
                <a:off x="2190240" y="3610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5000" y="41241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1680" y="404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026880" y="3610080"/>
              <a:ext cx="395640" cy="1019160"/>
              <a:chOff x="3026880" y="3610080"/>
              <a:chExt cx="395640" cy="1019160"/>
            </a:xfrm>
          </p:grpSpPr>
          <p:sp>
            <p:nvSpPr>
              <p:cNvPr id="116" name=""/>
              <p:cNvSpPr/>
              <p:nvPr/>
            </p:nvSpPr>
            <p:spPr>
              <a:xfrm>
                <a:off x="3026880" y="3610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1640" y="41241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28320" y="404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809520" y="3610080"/>
              <a:ext cx="395280" cy="1019520"/>
              <a:chOff x="3809520" y="3610080"/>
              <a:chExt cx="395280" cy="1019520"/>
            </a:xfrm>
          </p:grpSpPr>
          <p:sp>
            <p:nvSpPr>
              <p:cNvPr id="120" name=""/>
              <p:cNvSpPr/>
              <p:nvPr/>
            </p:nvSpPr>
            <p:spPr>
              <a:xfrm>
                <a:off x="3809520" y="3610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23920" y="41241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10960" y="4048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633560" y="3610080"/>
              <a:ext cx="395640" cy="1019520"/>
              <a:chOff x="4633560" y="3610080"/>
              <a:chExt cx="395640" cy="1019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633560" y="3610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320" y="412416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35000" y="4048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624400" y="38098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0000" y="3811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05520" y="3811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619720" y="5048280"/>
            <a:ext cx="41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化成分母是任意分数的假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88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Times New Roman"/>
              </a:rPr>
              <a:t>.  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1440" y="50338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92600" y="258840"/>
            <a:ext cx="45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分别化成分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假分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97680" y="1066680"/>
            <a:ext cx="2334600" cy="1049760"/>
            <a:chOff x="697680" y="1066680"/>
            <a:chExt cx="2334600" cy="1049760"/>
          </a:xfrm>
        </p:grpSpPr>
        <p:sp>
          <p:nvSpPr>
            <p:cNvPr id="135" name=""/>
            <p:cNvSpPr/>
            <p:nvPr/>
          </p:nvSpPr>
          <p:spPr>
            <a:xfrm>
              <a:off x="697680" y="1295280"/>
              <a:ext cx="185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里面有</a:t>
              </a: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646360" y="1066680"/>
              <a:ext cx="385920" cy="1049760"/>
              <a:chOff x="2646360" y="1066680"/>
              <a:chExt cx="385920" cy="1049760"/>
            </a:xfrm>
          </p:grpSpPr>
          <p:sp>
            <p:nvSpPr>
              <p:cNvPr id="137" name=""/>
              <p:cNvSpPr/>
              <p:nvPr/>
            </p:nvSpPr>
            <p:spPr>
              <a:xfrm>
                <a:off x="2647440" y="10666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46360" y="15764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47440" y="1535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3611880" y="1066680"/>
            <a:ext cx="3168360" cy="1049760"/>
            <a:chOff x="3611880" y="1066680"/>
            <a:chExt cx="3168360" cy="1049760"/>
          </a:xfrm>
        </p:grpSpPr>
        <p:sp>
          <p:nvSpPr>
            <p:cNvPr id="141" name=""/>
            <p:cNvSpPr/>
            <p:nvPr/>
          </p:nvSpPr>
          <p:spPr>
            <a:xfrm>
              <a:off x="3611880" y="1295280"/>
              <a:ext cx="256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里面有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(</a:t>
              </a: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zh-CN" sz="3200" spc="-1" strike="noStrike">
                  <a:solidFill>
                    <a:srgbClr val="ff0033"/>
                  </a:solidFill>
                  <a:latin typeface="宋体"/>
                </a:rPr>
                <a:t>×</a:t>
              </a: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394320" y="1066680"/>
              <a:ext cx="385920" cy="1049760"/>
              <a:chOff x="6394320" y="1066680"/>
              <a:chExt cx="385920" cy="1049760"/>
            </a:xfrm>
          </p:grpSpPr>
          <p:sp>
            <p:nvSpPr>
              <p:cNvPr id="143" name=""/>
              <p:cNvSpPr/>
              <p:nvPr/>
            </p:nvSpPr>
            <p:spPr>
              <a:xfrm>
                <a:off x="6395400" y="10666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94320" y="15764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95400" y="1535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719280" y="3728880"/>
            <a:ext cx="8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8560" y="3992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63760" y="40147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6400" y="348156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33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08640" y="3710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30560" y="3514680"/>
            <a:ext cx="457200" cy="1029240"/>
            <a:chOff x="3130560" y="3514680"/>
            <a:chExt cx="457200" cy="1029240"/>
          </a:xfrm>
        </p:grpSpPr>
        <p:sp>
          <p:nvSpPr>
            <p:cNvPr id="152" name=""/>
            <p:cNvSpPr/>
            <p:nvPr/>
          </p:nvSpPr>
          <p:spPr>
            <a:xfrm>
              <a:off x="3191760" y="3962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40194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2680" y="3514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18000" y="2152800"/>
            <a:ext cx="3168720" cy="1049400"/>
            <a:chOff x="3618000" y="2152800"/>
            <a:chExt cx="3168720" cy="1049400"/>
          </a:xfrm>
        </p:grpSpPr>
        <p:sp>
          <p:nvSpPr>
            <p:cNvPr id="156" name=""/>
            <p:cNvSpPr/>
            <p:nvPr/>
          </p:nvSpPr>
          <p:spPr>
            <a:xfrm>
              <a:off x="3618000" y="2381400"/>
              <a:ext cx="256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里面有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(</a:t>
              </a: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zh-CN" sz="3200" spc="-1" strike="noStrike">
                  <a:solidFill>
                    <a:srgbClr val="ff0033"/>
                  </a:solidFill>
                  <a:latin typeface="宋体"/>
                </a:rPr>
                <a:t>×</a:t>
              </a:r>
              <a:r>
                <a:rPr b="0" lang="zh-CN" sz="32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400800" y="2152800"/>
              <a:ext cx="385920" cy="1049400"/>
              <a:chOff x="6400800" y="2152800"/>
              <a:chExt cx="385920" cy="104940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1880" y="2152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00800" y="266220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01880" y="2620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4675320" y="3724200"/>
            <a:ext cx="8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4600" y="398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9800" y="401004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62440" y="347652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33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64680" y="370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85520" y="3468600"/>
            <a:ext cx="610200" cy="1075320"/>
            <a:chOff x="7085520" y="3468600"/>
            <a:chExt cx="610200" cy="1075320"/>
          </a:xfrm>
        </p:grpSpPr>
        <p:sp>
          <p:nvSpPr>
            <p:cNvPr id="167" name=""/>
            <p:cNvSpPr/>
            <p:nvPr/>
          </p:nvSpPr>
          <p:spPr>
            <a:xfrm>
              <a:off x="7224120" y="3962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401472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5520" y="34686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448280" y="5029200"/>
            <a:ext cx="617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整数化成假分数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指定的分母作分母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分母和整数的乘积作分子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WW_048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8960" cy="941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40280" y="457200"/>
            <a:ext cx="59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怎样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别化成分母是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假分数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51360" y="1081080"/>
            <a:ext cx="1125000" cy="1027440"/>
            <a:chOff x="1251360" y="1081080"/>
            <a:chExt cx="1125000" cy="1027440"/>
          </a:xfrm>
        </p:grpSpPr>
        <p:sp>
          <p:nvSpPr>
            <p:cNvPr id="174" name=""/>
            <p:cNvSpPr/>
            <p:nvPr/>
          </p:nvSpPr>
          <p:spPr>
            <a:xfrm>
              <a:off x="1251360" y="1295280"/>
              <a:ext cx="83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6320" y="152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19160" y="15843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2160" y="1081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202560" y="1074600"/>
            <a:ext cx="1140840" cy="1060920"/>
            <a:chOff x="3202560" y="1074600"/>
            <a:chExt cx="1140840" cy="1060920"/>
          </a:xfrm>
        </p:grpSpPr>
        <p:sp>
          <p:nvSpPr>
            <p:cNvPr id="179" name=""/>
            <p:cNvSpPr/>
            <p:nvPr/>
          </p:nvSpPr>
          <p:spPr>
            <a:xfrm>
              <a:off x="3915720" y="1074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2560" y="1295280"/>
              <a:ext cx="72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8960" y="1554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16066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07320" y="1081080"/>
            <a:ext cx="1141200" cy="1060920"/>
            <a:chOff x="5107320" y="1081080"/>
            <a:chExt cx="1141200" cy="1060920"/>
          </a:xfrm>
        </p:grpSpPr>
        <p:sp>
          <p:nvSpPr>
            <p:cNvPr id="184" name=""/>
            <p:cNvSpPr/>
            <p:nvPr/>
          </p:nvSpPr>
          <p:spPr>
            <a:xfrm>
              <a:off x="5820840" y="1081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07320" y="1301760"/>
              <a:ext cx="72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4080" y="156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16128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089440" y="259092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一个整数化成分母是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假分数，假分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分子就是这个整数本身，所以整数都可以看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母是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假分数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46440" y="4343400"/>
            <a:ext cx="1927080" cy="1073520"/>
            <a:chOff x="946440" y="4343400"/>
            <a:chExt cx="1927080" cy="1073520"/>
          </a:xfrm>
        </p:grpSpPr>
        <p:sp>
          <p:nvSpPr>
            <p:cNvPr id="190" name=""/>
            <p:cNvSpPr/>
            <p:nvPr/>
          </p:nvSpPr>
          <p:spPr>
            <a:xfrm>
              <a:off x="946440" y="4557600"/>
              <a:ext cx="83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2360" y="4835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9400" y="434340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（     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483552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946440" y="5481720"/>
            <a:ext cx="1927080" cy="1073520"/>
            <a:chOff x="946440" y="5481720"/>
            <a:chExt cx="1927080" cy="1073520"/>
          </a:xfrm>
        </p:grpSpPr>
        <p:sp>
          <p:nvSpPr>
            <p:cNvPr id="195" name=""/>
            <p:cNvSpPr/>
            <p:nvPr/>
          </p:nvSpPr>
          <p:spPr>
            <a:xfrm>
              <a:off x="946440" y="5695920"/>
              <a:ext cx="83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2360" y="5973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9400" y="548172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（     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59738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94520" y="4343400"/>
            <a:ext cx="1927080" cy="1073520"/>
            <a:chOff x="4394520" y="4343400"/>
            <a:chExt cx="1927080" cy="1073520"/>
          </a:xfrm>
        </p:grpSpPr>
        <p:sp>
          <p:nvSpPr>
            <p:cNvPr id="200" name=""/>
            <p:cNvSpPr/>
            <p:nvPr/>
          </p:nvSpPr>
          <p:spPr>
            <a:xfrm>
              <a:off x="4394520" y="4557600"/>
              <a:ext cx="83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00440" y="4835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7480" y="434340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（     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24600" y="483552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22800" y="5486400"/>
            <a:ext cx="2098800" cy="1073520"/>
            <a:chOff x="4222800" y="5486400"/>
            <a:chExt cx="2098800" cy="1073520"/>
          </a:xfrm>
        </p:grpSpPr>
        <p:sp>
          <p:nvSpPr>
            <p:cNvPr id="205" name=""/>
            <p:cNvSpPr/>
            <p:nvPr/>
          </p:nvSpPr>
          <p:spPr>
            <a:xfrm>
              <a:off x="4222800" y="5700600"/>
              <a:ext cx="103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＝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0440" y="59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27480" y="548640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（     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24600" y="597852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058480" y="4297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800" y="4309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057400" y="54482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1080" y="5462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46195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92760" y="432900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0033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73084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2400" y="544032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33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ff0033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3:13:58Z</dcterms:created>
  <dc:creator>yangjiuling</dc:creator>
  <dc:description/>
  <dc:language>en-US</dc:language>
  <cp:lastModifiedBy>yangjiuling</cp:lastModifiedBy>
  <dcterms:modified xsi:type="dcterms:W3CDTF">2003-04-08T03:52:56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记录日期">
    <vt:filetime>2011-04-02T16:00:00Z</vt:filetime>
  </property>
</Properties>
</file>