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5.jpeg" ContentType="image/jpeg"/>
  <Override PartName="/ppt/media/image3.gif" ContentType="image/gif"/>
  <Override PartName="/ppt/media/image6.png" ContentType="image/png"/>
  <Override PartName="/ppt/media/image26.gif" ContentType="image/gif"/>
  <Override PartName="/ppt/media/image4.png" ContentType="image/png"/>
  <Override PartName="/ppt/media/image12.jpeg" ContentType="image/jpeg"/>
  <Override PartName="/ppt/media/image13.png" ContentType="image/png"/>
  <Override PartName="/ppt/media/image7.gif" ContentType="image/gif"/>
  <Override PartName="/ppt/media/image14.jpeg" ContentType="image/jpeg"/>
  <Override PartName="/ppt/media/image5.gif" ContentType="image/gif"/>
  <Override PartName="/ppt/media/image8.png" ContentType="image/png"/>
  <Override PartName="/ppt/media/image9.png" ContentType="image/png"/>
  <Override PartName="/ppt/media/image11.gif" ContentType="image/gif"/>
  <Override PartName="/ppt/media/image27.gif" ContentType="image/gif"/>
  <Override PartName="/ppt/media/image1.jpeg" ContentType="image/jpeg"/>
  <Override PartName="/ppt/media/image10.png" ContentType="image/png"/>
  <Override PartName="/ppt/media/image16.png" ContentType="image/png"/>
  <Override PartName="/ppt/media/image24.gif" ContentType="image/gif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2.gif" ContentType="image/gif"/>
  <Override PartName="/ppt/media/image19.jpeg" ContentType="image/jpeg"/>
  <Override PartName="/ppt/media/projctor.wav" ContentType="audio/x-wav"/>
  <Override PartName="/ppt/media/camera.wav" ContentType="audio/x-wav"/>
  <Override PartName="/ppt/media/chimes.wav" ContentType="audio/x-wav"/>
  <Override PartName="/ppt/media/image21.jpeg" ContentType="image/jpeg"/>
  <Override PartName="/ppt/media/image15.png" ContentType="image/png"/>
  <Override PartName="/ppt/media/image2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42E-034A-4084-B0B3-5E2812E2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B44-3999-4F35-8B9E-ED64B81C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602-C0BC-444D-8E56-66346295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9CE-2D5E-4A19-BC90-F802C836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2B9-2514-4060-AC98-5BDCA863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643-8E3C-45FF-9215-429FC7A9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FBC-20A2-4729-891F-E175FD89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CCD-232B-49F9-A7E4-19FD6733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7DD-704D-4926-ADCB-3373FDE9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B73-2C49-468D-B181-BA408A67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79C-D410-42F8-B153-62565311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9E2-969D-4F31-83CB-E5542139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29B-FA10-4153-B044-386373191E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birdtran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43" name="birdtran" descr=""/>
          <p:cNvPicPr/>
          <p:nvPr/>
        </p:nvPicPr>
        <p:blipFill>
          <a:blip r:embed="rId3"/>
          <a:stretch/>
        </p:blipFill>
        <p:spPr>
          <a:xfrm>
            <a:off x="8039160" y="647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44" name="birdtran" descr=""/>
          <p:cNvPicPr/>
          <p:nvPr/>
        </p:nvPicPr>
        <p:blipFill>
          <a:blip r:embed="rId4"/>
          <a:stretch/>
        </p:blipFill>
        <p:spPr>
          <a:xfrm>
            <a:off x="7238880" y="8002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birdtran" descr=""/>
          <p:cNvPicPr/>
          <p:nvPr/>
        </p:nvPicPr>
        <p:blipFill>
          <a:blip r:embed="rId5"/>
          <a:stretch/>
        </p:blipFill>
        <p:spPr>
          <a:xfrm>
            <a:off x="7010280" y="3049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1" descr=""/>
          <p:cNvPicPr/>
          <p:nvPr/>
        </p:nvPicPr>
        <p:blipFill>
          <a:blip r:embed="rId6"/>
          <a:stretch/>
        </p:blipFill>
        <p:spPr>
          <a:xfrm>
            <a:off x="-76320" y="76320"/>
            <a:ext cx="1981440" cy="1650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71604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Times New Roman"/>
                <a:ea typeface="隶书"/>
              </a:rPr>
              <a:t>小学数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81280" y="2133720"/>
            <a:ext cx="1752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第十册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9" name="2" descr=""/>
          <p:cNvPicPr/>
          <p:nvPr/>
        </p:nvPicPr>
        <p:blipFill>
          <a:blip r:embed="rId9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-1066680" y="13716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95280" y="5475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带分数化成假分数的法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5238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把带分数化成假分数，用原来的分母作分母，用分母和整数的乘积在加上原来的分子作分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920" y="28954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969920" y="3489480"/>
            <a:ext cx="4583160" cy="3019680"/>
            <a:chOff x="1969920" y="3489480"/>
            <a:chExt cx="4583160" cy="3019680"/>
          </a:xfrm>
        </p:grpSpPr>
        <p:grpSp>
          <p:nvGrpSpPr>
            <p:cNvPr id="365" name=""/>
            <p:cNvGrpSpPr/>
            <p:nvPr/>
          </p:nvGrpSpPr>
          <p:grpSpPr>
            <a:xfrm>
              <a:off x="1969920" y="3489480"/>
              <a:ext cx="4354560" cy="1161000"/>
              <a:chOff x="1969920" y="3489480"/>
              <a:chExt cx="4354560" cy="1161000"/>
            </a:xfrm>
          </p:grpSpPr>
          <p:sp>
            <p:nvSpPr>
              <p:cNvPr id="366" name=""/>
              <p:cNvSpPr/>
              <p:nvPr/>
            </p:nvSpPr>
            <p:spPr>
              <a:xfrm>
                <a:off x="1969920" y="3764160"/>
                <a:ext cx="138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1       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30280" y="402444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401920" y="402300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401920" y="348948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29000" y="40690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429000" y="3535560"/>
                <a:ext cx="289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(   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19720" y="406908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057400" y="4861080"/>
              <a:ext cx="4495680" cy="1648080"/>
              <a:chOff x="2057400" y="4861080"/>
              <a:chExt cx="4495680" cy="1648080"/>
            </a:xfrm>
          </p:grpSpPr>
          <p:sp>
            <p:nvSpPr>
              <p:cNvPr id="374" name=""/>
              <p:cNvSpPr/>
              <p:nvPr/>
            </p:nvSpPr>
            <p:spPr>
              <a:xfrm>
                <a:off x="2057400" y="5135760"/>
                <a:ext cx="138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6       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417760" y="539604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489040" y="5394240"/>
                <a:ext cx="79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89040" y="4861080"/>
                <a:ext cx="79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16480" y="5440320"/>
                <a:ext cx="29606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16480" y="4907160"/>
                <a:ext cx="3036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(   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06840" y="5440320"/>
                <a:ext cx="8384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4191120" y="3505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57800" y="3535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24280" y="5440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33920" y="4906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913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009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7150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FR00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06668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下面括号里填上适当的分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143000" y="1843200"/>
            <a:ext cx="7467480" cy="2806200"/>
            <a:chOff x="1143000" y="1843200"/>
            <a:chExt cx="7467480" cy="2806200"/>
          </a:xfrm>
        </p:grpSpPr>
        <p:grpSp>
          <p:nvGrpSpPr>
            <p:cNvPr id="391" name=""/>
            <p:cNvGrpSpPr/>
            <p:nvPr/>
          </p:nvGrpSpPr>
          <p:grpSpPr>
            <a:xfrm>
              <a:off x="1219320" y="1843200"/>
              <a:ext cx="2514600" cy="1480320"/>
              <a:chOff x="1219320" y="1843200"/>
              <a:chExt cx="2514600" cy="1480320"/>
            </a:xfrm>
          </p:grpSpPr>
          <p:sp>
            <p:nvSpPr>
              <p:cNvPr id="392" name=""/>
              <p:cNvSpPr/>
              <p:nvPr/>
            </p:nvSpPr>
            <p:spPr>
              <a:xfrm>
                <a:off x="1219320" y="207180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=        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29160" y="23763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29160" y="23763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52840" y="1843200"/>
                <a:ext cx="8380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2160" y="23763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972160" y="18432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95840" y="2376360"/>
                <a:ext cx="8380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4267080" y="1843200"/>
              <a:ext cx="3581280" cy="1053720"/>
              <a:chOff x="4267080" y="1843200"/>
              <a:chExt cx="3581280" cy="1053720"/>
            </a:xfrm>
          </p:grpSpPr>
          <p:sp>
            <p:nvSpPr>
              <p:cNvPr id="400" name=""/>
              <p:cNvSpPr/>
              <p:nvPr/>
            </p:nvSpPr>
            <p:spPr>
              <a:xfrm>
                <a:off x="6933960" y="23763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86240" y="191916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7640" y="237636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267080" y="2147760"/>
                <a:ext cx="32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=           =     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24280" y="23763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24280" y="184320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52880" y="237636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0960" y="23763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90960" y="18432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43240" y="237636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1143000" y="3581280"/>
              <a:ext cx="4191120" cy="1068120"/>
              <a:chOff x="1143000" y="3581280"/>
              <a:chExt cx="4191120" cy="1068120"/>
            </a:xfrm>
          </p:grpSpPr>
          <p:sp>
            <p:nvSpPr>
              <p:cNvPr id="411" name=""/>
              <p:cNvSpPr/>
              <p:nvPr/>
            </p:nvSpPr>
            <p:spPr>
              <a:xfrm>
                <a:off x="1143000" y="3885840"/>
                <a:ext cx="380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0=             =        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28800" y="41288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52480" y="358128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81080" y="412884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048120" y="41288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71800" y="3581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200400" y="412884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43400" y="41288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67080" y="358128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95680" y="412884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410080" y="3443400"/>
              <a:ext cx="3200400" cy="1115640"/>
              <a:chOff x="5410080" y="3443400"/>
              <a:chExt cx="3200400" cy="1115640"/>
            </a:xfrm>
          </p:grpSpPr>
          <p:sp>
            <p:nvSpPr>
              <p:cNvPr id="422" name=""/>
              <p:cNvSpPr/>
              <p:nvPr/>
            </p:nvSpPr>
            <p:spPr>
              <a:xfrm>
                <a:off x="7010280" y="39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86600" y="35053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34320" y="396252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10080" y="38098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3=     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43600" y="40384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67280" y="344340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(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95880" y="40384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1828800" y="1843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2376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1828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1828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86600" y="2438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05120" y="3595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3595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1992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403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530520" y="2590920"/>
            <a:ext cx="2641320" cy="3111840"/>
            <a:chOff x="3530520" y="2590920"/>
            <a:chExt cx="2641320" cy="3111840"/>
          </a:xfrm>
        </p:grpSpPr>
        <p:sp>
          <p:nvSpPr>
            <p:cNvPr id="440" name=""/>
            <p:cNvSpPr/>
            <p:nvPr/>
          </p:nvSpPr>
          <p:spPr>
            <a:xfrm>
              <a:off x="3887280" y="499932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cc"/>
                  </a:solidFill>
                  <a:latin typeface="Times New Roman"/>
                </a:rPr>
                <a:t>你好聪明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1" name="bear6" descr=""/>
            <p:cNvPicPr/>
            <p:nvPr/>
          </p:nvPicPr>
          <p:blipFill>
            <a:blip r:embed="rId2"/>
            <a:stretch/>
          </p:blipFill>
          <p:spPr>
            <a:xfrm>
              <a:off x="3530520" y="2590920"/>
              <a:ext cx="2641320" cy="215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FR0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09480" y="5335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把下面的带分数化成假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33520" y="1797120"/>
            <a:ext cx="5181480" cy="3080520"/>
            <a:chOff x="533520" y="1797120"/>
            <a:chExt cx="5181480" cy="3080520"/>
          </a:xfrm>
        </p:grpSpPr>
        <p:grpSp>
          <p:nvGrpSpPr>
            <p:cNvPr id="445" name=""/>
            <p:cNvGrpSpPr/>
            <p:nvPr/>
          </p:nvGrpSpPr>
          <p:grpSpPr>
            <a:xfrm>
              <a:off x="533520" y="1797120"/>
              <a:ext cx="990000" cy="1175760"/>
              <a:chOff x="533520" y="1797120"/>
              <a:chExt cx="990000" cy="1175760"/>
            </a:xfrm>
          </p:grpSpPr>
          <p:sp>
            <p:nvSpPr>
              <p:cNvPr id="446" name=""/>
              <p:cNvSpPr/>
              <p:nvPr/>
            </p:nvSpPr>
            <p:spPr>
              <a:xfrm>
                <a:off x="533520" y="2057400"/>
                <a:ext cx="68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914400" y="23619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14400" y="1797120"/>
                <a:ext cx="5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914400" y="233028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962520" y="1797120"/>
              <a:ext cx="1218600" cy="1175760"/>
              <a:chOff x="3962520" y="1797120"/>
              <a:chExt cx="1218600" cy="1175760"/>
            </a:xfrm>
          </p:grpSpPr>
          <p:sp>
            <p:nvSpPr>
              <p:cNvPr id="451" name=""/>
              <p:cNvSpPr/>
              <p:nvPr/>
            </p:nvSpPr>
            <p:spPr>
              <a:xfrm>
                <a:off x="3962520" y="2057400"/>
                <a:ext cx="68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0" y="23619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572000" y="1797120"/>
                <a:ext cx="5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72000" y="233028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533520" y="3701880"/>
              <a:ext cx="1371600" cy="1175760"/>
              <a:chOff x="533520" y="3701880"/>
              <a:chExt cx="1371600" cy="1175760"/>
            </a:xfrm>
          </p:grpSpPr>
          <p:sp>
            <p:nvSpPr>
              <p:cNvPr id="456" name=""/>
              <p:cNvSpPr/>
              <p:nvPr/>
            </p:nvSpPr>
            <p:spPr>
              <a:xfrm>
                <a:off x="533520" y="396216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144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14400" y="3701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38440" y="423504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114800" y="3657600"/>
              <a:ext cx="1600200" cy="1175760"/>
              <a:chOff x="4114800" y="3657600"/>
              <a:chExt cx="1600200" cy="1175760"/>
            </a:xfrm>
          </p:grpSpPr>
          <p:sp>
            <p:nvSpPr>
              <p:cNvPr id="461" name=""/>
              <p:cNvSpPr/>
              <p:nvPr/>
            </p:nvSpPr>
            <p:spPr>
              <a:xfrm>
                <a:off x="4114800" y="39178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24280" y="4222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24280" y="36576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48320" y="419076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523880" y="1797120"/>
            <a:ext cx="2210040" cy="1175760"/>
            <a:chOff x="1523880" y="1797120"/>
            <a:chExt cx="2210040" cy="1175760"/>
          </a:xfrm>
        </p:grpSpPr>
        <p:sp>
          <p:nvSpPr>
            <p:cNvPr id="466" name=""/>
            <p:cNvSpPr/>
            <p:nvPr/>
          </p:nvSpPr>
          <p:spPr>
            <a:xfrm>
              <a:off x="1523880" y="205740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=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057400" y="1797120"/>
              <a:ext cx="1066680" cy="1175760"/>
              <a:chOff x="2057400" y="1797120"/>
              <a:chExt cx="1066680" cy="1175760"/>
            </a:xfrm>
          </p:grpSpPr>
          <p:sp>
            <p:nvSpPr>
              <p:cNvPr id="468" name=""/>
              <p:cNvSpPr/>
              <p:nvPr/>
            </p:nvSpPr>
            <p:spPr>
              <a:xfrm>
                <a:off x="2133360" y="23623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057400" y="179712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360" y="233028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5181480" y="1797120"/>
            <a:ext cx="2210040" cy="1175760"/>
            <a:chOff x="5181480" y="1797120"/>
            <a:chExt cx="2210040" cy="1175760"/>
          </a:xfrm>
        </p:grpSpPr>
        <p:sp>
          <p:nvSpPr>
            <p:cNvPr id="472" name=""/>
            <p:cNvSpPr/>
            <p:nvPr/>
          </p:nvSpPr>
          <p:spPr>
            <a:xfrm>
              <a:off x="5181480" y="205740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=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5715000" y="1797120"/>
              <a:ext cx="1066680" cy="1175760"/>
              <a:chOff x="5715000" y="1797120"/>
              <a:chExt cx="1066680" cy="1175760"/>
            </a:xfrm>
          </p:grpSpPr>
          <p:sp>
            <p:nvSpPr>
              <p:cNvPr id="474" name=""/>
              <p:cNvSpPr/>
              <p:nvPr/>
            </p:nvSpPr>
            <p:spPr>
              <a:xfrm>
                <a:off x="5790960" y="23623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15000" y="179712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90960" y="233028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1600200" y="3701880"/>
            <a:ext cx="2209680" cy="1176120"/>
            <a:chOff x="1600200" y="3701880"/>
            <a:chExt cx="2209680" cy="1176120"/>
          </a:xfrm>
        </p:grpSpPr>
        <p:sp>
          <p:nvSpPr>
            <p:cNvPr id="478" name=""/>
            <p:cNvSpPr/>
            <p:nvPr/>
          </p:nvSpPr>
          <p:spPr>
            <a:xfrm>
              <a:off x="1600200" y="39621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=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33360" y="370188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10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86000" y="4235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33360" y="43113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334120" y="3625920"/>
            <a:ext cx="2209680" cy="1176120"/>
            <a:chOff x="5334120" y="3625920"/>
            <a:chExt cx="2209680" cy="1176120"/>
          </a:xfrm>
        </p:grpSpPr>
        <p:sp>
          <p:nvSpPr>
            <p:cNvPr id="483" name=""/>
            <p:cNvSpPr/>
            <p:nvPr/>
          </p:nvSpPr>
          <p:spPr>
            <a:xfrm>
              <a:off x="5334120" y="388620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=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36259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2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19920" y="415944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7280" y="4235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7" name="008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867280"/>
            <a:ext cx="11430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FR00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981080" y="83808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同学们今天学得很好</a:t>
            </a: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希望大家回去好好复习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12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658880" cy="1828800"/>
          </a:xfrm>
          <a:prstGeom prst="rect">
            <a:avLst/>
          </a:prstGeom>
          <a:ln w="0">
            <a:noFill/>
          </a:ln>
        </p:spPr>
      </p:pic>
      <p:pic>
        <p:nvPicPr>
          <p:cNvPr id="491" name="7" descr=""/>
          <p:cNvPicPr/>
          <p:nvPr/>
        </p:nvPicPr>
        <p:blipFill>
          <a:blip r:embed="rId3"/>
          <a:stretch/>
        </p:blipFill>
        <p:spPr>
          <a:xfrm>
            <a:off x="6991200" y="152280"/>
            <a:ext cx="2000520" cy="22860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-1143000" y="1447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5335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课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整数或带分数化成假分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200808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掌握整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带分数化成假分数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确地将整数化成指定分母的假分数及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带分数化成假分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9625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教学过程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igrrr" descr=""/>
          <p:cNvPicPr/>
          <p:nvPr/>
        </p:nvPicPr>
        <p:blipFill>
          <a:blip r:embed="rId1"/>
          <a:stretch/>
        </p:blipFill>
        <p:spPr>
          <a:xfrm>
            <a:off x="7010280" y="3886200"/>
            <a:ext cx="1389240" cy="26668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276720" y="4038480"/>
            <a:ext cx="3200400" cy="703440"/>
            <a:chOff x="3276720" y="4038480"/>
            <a:chExt cx="3200400" cy="703440"/>
          </a:xfrm>
        </p:grpSpPr>
        <p:sp>
          <p:nvSpPr>
            <p:cNvPr id="57" name="">
              <a:hlinkClick r:id="rId2" action="ppaction://hlinksldjump"/>
            </p:cNvPr>
            <p:cNvSpPr/>
            <p:nvPr/>
          </p:nvSpPr>
          <p:spPr>
            <a:xfrm>
              <a:off x="3276720" y="4038480"/>
              <a:ext cx="320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一</a:t>
              </a: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.    </a:t>
              </a: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复    习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5680" y="464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200400" y="4724280"/>
            <a:ext cx="3124080" cy="703440"/>
            <a:chOff x="3200400" y="4724280"/>
            <a:chExt cx="3124080" cy="703440"/>
          </a:xfrm>
        </p:grpSpPr>
        <p:sp>
          <p:nvSpPr>
            <p:cNvPr id="60" name="">
              <a:hlinkClick r:id="rId3" action="ppaction://hlinksldjump"/>
            </p:cNvPr>
            <p:cNvSpPr/>
            <p:nvPr/>
          </p:nvSpPr>
          <p:spPr>
            <a:xfrm>
              <a:off x="3200400" y="4724280"/>
              <a:ext cx="312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二</a:t>
              </a: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.    </a:t>
              </a: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新    授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2000" y="5334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00400" y="5440320"/>
            <a:ext cx="3276720" cy="703440"/>
            <a:chOff x="3200400" y="5440320"/>
            <a:chExt cx="3276720" cy="703440"/>
          </a:xfrm>
        </p:grpSpPr>
        <p:sp>
          <p:nvSpPr>
            <p:cNvPr id="63" name="">
              <a:hlinkClick r:id="rId4" action="ppaction://hlinksldjump"/>
            </p:cNvPr>
            <p:cNvSpPr/>
            <p:nvPr/>
          </p:nvSpPr>
          <p:spPr>
            <a:xfrm>
              <a:off x="3200400" y="5440320"/>
              <a:ext cx="327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三</a:t>
              </a: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.    </a:t>
              </a:r>
              <a:r>
                <a:rPr b="0" lang="zh-CN" sz="4000" spc="-1" strike="noStrike">
                  <a:solidFill>
                    <a:srgbClr val="3333ff"/>
                  </a:solidFill>
                  <a:latin typeface="Times New Roman"/>
                </a:rPr>
                <a:t>巩    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6095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33520" y="533520"/>
            <a:ext cx="7467480" cy="5244840"/>
            <a:chOff x="533520" y="533520"/>
            <a:chExt cx="7467480" cy="5244840"/>
          </a:xfrm>
        </p:grpSpPr>
        <p:grpSp>
          <p:nvGrpSpPr>
            <p:cNvPr id="66" name=""/>
            <p:cNvGrpSpPr/>
            <p:nvPr/>
          </p:nvGrpSpPr>
          <p:grpSpPr>
            <a:xfrm>
              <a:off x="533520" y="533520"/>
              <a:ext cx="7467480" cy="3493800"/>
              <a:chOff x="533520" y="533520"/>
              <a:chExt cx="7467480" cy="3493800"/>
            </a:xfrm>
          </p:grpSpPr>
          <p:sp>
            <p:nvSpPr>
              <p:cNvPr id="67" name=""/>
              <p:cNvSpPr/>
              <p:nvPr/>
            </p:nvSpPr>
            <p:spPr>
              <a:xfrm>
                <a:off x="533520" y="533520"/>
                <a:ext cx="617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一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看下面的图形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塡上适当的分数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" name="a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1752480"/>
                <a:ext cx="2819520" cy="176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" name=""/>
              <p:cNvGrpSpPr/>
              <p:nvPr/>
            </p:nvGrpSpPr>
            <p:grpSpPr>
              <a:xfrm>
                <a:off x="4114800" y="1600200"/>
                <a:ext cx="3886200" cy="2427120"/>
                <a:chOff x="4114800" y="1600200"/>
                <a:chExt cx="3886200" cy="2427120"/>
              </a:xfrm>
            </p:grpSpPr>
            <p:pic>
              <p:nvPicPr>
                <p:cNvPr id="70" name="b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14800" y="1600200"/>
                  <a:ext cx="3886200" cy="242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5791320" y="2514600"/>
                  <a:ext cx="380880" cy="1752480"/>
                </a:xfrm>
                <a:custGeom>
                  <a:avLst/>
                  <a:gdLst>
                    <a:gd name="textAreaLeft" fmla="*/ 243360 w 380880"/>
                    <a:gd name="textAreaRight" fmla="*/ 381240 w 380880"/>
                    <a:gd name="textAreaTop" fmla="*/ 45360 h 1752480"/>
                    <a:gd name="textAreaBottom" fmla="*/ 1707120 h 175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" name=""/>
            <p:cNvGrpSpPr/>
            <p:nvPr/>
          </p:nvGrpSpPr>
          <p:grpSpPr>
            <a:xfrm>
              <a:off x="990720" y="4495680"/>
              <a:ext cx="3200400" cy="992880"/>
              <a:chOff x="990720" y="4495680"/>
              <a:chExt cx="3200400" cy="992880"/>
            </a:xfrm>
          </p:grpSpPr>
          <p:sp>
            <p:nvSpPr>
              <p:cNvPr id="73" name=""/>
              <p:cNvSpPr/>
              <p:nvPr/>
            </p:nvSpPr>
            <p:spPr>
              <a:xfrm>
                <a:off x="990720" y="47242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(        )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有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24440" y="4952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48120" y="5028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24440" y="44956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572000" y="4343400"/>
              <a:ext cx="3276720" cy="1434960"/>
              <a:chOff x="4572000" y="4343400"/>
              <a:chExt cx="3276720" cy="1434960"/>
            </a:xfrm>
          </p:grpSpPr>
          <p:sp>
            <p:nvSpPr>
              <p:cNvPr id="78" name=""/>
              <p:cNvSpPr/>
              <p:nvPr/>
            </p:nvSpPr>
            <p:spPr>
              <a:xfrm>
                <a:off x="4572000" y="464796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(        )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有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8000" y="48765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434340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952880"/>
                <a:ext cx="838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1143000" y="4479840"/>
            <a:ext cx="762120" cy="1084680"/>
            <a:chOff x="1143000" y="4479840"/>
            <a:chExt cx="762120" cy="1084680"/>
          </a:xfrm>
        </p:grpSpPr>
        <p:sp>
          <p:nvSpPr>
            <p:cNvPr id="83" name=""/>
            <p:cNvSpPr/>
            <p:nvPr/>
          </p:nvSpPr>
          <p:spPr>
            <a:xfrm>
              <a:off x="1143000" y="4983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95640" y="4983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5640" y="4479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362320" y="46022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4952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724280" y="4403880"/>
            <a:ext cx="762120" cy="1084680"/>
            <a:chOff x="4724280" y="4403880"/>
            <a:chExt cx="762120" cy="1084680"/>
          </a:xfrm>
        </p:grpSpPr>
        <p:sp>
          <p:nvSpPr>
            <p:cNvPr id="89" name=""/>
            <p:cNvSpPr/>
            <p:nvPr/>
          </p:nvSpPr>
          <p:spPr>
            <a:xfrm>
              <a:off x="4724280" y="49071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6920" y="49071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6920" y="440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867280" y="4525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4983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00400" y="3048120"/>
            <a:ext cx="2523960" cy="1371600"/>
            <a:chOff x="3200400" y="3048120"/>
            <a:chExt cx="2523960" cy="1371600"/>
          </a:xfrm>
        </p:grpSpPr>
        <p:pic>
          <p:nvPicPr>
            <p:cNvPr id="95" name="cock" descr=""/>
            <p:cNvPicPr/>
            <p:nvPr/>
          </p:nvPicPr>
          <p:blipFill>
            <a:blip r:embed="rId4"/>
            <a:stretch/>
          </p:blipFill>
          <p:spPr>
            <a:xfrm>
              <a:off x="4495680" y="3048120"/>
              <a:ext cx="12286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00400" y="34293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00"/>
                  </a:solidFill>
                  <a:latin typeface="Times New Roman"/>
                </a:rPr>
                <a:t>good</a:t>
              </a:r>
              <a:r>
                <a:rPr b="0" lang="zh-CN" sz="3600" spc="-1" strike="noStrike">
                  <a:solidFill>
                    <a:srgbClr val="ff6600"/>
                  </a:solidFill>
                  <a:latin typeface="Times New Roman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4572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下面假分数化成整数或带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952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假分数怎样化成整数或带分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068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说一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19320" y="1143000"/>
            <a:ext cx="5790960" cy="2440440"/>
            <a:chOff x="1219320" y="1143000"/>
            <a:chExt cx="5790960" cy="2440440"/>
          </a:xfrm>
        </p:grpSpPr>
        <p:grpSp>
          <p:nvGrpSpPr>
            <p:cNvPr id="102" name=""/>
            <p:cNvGrpSpPr/>
            <p:nvPr/>
          </p:nvGrpSpPr>
          <p:grpSpPr>
            <a:xfrm>
              <a:off x="1219320" y="1143000"/>
              <a:ext cx="838080" cy="1068840"/>
              <a:chOff x="1219320" y="1143000"/>
              <a:chExt cx="838080" cy="1068840"/>
            </a:xfrm>
          </p:grpSpPr>
          <p:sp>
            <p:nvSpPr>
              <p:cNvPr id="103" name=""/>
              <p:cNvSpPr/>
              <p:nvPr/>
            </p:nvSpPr>
            <p:spPr>
              <a:xfrm>
                <a:off x="1312920" y="114300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12920" y="163044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19320" y="1676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57600" y="1143000"/>
              <a:ext cx="838080" cy="1145160"/>
              <a:chOff x="3657600" y="1143000"/>
              <a:chExt cx="838080" cy="1145160"/>
            </a:xfrm>
          </p:grpSpPr>
          <p:sp>
            <p:nvSpPr>
              <p:cNvPr id="107" name=""/>
              <p:cNvSpPr/>
              <p:nvPr/>
            </p:nvSpPr>
            <p:spPr>
              <a:xfrm>
                <a:off x="3657600" y="114300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51200" y="170676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57600" y="17067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172200" y="1143000"/>
              <a:ext cx="838080" cy="1145160"/>
              <a:chOff x="6172200" y="1143000"/>
              <a:chExt cx="838080" cy="1145160"/>
            </a:xfrm>
          </p:grpSpPr>
          <p:sp>
            <p:nvSpPr>
              <p:cNvPr id="111" name=""/>
              <p:cNvSpPr/>
              <p:nvPr/>
            </p:nvSpPr>
            <p:spPr>
              <a:xfrm>
                <a:off x="6172200" y="114300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65800" y="170676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72200" y="17067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219320" y="2438280"/>
              <a:ext cx="744480" cy="1144800"/>
              <a:chOff x="1219320" y="2438280"/>
              <a:chExt cx="744480" cy="1144800"/>
            </a:xfrm>
          </p:grpSpPr>
          <p:sp>
            <p:nvSpPr>
              <p:cNvPr id="115" name=""/>
              <p:cNvSpPr/>
              <p:nvPr/>
            </p:nvSpPr>
            <p:spPr>
              <a:xfrm>
                <a:off x="1219320" y="243828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19320" y="300168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19320" y="30016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733920" y="2438280"/>
              <a:ext cx="838080" cy="1145160"/>
              <a:chOff x="3733920" y="2438280"/>
              <a:chExt cx="838080" cy="11451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3920" y="243828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27520" y="300204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3920" y="30020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172200" y="2438280"/>
              <a:ext cx="838080" cy="1145160"/>
              <a:chOff x="6172200" y="2438280"/>
              <a:chExt cx="838080" cy="1145160"/>
            </a:xfrm>
          </p:grpSpPr>
          <p:sp>
            <p:nvSpPr>
              <p:cNvPr id="123" name=""/>
              <p:cNvSpPr/>
              <p:nvPr/>
            </p:nvSpPr>
            <p:spPr>
              <a:xfrm>
                <a:off x="6172200" y="243828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9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65800" y="300204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72200" y="30020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1828800" y="2697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697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800" y="1143000"/>
            <a:ext cx="1219320" cy="1038600"/>
            <a:chOff x="1828800" y="1143000"/>
            <a:chExt cx="1219320" cy="1038600"/>
          </a:xfrm>
        </p:grpSpPr>
        <p:sp>
          <p:nvSpPr>
            <p:cNvPr id="129" name=""/>
            <p:cNvSpPr/>
            <p:nvPr/>
          </p:nvSpPr>
          <p:spPr>
            <a:xfrm>
              <a:off x="1828800" y="13716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4600" y="1676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16002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14600" y="1143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91120" y="1173240"/>
            <a:ext cx="1218960" cy="1038240"/>
            <a:chOff x="4191120" y="1173240"/>
            <a:chExt cx="1218960" cy="1038240"/>
          </a:xfrm>
        </p:grpSpPr>
        <p:sp>
          <p:nvSpPr>
            <p:cNvPr id="134" name=""/>
            <p:cNvSpPr/>
            <p:nvPr/>
          </p:nvSpPr>
          <p:spPr>
            <a:xfrm>
              <a:off x="4191120" y="14014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560" y="17064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1630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76560" y="117324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781680" y="1173240"/>
            <a:ext cx="1295640" cy="1038600"/>
            <a:chOff x="6781680" y="1173240"/>
            <a:chExt cx="1295640" cy="1038600"/>
          </a:xfrm>
        </p:grpSpPr>
        <p:sp>
          <p:nvSpPr>
            <p:cNvPr id="139" name=""/>
            <p:cNvSpPr/>
            <p:nvPr/>
          </p:nvSpPr>
          <p:spPr>
            <a:xfrm>
              <a:off x="6781680" y="14018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43800" y="170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43800" y="16304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11732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858000" y="2438280"/>
            <a:ext cx="1294920" cy="1038600"/>
            <a:chOff x="6858000" y="2438280"/>
            <a:chExt cx="1294920" cy="1038600"/>
          </a:xfrm>
        </p:grpSpPr>
        <p:sp>
          <p:nvSpPr>
            <p:cNvPr id="144" name=""/>
            <p:cNvSpPr/>
            <p:nvPr/>
          </p:nvSpPr>
          <p:spPr>
            <a:xfrm>
              <a:off x="6858000" y="26668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19760" y="297144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19760" y="2895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9760" y="2438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010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5932440"/>
            <a:ext cx="12189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FR008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280" y="304920"/>
            <a:ext cx="18288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808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把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化成分母分别是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5  ……..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的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4724280"/>
          <a:ext cx="133992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724280"/>
                    <a:ext cx="1339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2120" y="3048120"/>
          <a:ext cx="1371600" cy="13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048120"/>
                    <a:ext cx="1371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85800" y="1371600"/>
          <a:ext cx="1523880" cy="14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1371600"/>
                    <a:ext cx="15238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81952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一个圆平均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一个圆平均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38862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一个圆平均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/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5410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还可以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       是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20120" y="1371600"/>
            <a:ext cx="761400" cy="1084680"/>
            <a:chOff x="7620120" y="1371600"/>
            <a:chExt cx="761400" cy="1084680"/>
          </a:xfrm>
        </p:grpSpPr>
        <p:sp>
          <p:nvSpPr>
            <p:cNvPr id="163" name=""/>
            <p:cNvSpPr/>
            <p:nvPr/>
          </p:nvSpPr>
          <p:spPr>
            <a:xfrm>
              <a:off x="7620120" y="1874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2400" y="187488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137160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620120" y="2514600"/>
            <a:ext cx="761400" cy="1084680"/>
            <a:chOff x="7620120" y="2514600"/>
            <a:chExt cx="761400" cy="1084680"/>
          </a:xfrm>
        </p:grpSpPr>
        <p:sp>
          <p:nvSpPr>
            <p:cNvPr id="167" name=""/>
            <p:cNvSpPr/>
            <p:nvPr/>
          </p:nvSpPr>
          <p:spPr>
            <a:xfrm>
              <a:off x="7620120" y="3017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72400" y="301788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72400" y="251460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543800" y="3581280"/>
            <a:ext cx="762120" cy="1084680"/>
            <a:chOff x="7543800" y="3581280"/>
            <a:chExt cx="762120" cy="1084680"/>
          </a:xfrm>
        </p:grpSpPr>
        <p:sp>
          <p:nvSpPr>
            <p:cNvPr id="171" name=""/>
            <p:cNvSpPr/>
            <p:nvPr/>
          </p:nvSpPr>
          <p:spPr>
            <a:xfrm>
              <a:off x="7543800" y="40845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96440" y="40845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644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91320" y="5165640"/>
            <a:ext cx="761400" cy="1084680"/>
            <a:chOff x="5791320" y="5165640"/>
            <a:chExt cx="761400" cy="1084680"/>
          </a:xfrm>
        </p:grpSpPr>
        <p:sp>
          <p:nvSpPr>
            <p:cNvPr id="175" name=""/>
            <p:cNvSpPr/>
            <p:nvPr/>
          </p:nvSpPr>
          <p:spPr>
            <a:xfrm>
              <a:off x="5791320" y="5668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43600" y="56689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51656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010280" y="5105520"/>
            <a:ext cx="762120" cy="962280"/>
            <a:chOff x="7010280" y="5105520"/>
            <a:chExt cx="762120" cy="962280"/>
          </a:xfrm>
        </p:grpSpPr>
        <p:sp>
          <p:nvSpPr>
            <p:cNvPr id="179" name=""/>
            <p:cNvSpPr/>
            <p:nvPr/>
          </p:nvSpPr>
          <p:spPr>
            <a:xfrm>
              <a:off x="7162920" y="5486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2920" y="5105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10280" y="5638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457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Times New Roman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21337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化成分子分母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外）相同的假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ff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838080"/>
            <a:ext cx="5486400" cy="1084680"/>
            <a:chOff x="1600200" y="838080"/>
            <a:chExt cx="5486400" cy="1084680"/>
          </a:xfrm>
        </p:grpSpPr>
        <p:sp>
          <p:nvSpPr>
            <p:cNvPr id="186" name=""/>
            <p:cNvSpPr/>
            <p:nvPr/>
          </p:nvSpPr>
          <p:spPr>
            <a:xfrm>
              <a:off x="1600200" y="106668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00"/>
                  </a:solidFill>
                  <a:latin typeface="Times New Roman"/>
                </a:rPr>
                <a:t>1=       =        =        =       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209680" y="838080"/>
              <a:ext cx="762120" cy="1084680"/>
              <a:chOff x="2209680" y="838080"/>
              <a:chExt cx="762120" cy="1084680"/>
            </a:xfrm>
          </p:grpSpPr>
          <p:sp>
            <p:nvSpPr>
              <p:cNvPr id="188" name=""/>
              <p:cNvSpPr/>
              <p:nvPr/>
            </p:nvSpPr>
            <p:spPr>
              <a:xfrm>
                <a:off x="2209680" y="13413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2320" y="134136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62320" y="838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200400" y="838080"/>
              <a:ext cx="762120" cy="1084680"/>
              <a:chOff x="3200400" y="838080"/>
              <a:chExt cx="762120" cy="1084680"/>
            </a:xfrm>
          </p:grpSpPr>
          <p:sp>
            <p:nvSpPr>
              <p:cNvPr id="192" name=""/>
              <p:cNvSpPr/>
              <p:nvPr/>
            </p:nvSpPr>
            <p:spPr>
              <a:xfrm>
                <a:off x="3200400" y="13413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53040" y="134136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53040" y="838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267080" y="838080"/>
              <a:ext cx="762120" cy="1084680"/>
              <a:chOff x="4267080" y="838080"/>
              <a:chExt cx="762120" cy="1084680"/>
            </a:xfrm>
          </p:grpSpPr>
          <p:sp>
            <p:nvSpPr>
              <p:cNvPr id="196" name=""/>
              <p:cNvSpPr/>
              <p:nvPr/>
            </p:nvSpPr>
            <p:spPr>
              <a:xfrm>
                <a:off x="4267080" y="13413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419720" y="134136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19720" y="838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257800" y="838080"/>
              <a:ext cx="762120" cy="1084680"/>
              <a:chOff x="5257800" y="838080"/>
              <a:chExt cx="762120" cy="1084680"/>
            </a:xfrm>
          </p:grpSpPr>
          <p:sp>
            <p:nvSpPr>
              <p:cNvPr id="200" name=""/>
              <p:cNvSpPr/>
              <p:nvPr/>
            </p:nvSpPr>
            <p:spPr>
              <a:xfrm>
                <a:off x="5257800" y="13413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10440" y="134136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10440" y="838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324480" y="838080"/>
              <a:ext cx="762120" cy="1084680"/>
              <a:chOff x="6324480" y="838080"/>
              <a:chExt cx="762120" cy="1084680"/>
            </a:xfrm>
          </p:grpSpPr>
          <p:sp>
            <p:nvSpPr>
              <p:cNvPr id="204" name=""/>
              <p:cNvSpPr/>
              <p:nvPr/>
            </p:nvSpPr>
            <p:spPr>
              <a:xfrm>
                <a:off x="6324480" y="13413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77120" y="134136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77120" y="838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66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1523880" y="3336840"/>
            <a:ext cx="6705720" cy="1648440"/>
            <a:chOff x="1523880" y="3336840"/>
            <a:chExt cx="6705720" cy="1648440"/>
          </a:xfrm>
        </p:grpSpPr>
        <p:sp>
          <p:nvSpPr>
            <p:cNvPr id="208" name=""/>
            <p:cNvSpPr/>
            <p:nvPr/>
          </p:nvSpPr>
          <p:spPr>
            <a:xfrm>
              <a:off x="1523880" y="3641760"/>
              <a:ext cx="67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00"/>
                  </a:solidFill>
                  <a:latin typeface="Times New Roman"/>
                </a:rPr>
                <a:t>1=       =        =        =            (m = 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33720" y="3916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9164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7400" y="3336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080" y="39164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8120" y="3916440"/>
              <a:ext cx="838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0400" y="34131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91120" y="3916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67080" y="39164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3336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1480" y="39164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870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6600"/>
                  </a:solidFill>
                  <a:latin typeface="Times New Roman"/>
                  <a:ea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5520" y="3336840"/>
              <a:ext cx="838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6600"/>
                  </a:solidFill>
                  <a:latin typeface="Times New Roman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34320" y="3794040"/>
              <a:ext cx="152280" cy="304920"/>
            </a:xfrm>
            <a:prstGeom prst="line">
              <a:avLst/>
            </a:prstGeom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0" y="3382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3962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33526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66680" y="4938840"/>
            <a:ext cx="6858000" cy="1169280"/>
            <a:chOff x="1066680" y="4938840"/>
            <a:chExt cx="6858000" cy="1169280"/>
          </a:xfrm>
        </p:grpSpPr>
        <p:sp>
          <p:nvSpPr>
            <p:cNvPr id="227" name=""/>
            <p:cNvSpPr/>
            <p:nvPr/>
          </p:nvSpPr>
          <p:spPr>
            <a:xfrm>
              <a:off x="1066680" y="4938840"/>
              <a:ext cx="6858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想一想：其它整数能不能化成分母是任意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自燃数的假分数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" name="0007" descr=""/>
            <p:cNvPicPr/>
            <p:nvPr/>
          </p:nvPicPr>
          <p:blipFill>
            <a:blip r:embed="rId2"/>
            <a:stretch/>
          </p:blipFill>
          <p:spPr>
            <a:xfrm>
              <a:off x="1371600" y="54100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304920"/>
            <a:ext cx="190476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别化成分母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假分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042920" y="3429000"/>
            <a:ext cx="3095640" cy="1168200"/>
            <a:chOff x="1042920" y="3429000"/>
            <a:chExt cx="3095640" cy="1168200"/>
          </a:xfrm>
        </p:grpSpPr>
        <p:sp>
          <p:nvSpPr>
            <p:cNvPr id="232" name=""/>
            <p:cNvSpPr/>
            <p:nvPr/>
          </p:nvSpPr>
          <p:spPr>
            <a:xfrm>
              <a:off x="1546200" y="3429000"/>
              <a:ext cx="129708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42920" y="3789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        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19280" y="4005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90560" y="400536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46200" y="350028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74920" y="4076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19640" y="4076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17840" y="35575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00720" y="3505320"/>
            <a:ext cx="3313080" cy="1023840"/>
            <a:chOff x="4500720" y="3505320"/>
            <a:chExt cx="3313080" cy="1023840"/>
          </a:xfrm>
        </p:grpSpPr>
        <p:sp>
          <p:nvSpPr>
            <p:cNvPr id="241" name=""/>
            <p:cNvSpPr/>
            <p:nvPr/>
          </p:nvSpPr>
          <p:spPr>
            <a:xfrm>
              <a:off x="4500720" y="3792960"/>
              <a:ext cx="26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 =             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49800" y="40086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37080" y="40086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49800" y="350532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61080" y="40086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5800" y="40086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32720" y="350532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73280" y="4952880"/>
            <a:ext cx="74563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小结：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整数（除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外）可以化成分母是任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自然数的假分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447920" y="1357200"/>
            <a:ext cx="6933960" cy="1874160"/>
            <a:chOff x="1447920" y="1357200"/>
            <a:chExt cx="6933960" cy="1874160"/>
          </a:xfrm>
        </p:grpSpPr>
        <p:grpSp>
          <p:nvGrpSpPr>
            <p:cNvPr id="250" name=""/>
            <p:cNvGrpSpPr/>
            <p:nvPr/>
          </p:nvGrpSpPr>
          <p:grpSpPr>
            <a:xfrm>
              <a:off x="1447920" y="2543040"/>
              <a:ext cx="6933960" cy="688320"/>
              <a:chOff x="1447920" y="2543040"/>
              <a:chExt cx="6933960" cy="688320"/>
            </a:xfrm>
          </p:grpSpPr>
          <p:sp>
            <p:nvSpPr>
              <p:cNvPr id="251" name=""/>
              <p:cNvSpPr/>
              <p:nvPr/>
            </p:nvSpPr>
            <p:spPr>
              <a:xfrm>
                <a:off x="1447920" y="2619360"/>
                <a:ext cx="693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59984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1916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3848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8148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0044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90560" y="27716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962160" y="27716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05160" y="27716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48160" y="277164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391160" y="2771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8108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3828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0004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5724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1936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024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3868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1956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8168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6256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67480" y="2543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86600" y="1371600"/>
              <a:ext cx="1295280" cy="1015920"/>
              <a:chOff x="7086600" y="1371600"/>
              <a:chExt cx="1295280" cy="1015920"/>
            </a:xfrm>
          </p:grpSpPr>
          <p:sp>
            <p:nvSpPr>
              <p:cNvPr id="274" name=""/>
              <p:cNvSpPr/>
              <p:nvPr/>
            </p:nvSpPr>
            <p:spPr>
              <a:xfrm>
                <a:off x="7162560" y="191916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80200" y="1914480"/>
                <a:ext cx="647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86600" y="1371600"/>
                <a:ext cx="12952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657600" y="1357200"/>
              <a:ext cx="1295280" cy="1015920"/>
              <a:chOff x="3657600" y="1357200"/>
              <a:chExt cx="1295280" cy="1015920"/>
            </a:xfrm>
          </p:grpSpPr>
          <p:sp>
            <p:nvSpPr>
              <p:cNvPr id="278" name=""/>
              <p:cNvSpPr/>
              <p:nvPr/>
            </p:nvSpPr>
            <p:spPr>
              <a:xfrm>
                <a:off x="3733560" y="190476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51200" y="1900080"/>
                <a:ext cx="647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57600" y="1357200"/>
                <a:ext cx="12952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800600" y="1357200"/>
              <a:ext cx="1295280" cy="1015920"/>
              <a:chOff x="4800600" y="1357200"/>
              <a:chExt cx="1295280" cy="1015920"/>
            </a:xfrm>
          </p:grpSpPr>
          <p:sp>
            <p:nvSpPr>
              <p:cNvPr id="282" name=""/>
              <p:cNvSpPr/>
              <p:nvPr/>
            </p:nvSpPr>
            <p:spPr>
              <a:xfrm>
                <a:off x="4876560" y="190476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94200" y="1900080"/>
                <a:ext cx="647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00600" y="1357200"/>
                <a:ext cx="12952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43600" y="1357200"/>
              <a:ext cx="1295280" cy="1015920"/>
              <a:chOff x="5943600" y="1357200"/>
              <a:chExt cx="1295280" cy="1015920"/>
            </a:xfrm>
          </p:grpSpPr>
          <p:sp>
            <p:nvSpPr>
              <p:cNvPr id="286" name=""/>
              <p:cNvSpPr/>
              <p:nvPr/>
            </p:nvSpPr>
            <p:spPr>
              <a:xfrm>
                <a:off x="6019560" y="190476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37200" y="1900080"/>
                <a:ext cx="647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943600" y="1357200"/>
                <a:ext cx="12952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362320" y="1371600"/>
              <a:ext cx="1295280" cy="1015920"/>
              <a:chOff x="2362320" y="1371600"/>
              <a:chExt cx="1295280" cy="1015920"/>
            </a:xfrm>
          </p:grpSpPr>
          <p:sp>
            <p:nvSpPr>
              <p:cNvPr id="290" name=""/>
              <p:cNvSpPr/>
              <p:nvPr/>
            </p:nvSpPr>
            <p:spPr>
              <a:xfrm>
                <a:off x="2438280" y="191916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55920" y="1914480"/>
                <a:ext cx="647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62320" y="1371600"/>
                <a:ext cx="12952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2590920" y="1325520"/>
            <a:ext cx="457200" cy="1161000"/>
            <a:chOff x="2590920" y="1325520"/>
            <a:chExt cx="457200" cy="1161000"/>
          </a:xfrm>
        </p:grpSpPr>
        <p:sp>
          <p:nvSpPr>
            <p:cNvPr id="294" name=""/>
            <p:cNvSpPr/>
            <p:nvPr/>
          </p:nvSpPr>
          <p:spPr>
            <a:xfrm>
              <a:off x="2590920" y="1325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90920" y="1905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1279440"/>
            <a:ext cx="457200" cy="1161000"/>
            <a:chOff x="3886200" y="1279440"/>
            <a:chExt cx="457200" cy="1161000"/>
          </a:xfrm>
        </p:grpSpPr>
        <p:sp>
          <p:nvSpPr>
            <p:cNvPr id="297" name=""/>
            <p:cNvSpPr/>
            <p:nvPr/>
          </p:nvSpPr>
          <p:spPr>
            <a:xfrm>
              <a:off x="3886200" y="127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6200" y="1859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1295280"/>
            <a:ext cx="457200" cy="1161000"/>
            <a:chOff x="5029200" y="1295280"/>
            <a:chExt cx="457200" cy="1161000"/>
          </a:xfrm>
        </p:grpSpPr>
        <p:sp>
          <p:nvSpPr>
            <p:cNvPr id="300" name=""/>
            <p:cNvSpPr/>
            <p:nvPr/>
          </p:nvSpPr>
          <p:spPr>
            <a:xfrm>
              <a:off x="502920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1874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095880" y="1295280"/>
            <a:ext cx="685800" cy="1161000"/>
            <a:chOff x="6095880" y="1295280"/>
            <a:chExt cx="685800" cy="1161000"/>
          </a:xfrm>
        </p:grpSpPr>
        <p:sp>
          <p:nvSpPr>
            <p:cNvPr id="303" name=""/>
            <p:cNvSpPr/>
            <p:nvPr/>
          </p:nvSpPr>
          <p:spPr>
            <a:xfrm>
              <a:off x="6095880" y="1295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72200" y="1874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38880" y="1295280"/>
            <a:ext cx="685800" cy="1161000"/>
            <a:chOff x="7238880" y="1295280"/>
            <a:chExt cx="685800" cy="1161000"/>
          </a:xfrm>
        </p:grpSpPr>
        <p:sp>
          <p:nvSpPr>
            <p:cNvPr id="306" name=""/>
            <p:cNvSpPr/>
            <p:nvPr/>
          </p:nvSpPr>
          <p:spPr>
            <a:xfrm>
              <a:off x="7238880" y="1295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15200" y="1874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11280" y="5335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整数化成假分数的法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03280" y="15238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6600"/>
                </a:solidFill>
                <a:latin typeface="Times New Roman"/>
              </a:rPr>
              <a:t>把整数化成假分数，用指定的分母作分母，分母和整数的乘积作分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360" y="29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11280" y="4038480"/>
            <a:ext cx="4319640" cy="1133280"/>
            <a:chOff x="611280" y="4038480"/>
            <a:chExt cx="4319640" cy="1133280"/>
          </a:xfrm>
        </p:grpSpPr>
        <p:sp>
          <p:nvSpPr>
            <p:cNvPr id="312" name=""/>
            <p:cNvSpPr/>
            <p:nvPr/>
          </p:nvSpPr>
          <p:spPr>
            <a:xfrm>
              <a:off x="1187280" y="4038480"/>
              <a:ext cx="37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     ）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11280" y="4363920"/>
              <a:ext cx="3456000" cy="807840"/>
              <a:chOff x="611280" y="4363920"/>
              <a:chExt cx="3456000" cy="807840"/>
            </a:xfrm>
          </p:grpSpPr>
          <p:sp>
            <p:nvSpPr>
              <p:cNvPr id="314" name=""/>
              <p:cNvSpPr/>
              <p:nvPr/>
            </p:nvSpPr>
            <p:spPr>
              <a:xfrm>
                <a:off x="611280" y="4363920"/>
                <a:ext cx="25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7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32000" y="450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87280" y="4665600"/>
                <a:ext cx="28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84360" y="4651200"/>
                <a:ext cx="107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4716360" y="4138560"/>
            <a:ext cx="3960720" cy="1120680"/>
            <a:chOff x="4716360" y="4138560"/>
            <a:chExt cx="3960720" cy="1120680"/>
          </a:xfrm>
        </p:grpSpPr>
        <p:sp>
          <p:nvSpPr>
            <p:cNvPr id="319" name=""/>
            <p:cNvSpPr/>
            <p:nvPr/>
          </p:nvSpPr>
          <p:spPr>
            <a:xfrm>
              <a:off x="4716360" y="4380120"/>
              <a:ext cx="388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81440" y="46674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08720" y="4138560"/>
              <a:ext cx="31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62520" y="4738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676520" y="39765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33880" y="40622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41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81880" y="4149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52360" y="333360"/>
            <a:ext cx="201600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059280" y="160200"/>
            <a:ext cx="5041800" cy="1182960"/>
            <a:chOff x="3059280" y="160200"/>
            <a:chExt cx="5041800" cy="1182960"/>
          </a:xfrm>
        </p:grpSpPr>
        <p:sp>
          <p:nvSpPr>
            <p:cNvPr id="329" name=""/>
            <p:cNvSpPr/>
            <p:nvPr/>
          </p:nvSpPr>
          <p:spPr>
            <a:xfrm>
              <a:off x="3059280" y="474480"/>
              <a:ext cx="50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把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化成假分数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24360" y="6901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22560" y="76176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2584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22560" y="16020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84360" y="1523880"/>
            <a:ext cx="7848360" cy="3255840"/>
            <a:chOff x="684360" y="1523880"/>
            <a:chExt cx="7848360" cy="3255840"/>
          </a:xfrm>
        </p:grpSpPr>
        <p:sp>
          <p:nvSpPr>
            <p:cNvPr id="335" name=""/>
            <p:cNvSpPr/>
            <p:nvPr/>
          </p:nvSpPr>
          <p:spPr>
            <a:xfrm>
              <a:off x="684360" y="152388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这个分数是由哪两部分和成的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5640" y="2133720"/>
              <a:ext cx="77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怎样把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化成分母是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假分数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5640" y="2743200"/>
              <a:ext cx="71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真分数部分是多少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6920" y="3352680"/>
              <a:ext cx="72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合在一起是多少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55640" y="3657600"/>
              <a:ext cx="6408720" cy="1122120"/>
              <a:chOff x="755640" y="3657600"/>
              <a:chExt cx="6408720" cy="1122120"/>
            </a:xfrm>
          </p:grpSpPr>
          <p:sp>
            <p:nvSpPr>
              <p:cNvPr id="340" name=""/>
              <p:cNvSpPr/>
              <p:nvPr/>
            </p:nvSpPr>
            <p:spPr>
              <a:xfrm>
                <a:off x="755640" y="3962160"/>
                <a:ext cx="64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）这个分数怎样化成          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4648320" y="3657600"/>
                <a:ext cx="1078920" cy="1122120"/>
                <a:chOff x="4648320" y="3657600"/>
                <a:chExt cx="1078920" cy="1122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648320" y="4186440"/>
                  <a:ext cx="64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19240" y="365760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63960" y="4259160"/>
                  <a:ext cx="863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5" name=""/>
          <p:cNvGrpSpPr/>
          <p:nvPr/>
        </p:nvGrpSpPr>
        <p:grpSpPr>
          <a:xfrm>
            <a:off x="1187280" y="4925880"/>
            <a:ext cx="1368720" cy="1302120"/>
            <a:chOff x="1187280" y="4925880"/>
            <a:chExt cx="1368720" cy="1302120"/>
          </a:xfrm>
        </p:grpSpPr>
        <p:grpSp>
          <p:nvGrpSpPr>
            <p:cNvPr id="346" name=""/>
            <p:cNvGrpSpPr/>
            <p:nvPr/>
          </p:nvGrpSpPr>
          <p:grpSpPr>
            <a:xfrm>
              <a:off x="1187280" y="5286240"/>
              <a:ext cx="1368720" cy="941760"/>
              <a:chOff x="1187280" y="5286240"/>
              <a:chExt cx="1368720" cy="941760"/>
            </a:xfrm>
          </p:grpSpPr>
          <p:sp>
            <p:nvSpPr>
              <p:cNvPr id="347" name=""/>
              <p:cNvSpPr/>
              <p:nvPr/>
            </p:nvSpPr>
            <p:spPr>
              <a:xfrm>
                <a:off x="1187280" y="5286240"/>
                <a:ext cx="1152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7640" y="550188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19280" y="564660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19280" y="492588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209680" y="4952880"/>
            <a:ext cx="3457800" cy="1157760"/>
            <a:chOff x="2209680" y="4952880"/>
            <a:chExt cx="3457800" cy="1157760"/>
          </a:xfrm>
        </p:grpSpPr>
        <p:sp>
          <p:nvSpPr>
            <p:cNvPr id="352" name=""/>
            <p:cNvSpPr/>
            <p:nvPr/>
          </p:nvSpPr>
          <p:spPr>
            <a:xfrm>
              <a:off x="2209680" y="5241960"/>
              <a:ext cx="34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                     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716200" y="4952880"/>
              <a:ext cx="2519280" cy="1157760"/>
              <a:chOff x="2716200" y="4952880"/>
              <a:chExt cx="2519280" cy="1157760"/>
            </a:xfrm>
          </p:grpSpPr>
          <p:sp>
            <p:nvSpPr>
              <p:cNvPr id="354" name=""/>
              <p:cNvSpPr/>
              <p:nvPr/>
            </p:nvSpPr>
            <p:spPr>
              <a:xfrm>
                <a:off x="2716200" y="552924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16200" y="4952880"/>
                <a:ext cx="25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5</a:t>
                </a:r>
                <a:r>
                  <a:rPr b="1" lang="en-US" sz="3200" spc="-1" strike="noStrike">
                    <a:solidFill>
                      <a:srgbClr val="ff6600"/>
                    </a:solidFill>
                    <a:latin typeface="Times New Roman"/>
                    <a:ea typeface="Times New Roman"/>
                  </a:rPr>
                  <a:t>×2 + 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92560" y="5529240"/>
                <a:ext cx="143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5005440" y="4971960"/>
            <a:ext cx="1078920" cy="1182960"/>
            <a:chOff x="5005440" y="4971960"/>
            <a:chExt cx="1078920" cy="1182960"/>
          </a:xfrm>
        </p:grpSpPr>
        <p:sp>
          <p:nvSpPr>
            <p:cNvPr id="358" name=""/>
            <p:cNvSpPr/>
            <p:nvPr/>
          </p:nvSpPr>
          <p:spPr>
            <a:xfrm>
              <a:off x="5005440" y="550080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76360" y="4971960"/>
              <a:ext cx="72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21080" y="5573520"/>
              <a:ext cx="86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6:02:10Z</dcterms:created>
  <dc:creator/>
  <dc:description/>
  <dc:language>en-US</dc:language>
  <cp:lastModifiedBy>gongyanling</cp:lastModifiedBy>
  <dcterms:modified xsi:type="dcterms:W3CDTF">2005-04-26T02:10:46Z</dcterms:modified>
  <cp:revision>20</cp:revision>
  <dc:subject/>
  <dc:title/>
</cp:coreProperties>
</file>