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1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3.wav" ContentType="audio/x-wav"/>
  <Override PartName="/ppt/media/image7.png" ContentType="image/png"/>
  <Override PartName="/ppt/media/image11.wmf" ContentType="image/x-wmf"/>
  <Override PartName="/ppt/media/image6.png" ContentType="image/png"/>
  <Override PartName="/ppt/media/image10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635-AF37-437A-9919-6D08FB3A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0D2-166D-4B04-9684-9F31C1D8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306-B118-4275-A3AA-F9030AD4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F13-789C-495C-A347-76B84861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ACA-A152-487B-A32A-C544390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C7B-4442-4EF8-8AAE-B983C63A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D7F-7601-4BA3-91A0-5CC6400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DA5-64F1-4D51-83F5-32ECDB8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DB9-779F-4C5C-B2CC-E123D895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2C6-C183-49D1-B39C-8748E42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0DF-4BC1-4294-B988-1EC0A31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36B-0311-4197-88C0-7DBDFA4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801B-A123-4A07-A251-956EDB3F5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audio" Target="../media/3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65320" y="2128680"/>
            <a:ext cx="6912000" cy="168120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把整数、带分数化成假分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811520"/>
            <a:ext cx="712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=       =                         5=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=       =                         1=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=       =                 3=       =                  3=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1676520"/>
                <a:ext cx="507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708200" y="3530520"/>
                <a:ext cx="520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32280" y="2603520"/>
                <a:ext cx="49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591240" y="3530520"/>
                <a:ext cx="520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81520" y="1714680"/>
                <a:ext cx="49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108320" y="3530520"/>
                <a:ext cx="520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39880" y="2629080"/>
                <a:ext cx="507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438280" y="1676520"/>
                <a:ext cx="19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438280" y="2629080"/>
                <a:ext cx="19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524560" y="1727280"/>
                <a:ext cx="19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24560" y="2590920"/>
                <a:ext cx="19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432160" y="3517920"/>
                <a:ext cx="304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851360" y="3543480"/>
                <a:ext cx="30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232760" y="3543480"/>
                <a:ext cx="317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4360" y="92592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讲解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化成假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348000" y="836640"/>
                <a:ext cx="190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42960" y="2084400"/>
            <a:ext cx="6737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提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本题中首先要明确它的分数单位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怎样才能正确求出他含有多少个这样的分数单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指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分数的分子表示有多少个这样的分数单位。这道题     是把带分数化成假分数，关键一步是要求出共有多少个这样的分数单位，也就求出了分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分数中分母表示把单位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均分的份数。分的份数没变，所以分母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600408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结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把带分数化成假分数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70320" y="508464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解答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440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2917800" y="2381400"/>
            <a:ext cx="2158920" cy="615960"/>
            <a:chOff x="2917800" y="2381400"/>
            <a:chExt cx="2158920" cy="61596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3636720" y="2392560"/>
                  <a:ext cx="8636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789440" y="2381400"/>
                  <a:ext cx="2872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4500360" y="2525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2525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917800" y="2381400"/>
              <a:ext cx="477720" cy="603360"/>
              <a:chOff x="2917800" y="2381400"/>
              <a:chExt cx="477720" cy="603360"/>
            </a:xfrm>
          </p:grpSpPr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3205080" y="2381400"/>
                    <a:ext cx="19044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3" name=""/>
              <p:cNvSpPr/>
              <p:nvPr/>
            </p:nvSpPr>
            <p:spPr>
              <a:xfrm>
                <a:off x="2917800" y="25257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873080" y="3497400"/>
            <a:ext cx="5759640" cy="1012320"/>
            <a:chOff x="1873080" y="3497400"/>
            <a:chExt cx="5759640" cy="1012320"/>
          </a:xfrm>
        </p:grpSpPr>
        <p:sp>
          <p:nvSpPr>
            <p:cNvPr id="275" name=""/>
            <p:cNvSpPr/>
            <p:nvPr/>
          </p:nvSpPr>
          <p:spPr>
            <a:xfrm>
              <a:off x="1886040" y="3599640"/>
              <a:ext cx="193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里面有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×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）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37640" y="3642480"/>
              <a:ext cx="11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再加上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4960" y="3626640"/>
              <a:ext cx="96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一共是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73080" y="411084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所以分子是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4 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。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7451640" y="3527640"/>
                  <a:ext cx="181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5651640" y="3527640"/>
                  <a:ext cx="182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995640" y="3497400"/>
                  <a:ext cx="182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63640" y="549360"/>
            <a:ext cx="4608720" cy="1439640"/>
            <a:chOff x="1763640" y="549360"/>
            <a:chExt cx="4608720" cy="1439640"/>
          </a:xfrm>
        </p:grpSpPr>
        <p:sp>
          <p:nvSpPr>
            <p:cNvPr id="284" name=""/>
            <p:cNvSpPr/>
            <p:nvPr/>
          </p:nvSpPr>
          <p:spPr>
            <a:xfrm>
              <a:off x="1763640" y="549360"/>
              <a:ext cx="647640" cy="647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84360" y="549360"/>
              <a:ext cx="649440" cy="677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4284720" y="620640"/>
            <a:ext cx="647640" cy="6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84720" y="620640"/>
                      <a:ext cx="64764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5005440" y="620640"/>
            <a:ext cx="647640" cy="642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05440" y="620640"/>
                      <a:ext cx="64764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5727600" y="620640"/>
            <a:ext cx="6447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27600" y="620640"/>
                      <a:ext cx="6447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"/>
            <p:cNvGraphicFramePr/>
            <p:nvPr/>
          </p:nvGraphicFramePr>
          <p:xfrm>
            <a:off x="3197160" y="581040"/>
            <a:ext cx="644760" cy="647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97160" y="581040"/>
                      <a:ext cx="6447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 rot="16206600">
              <a:off x="2712960" y="394560"/>
              <a:ext cx="74520" cy="18273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47520 h 1827360"/>
                <a:gd name="textAreaBottom" fmla="*/ 1779840 h 18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16206600">
              <a:off x="5303520" y="394920"/>
              <a:ext cx="74520" cy="182700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47520 h 1827000"/>
                <a:gd name="textAreaBottom" fmla="*/ 1779480 h 18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556000" y="1384200"/>
              <a:ext cx="406440" cy="604800"/>
              <a:chOff x="2556000" y="1384200"/>
              <a:chExt cx="406440" cy="604800"/>
            </a:xfrm>
          </p:grpSpPr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2771640" y="1384200"/>
                    <a:ext cx="190800" cy="60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>
                <a:off x="2556000" y="15505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5168880" y="1384200"/>
                  <a:ext cx="2919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3882960" y="6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68360" y="29880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把带分数化成假分数的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用原来的分母作分母，用分母和整数的乘积再加上原来的分子作分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你学会了，请你试一试。把下面的带分数化成假分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6440" y="4804560"/>
            <a:ext cx="43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05-106 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268360" y="2060640"/>
            <a:ext cx="2030400" cy="2865240"/>
            <a:chOff x="2268360" y="2060640"/>
            <a:chExt cx="2030400" cy="2865240"/>
          </a:xfrm>
        </p:grpSpPr>
        <p:sp>
          <p:nvSpPr>
            <p:cNvPr id="304" name=""/>
            <p:cNvSpPr/>
            <p:nvPr/>
          </p:nvSpPr>
          <p:spPr>
            <a:xfrm>
              <a:off x="2269800" y="3307320"/>
              <a:ext cx="241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519280" y="2060640"/>
                  <a:ext cx="182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2630160" y="2204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950920" y="2157480"/>
            <a:ext cx="762120" cy="466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50920" y="2157480"/>
                      <a:ext cx="762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3771720" y="2203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4039920" y="2183040"/>
            <a:ext cx="258840" cy="41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9920" y="2183040"/>
                      <a:ext cx="2588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2268360" y="2623320"/>
              <a:ext cx="3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2485800" y="2973600"/>
                  <a:ext cx="1904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"/>
            <p:cNvSpPr/>
            <p:nvPr/>
          </p:nvSpPr>
          <p:spPr>
            <a:xfrm>
              <a:off x="2630160" y="3138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"/>
            <p:cNvGraphicFramePr/>
            <p:nvPr/>
          </p:nvGraphicFramePr>
          <p:xfrm>
            <a:off x="2904840" y="3100320"/>
            <a:ext cx="258840" cy="41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04840" y="3100320"/>
                      <a:ext cx="25884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511360" y="3951360"/>
                  <a:ext cx="1904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630160" y="4125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9" name=""/>
            <p:cNvGraphicFramePr/>
            <p:nvPr/>
          </p:nvGraphicFramePr>
          <p:xfrm>
            <a:off x="2863800" y="4076640"/>
            <a:ext cx="260280" cy="416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63800" y="4076640"/>
                      <a:ext cx="26028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2268360" y="21830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>
            <a:hlinkClick r:id="" action="ppaction://hlinkshowjump?jump=endshow"/>
          </p:cNvPr>
          <p:cNvSpPr/>
          <p:nvPr/>
        </p:nvSpPr>
        <p:spPr>
          <a:xfrm>
            <a:off x="8077320" y="59436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6002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答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68360" y="3258000"/>
            <a:ext cx="24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517840" y="2011320"/>
                <a:ext cx="182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2628720" y="21553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882880" y="2014560"/>
                <a:ext cx="1231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046400" y="2153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294080" y="2039760"/>
                <a:ext cx="5065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266920" y="257400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484360" y="2924280"/>
                <a:ext cx="190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628720" y="30888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895480" y="2957400"/>
                <a:ext cx="492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09920" y="3902040"/>
                <a:ext cx="190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628720" y="4076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847960" y="3933720"/>
                <a:ext cx="50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66920" y="21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206720"/>
            <a:ext cx="79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目的： 通过本节课的学习，学会把整数、带分数化成假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教学内容： 书上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P103-104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整数、带分数化成假分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这一课，要明确分母分子表示的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在分数里，表示把单位“</a:t>
            </a:r>
            <a:r>
              <a:rPr b="1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1”</a:t>
            </a:r>
            <a:r>
              <a:rPr b="1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平均分成多少份的数，叫做分数的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母，表示有这样的多少份的数，叫做分数的分子，表示其中一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的数，叫做分数单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966960" y="3940200"/>
            <a:ext cx="2385720" cy="936360"/>
            <a:chOff x="966960" y="3940200"/>
            <a:chExt cx="2385720" cy="936360"/>
          </a:xfrm>
        </p:grpSpPr>
        <p:graphicFrame>
          <p:nvGraphicFramePr>
            <p:cNvPr id="45" name=""/>
            <p:cNvGraphicFramePr/>
            <p:nvPr/>
          </p:nvGraphicFramePr>
          <p:xfrm>
            <a:off x="966960" y="3948120"/>
            <a:ext cx="934920" cy="92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66960" y="3948120"/>
                      <a:ext cx="934920" cy="92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2416320" y="3940200"/>
              <a:ext cx="936360" cy="936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59480" y="1644480"/>
            <a:ext cx="2365200" cy="946080"/>
            <a:chOff x="5559480" y="1644480"/>
            <a:chExt cx="2365200" cy="946080"/>
          </a:xfrm>
        </p:grpSpPr>
        <p:graphicFrame>
          <p:nvGraphicFramePr>
            <p:cNvPr id="49" name=""/>
            <p:cNvGraphicFramePr/>
            <p:nvPr/>
          </p:nvGraphicFramePr>
          <p:xfrm>
            <a:off x="5559480" y="1655640"/>
            <a:ext cx="930240" cy="93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59480" y="1655640"/>
                      <a:ext cx="93024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6987960" y="1644480"/>
              <a:ext cx="93672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84240" y="1644480"/>
            <a:ext cx="2368440" cy="946080"/>
            <a:chOff x="984240" y="1644480"/>
            <a:chExt cx="2368440" cy="946080"/>
          </a:xfrm>
        </p:grpSpPr>
        <p:grpSp>
          <p:nvGrpSpPr>
            <p:cNvPr id="53" name=""/>
            <p:cNvGrpSpPr/>
            <p:nvPr/>
          </p:nvGrpSpPr>
          <p:grpSpPr>
            <a:xfrm>
              <a:off x="984240" y="1653840"/>
              <a:ext cx="936360" cy="936720"/>
              <a:chOff x="984240" y="1653840"/>
              <a:chExt cx="936360" cy="936720"/>
            </a:xfrm>
          </p:grpSpPr>
          <p:sp>
            <p:nvSpPr>
              <p:cNvPr id="54" name=""/>
              <p:cNvSpPr/>
              <p:nvPr/>
            </p:nvSpPr>
            <p:spPr>
              <a:xfrm>
                <a:off x="984240" y="1653840"/>
                <a:ext cx="936360" cy="9367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58720" y="16538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416320" y="1644480"/>
              <a:ext cx="93636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2666880"/>
                <a:ext cx="147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4952880"/>
                <a:ext cx="138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43600" y="2666880"/>
                <a:ext cx="147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743200" y="50292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7432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666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3352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学习过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一、看图说一说你的想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506920" y="3933720"/>
          <a:ext cx="10033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6920" y="3933720"/>
                    <a:ext cx="1003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948360" y="3933720"/>
            <a:ext cx="100836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419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5084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016680" y="5013360"/>
                <a:ext cx="136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905120" y="261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3032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5156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770440" y="1455840"/>
          <a:ext cx="935280" cy="92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0440" y="1455840"/>
                    <a:ext cx="9352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244680" y="1425600"/>
            <a:ext cx="936720" cy="9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425600"/>
            <a:ext cx="936720" cy="9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34080" y="1447920"/>
          <a:ext cx="934920" cy="92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4080" y="1447920"/>
                    <a:ext cx="9349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2209680" y="4038480"/>
            <a:ext cx="4435560" cy="936720"/>
            <a:chOff x="2209680" y="4038480"/>
            <a:chExt cx="4435560" cy="936720"/>
          </a:xfrm>
        </p:grpSpPr>
        <p:graphicFrame>
          <p:nvGraphicFramePr>
            <p:cNvPr id="85" name=""/>
            <p:cNvGraphicFramePr/>
            <p:nvPr/>
          </p:nvGraphicFramePr>
          <p:xfrm>
            <a:off x="4800600" y="4038480"/>
            <a:ext cx="930240" cy="93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00600" y="4038480"/>
                      <a:ext cx="93024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2209680" y="4038480"/>
              <a:ext cx="93672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68360" y="4038480"/>
              <a:ext cx="93672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5715000" y="4038480"/>
            <a:ext cx="930240" cy="935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5000" y="4038480"/>
                      <a:ext cx="93024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681520" y="2438280"/>
                <a:ext cx="1479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V="1" rot="16206600">
            <a:off x="5715000" y="167688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6600">
            <a:off x="5715000" y="426852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672160" y="5029200"/>
                <a:ext cx="147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267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50896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6206600">
            <a:off x="3200400" y="167688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 rot="16206600">
            <a:off x="3124080" y="426852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0" action="ppaction://hlinksldjump"/>
          </p:cNvPr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0" y="4076640"/>
          <a:ext cx="93672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076640"/>
                    <a:ext cx="936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867280" y="4084560"/>
          <a:ext cx="936720" cy="9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084560"/>
                    <a:ext cx="936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76920" y="4076640"/>
          <a:ext cx="93636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4076640"/>
                    <a:ext cx="9363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447920" y="4016520"/>
            <a:ext cx="93636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4016520"/>
            <a:ext cx="93672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54600" y="1752480"/>
            <a:ext cx="936360" cy="936720"/>
            <a:chOff x="4854600" y="1752480"/>
            <a:chExt cx="936360" cy="936720"/>
          </a:xfrm>
        </p:grpSpPr>
        <p:sp>
          <p:nvSpPr>
            <p:cNvPr id="113" name=""/>
            <p:cNvSpPr/>
            <p:nvPr/>
          </p:nvSpPr>
          <p:spPr>
            <a:xfrm>
              <a:off x="4854600" y="1752480"/>
              <a:ext cx="93636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29080" y="17524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29000" y="1741320"/>
            <a:ext cx="936720" cy="9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45320" y="1752480"/>
            <a:ext cx="936360" cy="936720"/>
            <a:chOff x="5845320" y="1752480"/>
            <a:chExt cx="936360" cy="936720"/>
          </a:xfrm>
        </p:grpSpPr>
        <p:sp>
          <p:nvSpPr>
            <p:cNvPr id="117" name=""/>
            <p:cNvSpPr/>
            <p:nvPr/>
          </p:nvSpPr>
          <p:spPr>
            <a:xfrm>
              <a:off x="5845320" y="1752480"/>
              <a:ext cx="93636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19800" y="17524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835680" y="1752480"/>
            <a:ext cx="936360" cy="936720"/>
            <a:chOff x="6835680" y="1752480"/>
            <a:chExt cx="936360" cy="936720"/>
          </a:xfrm>
        </p:grpSpPr>
        <p:sp>
          <p:nvSpPr>
            <p:cNvPr id="120" name=""/>
            <p:cNvSpPr/>
            <p:nvPr/>
          </p:nvSpPr>
          <p:spPr>
            <a:xfrm>
              <a:off x="6835680" y="1752480"/>
              <a:ext cx="936360" cy="936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160" y="17524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47920" y="1730520"/>
            <a:ext cx="93636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730520"/>
            <a:ext cx="93672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005360"/>
            <a:ext cx="93636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176880" y="2819520"/>
                <a:ext cx="14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 rot="16206600">
            <a:off x="6211800" y="1867680"/>
            <a:ext cx="74520" cy="1827360"/>
          </a:xfrm>
          <a:custGeom>
            <a:avLst/>
            <a:gdLst>
              <a:gd name="textAreaLeft" fmla="*/ 47520 w 74520"/>
              <a:gd name="textAreaRight" fmla="*/ 74880 w 74520"/>
              <a:gd name="textAreaTop" fmla="*/ 47520 h 1827360"/>
              <a:gd name="textAreaBottom" fmla="*/ 177984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6206600">
            <a:off x="2857320" y="1867680"/>
            <a:ext cx="74520" cy="1827360"/>
          </a:xfrm>
          <a:custGeom>
            <a:avLst/>
            <a:gdLst>
              <a:gd name="textAreaLeft" fmla="*/ 47520 w 74520"/>
              <a:gd name="textAreaRight" fmla="*/ 74880 w 74520"/>
              <a:gd name="textAreaTop" fmla="*/ 47520 h 1827360"/>
              <a:gd name="textAreaBottom" fmla="*/ 177984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 rot="16206600">
            <a:off x="6362640" y="4210200"/>
            <a:ext cx="74880" cy="1827360"/>
          </a:xfrm>
          <a:custGeom>
            <a:avLst/>
            <a:gdLst>
              <a:gd name="textAreaLeft" fmla="*/ 47880 w 74880"/>
              <a:gd name="textAreaRight" fmla="*/ 75240 w 74880"/>
              <a:gd name="textAreaTop" fmla="*/ 47520 h 1827360"/>
              <a:gd name="textAreaBottom" fmla="*/ 177984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6600">
            <a:off x="2858760" y="4154040"/>
            <a:ext cx="74520" cy="1827000"/>
          </a:xfrm>
          <a:custGeom>
            <a:avLst/>
            <a:gdLst>
              <a:gd name="textAreaLeft" fmla="*/ 47520 w 74520"/>
              <a:gd name="textAreaRight" fmla="*/ 74880 w 74520"/>
              <a:gd name="textAreaTop" fmla="*/ 47520 h 1827000"/>
              <a:gd name="textAreaBottom" fmla="*/ 1779480 h 18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165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59040" y="2879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286680" y="5181480"/>
                <a:ext cx="190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3434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85360" y="403200"/>
            <a:ext cx="3480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二 学习新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化成分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935080"/>
            <a:ext cx="778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华文中宋"/>
                <a:ea typeface="华文中宋"/>
              </a:rPr>
              <a:t>学习提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这道题是让你做什么的？它有什么要求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它的要求限制了什么？参看线段图，对你有帮助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学习指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这道题是把整数化成假分数的题。本题要求把整数化成分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它的要求限制了分母。因为分母表示把单位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均分成多少份的数，同时同学们也看到了图中是把单位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均分成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4400" y="2057400"/>
            <a:ext cx="6400800" cy="76320"/>
            <a:chOff x="914400" y="2057400"/>
            <a:chExt cx="6400800" cy="76320"/>
          </a:xfrm>
        </p:grpSpPr>
        <p:grpSp>
          <p:nvGrpSpPr>
            <p:cNvPr id="141" name=""/>
            <p:cNvGrpSpPr/>
            <p:nvPr/>
          </p:nvGrpSpPr>
          <p:grpSpPr>
            <a:xfrm>
              <a:off x="3505320" y="2057400"/>
              <a:ext cx="380880" cy="76320"/>
              <a:chOff x="3505320" y="2057400"/>
              <a:chExt cx="380880" cy="76320"/>
            </a:xfrm>
          </p:grpSpPr>
          <p:sp>
            <p:nvSpPr>
              <p:cNvPr id="142" name=""/>
              <p:cNvSpPr/>
              <p:nvPr/>
            </p:nvSpPr>
            <p:spPr>
              <a:xfrm>
                <a:off x="350532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05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6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886200" y="2057400"/>
              <a:ext cx="380880" cy="76320"/>
              <a:chOff x="3886200" y="2057400"/>
              <a:chExt cx="380880" cy="76320"/>
            </a:xfrm>
          </p:grpSpPr>
          <p:sp>
            <p:nvSpPr>
              <p:cNvPr id="146" name=""/>
              <p:cNvSpPr/>
              <p:nvPr/>
            </p:nvSpPr>
            <p:spPr>
              <a:xfrm>
                <a:off x="388620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86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67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124080" y="2057400"/>
              <a:ext cx="381240" cy="76320"/>
              <a:chOff x="3124080" y="2057400"/>
              <a:chExt cx="381240" cy="76320"/>
            </a:xfrm>
          </p:grpSpPr>
          <p:sp>
            <p:nvSpPr>
              <p:cNvPr id="150" name=""/>
              <p:cNvSpPr/>
              <p:nvPr/>
            </p:nvSpPr>
            <p:spPr>
              <a:xfrm>
                <a:off x="3124080" y="21337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24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05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743200" y="2057400"/>
              <a:ext cx="380880" cy="76320"/>
              <a:chOff x="2743200" y="2057400"/>
              <a:chExt cx="380880" cy="76320"/>
            </a:xfrm>
          </p:grpSpPr>
          <p:sp>
            <p:nvSpPr>
              <p:cNvPr id="154" name=""/>
              <p:cNvSpPr/>
              <p:nvPr/>
            </p:nvSpPr>
            <p:spPr>
              <a:xfrm>
                <a:off x="274320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24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267080" y="2057400"/>
              <a:ext cx="381240" cy="76320"/>
              <a:chOff x="4267080" y="2057400"/>
              <a:chExt cx="381240" cy="76320"/>
            </a:xfrm>
          </p:grpSpPr>
          <p:sp>
            <p:nvSpPr>
              <p:cNvPr id="158" name=""/>
              <p:cNvSpPr/>
              <p:nvPr/>
            </p:nvSpPr>
            <p:spPr>
              <a:xfrm>
                <a:off x="4267080" y="21337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67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8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362320" y="2057400"/>
              <a:ext cx="380880" cy="76320"/>
              <a:chOff x="2362320" y="2057400"/>
              <a:chExt cx="380880" cy="76320"/>
            </a:xfrm>
          </p:grpSpPr>
          <p:sp>
            <p:nvSpPr>
              <p:cNvPr id="162" name=""/>
              <p:cNvSpPr/>
              <p:nvPr/>
            </p:nvSpPr>
            <p:spPr>
              <a:xfrm>
                <a:off x="236232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43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648320" y="2057400"/>
              <a:ext cx="380880" cy="76320"/>
              <a:chOff x="4648320" y="2057400"/>
              <a:chExt cx="380880" cy="76320"/>
            </a:xfrm>
          </p:grpSpPr>
          <p:sp>
            <p:nvSpPr>
              <p:cNvPr id="166" name=""/>
              <p:cNvSpPr/>
              <p:nvPr/>
            </p:nvSpPr>
            <p:spPr>
              <a:xfrm>
                <a:off x="464832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8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9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029200" y="2057400"/>
              <a:ext cx="380880" cy="76320"/>
              <a:chOff x="5029200" y="2057400"/>
              <a:chExt cx="380880" cy="76320"/>
            </a:xfrm>
          </p:grpSpPr>
          <p:sp>
            <p:nvSpPr>
              <p:cNvPr id="170" name=""/>
              <p:cNvSpPr/>
              <p:nvPr/>
            </p:nvSpPr>
            <p:spPr>
              <a:xfrm>
                <a:off x="502920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29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410080" y="2057400"/>
              <a:ext cx="381240" cy="76320"/>
              <a:chOff x="5410080" y="2057400"/>
              <a:chExt cx="381240" cy="76320"/>
            </a:xfrm>
          </p:grpSpPr>
          <p:sp>
            <p:nvSpPr>
              <p:cNvPr id="174" name=""/>
              <p:cNvSpPr/>
              <p:nvPr/>
            </p:nvSpPr>
            <p:spPr>
              <a:xfrm>
                <a:off x="5410080" y="21337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91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81080" y="2057400"/>
              <a:ext cx="381240" cy="76320"/>
              <a:chOff x="1981080" y="2057400"/>
              <a:chExt cx="381240" cy="76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981080" y="21337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1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62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600200" y="2057400"/>
              <a:ext cx="380880" cy="76320"/>
              <a:chOff x="1600200" y="2057400"/>
              <a:chExt cx="380880" cy="76320"/>
            </a:xfrm>
          </p:grpSpPr>
          <p:sp>
            <p:nvSpPr>
              <p:cNvPr id="182" name=""/>
              <p:cNvSpPr/>
              <p:nvPr/>
            </p:nvSpPr>
            <p:spPr>
              <a:xfrm>
                <a:off x="160020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00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81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219320" y="2057400"/>
              <a:ext cx="380880" cy="76320"/>
              <a:chOff x="1219320" y="2057400"/>
              <a:chExt cx="380880" cy="76320"/>
            </a:xfrm>
          </p:grpSpPr>
          <p:sp>
            <p:nvSpPr>
              <p:cNvPr id="186" name=""/>
              <p:cNvSpPr/>
              <p:nvPr/>
            </p:nvSpPr>
            <p:spPr>
              <a:xfrm>
                <a:off x="121932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19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0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172200" y="2057400"/>
              <a:ext cx="380880" cy="76320"/>
              <a:chOff x="6172200" y="2057400"/>
              <a:chExt cx="380880" cy="76320"/>
            </a:xfrm>
          </p:grpSpPr>
          <p:sp>
            <p:nvSpPr>
              <p:cNvPr id="190" name=""/>
              <p:cNvSpPr/>
              <p:nvPr/>
            </p:nvSpPr>
            <p:spPr>
              <a:xfrm>
                <a:off x="617220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72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3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791320" y="2057400"/>
              <a:ext cx="380880" cy="76320"/>
              <a:chOff x="5791320" y="2057400"/>
              <a:chExt cx="380880" cy="76320"/>
            </a:xfrm>
          </p:grpSpPr>
          <p:sp>
            <p:nvSpPr>
              <p:cNvPr id="194" name=""/>
              <p:cNvSpPr/>
              <p:nvPr/>
            </p:nvSpPr>
            <p:spPr>
              <a:xfrm>
                <a:off x="5791320" y="2133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91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7220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553080" y="2057400"/>
              <a:ext cx="381240" cy="76320"/>
              <a:chOff x="6553080" y="2057400"/>
              <a:chExt cx="381240" cy="76320"/>
            </a:xfrm>
          </p:grpSpPr>
          <p:sp>
            <p:nvSpPr>
              <p:cNvPr id="198" name=""/>
              <p:cNvSpPr/>
              <p:nvPr/>
            </p:nvSpPr>
            <p:spPr>
              <a:xfrm>
                <a:off x="6553080" y="21337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5308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34320" y="20574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934320" y="2133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13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06668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21477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516240"/>
            <a:ext cx="68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前面我们学过了假分数化整数的方法，你能推想出整数化假分数的方法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计算过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60120" y="2133720"/>
            <a:ext cx="5142240" cy="675720"/>
            <a:chOff x="1860120" y="2133720"/>
            <a:chExt cx="5142240" cy="675720"/>
          </a:xfrm>
        </p:grpSpPr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581280" y="2133720"/>
                  <a:ext cx="182520" cy="60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13" name=""/>
            <p:cNvGrpSpPr/>
            <p:nvPr/>
          </p:nvGrpSpPr>
          <p:grpSpPr>
            <a:xfrm>
              <a:off x="1860120" y="2205000"/>
              <a:ext cx="5142240" cy="604440"/>
              <a:chOff x="1860120" y="2205000"/>
              <a:chExt cx="5142240" cy="604440"/>
            </a:xfrm>
          </p:grpSpPr>
          <p:sp>
            <p:nvSpPr>
              <p:cNvPr id="214" name=""/>
              <p:cNvSpPr/>
              <p:nvPr/>
            </p:nvSpPr>
            <p:spPr>
              <a:xfrm>
                <a:off x="1860120" y="2263680"/>
                <a:ext cx="159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因为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里面有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个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34240" y="2279520"/>
                <a:ext cx="232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所以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里面就有（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×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）个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6819840" y="2205000"/>
                    <a:ext cx="182520" cy="60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17" name=""/>
          <p:cNvSpPr/>
          <p:nvPr/>
        </p:nvSpPr>
        <p:spPr>
          <a:xfrm>
            <a:off x="1481040" y="470736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：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把整数化成假分数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用指定的分母作分母，用分母与整数相乘的积作分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62240" y="1374840"/>
            <a:ext cx="1257480" cy="606240"/>
            <a:chOff x="3162240" y="1374840"/>
            <a:chExt cx="1257480" cy="606240"/>
          </a:xfrm>
        </p:grpSpPr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3511440" y="1376280"/>
                  <a:ext cx="508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4229280" y="1374840"/>
                  <a:ext cx="1904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3162240" y="15159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24360" y="1515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0880" y="3124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试一试：请你试着把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化成分母是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7180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  <a:ea typeface="华文中宋"/>
              </a:rPr>
              <a:t>我也做了，你和我做的一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5181480" y="38098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答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8436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2438280" y="2057400"/>
            <a:ext cx="4267440" cy="604800"/>
            <a:chOff x="2438280" y="2057400"/>
            <a:chExt cx="4267440" cy="604800"/>
          </a:xfrm>
        </p:grpSpPr>
        <p:sp>
          <p:nvSpPr>
            <p:cNvPr id="229" name=""/>
            <p:cNvSpPr/>
            <p:nvPr/>
          </p:nvSpPr>
          <p:spPr>
            <a:xfrm>
              <a:off x="2438280" y="213264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因为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里面有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×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）个   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532480" y="2057400"/>
                  <a:ext cx="182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"/>
          <p:cNvGrpSpPr/>
          <p:nvPr/>
        </p:nvGrpSpPr>
        <p:grpSpPr>
          <a:xfrm>
            <a:off x="3581280" y="2743200"/>
            <a:ext cx="1008000" cy="627120"/>
            <a:chOff x="3581280" y="2743200"/>
            <a:chExt cx="1008000" cy="627120"/>
          </a:xfrm>
        </p:grpSpPr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3581280" y="2743200"/>
                  <a:ext cx="4953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4016160" y="2899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302000" y="2765520"/>
                  <a:ext cx="2872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2751120" y="1481040"/>
            <a:ext cx="2735280" cy="604800"/>
            <a:chOff x="2751120" y="1481040"/>
            <a:chExt cx="2735280" cy="60480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41760" y="1481040"/>
                  <a:ext cx="182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751120" y="158328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里面有多少个   呢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438280" y="2803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所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00000" y="531360"/>
            <a:ext cx="7128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 想一想 做一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怎样把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化成分母是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怎样把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化成分母分别是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把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化成分母分别是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假分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通过这个练习我们知道了任何自然数都可以写成分母是</a:t>
            </a: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假分数，这个知识在计算分数乘法时经常用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3504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229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05:01:07Z</dcterms:created>
  <dc:creator/>
  <dc:description/>
  <dc:language>en-US</dc:language>
  <cp:lastModifiedBy>gongyanling</cp:lastModifiedBy>
  <dcterms:modified xsi:type="dcterms:W3CDTF">2005-04-26T02:07:52Z</dcterms:modified>
  <cp:revision>22</cp:revision>
  <dc:subject/>
  <dc:title/>
</cp:coreProperties>
</file>