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8C80-E6CB-4B24-A036-96A2C2B5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FBFE-047A-42A4-960C-0B4CB6C2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8E3-F227-4BFB-BCB6-9E56B8F0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1CC6-6D5B-47D6-84DD-052A9E66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519F-8F1B-4103-8322-B7797AFA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07A5-5FFA-4D95-9805-B71E1F21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995D-8671-4B7E-AE8C-58FAAD9B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43DA-79B7-4538-9003-17689B85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BCC9-52C4-4496-B076-CCD08BD8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9725-2747-4D68-B7A9-6C066219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366E-61C8-4A6E-9845-5F9C7853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BCB9-B6DF-43F5-9210-4D225C73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3DCD-6AA0-485B-97AA-3D6950A7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DB4C-0634-4F14-AAB3-0DEC6185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666F-8DDE-4726-B6A4-641FF0FD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FDA6-6A48-48B7-BB67-F87B3218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550A-0743-4ED8-AC61-6CD0722D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E7D1-3D68-4E1B-A63E-E963A143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4CA1-1147-4F5D-8698-9D907EF4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3AD-6D6E-4E46-8951-01526353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6C59-05BB-464A-B588-AC251C00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F3B-9689-4F5E-884C-29B2FAD1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F6DE-DF35-4DD1-8B34-EC00E177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42CD-C69B-49A9-A02C-631C2523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9F4A-B582-4B41-8F96-237835AC523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177A-28D0-4FA4-B3CB-B5CE5D25EAC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1.xm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2.pn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600200" y="2133720"/>
            <a:ext cx="67816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真分数和假分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WW_048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128960" cy="941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401480" y="471600"/>
            <a:ext cx="70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分母是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真分数分别有几个？真分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个数与它的分母有什么关系？分母是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真分数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几个？分母是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呢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439280" y="2330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分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6048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0120" y="3519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真分数个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73080" y="351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7812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78120" y="351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9252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92520" y="351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50692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06920" y="351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43200" y="2286000"/>
            <a:ext cx="380880" cy="18288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657600" y="2286000"/>
            <a:ext cx="380880" cy="18288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2286000"/>
            <a:ext cx="380880" cy="18288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00800" y="2286000"/>
            <a:ext cx="380880" cy="18288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37400" y="4621320"/>
            <a:ext cx="316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真分数的个数总比分母小</a:t>
            </a:r>
            <a:r>
              <a:rPr b="0" lang="zh-CN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2132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21320" y="3505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335360" y="23623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12040" y="3505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0120" y="6319800"/>
            <a:ext cx="531720" cy="3096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58200" y="6324480"/>
            <a:ext cx="5335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828800" y="1263600"/>
            <a:ext cx="5257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复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二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真分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假分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四    假分数化整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57280" y="38088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请选择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16800" y="166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复 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066680" y="762120"/>
            <a:ext cx="381240" cy="925200"/>
            <a:chOff x="1066680" y="762120"/>
            <a:chExt cx="381240" cy="925200"/>
          </a:xfrm>
        </p:grpSpPr>
        <p:sp>
          <p:nvSpPr>
            <p:cNvPr id="92" name=""/>
            <p:cNvSpPr/>
            <p:nvPr/>
          </p:nvSpPr>
          <p:spPr>
            <a:xfrm>
              <a:off x="1087200" y="762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66680" y="122868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87200" y="1166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676520" y="771480"/>
            <a:ext cx="380880" cy="925560"/>
            <a:chOff x="1676520" y="771480"/>
            <a:chExt cx="380880" cy="925560"/>
          </a:xfrm>
        </p:grpSpPr>
        <p:sp>
          <p:nvSpPr>
            <p:cNvPr id="96" name=""/>
            <p:cNvSpPr/>
            <p:nvPr/>
          </p:nvSpPr>
          <p:spPr>
            <a:xfrm>
              <a:off x="1696680" y="771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76520" y="12384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96680" y="1176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667240" y="958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表示的意义是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12360" y="11095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066680" y="1895400"/>
            <a:ext cx="6587640" cy="1811160"/>
            <a:chOff x="1066680" y="1895400"/>
            <a:chExt cx="6587640" cy="1811160"/>
          </a:xfrm>
        </p:grpSpPr>
        <p:grpSp>
          <p:nvGrpSpPr>
            <p:cNvPr id="102" name=""/>
            <p:cNvGrpSpPr/>
            <p:nvPr/>
          </p:nvGrpSpPr>
          <p:grpSpPr>
            <a:xfrm>
              <a:off x="1066680" y="1895400"/>
              <a:ext cx="381240" cy="925560"/>
              <a:chOff x="1066680" y="1895400"/>
              <a:chExt cx="381240" cy="925560"/>
            </a:xfrm>
          </p:grpSpPr>
          <p:sp>
            <p:nvSpPr>
              <p:cNvPr id="103" name=""/>
              <p:cNvSpPr/>
              <p:nvPr/>
            </p:nvSpPr>
            <p:spPr>
              <a:xfrm>
                <a:off x="1087200" y="18954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66680" y="2362320"/>
                <a:ext cx="38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87200" y="23004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2470320" y="2100240"/>
              <a:ext cx="5184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表示把单位</a:t>
              </a: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“</a:t>
              </a: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1”</a:t>
              </a:r>
              <a:r>
                <a:rPr b="0" lang="zh-CN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平均分成</a:t>
              </a: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3</a:t>
              </a:r>
              <a:r>
                <a:rPr b="0" lang="zh-CN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份，取其中的</a:t>
              </a: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2</a:t>
              </a:r>
              <a:r>
                <a:rPr b="0" lang="zh-CN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份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用分数表示是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3890880" y="2781360"/>
              <a:ext cx="381240" cy="925200"/>
              <a:chOff x="3890880" y="2781360"/>
              <a:chExt cx="381240" cy="925200"/>
            </a:xfrm>
          </p:grpSpPr>
          <p:sp>
            <p:nvSpPr>
              <p:cNvPr id="108" name=""/>
              <p:cNvSpPr/>
              <p:nvPr/>
            </p:nvSpPr>
            <p:spPr>
              <a:xfrm>
                <a:off x="3911400" y="2781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890880" y="3247920"/>
                <a:ext cx="38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911400" y="3186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1133640" y="3967200"/>
            <a:ext cx="6511320" cy="1811160"/>
            <a:chOff x="1133640" y="3967200"/>
            <a:chExt cx="6511320" cy="1811160"/>
          </a:xfrm>
        </p:grpSpPr>
        <p:sp>
          <p:nvSpPr>
            <p:cNvPr id="112" name=""/>
            <p:cNvSpPr/>
            <p:nvPr/>
          </p:nvSpPr>
          <p:spPr>
            <a:xfrm>
              <a:off x="2460960" y="4186080"/>
              <a:ext cx="5184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表示把单位</a:t>
              </a: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“</a:t>
              </a: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1”</a:t>
              </a:r>
              <a:r>
                <a:rPr b="0" lang="zh-CN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平均分成</a:t>
              </a: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7</a:t>
              </a:r>
              <a:r>
                <a:rPr b="0" lang="zh-CN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份，取其中的</a:t>
              </a: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6</a:t>
              </a:r>
              <a:r>
                <a:rPr b="0" lang="zh-CN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份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用分数表示是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133640" y="3967200"/>
              <a:ext cx="380880" cy="925200"/>
              <a:chOff x="1133640" y="3967200"/>
              <a:chExt cx="380880" cy="925200"/>
            </a:xfrm>
          </p:grpSpPr>
          <p:sp>
            <p:nvSpPr>
              <p:cNvPr id="114" name=""/>
              <p:cNvSpPr/>
              <p:nvPr/>
            </p:nvSpPr>
            <p:spPr>
              <a:xfrm>
                <a:off x="1153800" y="3967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33640" y="4433760"/>
                <a:ext cx="38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153800" y="43718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886200" y="4853160"/>
              <a:ext cx="380880" cy="925200"/>
              <a:chOff x="3886200" y="4853160"/>
              <a:chExt cx="380880" cy="925200"/>
            </a:xfrm>
          </p:grpSpPr>
          <p:sp>
            <p:nvSpPr>
              <p:cNvPr id="118" name=""/>
              <p:cNvSpPr/>
              <p:nvPr/>
            </p:nvSpPr>
            <p:spPr>
              <a:xfrm>
                <a:off x="3906360" y="48531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86200" y="5319720"/>
                <a:ext cx="38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06360" y="52578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6800" y="166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复 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785960" y="600120"/>
            <a:ext cx="380880" cy="925200"/>
            <a:chOff x="1785960" y="600120"/>
            <a:chExt cx="380880" cy="925200"/>
          </a:xfrm>
        </p:grpSpPr>
        <p:sp>
          <p:nvSpPr>
            <p:cNvPr id="123" name=""/>
            <p:cNvSpPr/>
            <p:nvPr/>
          </p:nvSpPr>
          <p:spPr>
            <a:xfrm>
              <a:off x="1806120" y="600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5960" y="106668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06120" y="1004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362320" y="609480"/>
            <a:ext cx="380880" cy="925560"/>
            <a:chOff x="2362320" y="609480"/>
            <a:chExt cx="380880" cy="925560"/>
          </a:xfrm>
        </p:grpSpPr>
        <p:sp>
          <p:nvSpPr>
            <p:cNvPr id="127" name=""/>
            <p:cNvSpPr/>
            <p:nvPr/>
          </p:nvSpPr>
          <p:spPr>
            <a:xfrm>
              <a:off x="2382480" y="609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62320" y="10764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82480" y="1014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077480" y="771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说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971800" y="609480"/>
            <a:ext cx="380880" cy="925560"/>
            <a:chOff x="2971800" y="609480"/>
            <a:chExt cx="380880" cy="925560"/>
          </a:xfrm>
        </p:grpSpPr>
        <p:sp>
          <p:nvSpPr>
            <p:cNvPr id="132" name=""/>
            <p:cNvSpPr/>
            <p:nvPr/>
          </p:nvSpPr>
          <p:spPr>
            <a:xfrm>
              <a:off x="2991960" y="609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71800" y="10764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91960" y="1014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787120" y="9763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25160" y="971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40240" y="809640"/>
            <a:ext cx="37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分数单位及有几个这样的分数单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066680" y="1890720"/>
            <a:ext cx="6369840" cy="944280"/>
            <a:chOff x="1066680" y="1890720"/>
            <a:chExt cx="6369840" cy="944280"/>
          </a:xfrm>
        </p:grpSpPr>
        <p:grpSp>
          <p:nvGrpSpPr>
            <p:cNvPr id="139" name=""/>
            <p:cNvGrpSpPr/>
            <p:nvPr/>
          </p:nvGrpSpPr>
          <p:grpSpPr>
            <a:xfrm>
              <a:off x="1066680" y="1895400"/>
              <a:ext cx="381240" cy="925560"/>
              <a:chOff x="1066680" y="1895400"/>
              <a:chExt cx="381240" cy="925560"/>
            </a:xfrm>
          </p:grpSpPr>
          <p:sp>
            <p:nvSpPr>
              <p:cNvPr id="140" name=""/>
              <p:cNvSpPr/>
              <p:nvPr/>
            </p:nvSpPr>
            <p:spPr>
              <a:xfrm>
                <a:off x="1087200" y="18954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66680" y="2362320"/>
                <a:ext cx="38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087200" y="23004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1841400" y="20685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的分数单位是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733920" y="1890720"/>
              <a:ext cx="380880" cy="944280"/>
              <a:chOff x="3733920" y="1890720"/>
              <a:chExt cx="380880" cy="944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4440" y="18907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733920" y="2357280"/>
                <a:ext cx="380880" cy="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754440" y="23144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33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4168440" y="2195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12840" y="2128680"/>
              <a:ext cx="262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有</a:t>
              </a:r>
              <a:r>
                <a:rPr b="0" lang="zh-CN" sz="2800" spc="-1" strike="noStrike">
                  <a:solidFill>
                    <a:srgbClr val="ff0033"/>
                  </a:solidFill>
                  <a:latin typeface="Times New Roman"/>
                  <a:ea typeface="楷体_GB2312"/>
                </a:rPr>
                <a:t>5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个这样的分数单位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066680" y="3243240"/>
            <a:ext cx="6369840" cy="948960"/>
            <a:chOff x="1066680" y="3243240"/>
            <a:chExt cx="6369840" cy="948960"/>
          </a:xfrm>
        </p:grpSpPr>
        <p:sp>
          <p:nvSpPr>
            <p:cNvPr id="151" name=""/>
            <p:cNvSpPr/>
            <p:nvPr/>
          </p:nvSpPr>
          <p:spPr>
            <a:xfrm>
              <a:off x="1841400" y="34257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的分数单位是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733920" y="3247920"/>
              <a:ext cx="380880" cy="944280"/>
              <a:chOff x="3733920" y="3247920"/>
              <a:chExt cx="380880" cy="944280"/>
            </a:xfrm>
          </p:grpSpPr>
          <p:sp>
            <p:nvSpPr>
              <p:cNvPr id="153" name=""/>
              <p:cNvSpPr/>
              <p:nvPr/>
            </p:nvSpPr>
            <p:spPr>
              <a:xfrm>
                <a:off x="3754440" y="32479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733920" y="3714480"/>
                <a:ext cx="380880" cy="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754440" y="36716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4168440" y="35528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12840" y="3486240"/>
              <a:ext cx="262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有</a:t>
              </a:r>
              <a:r>
                <a:rPr b="0" lang="zh-CN" sz="2800" spc="-1" strike="noStrike">
                  <a:solidFill>
                    <a:srgbClr val="ff0033"/>
                  </a:solidFill>
                  <a:latin typeface="Times New Roman"/>
                  <a:ea typeface="楷体_GB2312"/>
                </a:rPr>
                <a:t>3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个这样的分数单位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1066680" y="3243240"/>
              <a:ext cx="381240" cy="925560"/>
              <a:chOff x="1066680" y="3243240"/>
              <a:chExt cx="381240" cy="925560"/>
            </a:xfrm>
          </p:grpSpPr>
          <p:sp>
            <p:nvSpPr>
              <p:cNvPr id="159" name=""/>
              <p:cNvSpPr/>
              <p:nvPr/>
            </p:nvSpPr>
            <p:spPr>
              <a:xfrm>
                <a:off x="1087200" y="32432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66680" y="3710160"/>
                <a:ext cx="38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87200" y="36482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1095480" y="4619520"/>
            <a:ext cx="6341040" cy="944280"/>
            <a:chOff x="1095480" y="4619520"/>
            <a:chExt cx="6341040" cy="944280"/>
          </a:xfrm>
        </p:grpSpPr>
        <p:sp>
          <p:nvSpPr>
            <p:cNvPr id="163" name=""/>
            <p:cNvSpPr/>
            <p:nvPr/>
          </p:nvSpPr>
          <p:spPr>
            <a:xfrm>
              <a:off x="1841400" y="4797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的分数单位是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3733920" y="4619520"/>
              <a:ext cx="380880" cy="944280"/>
              <a:chOff x="3733920" y="4619520"/>
              <a:chExt cx="380880" cy="944280"/>
            </a:xfrm>
          </p:grpSpPr>
          <p:sp>
            <p:nvSpPr>
              <p:cNvPr id="165" name=""/>
              <p:cNvSpPr/>
              <p:nvPr/>
            </p:nvSpPr>
            <p:spPr>
              <a:xfrm>
                <a:off x="3754440" y="4619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33920" y="5086080"/>
                <a:ext cx="380880" cy="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754440" y="50432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33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4168440" y="4924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12840" y="4857840"/>
              <a:ext cx="262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有</a:t>
              </a:r>
              <a:r>
                <a:rPr b="0" lang="zh-CN" sz="2800" spc="-1" strike="noStrike">
                  <a:solidFill>
                    <a:srgbClr val="ff0033"/>
                  </a:solidFill>
                  <a:latin typeface="Times New Roman"/>
                  <a:ea typeface="楷体_GB2312"/>
                </a:rPr>
                <a:t>7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个这样的分数单位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095480" y="4619520"/>
              <a:ext cx="380880" cy="925560"/>
              <a:chOff x="1095480" y="4619520"/>
              <a:chExt cx="380880" cy="925560"/>
            </a:xfrm>
          </p:grpSpPr>
          <p:sp>
            <p:nvSpPr>
              <p:cNvPr id="171" name=""/>
              <p:cNvSpPr/>
              <p:nvPr/>
            </p:nvSpPr>
            <p:spPr>
              <a:xfrm>
                <a:off x="1115640" y="4619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095480" y="5086440"/>
                <a:ext cx="38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115640" y="5024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6319800"/>
            <a:ext cx="531720" cy="309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8153280" y="6324480"/>
            <a:ext cx="5335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1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2033640" cy="1981440"/>
          </a:xfrm>
          <a:prstGeom prst="rect">
            <a:avLst/>
          </a:prstGeom>
          <a:ln w="0">
            <a:noFill/>
          </a:ln>
        </p:spPr>
      </p:pic>
      <p:pic>
        <p:nvPicPr>
          <p:cNvPr id="177" name="2" descr=""/>
          <p:cNvPicPr/>
          <p:nvPr/>
        </p:nvPicPr>
        <p:blipFill>
          <a:blip r:embed="rId2"/>
          <a:stretch/>
        </p:blipFill>
        <p:spPr>
          <a:xfrm>
            <a:off x="3962520" y="1523880"/>
            <a:ext cx="2047680" cy="1978200"/>
          </a:xfrm>
          <a:prstGeom prst="rect">
            <a:avLst/>
          </a:prstGeom>
          <a:ln w="0">
            <a:noFill/>
          </a:ln>
        </p:spPr>
      </p:pic>
      <p:pic>
        <p:nvPicPr>
          <p:cNvPr id="178" name="3" descr=""/>
          <p:cNvPicPr/>
          <p:nvPr/>
        </p:nvPicPr>
        <p:blipFill>
          <a:blip r:embed="rId3"/>
          <a:stretch/>
        </p:blipFill>
        <p:spPr>
          <a:xfrm>
            <a:off x="7086600" y="1523880"/>
            <a:ext cx="1832040" cy="198144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1704960" y="3733920"/>
            <a:ext cx="385920" cy="1029240"/>
            <a:chOff x="1704960" y="3733920"/>
            <a:chExt cx="385920" cy="1029240"/>
          </a:xfrm>
        </p:grpSpPr>
        <p:sp>
          <p:nvSpPr>
            <p:cNvPr id="180" name=""/>
            <p:cNvSpPr/>
            <p:nvPr/>
          </p:nvSpPr>
          <p:spPr>
            <a:xfrm>
              <a:off x="1706040" y="3733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04960" y="4243680"/>
              <a:ext cx="380880" cy="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06040" y="4181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724280" y="3733920"/>
            <a:ext cx="457200" cy="1062000"/>
            <a:chOff x="4724280" y="3733920"/>
            <a:chExt cx="457200" cy="1062000"/>
          </a:xfrm>
        </p:grpSpPr>
        <p:sp>
          <p:nvSpPr>
            <p:cNvPr id="184" name=""/>
            <p:cNvSpPr/>
            <p:nvPr/>
          </p:nvSpPr>
          <p:spPr>
            <a:xfrm>
              <a:off x="4785840" y="3733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24280" y="4248000"/>
              <a:ext cx="457200" cy="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68200" y="4214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772400" y="3726000"/>
            <a:ext cx="457200" cy="1062000"/>
            <a:chOff x="7772400" y="3726000"/>
            <a:chExt cx="457200" cy="1062000"/>
          </a:xfrm>
        </p:grpSpPr>
        <p:sp>
          <p:nvSpPr>
            <p:cNvPr id="188" name=""/>
            <p:cNvSpPr/>
            <p:nvPr/>
          </p:nvSpPr>
          <p:spPr>
            <a:xfrm>
              <a:off x="7833960" y="3726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72400" y="4240080"/>
              <a:ext cx="457200" cy="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16320" y="4206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1" name="WW_048" descr=""/>
          <p:cNvPicPr/>
          <p:nvPr/>
        </p:nvPicPr>
        <p:blipFill>
          <a:blip r:embed="rId4"/>
          <a:stretch/>
        </p:blipFill>
        <p:spPr>
          <a:xfrm>
            <a:off x="318960" y="4800600"/>
            <a:ext cx="1128960" cy="941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501640" y="50245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三个分数有什么特点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90960" y="5808600"/>
            <a:ext cx="50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三个分数的分子比分母小，这三个分数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94880" y="28260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分子比分母小的分数叫做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真分数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7620120" y="6472080"/>
            <a:ext cx="531720" cy="3096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8458200" y="6477120"/>
            <a:ext cx="5335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4" descr=""/>
          <p:cNvPicPr/>
          <p:nvPr/>
        </p:nvPicPr>
        <p:blipFill>
          <a:blip r:embed="rId1"/>
          <a:stretch/>
        </p:blipFill>
        <p:spPr>
          <a:xfrm>
            <a:off x="533520" y="1614600"/>
            <a:ext cx="1116000" cy="1079280"/>
          </a:xfrm>
          <a:prstGeom prst="rect">
            <a:avLst/>
          </a:prstGeom>
          <a:ln w="0">
            <a:noFill/>
          </a:ln>
        </p:spPr>
      </p:pic>
      <p:pic>
        <p:nvPicPr>
          <p:cNvPr id="198" name="5" descr=""/>
          <p:cNvPicPr/>
          <p:nvPr/>
        </p:nvPicPr>
        <p:blipFill>
          <a:blip r:embed="rId2"/>
          <a:stretch/>
        </p:blipFill>
        <p:spPr>
          <a:xfrm>
            <a:off x="2362320" y="1623960"/>
            <a:ext cx="2385720" cy="1079640"/>
          </a:xfrm>
          <a:prstGeom prst="rect">
            <a:avLst/>
          </a:prstGeom>
          <a:ln w="0">
            <a:noFill/>
          </a:ln>
        </p:spPr>
      </p:pic>
      <p:pic>
        <p:nvPicPr>
          <p:cNvPr id="199" name="6" descr=""/>
          <p:cNvPicPr/>
          <p:nvPr/>
        </p:nvPicPr>
        <p:blipFill>
          <a:blip r:embed="rId3"/>
          <a:stretch/>
        </p:blipFill>
        <p:spPr>
          <a:xfrm>
            <a:off x="5410080" y="1600200"/>
            <a:ext cx="3610080" cy="1081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rot="16181400">
            <a:off x="3543120" y="227592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7238520" y="1676160"/>
            <a:ext cx="228600" cy="2971800"/>
          </a:xfrm>
          <a:custGeom>
            <a:avLst/>
            <a:gdLst>
              <a:gd name="textAreaLeft" fmla="*/ 0 w 228600"/>
              <a:gd name="textAreaRight" fmla="*/ 82440 w 2286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914400" y="3443400"/>
            <a:ext cx="419400" cy="1019160"/>
            <a:chOff x="914400" y="3443400"/>
            <a:chExt cx="419400" cy="1019160"/>
          </a:xfrm>
        </p:grpSpPr>
        <p:sp>
          <p:nvSpPr>
            <p:cNvPr id="203" name=""/>
            <p:cNvSpPr/>
            <p:nvPr/>
          </p:nvSpPr>
          <p:spPr>
            <a:xfrm>
              <a:off x="947520" y="3443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4400" y="3976560"/>
              <a:ext cx="381240" cy="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48960" y="3881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429000" y="3457440"/>
            <a:ext cx="457200" cy="1057680"/>
            <a:chOff x="3429000" y="3457440"/>
            <a:chExt cx="457200" cy="1057680"/>
          </a:xfrm>
        </p:grpSpPr>
        <p:sp>
          <p:nvSpPr>
            <p:cNvPr id="207" name=""/>
            <p:cNvSpPr/>
            <p:nvPr/>
          </p:nvSpPr>
          <p:spPr>
            <a:xfrm>
              <a:off x="3471480" y="3457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29000" y="3976560"/>
              <a:ext cx="457200" cy="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61760" y="393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7072560" y="3457440"/>
            <a:ext cx="589320" cy="1033560"/>
            <a:chOff x="7072560" y="3457440"/>
            <a:chExt cx="589320" cy="1033560"/>
          </a:xfrm>
        </p:grpSpPr>
        <p:sp>
          <p:nvSpPr>
            <p:cNvPr id="211" name=""/>
            <p:cNvSpPr/>
            <p:nvPr/>
          </p:nvSpPr>
          <p:spPr>
            <a:xfrm>
              <a:off x="7072560" y="345744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78680" y="3971520"/>
              <a:ext cx="533160" cy="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73360" y="3909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4" name="WW_048" descr=""/>
          <p:cNvPicPr/>
          <p:nvPr/>
        </p:nvPicPr>
        <p:blipFill>
          <a:blip r:embed="rId4"/>
          <a:stretch/>
        </p:blipFill>
        <p:spPr>
          <a:xfrm>
            <a:off x="318960" y="4800600"/>
            <a:ext cx="1128960" cy="941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501640" y="50245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三个分数有什么特点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53560" y="588168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分数的分子比分母大或分子和分母相等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50920" y="7632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分子比分母大或者分子和分母相等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分数叫做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假分数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956240" y="3189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下面的分数哪些是真分数，哪些是假分数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295280" y="1147680"/>
            <a:ext cx="385920" cy="1049760"/>
            <a:chOff x="1295280" y="1147680"/>
            <a:chExt cx="385920" cy="1049760"/>
          </a:xfrm>
        </p:grpSpPr>
        <p:sp>
          <p:nvSpPr>
            <p:cNvPr id="220" name=""/>
            <p:cNvSpPr/>
            <p:nvPr/>
          </p:nvSpPr>
          <p:spPr>
            <a:xfrm>
              <a:off x="1296360" y="11476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165744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6360" y="1616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134800" y="1147680"/>
            <a:ext cx="386280" cy="1049760"/>
            <a:chOff x="2134800" y="1147680"/>
            <a:chExt cx="386280" cy="1049760"/>
          </a:xfrm>
        </p:grpSpPr>
        <p:sp>
          <p:nvSpPr>
            <p:cNvPr id="224" name=""/>
            <p:cNvSpPr/>
            <p:nvPr/>
          </p:nvSpPr>
          <p:spPr>
            <a:xfrm>
              <a:off x="2134800" y="1616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34800" y="11476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40200" y="16621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049200" y="1143000"/>
            <a:ext cx="386280" cy="1038600"/>
            <a:chOff x="3049200" y="1143000"/>
            <a:chExt cx="386280" cy="1038600"/>
          </a:xfrm>
        </p:grpSpPr>
        <p:sp>
          <p:nvSpPr>
            <p:cNvPr id="228" name=""/>
            <p:cNvSpPr/>
            <p:nvPr/>
          </p:nvSpPr>
          <p:spPr>
            <a:xfrm>
              <a:off x="3049200" y="1600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54240" y="166212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49200" y="1143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127240" y="2590920"/>
            <a:ext cx="385920" cy="1049400"/>
            <a:chOff x="2127240" y="2590920"/>
            <a:chExt cx="385920" cy="1049400"/>
          </a:xfrm>
        </p:grpSpPr>
        <p:sp>
          <p:nvSpPr>
            <p:cNvPr id="232" name=""/>
            <p:cNvSpPr/>
            <p:nvPr/>
          </p:nvSpPr>
          <p:spPr>
            <a:xfrm>
              <a:off x="2128320" y="2590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27240" y="310032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28320" y="3058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134800" y="3905280"/>
            <a:ext cx="386280" cy="1049400"/>
            <a:chOff x="2134800" y="3905280"/>
            <a:chExt cx="386280" cy="1049400"/>
          </a:xfrm>
        </p:grpSpPr>
        <p:sp>
          <p:nvSpPr>
            <p:cNvPr id="236" name=""/>
            <p:cNvSpPr/>
            <p:nvPr/>
          </p:nvSpPr>
          <p:spPr>
            <a:xfrm>
              <a:off x="2134800" y="4373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34800" y="3905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39840" y="441936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134800" y="5135400"/>
            <a:ext cx="386280" cy="1038600"/>
            <a:chOff x="2134800" y="5135400"/>
            <a:chExt cx="386280" cy="1038600"/>
          </a:xfrm>
        </p:grpSpPr>
        <p:sp>
          <p:nvSpPr>
            <p:cNvPr id="240" name=""/>
            <p:cNvSpPr/>
            <p:nvPr/>
          </p:nvSpPr>
          <p:spPr>
            <a:xfrm>
              <a:off x="2134800" y="5592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40200" y="56545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34800" y="5135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878000" y="1143000"/>
            <a:ext cx="386280" cy="1038600"/>
            <a:chOff x="4878000" y="1143000"/>
            <a:chExt cx="386280" cy="1038600"/>
          </a:xfrm>
        </p:grpSpPr>
        <p:sp>
          <p:nvSpPr>
            <p:cNvPr id="244" name=""/>
            <p:cNvSpPr/>
            <p:nvPr/>
          </p:nvSpPr>
          <p:spPr>
            <a:xfrm>
              <a:off x="4878000" y="1600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83040" y="166212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78000" y="1143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962520" y="1143000"/>
            <a:ext cx="385920" cy="1049400"/>
            <a:chOff x="3962520" y="1143000"/>
            <a:chExt cx="385920" cy="1049400"/>
          </a:xfrm>
        </p:grpSpPr>
        <p:sp>
          <p:nvSpPr>
            <p:cNvPr id="248" name=""/>
            <p:cNvSpPr/>
            <p:nvPr/>
          </p:nvSpPr>
          <p:spPr>
            <a:xfrm>
              <a:off x="3963600" y="1143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62520" y="16524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63600" y="1611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785920" y="1143000"/>
            <a:ext cx="386280" cy="1038600"/>
            <a:chOff x="5785920" y="1143000"/>
            <a:chExt cx="386280" cy="1038600"/>
          </a:xfrm>
        </p:grpSpPr>
        <p:sp>
          <p:nvSpPr>
            <p:cNvPr id="252" name=""/>
            <p:cNvSpPr/>
            <p:nvPr/>
          </p:nvSpPr>
          <p:spPr>
            <a:xfrm>
              <a:off x="5785920" y="1600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90960" y="166212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85920" y="1143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023640" y="3902040"/>
            <a:ext cx="386280" cy="1038600"/>
            <a:chOff x="3023640" y="3902040"/>
            <a:chExt cx="386280" cy="1038600"/>
          </a:xfrm>
        </p:grpSpPr>
        <p:sp>
          <p:nvSpPr>
            <p:cNvPr id="256" name=""/>
            <p:cNvSpPr/>
            <p:nvPr/>
          </p:nvSpPr>
          <p:spPr>
            <a:xfrm>
              <a:off x="3023640" y="4359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28680" y="442116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23640" y="3902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048120" y="2590920"/>
            <a:ext cx="385920" cy="1049400"/>
            <a:chOff x="3048120" y="2590920"/>
            <a:chExt cx="385920" cy="1049400"/>
          </a:xfrm>
        </p:grpSpPr>
        <p:sp>
          <p:nvSpPr>
            <p:cNvPr id="260" name=""/>
            <p:cNvSpPr/>
            <p:nvPr/>
          </p:nvSpPr>
          <p:spPr>
            <a:xfrm>
              <a:off x="3049200" y="2590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48120" y="31003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49200" y="3058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061800" y="5138640"/>
            <a:ext cx="386280" cy="1038600"/>
            <a:chOff x="3061800" y="5138640"/>
            <a:chExt cx="386280" cy="1038600"/>
          </a:xfrm>
        </p:grpSpPr>
        <p:sp>
          <p:nvSpPr>
            <p:cNvPr id="264" name=""/>
            <p:cNvSpPr/>
            <p:nvPr/>
          </p:nvSpPr>
          <p:spPr>
            <a:xfrm>
              <a:off x="3061800" y="5595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66840" y="565776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61800" y="5138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496560" y="1143000"/>
            <a:ext cx="589320" cy="1019520"/>
            <a:chOff x="6496560" y="1143000"/>
            <a:chExt cx="589320" cy="1019520"/>
          </a:xfrm>
        </p:grpSpPr>
        <p:sp>
          <p:nvSpPr>
            <p:cNvPr id="268" name=""/>
            <p:cNvSpPr/>
            <p:nvPr/>
          </p:nvSpPr>
          <p:spPr>
            <a:xfrm>
              <a:off x="6496560" y="11430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15280" y="1652400"/>
              <a:ext cx="533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86200" y="1581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567000" y="2849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真分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5200" y="4068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假分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038840" y="5154480"/>
            <a:ext cx="589320" cy="1019520"/>
            <a:chOff x="4038840" y="5154480"/>
            <a:chExt cx="589320" cy="1019520"/>
          </a:xfrm>
        </p:grpSpPr>
        <p:sp>
          <p:nvSpPr>
            <p:cNvPr id="274" name=""/>
            <p:cNvSpPr/>
            <p:nvPr/>
          </p:nvSpPr>
          <p:spPr>
            <a:xfrm>
              <a:off x="4038840" y="51544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57560" y="5663880"/>
              <a:ext cx="533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28480" y="5592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477120" y="4106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分子等于分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14800" y="4419720"/>
            <a:ext cx="16765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53499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分子大于分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24280" y="5662440"/>
            <a:ext cx="10670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5200" y="2790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分子小于分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3103560"/>
            <a:ext cx="16765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7620120" y="6400800"/>
            <a:ext cx="531720" cy="3096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8458200" y="6405480"/>
            <a:ext cx="5335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829080" y="244440"/>
            <a:ext cx="3244680" cy="1071720"/>
            <a:chOff x="829080" y="244440"/>
            <a:chExt cx="3244680" cy="1071720"/>
          </a:xfrm>
        </p:grpSpPr>
        <p:sp>
          <p:nvSpPr>
            <p:cNvPr id="286" name=""/>
            <p:cNvSpPr/>
            <p:nvPr/>
          </p:nvSpPr>
          <p:spPr>
            <a:xfrm>
              <a:off x="829080" y="4492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把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295280" y="244440"/>
              <a:ext cx="419400" cy="1054440"/>
              <a:chOff x="1295280" y="244440"/>
              <a:chExt cx="419400" cy="1054440"/>
            </a:xfrm>
          </p:grpSpPr>
          <p:sp>
            <p:nvSpPr>
              <p:cNvPr id="288" name=""/>
              <p:cNvSpPr/>
              <p:nvPr/>
            </p:nvSpPr>
            <p:spPr>
              <a:xfrm>
                <a:off x="1328040" y="2444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295280" y="777600"/>
                <a:ext cx="38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329840" y="7174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1981080" y="258840"/>
              <a:ext cx="457200" cy="1057320"/>
              <a:chOff x="1981080" y="258840"/>
              <a:chExt cx="457200" cy="105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2023560" y="2588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981080" y="77760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013840" y="7347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1788480" y="68580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、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17800" y="4572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化成整数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804240" y="1523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根据分数的意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066680" y="2209680"/>
            <a:ext cx="6307920" cy="1102320"/>
            <a:chOff x="1066680" y="2209680"/>
            <a:chExt cx="6307920" cy="1102320"/>
          </a:xfrm>
        </p:grpSpPr>
        <p:grpSp>
          <p:nvGrpSpPr>
            <p:cNvPr id="299" name=""/>
            <p:cNvGrpSpPr/>
            <p:nvPr/>
          </p:nvGrpSpPr>
          <p:grpSpPr>
            <a:xfrm>
              <a:off x="6284880" y="2257560"/>
              <a:ext cx="419400" cy="1054440"/>
              <a:chOff x="6284880" y="2257560"/>
              <a:chExt cx="419400" cy="1054440"/>
            </a:xfrm>
          </p:grpSpPr>
          <p:sp>
            <p:nvSpPr>
              <p:cNvPr id="300" name=""/>
              <p:cNvSpPr/>
              <p:nvPr/>
            </p:nvSpPr>
            <p:spPr>
              <a:xfrm>
                <a:off x="6317640" y="22575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284880" y="2790720"/>
                <a:ext cx="38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319440" y="27306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1066680" y="2209680"/>
              <a:ext cx="6307920" cy="1054440"/>
              <a:chOff x="1066680" y="2209680"/>
              <a:chExt cx="6307920" cy="105444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1066680" y="2209680"/>
                <a:ext cx="419400" cy="1054440"/>
                <a:chOff x="1066680" y="2209680"/>
                <a:chExt cx="419400" cy="105444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1099440" y="220968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066680" y="2742840"/>
                  <a:ext cx="380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101240" y="268272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1539360" y="2500200"/>
                <a:ext cx="956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  <a:ea typeface="楷体_GB2312"/>
                  </a:rPr>
                  <a:t>是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  <a:ea typeface="楷体_GB2312"/>
                  </a:rPr>
                  <a:t>3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  <a:ea typeface="楷体_GB2312"/>
                  </a:rPr>
                  <a:t>个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9" name=""/>
              <p:cNvGrpSpPr/>
              <p:nvPr/>
            </p:nvGrpSpPr>
            <p:grpSpPr>
              <a:xfrm>
                <a:off x="2478240" y="2209680"/>
                <a:ext cx="419040" cy="1054440"/>
                <a:chOff x="2478240" y="2209680"/>
                <a:chExt cx="419040" cy="10544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2510640" y="220968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478240" y="2742840"/>
                  <a:ext cx="3805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512440" y="268272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2963520" y="25574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，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030560" y="2505240"/>
                <a:ext cx="749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  <a:ea typeface="楷体_GB2312"/>
                  </a:rPr>
                  <a:t>正好是一个圆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，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54080" y="251460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  <a:ea typeface="楷体_GB2312"/>
                  </a:rPr>
                  <a:t>所以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624000" y="2543040"/>
                <a:ext cx="75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宋体"/>
                  </a:rPr>
                  <a:t>＝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1017720" y="47372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根据分数与除法的关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066680" y="5180040"/>
            <a:ext cx="2271960" cy="1054440"/>
            <a:chOff x="1066680" y="5180040"/>
            <a:chExt cx="2271960" cy="1054440"/>
          </a:xfrm>
        </p:grpSpPr>
        <p:grpSp>
          <p:nvGrpSpPr>
            <p:cNvPr id="319" name=""/>
            <p:cNvGrpSpPr/>
            <p:nvPr/>
          </p:nvGrpSpPr>
          <p:grpSpPr>
            <a:xfrm>
              <a:off x="1066680" y="5180040"/>
              <a:ext cx="419400" cy="1054440"/>
              <a:chOff x="1066680" y="5180040"/>
              <a:chExt cx="419400" cy="1054440"/>
            </a:xfrm>
          </p:grpSpPr>
          <p:sp>
            <p:nvSpPr>
              <p:cNvPr id="320" name=""/>
              <p:cNvSpPr/>
              <p:nvPr/>
            </p:nvSpPr>
            <p:spPr>
              <a:xfrm>
                <a:off x="1099440" y="51800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066680" y="5713200"/>
                <a:ext cx="38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101240" y="56530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468080" y="5465880"/>
              <a:ext cx="187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＝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÷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 3 </a:t>
              </a: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＝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324320" y="5268960"/>
            <a:ext cx="2367000" cy="1057320"/>
            <a:chOff x="4324320" y="5268960"/>
            <a:chExt cx="2367000" cy="1057320"/>
          </a:xfrm>
        </p:grpSpPr>
        <p:grpSp>
          <p:nvGrpSpPr>
            <p:cNvPr id="325" name=""/>
            <p:cNvGrpSpPr/>
            <p:nvPr/>
          </p:nvGrpSpPr>
          <p:grpSpPr>
            <a:xfrm>
              <a:off x="4324320" y="5268960"/>
              <a:ext cx="457200" cy="1057320"/>
              <a:chOff x="4324320" y="5268960"/>
              <a:chExt cx="457200" cy="1057320"/>
            </a:xfrm>
          </p:grpSpPr>
          <p:sp>
            <p:nvSpPr>
              <p:cNvPr id="326" name=""/>
              <p:cNvSpPr/>
              <p:nvPr/>
            </p:nvSpPr>
            <p:spPr>
              <a:xfrm>
                <a:off x="4366800" y="52689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324320" y="578772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57080" y="57448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4820760" y="5526000"/>
              <a:ext cx="187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＝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÷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 4 </a:t>
              </a: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＝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066680" y="3381480"/>
            <a:ext cx="6312600" cy="1104840"/>
            <a:chOff x="1066680" y="3381480"/>
            <a:chExt cx="6312600" cy="1104840"/>
          </a:xfrm>
        </p:grpSpPr>
        <p:grpSp>
          <p:nvGrpSpPr>
            <p:cNvPr id="331" name=""/>
            <p:cNvGrpSpPr/>
            <p:nvPr/>
          </p:nvGrpSpPr>
          <p:grpSpPr>
            <a:xfrm>
              <a:off x="1066680" y="3429000"/>
              <a:ext cx="457200" cy="1057320"/>
              <a:chOff x="1066680" y="3429000"/>
              <a:chExt cx="457200" cy="1057320"/>
            </a:xfrm>
          </p:grpSpPr>
          <p:sp>
            <p:nvSpPr>
              <p:cNvPr id="332" name=""/>
              <p:cNvSpPr/>
              <p:nvPr/>
            </p:nvSpPr>
            <p:spPr>
              <a:xfrm>
                <a:off x="1109160" y="34290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66680" y="394776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099440" y="39049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1533240" y="3672000"/>
              <a:ext cx="9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是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8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个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2438280" y="3381480"/>
              <a:ext cx="419400" cy="1054440"/>
              <a:chOff x="2438280" y="3381480"/>
              <a:chExt cx="419400" cy="1054440"/>
            </a:xfrm>
          </p:grpSpPr>
          <p:sp>
            <p:nvSpPr>
              <p:cNvPr id="337" name=""/>
              <p:cNvSpPr/>
              <p:nvPr/>
            </p:nvSpPr>
            <p:spPr>
              <a:xfrm>
                <a:off x="2471040" y="33814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438280" y="3914640"/>
                <a:ext cx="38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472840" y="38545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2968200" y="36669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72640" y="36147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正好是两个圆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59120" y="3624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所以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628680" y="3681360"/>
              <a:ext cx="75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＝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6248520" y="3425760"/>
              <a:ext cx="457200" cy="1057680"/>
              <a:chOff x="6248520" y="3425760"/>
              <a:chExt cx="457200" cy="1057680"/>
            </a:xfrm>
          </p:grpSpPr>
          <p:sp>
            <p:nvSpPr>
              <p:cNvPr id="345" name=""/>
              <p:cNvSpPr/>
              <p:nvPr/>
            </p:nvSpPr>
            <p:spPr>
              <a:xfrm>
                <a:off x="6291000" y="34257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248520" y="394488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281280" y="39020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276560" y="2286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把下面的假分数化成整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219320" y="843120"/>
            <a:ext cx="457200" cy="1048320"/>
            <a:chOff x="1219320" y="843120"/>
            <a:chExt cx="457200" cy="1048320"/>
          </a:xfrm>
        </p:grpSpPr>
        <p:sp>
          <p:nvSpPr>
            <p:cNvPr id="350" name=""/>
            <p:cNvSpPr/>
            <p:nvPr/>
          </p:nvSpPr>
          <p:spPr>
            <a:xfrm>
              <a:off x="1261800" y="843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19320" y="1357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71160" y="1310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2523960" y="838080"/>
            <a:ext cx="457200" cy="1054440"/>
            <a:chOff x="2523960" y="838080"/>
            <a:chExt cx="457200" cy="1054440"/>
          </a:xfrm>
        </p:grpSpPr>
        <p:sp>
          <p:nvSpPr>
            <p:cNvPr id="354" name=""/>
            <p:cNvSpPr/>
            <p:nvPr/>
          </p:nvSpPr>
          <p:spPr>
            <a:xfrm>
              <a:off x="2566080" y="838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23960" y="135720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66080" y="1311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848040" y="838080"/>
            <a:ext cx="457200" cy="1053000"/>
            <a:chOff x="3848040" y="838080"/>
            <a:chExt cx="457200" cy="1053000"/>
          </a:xfrm>
        </p:grpSpPr>
        <p:sp>
          <p:nvSpPr>
            <p:cNvPr id="358" name=""/>
            <p:cNvSpPr/>
            <p:nvPr/>
          </p:nvSpPr>
          <p:spPr>
            <a:xfrm>
              <a:off x="3862080" y="838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48040" y="135720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54160" y="13096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928040" y="838080"/>
            <a:ext cx="589320" cy="1053000"/>
            <a:chOff x="4928040" y="838080"/>
            <a:chExt cx="589320" cy="1053000"/>
          </a:xfrm>
        </p:grpSpPr>
        <p:sp>
          <p:nvSpPr>
            <p:cNvPr id="362" name=""/>
            <p:cNvSpPr/>
            <p:nvPr/>
          </p:nvSpPr>
          <p:spPr>
            <a:xfrm>
              <a:off x="4928040" y="8380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62600" y="13572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25600" y="13096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219320" y="2457360"/>
            <a:ext cx="2611440" cy="1048320"/>
            <a:chOff x="1219320" y="2457360"/>
            <a:chExt cx="2611440" cy="1048320"/>
          </a:xfrm>
        </p:grpSpPr>
        <p:grpSp>
          <p:nvGrpSpPr>
            <p:cNvPr id="366" name=""/>
            <p:cNvGrpSpPr/>
            <p:nvPr/>
          </p:nvGrpSpPr>
          <p:grpSpPr>
            <a:xfrm>
              <a:off x="1219320" y="2457360"/>
              <a:ext cx="457200" cy="1048320"/>
              <a:chOff x="1219320" y="2457360"/>
              <a:chExt cx="457200" cy="1048320"/>
            </a:xfrm>
          </p:grpSpPr>
          <p:sp>
            <p:nvSpPr>
              <p:cNvPr id="367" name=""/>
              <p:cNvSpPr/>
              <p:nvPr/>
            </p:nvSpPr>
            <p:spPr>
              <a:xfrm>
                <a:off x="1261800" y="24573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219320" y="297180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271160" y="29242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1715760" y="2662200"/>
              <a:ext cx="211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宋体"/>
                </a:rPr>
                <a:t>＝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r>
                <a:rPr b="0" lang="zh-CN" sz="3200" spc="-1" strike="noStrike">
                  <a:solidFill>
                    <a:srgbClr val="ffffff"/>
                  </a:solidFill>
                  <a:latin typeface="宋体"/>
                </a:rPr>
                <a:t>÷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 2 </a:t>
              </a:r>
              <a:r>
                <a:rPr b="0" lang="zh-CN" sz="3200" spc="-1" strike="noStrike">
                  <a:solidFill>
                    <a:srgbClr val="ffffff"/>
                  </a:solidFill>
                  <a:latin typeface="宋体"/>
                </a:rPr>
                <a:t>＝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257800" y="2452680"/>
            <a:ext cx="2603520" cy="1054440"/>
            <a:chOff x="5257800" y="2452680"/>
            <a:chExt cx="2603520" cy="1054440"/>
          </a:xfrm>
        </p:grpSpPr>
        <p:grpSp>
          <p:nvGrpSpPr>
            <p:cNvPr id="372" name=""/>
            <p:cNvGrpSpPr/>
            <p:nvPr/>
          </p:nvGrpSpPr>
          <p:grpSpPr>
            <a:xfrm>
              <a:off x="5257800" y="2452680"/>
              <a:ext cx="457200" cy="1054440"/>
              <a:chOff x="5257800" y="2452680"/>
              <a:chExt cx="457200" cy="1054440"/>
            </a:xfrm>
          </p:grpSpPr>
          <p:sp>
            <p:nvSpPr>
              <p:cNvPr id="373" name=""/>
              <p:cNvSpPr/>
              <p:nvPr/>
            </p:nvSpPr>
            <p:spPr>
              <a:xfrm>
                <a:off x="5299920" y="24526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257800" y="297180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299920" y="29257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5746320" y="2681280"/>
              <a:ext cx="211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宋体"/>
                </a:rPr>
                <a:t>＝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r>
                <a:rPr b="0" lang="zh-CN" sz="3200" spc="-1" strike="noStrike">
                  <a:solidFill>
                    <a:srgbClr val="ffffff"/>
                  </a:solidFill>
                  <a:latin typeface="宋体"/>
                </a:rPr>
                <a:t>÷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 3 </a:t>
              </a:r>
              <a:r>
                <a:rPr b="0" lang="zh-CN" sz="3200" spc="-1" strike="noStrike">
                  <a:solidFill>
                    <a:srgbClr val="ffffff"/>
                  </a:solidFill>
                  <a:latin typeface="宋体"/>
                </a:rPr>
                <a:t>＝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241280" y="4421160"/>
            <a:ext cx="2605320" cy="1053000"/>
            <a:chOff x="1241280" y="4421160"/>
            <a:chExt cx="2605320" cy="1053000"/>
          </a:xfrm>
        </p:grpSpPr>
        <p:grpSp>
          <p:nvGrpSpPr>
            <p:cNvPr id="378" name=""/>
            <p:cNvGrpSpPr/>
            <p:nvPr/>
          </p:nvGrpSpPr>
          <p:grpSpPr>
            <a:xfrm>
              <a:off x="1241280" y="4421160"/>
              <a:ext cx="457200" cy="1053000"/>
              <a:chOff x="1241280" y="4421160"/>
              <a:chExt cx="457200" cy="1053000"/>
            </a:xfrm>
          </p:grpSpPr>
          <p:sp>
            <p:nvSpPr>
              <p:cNvPr id="379" name=""/>
              <p:cNvSpPr/>
              <p:nvPr/>
            </p:nvSpPr>
            <p:spPr>
              <a:xfrm>
                <a:off x="1255320" y="44211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241280" y="494028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247400" y="48927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1731600" y="4648320"/>
              <a:ext cx="211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宋体"/>
                </a:rPr>
                <a:t>＝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0" lang="zh-CN" sz="3200" spc="-1" strike="noStrike">
                  <a:solidFill>
                    <a:srgbClr val="ffffff"/>
                  </a:solidFill>
                  <a:latin typeface="宋体"/>
                </a:rPr>
                <a:t>÷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 4 </a:t>
              </a:r>
              <a:r>
                <a:rPr b="0" lang="zh-CN" sz="3200" spc="-1" strike="noStrike">
                  <a:solidFill>
                    <a:srgbClr val="ffffff"/>
                  </a:solidFill>
                  <a:latin typeface="宋体"/>
                </a:rPr>
                <a:t>＝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5226480" y="4419720"/>
            <a:ext cx="2902320" cy="1053000"/>
            <a:chOff x="5226480" y="4419720"/>
            <a:chExt cx="2902320" cy="1053000"/>
          </a:xfrm>
        </p:grpSpPr>
        <p:grpSp>
          <p:nvGrpSpPr>
            <p:cNvPr id="384" name=""/>
            <p:cNvGrpSpPr/>
            <p:nvPr/>
          </p:nvGrpSpPr>
          <p:grpSpPr>
            <a:xfrm>
              <a:off x="5226480" y="4419720"/>
              <a:ext cx="589320" cy="1053000"/>
              <a:chOff x="5226480" y="4419720"/>
              <a:chExt cx="589320" cy="1053000"/>
            </a:xfrm>
          </p:grpSpPr>
          <p:sp>
            <p:nvSpPr>
              <p:cNvPr id="385" name=""/>
              <p:cNvSpPr/>
              <p:nvPr/>
            </p:nvSpPr>
            <p:spPr>
              <a:xfrm>
                <a:off x="5226480" y="441972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1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261040" y="493884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324040" y="48913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5809320" y="4648320"/>
              <a:ext cx="231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宋体"/>
                </a:rPr>
                <a:t>＝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r>
                <a:rPr b="0" lang="zh-CN" sz="3200" spc="-1" strike="noStrike">
                  <a:solidFill>
                    <a:srgbClr val="ffffff"/>
                  </a:solidFill>
                  <a:latin typeface="宋体"/>
                </a:rPr>
                <a:t>÷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 6 </a:t>
              </a:r>
              <a:r>
                <a:rPr b="0" lang="zh-CN" sz="3200" spc="-1" strike="noStrike">
                  <a:solidFill>
                    <a:srgbClr val="ffffff"/>
                  </a:solidFill>
                  <a:latin typeface="宋体"/>
                </a:rPr>
                <a:t>＝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03:13:58Z</dcterms:created>
  <dc:creator>yangjiuling</dc:creator>
  <dc:description/>
  <dc:language>en-US</dc:language>
  <cp:lastModifiedBy>yangjiuling</cp:lastModifiedBy>
  <dcterms:modified xsi:type="dcterms:W3CDTF">2003-04-07T08:53:23Z</dcterms:modified>
  <cp:revision>4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记录日期">
    <vt:filetime>2011-04-02T16:00:00Z</vt:filetime>
  </property>
</Properties>
</file>