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0.png" ContentType="image/png"/>
  <Override PartName="/ppt/media/applause.wav" ContentType="audio/x-wav"/>
  <Override PartName="/ppt/media/image5.png" ContentType="image/png"/>
  <Override PartName="/ppt/media/image13.wmf" ContentType="image/x-wmf"/>
  <Override PartName="/ppt/media/image24.wmf" ContentType="image/x-wmf"/>
  <Override PartName="/ppt/media/image23.wmf" ContentType="image/x-wmf"/>
  <Override PartName="/ppt/media/image11.wmf" ContentType="image/x-wmf"/>
  <Override PartName="/ppt/media/image21.wmf" ContentType="image/x-wmf"/>
  <Override PartName="/ppt/media/image19.wmf" ContentType="image/x-wmf"/>
  <Override PartName="/ppt/media/image15.wmf" ContentType="image/x-wmf"/>
  <Override PartName="/ppt/media/image1.png" ContentType="image/png"/>
  <Override PartName="/ppt/media/image2.png" ContentType="image/png"/>
  <Override PartName="/ppt/media/image22.gif" ContentType="image/gif"/>
  <Override PartName="/ppt/media/camera.wav" ContentType="audio/x-wav"/>
  <Override PartName="/ppt/media/image3.gif" ContentType="image/gi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710-EFDC-41C5-8B9E-9EB5588C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ED7-2D0B-4C82-B0E9-EF2D447F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2D7-5151-4A65-BDD5-2D3C6933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950-25B2-4E86-B92A-5CEBA463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4EA8-C2AB-458C-B0FB-B3962BCA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ABED-146C-4573-A0AA-BF483387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DC29-1B46-40C5-AA21-D55E8232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1D99-6DD2-4CDE-8613-8E970CEE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F200-6C0A-4276-93BE-ECEB9797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D8DA-9AF2-45D7-A333-C04418D3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C1FF-B668-4CFB-8076-BBCE83D6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B37-D83F-4CE0-8AB5-688C3C1E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6E1D-8045-485B-9C8A-FC0DD571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94D1-7AFE-4659-8C38-FDF6229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7744-63DC-46FE-849B-1F64C74C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DEAE-D33C-4609-B922-24D837E8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FB1B-A35C-4DED-B48C-1F0E5582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870-6736-4A84-BD35-D84CB651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551-12CA-4622-9BE8-2B05C8FE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A55-28C1-45AC-9558-4D7F7C7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5C3-D24E-4289-A884-6E9EC68A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8FD-3B09-437A-8337-B093EC0C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FE5-CD3B-4956-9688-D4EDC221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DEE-1EC1-40B9-BD40-E688C7DB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E8BC-6356-4404-AE93-318FD6B2293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C8F9-F339-4B77-A902-BAE62EF2E41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7.gi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7.gif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gif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3.gif"/><Relationship Id="rId5" Type="http://schemas.openxmlformats.org/officeDocument/2006/relationships/image" Target="../media/image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5120" y="266688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0f709"/>
                </a:solidFill>
                <a:latin typeface="Times New Roman"/>
                <a:ea typeface="黑体"/>
              </a:rPr>
              <a:t>分数的基本性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义务教育六年制小学数学第十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143000" y="632448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6200" y="17524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，分数的大小不变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84464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除外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大小不变，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00400"/>
            <a:ext cx="4952880" cy="2133720"/>
          </a:xfrm>
          <a:prstGeom prst="cloudCallout">
            <a:avLst>
              <a:gd name="adj1" fmla="val -28847"/>
              <a:gd name="adj2" fmla="val 1383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右边那样列式行吗？为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2200" y="32004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除外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0" r="331" b="0"/>
          <a:stretch/>
        </p:blipFill>
        <p:spPr>
          <a:xfrm>
            <a:off x="0" y="4724280"/>
            <a:ext cx="1484280" cy="2133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3962160" cy="167616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-380880" y="2514600"/>
            <a:ext cx="9524880" cy="4842360"/>
            <a:chOff x="-380880" y="2514600"/>
            <a:chExt cx="9524880" cy="4842360"/>
          </a:xfrm>
        </p:grpSpPr>
        <p:sp>
          <p:nvSpPr>
            <p:cNvPr id="226" name=""/>
            <p:cNvSpPr/>
            <p:nvPr/>
          </p:nvSpPr>
          <p:spPr>
            <a:xfrm>
              <a:off x="2514600" y="2514600"/>
              <a:ext cx="6629400" cy="48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</a:rPr>
                <a:t>这叫做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分数的基本性质</a:t>
              </a: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-380880" y="3200400"/>
              <a:ext cx="464796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80880" y="114300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分子和分母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  <a:ea typeface="黑体"/>
              </a:rPr>
              <a:t>同时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乘上或者除以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  <a:ea typeface="黑体"/>
              </a:rPr>
              <a:t>相同的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2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380880"/>
            <a:ext cx="876312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zh-CN" sz="4800" spc="-1" strike="noStrike">
                <a:solidFill>
                  <a:srgbClr val="ff0033"/>
                </a:solidFill>
                <a:latin typeface="Times New Roman"/>
                <a:ea typeface="隶书"/>
              </a:rPr>
              <a:t>练一练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判断：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分数的分子、分母都乘上或除以相同的数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分数的大小不变。   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     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把      的分子缩小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倍，分母也同时缩小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倍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分数的大小不变。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     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1128600" cy="941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734760" cy="1143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848720" y="592776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33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24680" y="3200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×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3581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28800" y="3048120"/>
            <a:ext cx="2362320" cy="825120"/>
            <a:chOff x="1828800" y="3048120"/>
            <a:chExt cx="2362320" cy="825120"/>
          </a:xfrm>
        </p:grpSpPr>
        <p:sp>
          <p:nvSpPr>
            <p:cNvPr id="236" name=""/>
            <p:cNvSpPr/>
            <p:nvPr/>
          </p:nvSpPr>
          <p:spPr>
            <a:xfrm>
              <a:off x="1828800" y="3200400"/>
              <a:ext cx="2362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720" y="304812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0</a:t>
              </a:r>
              <a:r>
                <a:rPr b="0" lang="zh-CN" sz="48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除外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1447920"/>
            <a:ext cx="7848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）      的分子乘上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，分母除以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，分数的大小不变。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（       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）                                              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（       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81108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133720" y="3949560"/>
            <a:ext cx="6705360" cy="138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781680" y="5334120"/>
            <a:ext cx="1067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2895480"/>
            <a:ext cx="990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477120" y="304920"/>
            <a:ext cx="1128600" cy="94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28600" y="4267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2286000"/>
            <a:ext cx="1218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124080"/>
            <a:ext cx="1218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241200"/>
            <a:ext cx="87631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根据以下的问题完成课本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08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页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把       化成分母是</a:t>
            </a:r>
            <a:r>
              <a:rPr b="1" lang="zh-CN" sz="48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而大小不变的分数，分母要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乘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，分子要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乘上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多少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才能使分数的大小不变？根据是什么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2514600"/>
            <a:ext cx="83844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2093760"/>
            <a:ext cx="83844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3520" y="838080"/>
            <a:ext cx="81532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填上合适的数，说说你填写的根据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52480" y="5181480"/>
            <a:ext cx="7391520" cy="1600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133720" y="3581280"/>
            <a:ext cx="4114800" cy="1600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2133720" y="1935000"/>
            <a:ext cx="6172200" cy="1798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8244000" y="76320"/>
            <a:ext cx="1128600" cy="941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952880" y="2895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86600" y="28954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3733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59436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05720" y="594360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19810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9436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52578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44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33"/>
                </a:solidFill>
                <a:latin typeface="Times New Roman"/>
                <a:ea typeface="隶书"/>
              </a:rPr>
              <a:t>练一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458200" y="304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camera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905120" y="220968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0f709"/>
                </a:solidFill>
                <a:latin typeface="Times New Roman"/>
                <a:ea typeface="黑体"/>
              </a:rPr>
              <a:t>分数的基本性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义务教育六年制小学数学第十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3352680"/>
            <a:ext cx="8153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课堂作业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练习二十三    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8380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这节课我们学习了什么内容？可以应用在什么地方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867280" y="57150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方正隶书简体"/>
              </a:rPr>
              <a:t>2004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方正隶书简体"/>
              </a:rPr>
              <a:t>年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方正隶书简体"/>
              </a:rPr>
              <a:t>4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方正隶书简体"/>
              </a:rPr>
              <a:t>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743200" y="2133720"/>
            <a:ext cx="3429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867280" y="57150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方正隶书简体"/>
              </a:rPr>
              <a:t>2004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方正隶书简体"/>
              </a:rPr>
              <a:t>年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方正隶书简体"/>
              </a:rPr>
              <a:t>4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方正隶书简体"/>
              </a:rPr>
              <a:t>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3200" y="2133720"/>
            <a:ext cx="3429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2743200" y="2133720"/>
            <a:ext cx="3429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553080"/>
            <a:ext cx="53316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9480" y="380880"/>
            <a:ext cx="274320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2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选择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066680"/>
            <a:ext cx="7086600" cy="56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一、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激趣引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二、</a:t>
            </a:r>
            <a:r>
              <a:rPr b="0" lang="zh-CN" sz="4000" spc="-1" strike="noStrike" u="sng">
                <a:solidFill>
                  <a:srgbClr val="f3f907"/>
                </a:solidFill>
                <a:uFillTx/>
                <a:latin typeface="Times New Roman"/>
                <a:ea typeface="黑体"/>
                <a:hlinkClick r:id="rId3" action="ppaction://hlinksldjump"/>
              </a:rPr>
              <a:t>新知探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4000" spc="-1" strike="noStrike" u="sng">
                <a:solidFill>
                  <a:srgbClr val="f3f907"/>
                </a:solidFill>
                <a:uFillTx/>
                <a:latin typeface="Times New Roman"/>
                <a:hlinkClick r:id="rId4" action="ppaction://hlinksldjump"/>
              </a:rPr>
              <a:t>说一说   </a:t>
            </a:r>
            <a:r>
              <a:rPr b="0" lang="zh-CN" sz="4000" spc="-1" strike="noStrike" u="sng">
                <a:solidFill>
                  <a:srgbClr val="f3f907"/>
                </a:solidFill>
                <a:uFillTx/>
                <a:latin typeface="Times New Roman"/>
                <a:hlinkClick r:id="rId5" action="ppaction://hlinksldjump"/>
              </a:rPr>
              <a:t>折一折   </a:t>
            </a:r>
            <a:r>
              <a:rPr b="0" lang="zh-CN" sz="4000" spc="-1" strike="noStrike" u="sng">
                <a:solidFill>
                  <a:srgbClr val="f3f907"/>
                </a:solidFill>
                <a:uFillTx/>
                <a:latin typeface="Times New Roman"/>
                <a:hlinkClick r:id="rId6" action="ppaction://hlinksldjump"/>
              </a:rPr>
              <a:t>想一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三、</a:t>
            </a:r>
            <a:r>
              <a:rPr b="0" lang="zh-CN" sz="4000" spc="-1" strike="noStrike" u="sng">
                <a:solidFill>
                  <a:srgbClr val="f3f907"/>
                </a:solidFill>
                <a:uFillTx/>
                <a:latin typeface="Times New Roman"/>
                <a:ea typeface="黑体"/>
                <a:hlinkClick r:id="rId7" action="ppaction://hlinksldjump"/>
              </a:rPr>
              <a:t>巩固新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4000" spc="-1" strike="noStrike" u="sng">
                <a:solidFill>
                  <a:srgbClr val="f3f907"/>
                </a:solidFill>
                <a:uFillTx/>
                <a:latin typeface="Times New Roman"/>
                <a:hlinkClick r:id="rId8" action="ppaction://hlinksldjump"/>
              </a:rPr>
              <a:t>练一练   </a:t>
            </a:r>
            <a:r>
              <a:rPr b="0" lang="zh-CN" sz="4000" spc="-1" strike="noStrike" u="sng">
                <a:solidFill>
                  <a:srgbClr val="f3f907"/>
                </a:solidFill>
                <a:uFillTx/>
                <a:latin typeface="Times New Roman"/>
                <a:hlinkClick r:id="rId9" action="ppaction://hlinksldjump"/>
              </a:rPr>
              <a:t>找一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四、扩展延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52400" y="423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水柱简体"/>
              </a:rPr>
              <a:t>分数的基本性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743200" y="2133720"/>
            <a:ext cx="3429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8080"/>
            <a:ext cx="8915400" cy="26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与     相等的分数有多少个？想象一下把手中长方形的纸无限地平分下去，可得到多少个与      相等的分数？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743200" y="644400"/>
            <a:ext cx="963720" cy="1336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958080" y="2362320"/>
            <a:ext cx="1042920" cy="1447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7543800" y="4495680"/>
            <a:ext cx="1252440" cy="13795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8580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方正美黑简体"/>
              </a:rPr>
              <a:t>想一想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（</a:t>
            </a:r>
            <a:r>
              <a:rPr b="0" lang="zh-CN" sz="3600" spc="-1" strike="noStrike">
                <a:solidFill>
                  <a:srgbClr val="ff0033"/>
                </a:solidFill>
                <a:latin typeface="Times New Roman"/>
                <a:ea typeface="仿宋_GB2312"/>
              </a:rPr>
              <a:t>选择你喜欢的一题来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375080"/>
            <a:ext cx="7010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       和         那一个数大一些，你能讲出判断的依据吗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3657600" y="4048200"/>
            <a:ext cx="1447920" cy="1285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1854360" y="4114800"/>
            <a:ext cx="1346040" cy="1193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6" name="camera.wav"/>
      </p:stSnd>
    </p:sndAc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09480" y="1905120"/>
            <a:ext cx="85345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在除法里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被除数和除数同时扩大或缩小相同的倍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380988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33"/>
                </a:solidFill>
                <a:latin typeface="Times New Roman"/>
              </a:rPr>
              <a:t>（</a:t>
            </a:r>
            <a:r>
              <a:rPr b="0" lang="zh-CN" sz="54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zh-CN" sz="5400" spc="-1" strike="noStrike">
                <a:solidFill>
                  <a:srgbClr val="ff0033"/>
                </a:solidFill>
                <a:latin typeface="Times New Roman"/>
              </a:rPr>
              <a:t>除外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73392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，商不变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9907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商不变的性质</a:t>
            </a:r>
            <a:r>
              <a:rPr b="1" lang="zh-CN" sz="5400" spc="-1" strike="noStrike">
                <a:solidFill>
                  <a:srgbClr val="ff0033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172200" y="6095880"/>
            <a:ext cx="609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3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200"/>
                            </p:stCondLst>
                            <p:childTnLst>
                              <p:par>
                                <p:cTn id="41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700"/>
                            </p:stCondLst>
                            <p:childTnLst>
                              <p:par>
                                <p:cTn id="421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914400"/>
            <a:ext cx="563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28600"/>
            <a:ext cx="8839080" cy="46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一、复习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.  120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÷30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的商是多少？被除数和除数都扩大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倍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商是多少？被除数和除数都缩小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倍呢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1295280"/>
            <a:ext cx="190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,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52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5400" spc="-1" strike="noStrike">
                <a:solidFill>
                  <a:srgbClr val="ff0033"/>
                </a:solidFill>
                <a:latin typeface="Times New Roman"/>
              </a:rPr>
              <a:t>商还是</a:t>
            </a:r>
            <a:r>
              <a:rPr b="1" lang="zh-CN" sz="7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6259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 ,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05920" y="22860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3886200"/>
            <a:ext cx="4789440" cy="2971800"/>
          </a:xfrm>
          <a:prstGeom prst="cloudCallout">
            <a:avLst>
              <a:gd name="adj1" fmla="val 62597"/>
              <a:gd name="adj2" fmla="val -7638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在下面□中填上合适的数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60020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÷2=(1×5) ÷(2×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□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(1÷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□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) ÷(2÷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19840" y="4229280"/>
            <a:ext cx="2324160" cy="262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81760" y="1690560"/>
            <a:ext cx="58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27720" y="2604960"/>
            <a:ext cx="50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548400"/>
            <a:ext cx="532080" cy="30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934320" y="6553080"/>
            <a:ext cx="53316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762120" y="-96840"/>
            <a:ext cx="7924680" cy="1951920"/>
            <a:chOff x="762120" y="-96840"/>
            <a:chExt cx="7924680" cy="1951920"/>
          </a:xfrm>
        </p:grpSpPr>
        <p:sp>
          <p:nvSpPr>
            <p:cNvPr id="112" name=""/>
            <p:cNvSpPr/>
            <p:nvPr/>
          </p:nvSpPr>
          <p:spPr>
            <a:xfrm>
              <a:off x="762120" y="-96840"/>
              <a:ext cx="7924680" cy="19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                              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被除数</a:t>
              </a: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÷</a:t>
              </a: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除数</a:t>
              </a: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=  ————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                              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080" y="208080"/>
              <a:ext cx="2111400" cy="14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被除数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除数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523880" y="434340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是根据什么填入上面的数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4114800" cy="1312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商不变的性质”的内容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419720"/>
            <a:ext cx="3886200" cy="1312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除法与分数之间有什么联系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90720" y="1676520"/>
            <a:ext cx="7391160" cy="1909800"/>
            <a:chOff x="990720" y="1676520"/>
            <a:chExt cx="7391160" cy="1909800"/>
          </a:xfrm>
        </p:grpSpPr>
        <p:sp>
          <p:nvSpPr>
            <p:cNvPr id="118" name=""/>
            <p:cNvSpPr/>
            <p:nvPr/>
          </p:nvSpPr>
          <p:spPr>
            <a:xfrm>
              <a:off x="990720" y="1839960"/>
              <a:ext cx="739116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0033"/>
                  </a:solidFill>
                  <a:latin typeface="Times New Roman"/>
                </a:rPr>
                <a:t>                                     </a:t>
              </a:r>
              <a:r>
                <a:rPr b="0" lang="zh-CN" sz="7200" spc="-1" strike="noStrike">
                  <a:solidFill>
                    <a:srgbClr val="ff0033"/>
                  </a:solidFill>
                  <a:latin typeface="Times New Roman"/>
                </a:rPr>
                <a:t>1÷2   =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5562720" y="1676520"/>
              <a:ext cx="8776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1066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685800" y="685800"/>
            <a:ext cx="8077320" cy="2440800"/>
            <a:chOff x="685800" y="685800"/>
            <a:chExt cx="8077320" cy="2440800"/>
          </a:xfrm>
        </p:grpSpPr>
        <p:sp>
          <p:nvSpPr>
            <p:cNvPr id="122" name=""/>
            <p:cNvSpPr/>
            <p:nvPr/>
          </p:nvSpPr>
          <p:spPr>
            <a:xfrm>
              <a:off x="685800" y="838080"/>
              <a:ext cx="8077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zh-CN" sz="6000" spc="-1" strike="noStrike">
                  <a:solidFill>
                    <a:srgbClr val="ffffff"/>
                  </a:solidFill>
                  <a:latin typeface="Times New Roman"/>
                </a:rPr>
                <a:t>与       相等吗？你们有什么办法能证明它们相等？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3124080" y="685800"/>
              <a:ext cx="1754280" cy="168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1219320" y="1042920"/>
              <a:ext cx="838080" cy="1262880"/>
              <a:chOff x="1219320" y="1042920"/>
              <a:chExt cx="838080" cy="1262880"/>
            </a:xfrm>
          </p:grpSpPr>
          <p:sp>
            <p:nvSpPr>
              <p:cNvPr id="125" name=""/>
              <p:cNvSpPr/>
              <p:nvPr/>
            </p:nvSpPr>
            <p:spPr>
              <a:xfrm>
                <a:off x="1330200" y="1042920"/>
                <a:ext cx="72684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5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5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5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19320" y="1520640"/>
                <a:ext cx="838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2080" y="380880"/>
            <a:ext cx="1643040" cy="3429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380880"/>
            <a:ext cx="1676160" cy="3428280"/>
            <a:chOff x="228600" y="380880"/>
            <a:chExt cx="1676160" cy="3428280"/>
          </a:xfrm>
        </p:grpSpPr>
        <p:sp>
          <p:nvSpPr>
            <p:cNvPr id="129" name=""/>
            <p:cNvSpPr/>
            <p:nvPr/>
          </p:nvSpPr>
          <p:spPr>
            <a:xfrm>
              <a:off x="228600" y="380880"/>
              <a:ext cx="1676160" cy="1713600"/>
            </a:xfrm>
            <a:prstGeom prst="rect">
              <a:avLst/>
            </a:prstGeom>
            <a:solidFill>
              <a:srgbClr val="05fb11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2094480"/>
              <a:ext cx="1676160" cy="171468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3200" y="4876920"/>
            <a:ext cx="1981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2680" y="4191120"/>
            <a:ext cx="1750680" cy="2390400"/>
            <a:chOff x="382680" y="4191120"/>
            <a:chExt cx="1750680" cy="2390400"/>
          </a:xfrm>
        </p:grpSpPr>
        <p:sp>
          <p:nvSpPr>
            <p:cNvPr id="133" name=""/>
            <p:cNvSpPr/>
            <p:nvPr/>
          </p:nvSpPr>
          <p:spPr>
            <a:xfrm>
              <a:off x="382680" y="4482000"/>
              <a:ext cx="140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9000" y="4191120"/>
              <a:ext cx="1314360" cy="23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743200" y="380880"/>
            <a:ext cx="1676160" cy="6385680"/>
            <a:chOff x="2743200" y="380880"/>
            <a:chExt cx="1676160" cy="6385680"/>
          </a:xfrm>
        </p:grpSpPr>
        <p:grpSp>
          <p:nvGrpSpPr>
            <p:cNvPr id="136" name=""/>
            <p:cNvGrpSpPr/>
            <p:nvPr/>
          </p:nvGrpSpPr>
          <p:grpSpPr>
            <a:xfrm>
              <a:off x="2743200" y="380880"/>
              <a:ext cx="1676160" cy="3456720"/>
              <a:chOff x="2743200" y="380880"/>
              <a:chExt cx="1676160" cy="3456720"/>
            </a:xfrm>
          </p:grpSpPr>
          <p:sp>
            <p:nvSpPr>
              <p:cNvPr id="137" name=""/>
              <p:cNvSpPr/>
              <p:nvPr/>
            </p:nvSpPr>
            <p:spPr>
              <a:xfrm>
                <a:off x="3581280" y="2108880"/>
                <a:ext cx="838080" cy="172872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81280" y="380880"/>
                <a:ext cx="838080" cy="1728000"/>
              </a:xfrm>
              <a:prstGeom prst="rect">
                <a:avLst/>
              </a:prstGeom>
              <a:solidFill>
                <a:srgbClr val="6ffd76"/>
              </a:solidFill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43200" y="2108880"/>
                <a:ext cx="838080" cy="172872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43200" y="380880"/>
                <a:ext cx="838080" cy="1728000"/>
              </a:xfrm>
              <a:prstGeom prst="rect">
                <a:avLst/>
              </a:prstGeom>
              <a:solidFill>
                <a:srgbClr val="6ffd76"/>
              </a:solidFill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865240" y="4529880"/>
              <a:ext cx="140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4376160"/>
              <a:ext cx="838080" cy="23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334120" y="380880"/>
            <a:ext cx="1676160" cy="6275160"/>
            <a:chOff x="5334120" y="380880"/>
            <a:chExt cx="1676160" cy="6275160"/>
          </a:xfrm>
        </p:grpSpPr>
        <p:grpSp>
          <p:nvGrpSpPr>
            <p:cNvPr id="144" name=""/>
            <p:cNvGrpSpPr/>
            <p:nvPr/>
          </p:nvGrpSpPr>
          <p:grpSpPr>
            <a:xfrm>
              <a:off x="5334120" y="380880"/>
              <a:ext cx="1675440" cy="3428280"/>
              <a:chOff x="5334120" y="380880"/>
              <a:chExt cx="1675440" cy="342828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5334120" y="422280"/>
                <a:ext cx="1675440" cy="3382560"/>
                <a:chOff x="5334120" y="422280"/>
                <a:chExt cx="1675440" cy="33825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171840" y="2113200"/>
                  <a:ext cx="837720" cy="1691640"/>
                </a:xfrm>
                <a:prstGeom prst="rect">
                  <a:avLst/>
                </a:prstGeom>
                <a:solidFill>
                  <a:srgbClr val="00ffff"/>
                </a:solidFill>
                <a:ln w="381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71840" y="422280"/>
                  <a:ext cx="837720" cy="1690920"/>
                </a:xfrm>
                <a:prstGeom prst="rect">
                  <a:avLst/>
                </a:prstGeom>
                <a:solidFill>
                  <a:srgbClr val="6ffd76"/>
                </a:solidFill>
                <a:ln w="381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334120" y="2113200"/>
                  <a:ext cx="837720" cy="1691640"/>
                </a:xfrm>
                <a:prstGeom prst="rect">
                  <a:avLst/>
                </a:prstGeom>
                <a:solidFill>
                  <a:srgbClr val="00ffff"/>
                </a:solidFill>
                <a:ln w="381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34120" y="422280"/>
                  <a:ext cx="837720" cy="1690920"/>
                </a:xfrm>
                <a:prstGeom prst="rect">
                  <a:avLst/>
                </a:prstGeom>
                <a:solidFill>
                  <a:srgbClr val="6ffd76"/>
                </a:solidFill>
                <a:ln w="381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5753880" y="422280"/>
                <a:ext cx="0" cy="338688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567840" y="380880"/>
                <a:ext cx="0" cy="338760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532480" y="4265640"/>
              <a:ext cx="1477800" cy="2390400"/>
              <a:chOff x="5532480" y="4265640"/>
              <a:chExt cx="1477800" cy="2390400"/>
            </a:xfrm>
          </p:grpSpPr>
          <p:sp>
            <p:nvSpPr>
              <p:cNvPr id="153" name=""/>
              <p:cNvSpPr/>
              <p:nvPr/>
            </p:nvSpPr>
            <p:spPr>
              <a:xfrm>
                <a:off x="5532480" y="4516200"/>
                <a:ext cx="1400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Times New Roman"/>
                  </a:rPr>
                  <a:t>——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43600" y="4265640"/>
                <a:ext cx="1066680" cy="23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2117880" y="1504800"/>
            <a:ext cx="473040" cy="725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2480" y="1504800"/>
            <a:ext cx="473040" cy="725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057400" y="4495680"/>
            <a:ext cx="5715000" cy="993240"/>
            <a:chOff x="2057400" y="4495680"/>
            <a:chExt cx="5715000" cy="993240"/>
          </a:xfrm>
        </p:grpSpPr>
        <p:sp>
          <p:nvSpPr>
            <p:cNvPr id="158" name=""/>
            <p:cNvSpPr/>
            <p:nvPr/>
          </p:nvSpPr>
          <p:spPr>
            <a:xfrm>
              <a:off x="2057400" y="4495680"/>
              <a:ext cx="6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0" y="4495680"/>
              <a:ext cx="53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4572000"/>
              <a:ext cx="4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23040" y="1506600"/>
            <a:ext cx="1835280" cy="3676320"/>
            <a:chOff x="7223040" y="1506600"/>
            <a:chExt cx="1835280" cy="3676320"/>
          </a:xfrm>
        </p:grpSpPr>
        <p:sp>
          <p:nvSpPr>
            <p:cNvPr id="162" name=""/>
            <p:cNvSpPr/>
            <p:nvPr/>
          </p:nvSpPr>
          <p:spPr>
            <a:xfrm>
              <a:off x="7223040" y="1506600"/>
              <a:ext cx="473040" cy="725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858080" y="1538280"/>
              <a:ext cx="1200240" cy="3644640"/>
              <a:chOff x="7858080" y="1538280"/>
              <a:chExt cx="1200240" cy="3644640"/>
            </a:xfrm>
          </p:grpSpPr>
          <p:sp>
            <p:nvSpPr>
              <p:cNvPr id="164" name=""/>
              <p:cNvSpPr/>
              <p:nvPr/>
            </p:nvSpPr>
            <p:spPr>
              <a:xfrm>
                <a:off x="7858080" y="1538280"/>
                <a:ext cx="113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……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24680" y="4662360"/>
                <a:ext cx="113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……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72400" y="6548400"/>
            <a:ext cx="53172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316160" cy="2286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633760" y="1523880"/>
            <a:ext cx="117612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257800" y="1523880"/>
            <a:ext cx="1405080" cy="2286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6520" y="22096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0520" y="2166840"/>
            <a:ext cx="61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7120" y="2166840"/>
            <a:ext cx="61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-2742840" y="-1276920"/>
            <a:ext cx="12009960" cy="12594600"/>
            <a:chOff x="-2742840" y="-1276920"/>
            <a:chExt cx="12009960" cy="12594600"/>
          </a:xfrm>
        </p:grpSpPr>
        <p:sp>
          <p:nvSpPr>
            <p:cNvPr id="174" name=""/>
            <p:cNvSpPr/>
            <p:nvPr/>
          </p:nvSpPr>
          <p:spPr>
            <a:xfrm rot="7285800">
              <a:off x="-10440" y="-193680"/>
              <a:ext cx="4657320" cy="37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381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8060000">
              <a:off x="-494280" y="903240"/>
              <a:ext cx="7513200" cy="9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1803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1803957"/>
                </a:path>
              </a:pathLst>
            </a:custGeom>
            <a:noFill/>
            <a:ln w="381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927920" y="2362320"/>
            <a:ext cx="9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-4084920" y="-3034800"/>
            <a:ext cx="17700840" cy="13905000"/>
            <a:chOff x="-4084920" y="-3034800"/>
            <a:chExt cx="17700840" cy="13905000"/>
          </a:xfrm>
        </p:grpSpPr>
        <p:sp>
          <p:nvSpPr>
            <p:cNvPr id="178" name=""/>
            <p:cNvSpPr/>
            <p:nvPr/>
          </p:nvSpPr>
          <p:spPr>
            <a:xfrm rot="6361200">
              <a:off x="-815400" y="-4331160"/>
              <a:ext cx="5609880" cy="110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786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786498"/>
                </a:path>
              </a:pathLst>
            </a:custGeom>
            <a:noFill/>
            <a:ln w="381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134800">
              <a:off x="2117880" y="-1608480"/>
              <a:ext cx="7530480" cy="1395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2999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2999655"/>
                </a:path>
              </a:pathLst>
            </a:custGeom>
            <a:noFill/>
            <a:ln w="381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1509840"/>
            <a:ext cx="1720080" cy="2545560"/>
            <a:chOff x="1219320" y="1509840"/>
            <a:chExt cx="1720080" cy="2545560"/>
          </a:xfrm>
        </p:grpSpPr>
        <p:sp>
          <p:nvSpPr>
            <p:cNvPr id="181" name=""/>
            <p:cNvSpPr/>
            <p:nvPr/>
          </p:nvSpPr>
          <p:spPr>
            <a:xfrm>
              <a:off x="1219320" y="2271600"/>
              <a:ext cx="172008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33"/>
                  </a:solidFill>
                  <a:latin typeface="Times New Roman"/>
                </a:rPr>
                <a:t>×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9320" y="1509840"/>
              <a:ext cx="1720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33"/>
                  </a:solidFill>
                  <a:latin typeface="Times New Roman"/>
                </a:rPr>
                <a:t>×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906720" y="1219320"/>
            <a:ext cx="1578960" cy="3105360"/>
            <a:chOff x="3906720" y="1219320"/>
            <a:chExt cx="1578960" cy="3105360"/>
          </a:xfrm>
        </p:grpSpPr>
        <p:sp>
          <p:nvSpPr>
            <p:cNvPr id="184" name=""/>
            <p:cNvSpPr/>
            <p:nvPr/>
          </p:nvSpPr>
          <p:spPr>
            <a:xfrm>
              <a:off x="3906720" y="2540880"/>
              <a:ext cx="157896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33"/>
                  </a:solidFill>
                  <a:latin typeface="Times New Roman"/>
                </a:rPr>
                <a:t>×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06720" y="1219320"/>
              <a:ext cx="157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33"/>
                  </a:solidFill>
                  <a:latin typeface="Times New Roman"/>
                </a:rPr>
                <a:t>×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-5146560" y="-5974200"/>
            <a:ext cx="12071520" cy="12510360"/>
            <a:chOff x="-5146560" y="-5974200"/>
            <a:chExt cx="12071520" cy="12510360"/>
          </a:xfrm>
        </p:grpSpPr>
        <p:sp>
          <p:nvSpPr>
            <p:cNvPr id="187" name=""/>
            <p:cNvSpPr/>
            <p:nvPr/>
          </p:nvSpPr>
          <p:spPr>
            <a:xfrm rot="18256800">
              <a:off x="-695160" y="1659600"/>
              <a:ext cx="4657320" cy="37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21" y="661"/>
                  </a:moveTo>
                  <a:arcTo wR="10800" hR="10800" stAng="-4190938" swAng="4529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21" y="661"/>
                  </a:moveTo>
                  <a:arcTo wR="10800" hR="10800" stAng="-4190938" swAng="4529318"/>
                </a:path>
              </a:pathLst>
            </a:custGeom>
            <a:noFill/>
            <a:ln w="381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430400">
              <a:off x="-2867400" y="-4957920"/>
              <a:ext cx="7513200" cy="94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9" y="1651"/>
                  </a:moveTo>
                  <a:arcTo wR="10800" hR="10800" stAng="-3474088" swAng="1829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9" y="1651"/>
                  </a:moveTo>
                  <a:arcTo wR="10800" hR="10800" stAng="-3474088" swAng="1829927"/>
                </a:path>
              </a:pathLst>
            </a:custGeom>
            <a:noFill/>
            <a:ln w="381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28600" y="1523880"/>
            <a:ext cx="8610480" cy="2286000"/>
            <a:chOff x="228600" y="1523880"/>
            <a:chExt cx="8610480" cy="2286000"/>
          </a:xfrm>
        </p:grpSpPr>
        <p:grpSp>
          <p:nvGrpSpPr>
            <p:cNvPr id="190" name=""/>
            <p:cNvGrpSpPr/>
            <p:nvPr/>
          </p:nvGrpSpPr>
          <p:grpSpPr>
            <a:xfrm>
              <a:off x="228600" y="1523880"/>
              <a:ext cx="8610480" cy="2286000"/>
              <a:chOff x="228600" y="1523880"/>
              <a:chExt cx="8610480" cy="2286000"/>
            </a:xfrm>
          </p:grpSpPr>
          <p:pic>
            <p:nvPicPr>
              <p:cNvPr id="1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523880"/>
                <a:ext cx="131616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33760" y="1523880"/>
                <a:ext cx="11761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76960" y="1523880"/>
                <a:ext cx="140472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7017120" y="216684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27920" y="2362320"/>
                <a:ext cx="911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……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676520" y="2209680"/>
              <a:ext cx="761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0520" y="2166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-6244920" y="-5490360"/>
            <a:ext cx="17598600" cy="15002640"/>
            <a:chOff x="-6244920" y="-5490360"/>
            <a:chExt cx="17598600" cy="15002640"/>
          </a:xfrm>
        </p:grpSpPr>
        <p:sp>
          <p:nvSpPr>
            <p:cNvPr id="199" name=""/>
            <p:cNvSpPr/>
            <p:nvPr/>
          </p:nvSpPr>
          <p:spPr>
            <a:xfrm rot="17400000">
              <a:off x="1771200" y="-1046160"/>
              <a:ext cx="6400440" cy="112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08" y="1695"/>
                  </a:moveTo>
                  <a:arcTo wR="10800" hR="10800" stAng="-3448119" swAng="3522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08" y="1695"/>
                  </a:moveTo>
                  <a:arcTo wR="10800" hR="10800" stAng="-3448119" swAng="3522373"/>
                </a:path>
              </a:pathLst>
            </a:custGeom>
            <a:noFill/>
            <a:ln w="3816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6349200">
              <a:off x="-2738160" y="-6531120"/>
              <a:ext cx="7811280" cy="1319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88" y="1619"/>
                  </a:moveTo>
                  <a:arcTo wR="10800" hR="10800" stAng="-3493098" swAng="3050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88" y="1619"/>
                  </a:moveTo>
                  <a:arcTo wR="10800" hR="10800" stAng="-3493098" swAng="3050007"/>
                </a:path>
              </a:pathLst>
            </a:custGeom>
            <a:noFill/>
            <a:ln w="381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678120" y="1066680"/>
            <a:ext cx="1503000" cy="3022560"/>
            <a:chOff x="3678120" y="1066680"/>
            <a:chExt cx="1503000" cy="3022560"/>
          </a:xfrm>
        </p:grpSpPr>
        <p:sp>
          <p:nvSpPr>
            <p:cNvPr id="202" name=""/>
            <p:cNvSpPr/>
            <p:nvPr/>
          </p:nvSpPr>
          <p:spPr>
            <a:xfrm>
              <a:off x="3678120" y="2305440"/>
              <a:ext cx="150300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33"/>
                  </a:solidFill>
                  <a:latin typeface="Times New Roman"/>
                </a:rPr>
                <a:t>÷ 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78120" y="1066680"/>
              <a:ext cx="150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33"/>
                  </a:solidFill>
                  <a:latin typeface="Times New Roman"/>
                </a:rPr>
                <a:t>÷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447920" y="1295280"/>
            <a:ext cx="1263600" cy="2545920"/>
            <a:chOff x="1447920" y="1295280"/>
            <a:chExt cx="1263600" cy="2545920"/>
          </a:xfrm>
        </p:grpSpPr>
        <p:sp>
          <p:nvSpPr>
            <p:cNvPr id="205" name=""/>
            <p:cNvSpPr/>
            <p:nvPr/>
          </p:nvSpPr>
          <p:spPr>
            <a:xfrm>
              <a:off x="1447920" y="2057400"/>
              <a:ext cx="126360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33"/>
                  </a:solidFill>
                  <a:latin typeface="Times New Roman"/>
                </a:rPr>
                <a:t>÷ 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7920" y="1295280"/>
              <a:ext cx="1263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33"/>
                  </a:solidFill>
                  <a:latin typeface="Times New Roman"/>
                </a:rPr>
                <a:t>÷ 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4"/>
          <a:srcRect l="0" t="0" r="331" b="0"/>
          <a:stretch/>
        </p:blipFill>
        <p:spPr>
          <a:xfrm>
            <a:off x="76320" y="4648320"/>
            <a:ext cx="1447560" cy="2209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752480" y="4648320"/>
            <a:ext cx="7162920" cy="2209680"/>
          </a:xfrm>
          <a:prstGeom prst="cloudCallout">
            <a:avLst>
              <a:gd name="adj1" fmla="val -55162"/>
              <a:gd name="adj2" fmla="val -5143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从刚才的演示中，你发现了什么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533520" y="2743200"/>
            <a:ext cx="5029200" cy="2057400"/>
          </a:xfrm>
          <a:prstGeom prst="cloudCallout">
            <a:avLst>
              <a:gd name="adj1" fmla="val -26481"/>
              <a:gd name="adj2" fmla="val 3757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右边的式子对吗？为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331" b="0"/>
          <a:stretch/>
        </p:blipFill>
        <p:spPr>
          <a:xfrm>
            <a:off x="0" y="4648320"/>
            <a:ext cx="1447920" cy="2209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0880" y="1295280"/>
            <a:ext cx="8763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分子和分母同时乘上或者除以相同的数，分数的大小不变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419720" y="4956120"/>
            <a:ext cx="4724280" cy="1444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419720" y="3556080"/>
            <a:ext cx="4647960" cy="1396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80880" y="1311120"/>
            <a:ext cx="8763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分子和分母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同时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乘上或者除以相同的数，分数的大小不变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295280"/>
            <a:ext cx="8763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分数的分子和分母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同时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乘上或者除以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  <a:ea typeface="黑体"/>
              </a:rPr>
              <a:t>相同的数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，分数的大小不变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35812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4967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5562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0T10:16:53Z</dcterms:created>
  <dc:creator>许乃轰</dc:creator>
  <dc:description/>
  <dc:language>en-US</dc:language>
  <cp:lastModifiedBy>微软用户</cp:lastModifiedBy>
  <dcterms:modified xsi:type="dcterms:W3CDTF">2008-02-19T02:10:18Z</dcterms:modified>
  <cp:revision>90</cp:revision>
  <dc:subject>小学数学第十册课件</dc:subject>
  <dc:title>PowerPoint 演示文稿</dc:title>
</cp:coreProperties>
</file>