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chimes.wav" ContentType="audio/x-wav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E79-69EB-457F-89B7-D30B9054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814-00DB-4020-B04D-9B0A711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421-6065-489A-A8A0-9D98B2D9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E2D-CFC5-4E8B-BC69-5D8E93D4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6BF-0A32-4DB4-A2F7-8CA99782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30D3-9B71-4EFD-8D15-ABEE0A4F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80C-FC9D-41A5-A6AA-9FB25626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D969-B1A5-4E54-95E3-E020848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A64E-920E-4205-8594-4193956A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57BF-F67E-4AEC-84C0-A3202ED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EE0-0C07-44BE-8DD8-949E0666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C9D-9D98-49DA-84D8-D6C0FD75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B76E-61BB-49A9-A0BC-F1F8305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8815-0E37-41A2-BEFA-DC4A47A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ED2B-0A70-477A-96A3-9EB12D5E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4A6E-D203-466F-A475-49B91170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9FE0-DB89-46B9-82F5-9DC5F7CE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CC2-D867-475C-B0A9-F020B302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662-5F82-4BCD-B6A8-5110660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AC4-8C2C-4A5F-A9D5-7191213C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7A7-D8F0-4B70-AE6B-C152322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10F-57C8-4245-BFE3-09A3EB12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282-D501-4D28-92C6-12E201E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3E6-8961-46B4-9B09-8F8007D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CFA3-007D-4A19-A505-BFC0D67F18F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B49-F025-4E8C-87C6-DE9B710A74F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gi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25909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基本性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义务教育五年制小学数学第八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14400" y="11430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、分母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黑体"/>
              </a:rPr>
              <a:t>同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乘以或除以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黑体"/>
              </a:rPr>
              <a:t>相同的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大小不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1143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除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叫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基本性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Rm_07" descr=""/>
          <p:cNvPicPr/>
          <p:nvPr/>
        </p:nvPicPr>
        <p:blipFill>
          <a:blip r:embed="rId1"/>
          <a:srcRect l="6245" t="26097" r="34380" b="0"/>
          <a:stretch/>
        </p:blipFill>
        <p:spPr>
          <a:xfrm>
            <a:off x="0" y="4724280"/>
            <a:ext cx="1484280" cy="2133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80880" y="2514600"/>
            <a:ext cx="4191120" cy="1295280"/>
          </a:xfrm>
          <a:prstGeom prst="cloudCallout">
            <a:avLst>
              <a:gd name="adj1" fmla="val -34092"/>
              <a:gd name="adj2" fmla="val 10808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同的数”是指哪些数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2666880"/>
            <a:ext cx="28958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边哪样列式行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114800" y="3886200"/>
                <a:ext cx="297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0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431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14400" y="11430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、分母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黑体"/>
              </a:rPr>
              <a:t>同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乘以或除以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黑体"/>
              </a:rPr>
              <a:t>相同的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大小不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1143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除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叫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基本性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Rm_07" descr=""/>
          <p:cNvPicPr/>
          <p:nvPr/>
        </p:nvPicPr>
        <p:blipFill>
          <a:blip r:embed="rId1"/>
          <a:srcRect l="6245" t="26097" r="34380" b="0"/>
          <a:stretch/>
        </p:blipFill>
        <p:spPr>
          <a:xfrm>
            <a:off x="0" y="4572000"/>
            <a:ext cx="1590840" cy="2286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85800" y="2438280"/>
            <a:ext cx="4419720" cy="1295640"/>
          </a:xfrm>
          <a:prstGeom prst="cloudCallout">
            <a:avLst>
              <a:gd name="adj1" fmla="val -33046"/>
              <a:gd name="adj2" fmla="val 10244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数基本性质与学过的什么知识有联系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438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WW_048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1128600" cy="941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77600" y="685800"/>
            <a:ext cx="7391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练一练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、判断。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手势表示，并说明理由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分数的分子、分母都乘以或除以相同的数，分数的大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变。                                                                         （       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把       的分子缩小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倍，分母也同时缩小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倍，分数的大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小不变。                                                                     （       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     的分子乘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分母除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分数的大小不变。（       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                                                                                     （       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676520" y="3352680"/>
                <a:ext cx="46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676520" y="4267080"/>
                <a:ext cx="332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7315200" y="4267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905120" y="243828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731520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2057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449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371600" y="83808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填上合适的数，说说你填写的根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514600" y="3962520"/>
                <a:ext cx="552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590920" y="2819520"/>
                <a:ext cx="1639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590920" y="1752480"/>
                <a:ext cx="3186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4" name="WW_048" descr=""/>
          <p:cNvPicPr/>
          <p:nvPr/>
        </p:nvPicPr>
        <p:blipFill>
          <a:blip r:embed="rId1"/>
          <a:stretch/>
        </p:blipFill>
        <p:spPr>
          <a:xfrm>
            <a:off x="7391520" y="914400"/>
            <a:ext cx="1128600" cy="9414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962520" y="213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3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674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GTH_004" descr=""/>
          <p:cNvPicPr/>
          <p:nvPr/>
        </p:nvPicPr>
        <p:blipFill>
          <a:blip r:embed="rId2"/>
          <a:stretch/>
        </p:blipFill>
        <p:spPr>
          <a:xfrm>
            <a:off x="670572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462" name="GTH_004" descr=""/>
          <p:cNvPicPr/>
          <p:nvPr/>
        </p:nvPicPr>
        <p:blipFill>
          <a:blip r:embed="rId3"/>
          <a:stretch/>
        </p:blipFill>
        <p:spPr>
          <a:xfrm>
            <a:off x="754380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N_017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463400" cy="1806840"/>
          </a:xfrm>
          <a:prstGeom prst="rect">
            <a:avLst/>
          </a:prstGeom>
          <a:ln w="0">
            <a:noFill/>
          </a:ln>
        </p:spPr>
      </p:pic>
      <p:pic>
        <p:nvPicPr>
          <p:cNvPr id="464" name="N_029" descr=""/>
          <p:cNvPicPr/>
          <p:nvPr/>
        </p:nvPicPr>
        <p:blipFill>
          <a:blip r:embed="rId2"/>
          <a:stretch/>
        </p:blipFill>
        <p:spPr>
          <a:xfrm>
            <a:off x="380880" y="4648320"/>
            <a:ext cx="1463760" cy="189864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762120" y="533520"/>
            <a:ext cx="5562360" cy="2666880"/>
            <a:chOff x="762120" y="533520"/>
            <a:chExt cx="5562360" cy="2666880"/>
          </a:xfrm>
        </p:grpSpPr>
        <p:sp>
          <p:nvSpPr>
            <p:cNvPr id="466" name=""/>
            <p:cNvSpPr/>
            <p:nvPr/>
          </p:nvSpPr>
          <p:spPr>
            <a:xfrm>
              <a:off x="762120" y="53352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请帮小熊和小山羊找回大小相等的分数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733560" y="11430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8" name=""/>
                <p:cNvSpPr txBox="1"/>
                <p:nvPr/>
              </p:nvSpPr>
              <p:spPr>
                <a:xfrm>
                  <a:off x="3047760" y="2514600"/>
                  <a:ext cx="4680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1523880" y="1143000"/>
                  <a:ext cx="6091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2361960" y="1143000"/>
                  <a:ext cx="420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285640" y="1828800"/>
                  <a:ext cx="6076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838080" y="11430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3047760" y="11430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3733560" y="18288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1523880" y="1828800"/>
                  <a:ext cx="6091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2285640" y="25146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3047760" y="18288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1523880" y="2514600"/>
                  <a:ext cx="6076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"/>
                <p:cNvSpPr txBox="1"/>
                <p:nvPr/>
              </p:nvSpPr>
              <p:spPr>
                <a:xfrm>
                  <a:off x="838080" y="2514600"/>
                  <a:ext cx="56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914040" y="1828800"/>
                  <a:ext cx="4680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2666880" y="4114800"/>
            <a:ext cx="2819520" cy="1447920"/>
            <a:chOff x="2666880" y="4114800"/>
            <a:chExt cx="2819520" cy="1447920"/>
          </a:xfrm>
        </p:grpSpPr>
        <p:sp>
          <p:nvSpPr>
            <p:cNvPr id="482" name=""/>
            <p:cNvSpPr/>
            <p:nvPr/>
          </p:nvSpPr>
          <p:spPr>
            <a:xfrm>
              <a:off x="2666880" y="4114800"/>
              <a:ext cx="2819520" cy="1447920"/>
            </a:xfrm>
            <a:prstGeom prst="wedgeRoundRectCallout">
              <a:avLst>
                <a:gd name="adj1" fmla="val -79277"/>
                <a:gd name="adj2" fmla="val 48356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19520" y="4267080"/>
              <a:ext cx="20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与    相等的：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3200400" y="4114800"/>
                  <a:ext cx="41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5" name=""/>
          <p:cNvSpPr/>
          <p:nvPr/>
        </p:nvSpPr>
        <p:spPr>
          <a:xfrm>
            <a:off x="4648320" y="2362320"/>
            <a:ext cx="2666880" cy="1371600"/>
          </a:xfrm>
          <a:prstGeom prst="wedgeRoundRectCallout">
            <a:avLst>
              <a:gd name="adj1" fmla="val 51606"/>
              <a:gd name="adj2" fmla="val -10833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0060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    相等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181480" y="228600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8" name=""/>
          <p:cNvGrpSpPr/>
          <p:nvPr/>
        </p:nvGrpSpPr>
        <p:grpSpPr>
          <a:xfrm>
            <a:off x="2666880" y="4724280"/>
            <a:ext cx="2847960" cy="685800"/>
            <a:chOff x="2666880" y="4724280"/>
            <a:chExt cx="2847960" cy="685800"/>
          </a:xfrm>
        </p:grpSpPr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3048120" y="4724280"/>
                  <a:ext cx="561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2666880" y="4724280"/>
                  <a:ext cx="468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3505320" y="4724280"/>
                  <a:ext cx="608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4495680" y="4724280"/>
                  <a:ext cx="608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4952880" y="4724280"/>
                  <a:ext cx="561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4038480" y="4724280"/>
                  <a:ext cx="561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4648320" y="2971800"/>
            <a:ext cx="2695320" cy="685800"/>
            <a:chOff x="4648320" y="2971800"/>
            <a:chExt cx="2695320" cy="685800"/>
          </a:xfrm>
        </p:grpSpPr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5029200" y="2971800"/>
                  <a:ext cx="609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2971800"/>
                  <a:ext cx="420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6781680" y="2971800"/>
                  <a:ext cx="561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5867280" y="2971800"/>
                  <a:ext cx="561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4648320" y="2971800"/>
                  <a:ext cx="468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324480" y="2971800"/>
                  <a:ext cx="561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2" name="GTH_004" descr=""/>
          <p:cNvPicPr/>
          <p:nvPr/>
        </p:nvPicPr>
        <p:blipFill>
          <a:blip r:embed="rId3"/>
          <a:stretch/>
        </p:blipFill>
        <p:spPr>
          <a:xfrm>
            <a:off x="67816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503" name="GTH_004" descr=""/>
          <p:cNvPicPr/>
          <p:nvPr/>
        </p:nvPicPr>
        <p:blipFill>
          <a:blip r:embed="rId4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RM_0807" descr=""/>
          <p:cNvPicPr/>
          <p:nvPr/>
        </p:nvPicPr>
        <p:blipFill>
          <a:blip r:embed="rId1"/>
          <a:stretch/>
        </p:blipFill>
        <p:spPr>
          <a:xfrm>
            <a:off x="6515280" y="3429000"/>
            <a:ext cx="2628720" cy="3429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914400" y="2133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位老爷爷把一块地分给三个儿子。老大分到了这块地的      ，老二分到了这块地的      。老三分到了这块地的      。老大、老二觉得自己很吃亏，于是三人就大吵起来。刚好阿凡提路过，问清争吵的原因后，哈哈的笑了起来，给他们讲了几句话，三兄弟就停止了争吵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876920" y="3276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429000" y="274320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1295280" y="3276720"/>
                <a:ext cx="46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09" name="WY_0101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2514600" y="609480"/>
            <a:ext cx="4800600" cy="1524240"/>
          </a:xfrm>
          <a:prstGeom prst="cloudCallout">
            <a:avLst>
              <a:gd name="adj1" fmla="val -65245"/>
              <a:gd name="adj2" fmla="val -3166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在你知道了吗，阿凡提为什么会笑，他对三兄弟讲了哪些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GTH_004" descr=""/>
          <p:cNvPicPr/>
          <p:nvPr/>
        </p:nvPicPr>
        <p:blipFill>
          <a:blip r:embed="rId3"/>
          <a:stretch/>
        </p:blipFill>
        <p:spPr>
          <a:xfrm>
            <a:off x="556272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512" name="GTH_004" descr=""/>
          <p:cNvPicPr/>
          <p:nvPr/>
        </p:nvPicPr>
        <p:blipFill>
          <a:blip r:embed="rId4"/>
          <a:stretch/>
        </p:blipFill>
        <p:spPr>
          <a:xfrm>
            <a:off x="640080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Q_012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25244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914400" y="1600200"/>
            <a:ext cx="6945480" cy="1724400"/>
            <a:chOff x="914400" y="1600200"/>
            <a:chExt cx="6945480" cy="1724400"/>
          </a:xfrm>
        </p:grpSpPr>
        <p:sp>
          <p:nvSpPr>
            <p:cNvPr id="515" name=""/>
            <p:cNvSpPr/>
            <p:nvPr/>
          </p:nvSpPr>
          <p:spPr>
            <a:xfrm>
              <a:off x="914400" y="1752480"/>
              <a:ext cx="6858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与     相等的分数有多少个？想象一下把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中正方形的纸无限地平分下去，可得到多少个与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相等的分数？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2362320" y="1600200"/>
                  <a:ext cx="468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"/>
                <p:cNvSpPr txBox="1"/>
                <p:nvPr/>
              </p:nvSpPr>
              <p:spPr>
                <a:xfrm>
                  <a:off x="7391520" y="2133720"/>
                  <a:ext cx="468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8" name=""/>
          <p:cNvSpPr/>
          <p:nvPr/>
        </p:nvSpPr>
        <p:spPr>
          <a:xfrm>
            <a:off x="914400" y="609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美黑简体"/>
              </a:rPr>
              <a:t>想一想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选择你喜欢的一题来做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GTH_004" descr=""/>
          <p:cNvPicPr/>
          <p:nvPr/>
        </p:nvPicPr>
        <p:blipFill>
          <a:blip r:embed="rId2"/>
          <a:stretch/>
        </p:blipFill>
        <p:spPr>
          <a:xfrm>
            <a:off x="685800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520" name="GTH_004" descr=""/>
          <p:cNvPicPr/>
          <p:nvPr/>
        </p:nvPicPr>
        <p:blipFill>
          <a:blip r:embed="rId3"/>
          <a:stretch/>
        </p:blipFill>
        <p:spPr>
          <a:xfrm>
            <a:off x="7696080" y="6553080"/>
            <a:ext cx="5335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1295280" y="3962520"/>
            <a:ext cx="4572000" cy="977760"/>
            <a:chOff x="1295280" y="3962520"/>
            <a:chExt cx="4572000" cy="977760"/>
          </a:xfrm>
        </p:grpSpPr>
        <p:sp>
          <p:nvSpPr>
            <p:cNvPr id="522" name=""/>
            <p:cNvSpPr/>
            <p:nvPr/>
          </p:nvSpPr>
          <p:spPr>
            <a:xfrm>
              <a:off x="1295280" y="411480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      和       那一个数大一些，你能讲出判断的依据吗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895480" y="3962520"/>
                  <a:ext cx="609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2057400" y="3962520"/>
                  <a:ext cx="609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blinds dir="vert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GTH_00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990720" y="533520"/>
            <a:ext cx="274320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选择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1371600"/>
            <a:ext cx="5257800" cy="44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一、</a:t>
            </a:r>
            <a:r>
              <a:rPr b="0" lang="zh-CN" sz="3200" spc="-1" strike="noStrike" u="sng">
                <a:solidFill>
                  <a:srgbClr val="f3f907"/>
                </a:solidFill>
                <a:uFillTx/>
                <a:latin typeface="Times New Roman"/>
                <a:ea typeface="黑体"/>
                <a:hlinkClick r:id="rId3" action="ppaction://hlinksldjump"/>
              </a:rPr>
              <a:t>激趣引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二、</a:t>
            </a:r>
            <a:r>
              <a:rPr b="0" lang="zh-CN" sz="3200" spc="-1" strike="noStrike" u="sng">
                <a:solidFill>
                  <a:srgbClr val="f3f907"/>
                </a:solidFill>
                <a:uFillTx/>
                <a:latin typeface="Times New Roman"/>
                <a:ea typeface="黑体"/>
                <a:hlinkClick r:id="rId4" action="ppaction://hlinksldjump"/>
              </a:rPr>
              <a:t>新知探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 u="sng">
                <a:solidFill>
                  <a:srgbClr val="f3f907"/>
                </a:solidFill>
                <a:uFillTx/>
                <a:latin typeface="Times New Roman"/>
                <a:hlinkClick r:id="rId5" action="ppaction://hlinksldjump"/>
              </a:rPr>
              <a:t>说一说   </a:t>
            </a:r>
            <a:r>
              <a:rPr b="0" lang="zh-CN" sz="2800" spc="-1" strike="noStrike" u="sng">
                <a:solidFill>
                  <a:srgbClr val="f3f907"/>
                </a:solidFill>
                <a:uFillTx/>
                <a:latin typeface="Times New Roman"/>
                <a:hlinkClick r:id="rId6" action="ppaction://hlinksldjump"/>
              </a:rPr>
              <a:t>折一折   </a:t>
            </a:r>
            <a:r>
              <a:rPr b="0" lang="zh-CN" sz="2800" spc="-1" strike="noStrike" u="sng">
                <a:solidFill>
                  <a:srgbClr val="f3f907"/>
                </a:solidFill>
                <a:uFillTx/>
                <a:latin typeface="Times New Roman"/>
                <a:hlinkClick r:id="rId7" action="ppaction://hlinksldjump"/>
              </a:rPr>
              <a:t>想一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三、</a:t>
            </a:r>
            <a:r>
              <a:rPr b="0" lang="zh-CN" sz="3200" spc="-1" strike="noStrike" u="sng">
                <a:solidFill>
                  <a:srgbClr val="f3f907"/>
                </a:solidFill>
                <a:uFillTx/>
                <a:latin typeface="Times New Roman"/>
                <a:ea typeface="黑体"/>
                <a:hlinkClick r:id="rId8" action="ppaction://hlinksldjump"/>
              </a:rPr>
              <a:t>巩固新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 u="sng">
                <a:solidFill>
                  <a:srgbClr val="f3f907"/>
                </a:solidFill>
                <a:uFillTx/>
                <a:latin typeface="Times New Roman"/>
                <a:hlinkClick r:id="rId9" action="ppaction://hlinksldjump"/>
              </a:rPr>
              <a:t>练一练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找一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四、扩展延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M_0807" descr=""/>
          <p:cNvPicPr/>
          <p:nvPr/>
        </p:nvPicPr>
        <p:blipFill>
          <a:blip r:embed="rId1"/>
          <a:stretch/>
        </p:blipFill>
        <p:spPr>
          <a:xfrm>
            <a:off x="6515280" y="3429000"/>
            <a:ext cx="2628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85800" y="2133720"/>
            <a:ext cx="6095880" cy="1828800"/>
            <a:chOff x="685800" y="2133720"/>
            <a:chExt cx="6095880" cy="1828800"/>
          </a:xfrm>
        </p:grpSpPr>
        <p:sp>
          <p:nvSpPr>
            <p:cNvPr id="98" name=""/>
            <p:cNvSpPr/>
            <p:nvPr/>
          </p:nvSpPr>
          <p:spPr>
            <a:xfrm>
              <a:off x="685800" y="2133720"/>
              <a:ext cx="609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有位老爷爷把一块地分给三个儿子。老大分到了这块地的      ，老二分到了这块地的      。老三分到了这块的      。老大、老二觉得自己很吃亏，于是三人就大吵起来。刚好阿凡提路过，问清争吵的原因后，哈哈的笑了起来，给他们讲了几句话，三兄弟就停止了争吵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4343400" y="3276720"/>
                  <a:ext cx="4222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200400" y="2743200"/>
                  <a:ext cx="420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1143000" y="3276720"/>
                  <a:ext cx="468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2" name="WY_0101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66880" y="609480"/>
            <a:ext cx="4038840" cy="1524240"/>
          </a:xfrm>
          <a:prstGeom prst="cloudCallout">
            <a:avLst>
              <a:gd name="adj1" fmla="val -73546"/>
              <a:gd name="adj2" fmla="val -483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知道，阿凡提为什么会笑吗？他对三兄弟讲了哪些话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GTH_00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6272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105" name="GTH_00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在下面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填上合适的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990720"/>
            <a:ext cx="541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÷2=(1×5) ÷(2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(1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 ÷(2÷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RM_0729" descr=""/>
          <p:cNvPicPr/>
          <p:nvPr/>
        </p:nvPicPr>
        <p:blipFill>
          <a:blip r:embed="rId1"/>
          <a:stretch/>
        </p:blipFill>
        <p:spPr>
          <a:xfrm>
            <a:off x="6819840" y="4229280"/>
            <a:ext cx="2324160" cy="262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52480" y="2286000"/>
            <a:ext cx="3962520" cy="1447920"/>
          </a:xfrm>
          <a:prstGeom prst="cloudCallout">
            <a:avLst>
              <a:gd name="adj1" fmla="val 70712"/>
              <a:gd name="adj2" fmla="val 9484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590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是根据什么填入上面的数的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590920"/>
            <a:ext cx="251460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不变的性质”的内容是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90920"/>
            <a:ext cx="236196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法与分数之间有什么联系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590920"/>
            <a:ext cx="335268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能把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÷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除法算式改写成分数形式吗？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066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105520"/>
            <a:ext cx="18288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÷2 = 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038480"/>
            <a:ext cx="38862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被除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除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 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119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65530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别说出黄色部分所表示的意思，再用分数表示出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76720" y="1752480"/>
            <a:ext cx="4317480" cy="152640"/>
            <a:chOff x="3276720" y="1752480"/>
            <a:chExt cx="4317480" cy="152640"/>
          </a:xfrm>
        </p:grpSpPr>
        <p:sp>
          <p:nvSpPr>
            <p:cNvPr id="122" name=""/>
            <p:cNvSpPr/>
            <p:nvPr/>
          </p:nvSpPr>
          <p:spPr>
            <a:xfrm>
              <a:off x="4354200" y="1752480"/>
              <a:ext cx="5454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1752480"/>
              <a:ext cx="54504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49160" y="1752480"/>
              <a:ext cx="545040" cy="152640"/>
            </a:xfrm>
            <a:prstGeom prst="rect">
              <a:avLst/>
            </a:prstGeom>
            <a:solidFill>
              <a:srgbClr val="13ed32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93480" y="1752480"/>
              <a:ext cx="54504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32400" y="1752480"/>
              <a:ext cx="54504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70960" y="1752480"/>
              <a:ext cx="5454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0240" y="1752480"/>
              <a:ext cx="545040" cy="152640"/>
            </a:xfrm>
            <a:prstGeom prst="rect">
              <a:avLst/>
            </a:prstGeom>
            <a:solidFill>
              <a:srgbClr val="13ed32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5640" y="1752480"/>
              <a:ext cx="54504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76720" y="1066680"/>
            <a:ext cx="4317840" cy="149400"/>
            <a:chOff x="3276720" y="1066680"/>
            <a:chExt cx="4317840" cy="149400"/>
          </a:xfrm>
        </p:grpSpPr>
        <p:sp>
          <p:nvSpPr>
            <p:cNvPr id="131" name=""/>
            <p:cNvSpPr/>
            <p:nvPr/>
          </p:nvSpPr>
          <p:spPr>
            <a:xfrm>
              <a:off x="4356000" y="1066680"/>
              <a:ext cx="1079640" cy="149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6720" y="1066680"/>
              <a:ext cx="1079280" cy="149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14920" y="1066680"/>
              <a:ext cx="1079640" cy="149400"/>
            </a:xfrm>
            <a:prstGeom prst="rect">
              <a:avLst/>
            </a:prstGeom>
            <a:solidFill>
              <a:srgbClr val="13ed32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35640" y="1066680"/>
              <a:ext cx="1079280" cy="149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76720" y="2438280"/>
            <a:ext cx="4317480" cy="152640"/>
            <a:chOff x="3276720" y="2438280"/>
            <a:chExt cx="4317480" cy="152640"/>
          </a:xfrm>
        </p:grpSpPr>
        <p:sp>
          <p:nvSpPr>
            <p:cNvPr id="136" name=""/>
            <p:cNvSpPr/>
            <p:nvPr/>
          </p:nvSpPr>
          <p:spPr>
            <a:xfrm>
              <a:off x="365832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976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7940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4084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228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6156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300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408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45520" y="2438280"/>
              <a:ext cx="361080" cy="152640"/>
            </a:xfrm>
            <a:prstGeom prst="rect">
              <a:avLst/>
            </a:prstGeom>
            <a:solidFill>
              <a:srgbClr val="13ed32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05520" y="2438280"/>
              <a:ext cx="361080" cy="152640"/>
            </a:xfrm>
            <a:prstGeom prst="rect">
              <a:avLst/>
            </a:prstGeom>
            <a:solidFill>
              <a:srgbClr val="13ed32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33120" y="2438280"/>
              <a:ext cx="361080" cy="152640"/>
            </a:xfrm>
            <a:prstGeom prst="rect">
              <a:avLst/>
            </a:prstGeom>
            <a:solidFill>
              <a:srgbClr val="13ed32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2438280"/>
              <a:ext cx="3610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76520" y="762120"/>
                <a:ext cx="63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1447920"/>
                <a:ext cx="566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00200" y="2133720"/>
                <a:ext cx="757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95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           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           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286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           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RM_0729" descr=""/>
          <p:cNvPicPr/>
          <p:nvPr/>
        </p:nvPicPr>
        <p:blipFill>
          <a:blip r:embed="rId1"/>
          <a:stretch/>
        </p:blipFill>
        <p:spPr>
          <a:xfrm>
            <a:off x="7620120" y="495288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638680" y="2743200"/>
            <a:ext cx="3200400" cy="1219320"/>
          </a:xfrm>
          <a:prstGeom prst="cloudCallout">
            <a:avLst>
              <a:gd name="adj1" fmla="val 22518"/>
              <a:gd name="adj2" fmla="val 12135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971800"/>
            <a:ext cx="2895840" cy="70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图上看出，这个分数的大小有怎样的关系呢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38080" y="3809880"/>
            <a:ext cx="3276360" cy="763560"/>
            <a:chOff x="838080" y="3809880"/>
            <a:chExt cx="3276360" cy="763560"/>
          </a:xfrm>
        </p:grpSpPr>
        <p:sp>
          <p:nvSpPr>
            <p:cNvPr id="158" name=""/>
            <p:cNvSpPr/>
            <p:nvPr/>
          </p:nvSpPr>
          <p:spPr>
            <a:xfrm>
              <a:off x="1447560" y="39621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=              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838080" y="3809880"/>
                  <a:ext cx="6300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2057040" y="3809880"/>
                  <a:ext cx="5670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352680" y="3809880"/>
                  <a:ext cx="7570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2" name=""/>
          <p:cNvGrpSpPr/>
          <p:nvPr/>
        </p:nvGrpSpPr>
        <p:grpSpPr>
          <a:xfrm>
            <a:off x="66600" y="2162520"/>
            <a:ext cx="3180960" cy="4024800"/>
            <a:chOff x="66600" y="2162520"/>
            <a:chExt cx="3180960" cy="4024800"/>
          </a:xfrm>
        </p:grpSpPr>
        <p:sp>
          <p:nvSpPr>
            <p:cNvPr id="163" name=""/>
            <p:cNvSpPr/>
            <p:nvPr/>
          </p:nvSpPr>
          <p:spPr>
            <a:xfrm rot="7285800">
              <a:off x="587160" y="2675520"/>
              <a:ext cx="2349720" cy="204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54" y="1103"/>
                  </a:moveTo>
                  <a:arcTo wR="10800" hR="10800" stAng="-3832905" swAng="4171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54" y="1103"/>
                  </a:moveTo>
                  <a:arcTo wR="10800" hR="10800" stAng="-3832905" swAng="4171284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0000">
              <a:off x="373680" y="3630960"/>
              <a:ext cx="2349000" cy="204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54" y="1103"/>
                  </a:moveTo>
                  <a:arcTo wR="10800" hR="10800" stAng="-3832905" swAng="4171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54" y="1103"/>
                  </a:moveTo>
                  <a:arcTo wR="10800" hR="10800" stAng="-3832905" swAng="4171284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-1380240" y="-833400"/>
            <a:ext cx="7277400" cy="9979560"/>
            <a:chOff x="-1380240" y="-833400"/>
            <a:chExt cx="7277400" cy="9979560"/>
          </a:xfrm>
        </p:grpSpPr>
        <p:sp>
          <p:nvSpPr>
            <p:cNvPr id="166" name=""/>
            <p:cNvSpPr/>
            <p:nvPr/>
          </p:nvSpPr>
          <p:spPr>
            <a:xfrm rot="7285800">
              <a:off x="-48240" y="409320"/>
              <a:ext cx="5364720" cy="437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060000">
              <a:off x="-817920" y="3553920"/>
              <a:ext cx="5364720" cy="434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aa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350532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2941920" y="-821520"/>
            <a:ext cx="7277400" cy="9979560"/>
            <a:chOff x="2941920" y="-821520"/>
            <a:chExt cx="7277400" cy="9979560"/>
          </a:xfrm>
        </p:grpSpPr>
        <p:sp>
          <p:nvSpPr>
            <p:cNvPr id="170" name=""/>
            <p:cNvSpPr/>
            <p:nvPr/>
          </p:nvSpPr>
          <p:spPr>
            <a:xfrm rot="18086400">
              <a:off x="3522600" y="3544560"/>
              <a:ext cx="5364720" cy="437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60000">
              <a:off x="4292280" y="423360"/>
              <a:ext cx="5364720" cy="434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29200" y="3809880"/>
            <a:ext cx="3276360" cy="763560"/>
            <a:chOff x="5029200" y="3809880"/>
            <a:chExt cx="3276360" cy="763560"/>
          </a:xfrm>
        </p:grpSpPr>
        <p:sp>
          <p:nvSpPr>
            <p:cNvPr id="173" name=""/>
            <p:cNvSpPr/>
            <p:nvPr/>
          </p:nvSpPr>
          <p:spPr>
            <a:xfrm>
              <a:off x="5638680" y="39621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=              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5029200" y="3809880"/>
                  <a:ext cx="6300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248160" y="3809880"/>
                  <a:ext cx="5670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7543800" y="3809880"/>
                  <a:ext cx="7570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"/>
          <p:cNvGrpSpPr/>
          <p:nvPr/>
        </p:nvGrpSpPr>
        <p:grpSpPr>
          <a:xfrm>
            <a:off x="5528880" y="2173680"/>
            <a:ext cx="3182760" cy="4036680"/>
            <a:chOff x="5528880" y="2173680"/>
            <a:chExt cx="3182760" cy="4036680"/>
          </a:xfrm>
        </p:grpSpPr>
        <p:sp>
          <p:nvSpPr>
            <p:cNvPr id="178" name=""/>
            <p:cNvSpPr/>
            <p:nvPr/>
          </p:nvSpPr>
          <p:spPr>
            <a:xfrm rot="18086400">
              <a:off x="5810760" y="3668040"/>
              <a:ext cx="2390040" cy="20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54" y="1103"/>
                  </a:moveTo>
                  <a:arcTo wR="10800" hR="10800" stAng="-3832905" swAng="4171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54" y="1103"/>
                  </a:moveTo>
                  <a:arcTo wR="10800" hR="10800" stAng="-3832905" swAng="4171284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7260000">
              <a:off x="6043680" y="2712240"/>
              <a:ext cx="2389320" cy="20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54" y="1103"/>
                  </a:moveTo>
                  <a:arcTo wR="10800" hR="10800" stAng="-3832905" swAng="4171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54" y="1103"/>
                  </a:moveTo>
                  <a:arcTo wR="10800" hR="10800" stAng="-3832905" swAng="4171284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351800" y="3581280"/>
            <a:ext cx="452160" cy="1237320"/>
            <a:chOff x="1351800" y="3581280"/>
            <a:chExt cx="452160" cy="1237320"/>
          </a:xfrm>
        </p:grpSpPr>
        <p:sp>
          <p:nvSpPr>
            <p:cNvPr id="181" name=""/>
            <p:cNvSpPr/>
            <p:nvPr/>
          </p:nvSpPr>
          <p:spPr>
            <a:xfrm>
              <a:off x="1351800" y="358128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51800" y="441972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666880" y="3352680"/>
            <a:ext cx="762120" cy="1618200"/>
            <a:chOff x="2666880" y="3352680"/>
            <a:chExt cx="762120" cy="1618200"/>
          </a:xfrm>
        </p:grpSpPr>
        <p:sp>
          <p:nvSpPr>
            <p:cNvPr id="184" name=""/>
            <p:cNvSpPr/>
            <p:nvPr/>
          </p:nvSpPr>
          <p:spPr>
            <a:xfrm>
              <a:off x="2666880" y="45720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6880" y="3352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781680" y="3505320"/>
            <a:ext cx="914400" cy="1389240"/>
            <a:chOff x="6781680" y="3505320"/>
            <a:chExt cx="914400" cy="1389240"/>
          </a:xfrm>
        </p:grpSpPr>
        <p:sp>
          <p:nvSpPr>
            <p:cNvPr id="187" name=""/>
            <p:cNvSpPr/>
            <p:nvPr/>
          </p:nvSpPr>
          <p:spPr>
            <a:xfrm>
              <a:off x="6781680" y="4495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33"/>
                  </a:solidFill>
                  <a:latin typeface="Times New Roman"/>
                </a:rPr>
                <a:t>÷1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35053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33"/>
                  </a:solidFill>
                  <a:latin typeface="Times New Roman"/>
                </a:rPr>
                <a:t>÷1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638680" y="3352680"/>
            <a:ext cx="685800" cy="1618200"/>
            <a:chOff x="5638680" y="3352680"/>
            <a:chExt cx="685800" cy="1618200"/>
          </a:xfrm>
        </p:grpSpPr>
        <p:sp>
          <p:nvSpPr>
            <p:cNvPr id="190" name=""/>
            <p:cNvSpPr/>
            <p:nvPr/>
          </p:nvSpPr>
          <p:spPr>
            <a:xfrm>
              <a:off x="5638680" y="4572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÷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38680" y="3352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÷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5410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分数的分子和分母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都同时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乘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都同时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乘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5867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分数大小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不变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分数的分子和分母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都同时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除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5867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都同时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除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5867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分数大小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不变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GTH_00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0572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199" name="GTH_00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4380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WW_04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066680" cy="83844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752480" y="228600"/>
            <a:ext cx="7010280" cy="763560"/>
            <a:chOff x="1752480" y="228600"/>
            <a:chExt cx="7010280" cy="76356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2286000" y="228600"/>
                  <a:ext cx="6300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3124080" y="228600"/>
                  <a:ext cx="63036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752480" y="38088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、       与       相等吗？你能用上面的规律分析吗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752480" y="762120"/>
            <a:ext cx="7162920" cy="761760"/>
            <a:chOff x="1752480" y="762120"/>
            <a:chExt cx="7162920" cy="761760"/>
          </a:xfrm>
        </p:grpSpPr>
        <p:sp>
          <p:nvSpPr>
            <p:cNvPr id="206" name=""/>
            <p:cNvSpPr/>
            <p:nvPr/>
          </p:nvSpPr>
          <p:spPr>
            <a:xfrm>
              <a:off x="1752480" y="91404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、你能不能用折纸的方法，来证明      与      相等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6553080" y="762120"/>
                  <a:ext cx="6303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238880" y="762120"/>
                  <a:ext cx="6303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9" name=""/>
          <p:cNvSpPr/>
          <p:nvPr/>
        </p:nvSpPr>
        <p:spPr>
          <a:xfrm>
            <a:off x="1020600" y="2286000"/>
            <a:ext cx="107964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19520" y="2286000"/>
            <a:ext cx="1079280" cy="1079640"/>
            <a:chOff x="2819520" y="2286000"/>
            <a:chExt cx="1079280" cy="1079640"/>
          </a:xfrm>
        </p:grpSpPr>
        <p:sp>
          <p:nvSpPr>
            <p:cNvPr id="211" name=""/>
            <p:cNvSpPr/>
            <p:nvPr/>
          </p:nvSpPr>
          <p:spPr>
            <a:xfrm>
              <a:off x="3359160" y="2825640"/>
              <a:ext cx="539640" cy="540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9160" y="2286000"/>
              <a:ext cx="539640" cy="539640"/>
            </a:xfrm>
            <a:prstGeom prst="rect">
              <a:avLst/>
            </a:prstGeom>
            <a:solidFill>
              <a:srgbClr val="6ffd7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2825640"/>
              <a:ext cx="539640" cy="540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520" y="2286000"/>
              <a:ext cx="539640" cy="539640"/>
            </a:xfrm>
            <a:prstGeom prst="rect">
              <a:avLst/>
            </a:prstGeom>
            <a:solidFill>
              <a:srgbClr val="6ffd7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19520" y="2286000"/>
            <a:ext cx="1079280" cy="1079280"/>
            <a:chOff x="4619520" y="2286000"/>
            <a:chExt cx="1079280" cy="1079280"/>
          </a:xfrm>
        </p:grpSpPr>
        <p:grpSp>
          <p:nvGrpSpPr>
            <p:cNvPr id="216" name=""/>
            <p:cNvGrpSpPr/>
            <p:nvPr/>
          </p:nvGrpSpPr>
          <p:grpSpPr>
            <a:xfrm>
              <a:off x="4619520" y="2298960"/>
              <a:ext cx="1079280" cy="1065240"/>
              <a:chOff x="4619520" y="2298960"/>
              <a:chExt cx="1079280" cy="1065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159160" y="2831400"/>
                <a:ext cx="539640" cy="5328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59160" y="2298960"/>
                <a:ext cx="539640" cy="5324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19520" y="2831400"/>
                <a:ext cx="539640" cy="5328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19520" y="2298960"/>
                <a:ext cx="539640" cy="5324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889880" y="2298960"/>
              <a:ext cx="0" cy="1066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4040" y="2286000"/>
              <a:ext cx="0" cy="10666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418440" y="2286000"/>
            <a:ext cx="1079280" cy="1079640"/>
            <a:chOff x="6418440" y="2286000"/>
            <a:chExt cx="1079280" cy="1079640"/>
          </a:xfrm>
        </p:grpSpPr>
        <p:grpSp>
          <p:nvGrpSpPr>
            <p:cNvPr id="224" name=""/>
            <p:cNvGrpSpPr/>
            <p:nvPr/>
          </p:nvGrpSpPr>
          <p:grpSpPr>
            <a:xfrm>
              <a:off x="6418440" y="2286000"/>
              <a:ext cx="1079280" cy="1072440"/>
              <a:chOff x="6418440" y="2286000"/>
              <a:chExt cx="1079280" cy="1072440"/>
            </a:xfrm>
          </p:grpSpPr>
          <p:sp>
            <p:nvSpPr>
              <p:cNvPr id="225" name=""/>
              <p:cNvSpPr/>
              <p:nvPr/>
            </p:nvSpPr>
            <p:spPr>
              <a:xfrm>
                <a:off x="6958080" y="2822040"/>
                <a:ext cx="539640" cy="5364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58080" y="2286000"/>
                <a:ext cx="539640" cy="5360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18440" y="2822040"/>
                <a:ext cx="539640" cy="5364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418440" y="2286000"/>
                <a:ext cx="539640" cy="5360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136640" y="2286000"/>
              <a:ext cx="0" cy="10735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4120" y="2286000"/>
              <a:ext cx="0" cy="1079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95920" y="2286000"/>
              <a:ext cx="0" cy="1079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74480" y="2286000"/>
              <a:ext cx="0" cy="1079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90720" y="1371600"/>
            <a:ext cx="5790960" cy="762120"/>
            <a:chOff x="990720" y="1371600"/>
            <a:chExt cx="5790960" cy="762120"/>
          </a:xfrm>
        </p:grpSpPr>
        <p:sp>
          <p:nvSpPr>
            <p:cNvPr id="234" name=""/>
            <p:cNvSpPr/>
            <p:nvPr/>
          </p:nvSpPr>
          <p:spPr>
            <a:xfrm>
              <a:off x="990720" y="15238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、你还能折出与      和      相等的分数吗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276720" y="1371600"/>
                  <a:ext cx="6300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038480" y="1371600"/>
                  <a:ext cx="6303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447920" y="4572000"/>
                <a:ext cx="745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553080" y="1523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还能折几个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084480" y="4572000"/>
                <a:ext cx="746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642000" y="4572000"/>
                <a:ext cx="895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836960" y="4572000"/>
                <a:ext cx="746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20600" y="2284560"/>
            <a:ext cx="1079640" cy="1078920"/>
            <a:chOff x="1020600" y="2284560"/>
            <a:chExt cx="1079640" cy="1078920"/>
          </a:xfrm>
        </p:grpSpPr>
        <p:sp>
          <p:nvSpPr>
            <p:cNvPr id="243" name=""/>
            <p:cNvSpPr/>
            <p:nvPr/>
          </p:nvSpPr>
          <p:spPr>
            <a:xfrm>
              <a:off x="1020600" y="2284560"/>
              <a:ext cx="1079640" cy="539280"/>
            </a:xfrm>
            <a:prstGeom prst="rect">
              <a:avLst/>
            </a:prstGeom>
            <a:solidFill>
              <a:srgbClr val="05fb11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20600" y="2823840"/>
              <a:ext cx="1079640" cy="539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303640" y="268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56120" y="268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84920" y="269064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7400" y="269064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2960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3040" y="4648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9560" y="4648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8360" y="4648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4880" y="47242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64832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38800" y="2617560"/>
            <a:ext cx="3438000" cy="4741920"/>
            <a:chOff x="838800" y="2617560"/>
            <a:chExt cx="3438000" cy="4741920"/>
          </a:xfrm>
        </p:grpSpPr>
        <p:sp>
          <p:nvSpPr>
            <p:cNvPr id="256" name=""/>
            <p:cNvSpPr/>
            <p:nvPr/>
          </p:nvSpPr>
          <p:spPr>
            <a:xfrm rot="7285800">
              <a:off x="1452240" y="3241080"/>
              <a:ext cx="2587320" cy="20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060000">
              <a:off x="1067040" y="4737960"/>
              <a:ext cx="2587320" cy="199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-530280" y="995400"/>
            <a:ext cx="7884720" cy="7958880"/>
            <a:chOff x="-530280" y="995400"/>
            <a:chExt cx="7884720" cy="7958880"/>
          </a:xfrm>
        </p:grpSpPr>
        <p:sp>
          <p:nvSpPr>
            <p:cNvPr id="259" name=""/>
            <p:cNvSpPr/>
            <p:nvPr/>
          </p:nvSpPr>
          <p:spPr>
            <a:xfrm rot="6361200">
              <a:off x="829800" y="794520"/>
              <a:ext cx="3961800" cy="581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7134800">
              <a:off x="2058120" y="3378960"/>
              <a:ext cx="3958920" cy="578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2009880" y="-906480"/>
            <a:ext cx="12510000" cy="11832480"/>
            <a:chOff x="-2009880" y="-906480"/>
            <a:chExt cx="12510000" cy="11832480"/>
          </a:xfrm>
        </p:grpSpPr>
        <p:sp>
          <p:nvSpPr>
            <p:cNvPr id="262" name=""/>
            <p:cNvSpPr/>
            <p:nvPr/>
          </p:nvSpPr>
          <p:spPr>
            <a:xfrm rot="6373800">
              <a:off x="381960" y="-1519560"/>
              <a:ext cx="5635080" cy="921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20" y="1767"/>
                  </a:moveTo>
                  <a:arcTo wR="10800" hR="10800" stAng="-3405667" swAng="3744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20" y="1767"/>
                  </a:moveTo>
                  <a:arcTo wR="10800" hR="10800" stAng="-3405667" swAng="3744046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7148000">
              <a:off x="2507400" y="2386800"/>
              <a:ext cx="5635080" cy="916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37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3793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038480" y="4267080"/>
            <a:ext cx="609840" cy="1324800"/>
            <a:chOff x="4038480" y="4267080"/>
            <a:chExt cx="609840" cy="1324800"/>
          </a:xfrm>
        </p:grpSpPr>
        <p:sp>
          <p:nvSpPr>
            <p:cNvPr id="265" name=""/>
            <p:cNvSpPr/>
            <p:nvPr/>
          </p:nvSpPr>
          <p:spPr>
            <a:xfrm>
              <a:off x="4038480" y="51930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42670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362320" y="4495680"/>
            <a:ext cx="685800" cy="932400"/>
            <a:chOff x="2362320" y="4495680"/>
            <a:chExt cx="685800" cy="932400"/>
          </a:xfrm>
        </p:grpSpPr>
        <p:sp>
          <p:nvSpPr>
            <p:cNvPr id="268" name=""/>
            <p:cNvSpPr/>
            <p:nvPr/>
          </p:nvSpPr>
          <p:spPr>
            <a:xfrm>
              <a:off x="2362320" y="5029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6232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562720" y="4267080"/>
            <a:ext cx="761760" cy="1618200"/>
            <a:chOff x="5562720" y="4267080"/>
            <a:chExt cx="761760" cy="1618200"/>
          </a:xfrm>
        </p:grpSpPr>
        <p:sp>
          <p:nvSpPr>
            <p:cNvPr id="271" name=""/>
            <p:cNvSpPr/>
            <p:nvPr/>
          </p:nvSpPr>
          <p:spPr>
            <a:xfrm>
              <a:off x="5562720" y="42670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62720" y="5486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×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3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274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WW_04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066680" cy="83844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1752480" y="228600"/>
            <a:ext cx="7010280" cy="763560"/>
            <a:chOff x="1752480" y="228600"/>
            <a:chExt cx="7010280" cy="763560"/>
          </a:xfrm>
        </p:grpSpPr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2286000" y="228600"/>
                  <a:ext cx="6300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124080" y="228600"/>
                  <a:ext cx="63036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752480" y="38088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、       与       相等吗？你能用上面的规律分析吗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752480" y="762120"/>
            <a:ext cx="7162920" cy="761760"/>
            <a:chOff x="1752480" y="762120"/>
            <a:chExt cx="7162920" cy="761760"/>
          </a:xfrm>
        </p:grpSpPr>
        <p:sp>
          <p:nvSpPr>
            <p:cNvPr id="281" name=""/>
            <p:cNvSpPr/>
            <p:nvPr/>
          </p:nvSpPr>
          <p:spPr>
            <a:xfrm>
              <a:off x="1752480" y="91404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、你能不能用折纸的方法，来证明      与      相等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553080" y="762120"/>
                  <a:ext cx="6303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7238880" y="762120"/>
                  <a:ext cx="6303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2819520" y="2286000"/>
            <a:ext cx="1079280" cy="1079640"/>
            <a:chOff x="2819520" y="2286000"/>
            <a:chExt cx="1079280" cy="1079640"/>
          </a:xfrm>
        </p:grpSpPr>
        <p:sp>
          <p:nvSpPr>
            <p:cNvPr id="285" name=""/>
            <p:cNvSpPr/>
            <p:nvPr/>
          </p:nvSpPr>
          <p:spPr>
            <a:xfrm>
              <a:off x="3359160" y="2825640"/>
              <a:ext cx="539640" cy="540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2286000"/>
              <a:ext cx="539640" cy="539640"/>
            </a:xfrm>
            <a:prstGeom prst="rect">
              <a:avLst/>
            </a:prstGeom>
            <a:solidFill>
              <a:srgbClr val="6ffd7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9520" y="2825640"/>
              <a:ext cx="539640" cy="540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19520" y="2286000"/>
              <a:ext cx="539640" cy="539640"/>
            </a:xfrm>
            <a:prstGeom prst="rect">
              <a:avLst/>
            </a:prstGeom>
            <a:solidFill>
              <a:srgbClr val="6ffd7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619520" y="2286000"/>
            <a:ext cx="1079280" cy="1079280"/>
            <a:chOff x="4619520" y="2286000"/>
            <a:chExt cx="1079280" cy="1079280"/>
          </a:xfrm>
        </p:grpSpPr>
        <p:grpSp>
          <p:nvGrpSpPr>
            <p:cNvPr id="290" name=""/>
            <p:cNvGrpSpPr/>
            <p:nvPr/>
          </p:nvGrpSpPr>
          <p:grpSpPr>
            <a:xfrm>
              <a:off x="4619520" y="2298960"/>
              <a:ext cx="1079280" cy="1065240"/>
              <a:chOff x="4619520" y="2298960"/>
              <a:chExt cx="1079280" cy="1065240"/>
            </a:xfrm>
          </p:grpSpPr>
          <p:sp>
            <p:nvSpPr>
              <p:cNvPr id="291" name=""/>
              <p:cNvSpPr/>
              <p:nvPr/>
            </p:nvSpPr>
            <p:spPr>
              <a:xfrm>
                <a:off x="5159160" y="2831400"/>
                <a:ext cx="539640" cy="5328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59160" y="2298960"/>
                <a:ext cx="539640" cy="5324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19520" y="2831400"/>
                <a:ext cx="539640" cy="5328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19520" y="2298960"/>
                <a:ext cx="539640" cy="5324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889880" y="2298960"/>
              <a:ext cx="0" cy="1066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4040" y="2286000"/>
              <a:ext cx="0" cy="10666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418440" y="2286000"/>
            <a:ext cx="1079280" cy="1079640"/>
            <a:chOff x="6418440" y="2286000"/>
            <a:chExt cx="1079280" cy="1079640"/>
          </a:xfrm>
        </p:grpSpPr>
        <p:grpSp>
          <p:nvGrpSpPr>
            <p:cNvPr id="298" name=""/>
            <p:cNvGrpSpPr/>
            <p:nvPr/>
          </p:nvGrpSpPr>
          <p:grpSpPr>
            <a:xfrm>
              <a:off x="6418440" y="2286000"/>
              <a:ext cx="1079280" cy="1072440"/>
              <a:chOff x="6418440" y="2286000"/>
              <a:chExt cx="1079280" cy="1072440"/>
            </a:xfrm>
          </p:grpSpPr>
          <p:sp>
            <p:nvSpPr>
              <p:cNvPr id="299" name=""/>
              <p:cNvSpPr/>
              <p:nvPr/>
            </p:nvSpPr>
            <p:spPr>
              <a:xfrm>
                <a:off x="6958080" y="2822040"/>
                <a:ext cx="539640" cy="5364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58080" y="2286000"/>
                <a:ext cx="539640" cy="5360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18440" y="2822040"/>
                <a:ext cx="539640" cy="5364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18440" y="2286000"/>
                <a:ext cx="539640" cy="53604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136640" y="2286000"/>
              <a:ext cx="0" cy="10735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14120" y="2286000"/>
              <a:ext cx="0" cy="1079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95920" y="2286000"/>
              <a:ext cx="0" cy="1079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74480" y="2286000"/>
              <a:ext cx="0" cy="1079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990720" y="1371600"/>
            <a:ext cx="5790960" cy="762120"/>
            <a:chOff x="990720" y="1371600"/>
            <a:chExt cx="5790960" cy="762120"/>
          </a:xfrm>
        </p:grpSpPr>
        <p:sp>
          <p:nvSpPr>
            <p:cNvPr id="308" name=""/>
            <p:cNvSpPr/>
            <p:nvPr/>
          </p:nvSpPr>
          <p:spPr>
            <a:xfrm>
              <a:off x="990720" y="15238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、你还能折出与      和      相等的分数吗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76720" y="1371600"/>
                  <a:ext cx="6300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038480" y="1371600"/>
                  <a:ext cx="6303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447920" y="4572000"/>
                <a:ext cx="745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6553080" y="1523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还能折几个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84480" y="4572000"/>
                <a:ext cx="746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642000" y="4572000"/>
                <a:ext cx="895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836960" y="4572000"/>
                <a:ext cx="746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1066680" y="2286000"/>
            <a:ext cx="1079640" cy="1079640"/>
            <a:chOff x="1066680" y="2286000"/>
            <a:chExt cx="1079640" cy="1079640"/>
          </a:xfrm>
        </p:grpSpPr>
        <p:sp>
          <p:nvSpPr>
            <p:cNvPr id="317" name=""/>
            <p:cNvSpPr/>
            <p:nvPr/>
          </p:nvSpPr>
          <p:spPr>
            <a:xfrm>
              <a:off x="1066680" y="2286000"/>
              <a:ext cx="1079640" cy="539640"/>
            </a:xfrm>
            <a:prstGeom prst="rect">
              <a:avLst/>
            </a:prstGeom>
            <a:solidFill>
              <a:srgbClr val="05fb11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6680" y="2825640"/>
              <a:ext cx="1079640" cy="540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rot="10800000">
            <a:off x="2286000" y="2666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0800000">
            <a:off x="4056120" y="268884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0800000">
            <a:off x="5884920" y="2690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0800000">
            <a:off x="7637040" y="26902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3040" y="4648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9560" y="4648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8360" y="4648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7242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61480" y="464832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257720" y="2698920"/>
            <a:ext cx="3438000" cy="4741920"/>
            <a:chOff x="4257720" y="2698920"/>
            <a:chExt cx="3438000" cy="4741920"/>
          </a:xfrm>
        </p:grpSpPr>
        <p:sp>
          <p:nvSpPr>
            <p:cNvPr id="330" name=""/>
            <p:cNvSpPr/>
            <p:nvPr/>
          </p:nvSpPr>
          <p:spPr>
            <a:xfrm rot="18086400">
              <a:off x="4494600" y="4809960"/>
              <a:ext cx="2587320" cy="20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260000">
              <a:off x="4879800" y="3323520"/>
              <a:ext cx="2587320" cy="199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249560" y="1102320"/>
            <a:ext cx="7884720" cy="7958880"/>
            <a:chOff x="1249560" y="1102320"/>
            <a:chExt cx="7884720" cy="7958880"/>
          </a:xfrm>
        </p:grpSpPr>
        <p:sp>
          <p:nvSpPr>
            <p:cNvPr id="333" name=""/>
            <p:cNvSpPr/>
            <p:nvPr/>
          </p:nvSpPr>
          <p:spPr>
            <a:xfrm rot="17161200">
              <a:off x="3812040" y="3447000"/>
              <a:ext cx="3961800" cy="581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6334800">
              <a:off x="2586600" y="894240"/>
              <a:ext cx="3958920" cy="578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-1851840" y="-874080"/>
            <a:ext cx="12510360" cy="11833920"/>
            <a:chOff x="-1851840" y="-874080"/>
            <a:chExt cx="12510360" cy="11833920"/>
          </a:xfrm>
        </p:grpSpPr>
        <p:sp>
          <p:nvSpPr>
            <p:cNvPr id="336" name=""/>
            <p:cNvSpPr/>
            <p:nvPr/>
          </p:nvSpPr>
          <p:spPr>
            <a:xfrm rot="17174400">
              <a:off x="2631240" y="2361240"/>
              <a:ext cx="5635080" cy="921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20" y="1767"/>
                  </a:moveTo>
                  <a:arcTo wR="10800" hR="10800" stAng="-3405667" swAng="3744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20" y="1767"/>
                  </a:moveTo>
                  <a:arcTo wR="10800" hR="10800" stAng="-3405667" swAng="3744046"/>
                </a:path>
              </a:pathLst>
            </a:custGeom>
            <a:noFill/>
            <a:ln w="93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6348000">
              <a:off x="505440" y="-1496520"/>
              <a:ext cx="5635080" cy="916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37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37938"/>
                </a:path>
              </a:pathLst>
            </a:custGeom>
            <a:noFill/>
            <a:ln w="93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62520" y="4419720"/>
            <a:ext cx="609480" cy="1324440"/>
            <a:chOff x="3962520" y="4419720"/>
            <a:chExt cx="609480" cy="1324440"/>
          </a:xfrm>
        </p:grpSpPr>
        <p:sp>
          <p:nvSpPr>
            <p:cNvPr id="339" name=""/>
            <p:cNvSpPr/>
            <p:nvPr/>
          </p:nvSpPr>
          <p:spPr>
            <a:xfrm>
              <a:off x="3962520" y="534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÷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6252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÷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86400" y="4572000"/>
            <a:ext cx="914040" cy="932400"/>
            <a:chOff x="5486400" y="4572000"/>
            <a:chExt cx="914040" cy="932400"/>
          </a:xfrm>
        </p:grpSpPr>
        <p:sp>
          <p:nvSpPr>
            <p:cNvPr id="342" name=""/>
            <p:cNvSpPr/>
            <p:nvPr/>
          </p:nvSpPr>
          <p:spPr>
            <a:xfrm>
              <a:off x="5486400" y="510552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33"/>
                  </a:solidFill>
                  <a:latin typeface="Times New Roman"/>
                </a:rPr>
                <a:t>÷1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86400" y="45720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33"/>
                  </a:solidFill>
                  <a:latin typeface="Times New Roman"/>
                </a:rPr>
                <a:t>÷1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362320" y="4191120"/>
            <a:ext cx="761760" cy="1618200"/>
            <a:chOff x="2362320" y="4191120"/>
            <a:chExt cx="761760" cy="1618200"/>
          </a:xfrm>
        </p:grpSpPr>
        <p:sp>
          <p:nvSpPr>
            <p:cNvPr id="345" name=""/>
            <p:cNvSpPr/>
            <p:nvPr/>
          </p:nvSpPr>
          <p:spPr>
            <a:xfrm>
              <a:off x="2362320" y="41911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33"/>
                  </a:solidFill>
                  <a:latin typeface="Times New Roman"/>
                </a:rPr>
                <a:t>÷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2320" y="54104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33"/>
                  </a:solidFill>
                  <a:latin typeface="Times New Roman"/>
                </a:rPr>
                <a:t>÷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7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348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-1803600" y="373680"/>
            <a:ext cx="12412440" cy="10787760"/>
            <a:chOff x="-1803600" y="373680"/>
            <a:chExt cx="12412440" cy="10787760"/>
          </a:xfrm>
        </p:grpSpPr>
        <p:sp>
          <p:nvSpPr>
            <p:cNvPr id="350" name=""/>
            <p:cNvSpPr/>
            <p:nvPr/>
          </p:nvSpPr>
          <p:spPr>
            <a:xfrm>
              <a:off x="5868360" y="54194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384800" y="3626640"/>
              <a:ext cx="3185640" cy="4325040"/>
              <a:chOff x="4384800" y="3626640"/>
              <a:chExt cx="3185640" cy="4325040"/>
            </a:xfrm>
          </p:grpSpPr>
          <p:sp>
            <p:nvSpPr>
              <p:cNvPr id="352" name=""/>
              <p:cNvSpPr/>
              <p:nvPr/>
            </p:nvSpPr>
            <p:spPr>
              <a:xfrm rot="18086400">
                <a:off x="4699440" y="5459400"/>
                <a:ext cx="2262600" cy="200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608" y="1695"/>
                    </a:moveTo>
                    <a:arcTo wR="10800" hR="10800" stAng="-3448119" swAng="3786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608" y="1695"/>
                    </a:moveTo>
                    <a:arcTo wR="10800" hR="10800" stAng="-3448119" swAng="3786498"/>
                  </a:path>
                </a:pathLst>
              </a:custGeom>
              <a:noFill/>
              <a:ln w="9360">
                <a:solidFill>
                  <a:srgbClr val="ffff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7260000">
                <a:off x="5000760" y="4111920"/>
                <a:ext cx="2262600" cy="1996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608" y="1695"/>
                    </a:moveTo>
                    <a:arcTo wR="10800" hR="10800" stAng="-3448119" swAng="3786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608" y="1695"/>
                    </a:moveTo>
                    <a:arcTo wR="10800" hR="10800" stAng="-3448119" swAng="3786498"/>
                  </a:path>
                </a:pathLst>
              </a:custGeom>
              <a:noFill/>
              <a:ln w="936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282680" y="2184120"/>
              <a:ext cx="7817400" cy="7234200"/>
              <a:chOff x="1282680" y="2184120"/>
              <a:chExt cx="7817400" cy="7234200"/>
            </a:xfrm>
          </p:grpSpPr>
          <p:sp>
            <p:nvSpPr>
              <p:cNvPr id="355" name=""/>
              <p:cNvSpPr/>
              <p:nvPr/>
            </p:nvSpPr>
            <p:spPr>
              <a:xfrm rot="17161200">
                <a:off x="4093920" y="4042440"/>
                <a:ext cx="3466440" cy="581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608" y="1695"/>
                    </a:moveTo>
                    <a:arcTo wR="10800" hR="10800" stAng="-3448119" swAng="3786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608" y="1695"/>
                    </a:moveTo>
                    <a:arcTo wR="10800" hR="10800" stAng="-3448119" swAng="3786498"/>
                  </a:path>
                </a:pathLst>
              </a:custGeom>
              <a:noFill/>
              <a:ln w="9360">
                <a:solidFill>
                  <a:srgbClr val="ffff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6334800">
                <a:off x="2801160" y="1737360"/>
                <a:ext cx="3463560" cy="578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608" y="1695"/>
                    </a:moveTo>
                    <a:arcTo wR="10800" hR="10800" stAng="-3448119" swAng="3786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608" y="1695"/>
                    </a:moveTo>
                    <a:arcTo wR="10800" hR="10800" stAng="-3448119" swAng="3786498"/>
                  </a:path>
                </a:pathLst>
              </a:custGeom>
              <a:noFill/>
              <a:ln w="936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-1803600" y="373680"/>
              <a:ext cx="12412440" cy="10787760"/>
              <a:chOff x="-1803600" y="373680"/>
              <a:chExt cx="12412440" cy="10787760"/>
            </a:xfrm>
          </p:grpSpPr>
          <mc:AlternateContent>
            <mc:Choice xmlns:a14="http://schemas.microsoft.com/office/drawing/2010/main" Requires="a14">
              <p:sp>
                <p:nvSpPr>
                  <p:cNvPr id="358" name=""/>
                  <p:cNvSpPr txBox="1"/>
                  <p:nvPr/>
                </p:nvSpPr>
                <p:spPr>
                  <a:xfrm>
                    <a:off x="1447920" y="5352840"/>
                    <a:ext cx="745920" cy="72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" name=""/>
                  <p:cNvSpPr txBox="1"/>
                  <p:nvPr/>
                </p:nvSpPr>
                <p:spPr>
                  <a:xfrm>
                    <a:off x="3084480" y="5352840"/>
                    <a:ext cx="746280" cy="72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0" name=""/>
                  <p:cNvSpPr txBox="1"/>
                  <p:nvPr/>
                </p:nvSpPr>
                <p:spPr>
                  <a:xfrm>
                    <a:off x="6642000" y="5352840"/>
                    <a:ext cx="895320" cy="72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1" name=""/>
                  <p:cNvSpPr txBox="1"/>
                  <p:nvPr/>
                </p:nvSpPr>
                <p:spPr>
                  <a:xfrm>
                    <a:off x="4836960" y="5352840"/>
                    <a:ext cx="746280" cy="72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2" name=""/>
              <p:cNvSpPr/>
              <p:nvPr/>
            </p:nvSpPr>
            <p:spPr>
              <a:xfrm>
                <a:off x="2363040" y="541944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039560" y="541944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44880" y="548604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061480" y="5419440"/>
                <a:ext cx="108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…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-1803600" y="373680"/>
                <a:ext cx="12412440" cy="10787760"/>
                <a:chOff x="-1803600" y="373680"/>
                <a:chExt cx="12412440" cy="10787760"/>
              </a:xfrm>
            </p:grpSpPr>
            <p:sp>
              <p:nvSpPr>
                <p:cNvPr id="367" name=""/>
                <p:cNvSpPr/>
                <p:nvPr/>
              </p:nvSpPr>
              <p:spPr>
                <a:xfrm rot="17174400">
                  <a:off x="3033000" y="2901600"/>
                  <a:ext cx="4929480" cy="921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720" y="1767"/>
                      </a:moveTo>
                      <a:arcTo wR="10800" hR="10800" stAng="-3405667" swAng="3744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720" y="1767"/>
                      </a:moveTo>
                      <a:arcTo wR="10800" hR="10800" stAng="-3405667" swAng="3744046"/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miter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348000">
                  <a:off x="810720" y="-588240"/>
                  <a:ext cx="4929480" cy="916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608" y="1695"/>
                      </a:moveTo>
                      <a:arcTo wR="10800" hR="10800" stAng="-3448119" swAng="373793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608" y="1695"/>
                      </a:moveTo>
                      <a:arcTo wR="10800" hR="10800" stAng="-3448119" swAng="3737938"/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962520" y="5219640"/>
                <a:ext cx="609480" cy="1208880"/>
                <a:chOff x="3962520" y="5219640"/>
                <a:chExt cx="609480" cy="12088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962520" y="6029640"/>
                  <a:ext cx="60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33"/>
                      </a:solidFill>
                      <a:latin typeface="Times New Roman"/>
                    </a:rPr>
                    <a:t>÷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962520" y="5219640"/>
                  <a:ext cx="60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33"/>
                      </a:solidFill>
                      <a:latin typeface="Times New Roman"/>
                    </a:rPr>
                    <a:t>÷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486400" y="5352840"/>
                <a:ext cx="914040" cy="865440"/>
                <a:chOff x="5486400" y="5352840"/>
                <a:chExt cx="914040" cy="8654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486400" y="5819400"/>
                  <a:ext cx="91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0033"/>
                      </a:solidFill>
                      <a:latin typeface="Times New Roman"/>
                    </a:rPr>
                    <a:t>÷1.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486400" y="5352840"/>
                  <a:ext cx="91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0033"/>
                      </a:solidFill>
                      <a:latin typeface="Times New Roman"/>
                    </a:rPr>
                    <a:t>÷1.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2320" y="5019480"/>
                <a:ext cx="761760" cy="1463760"/>
                <a:chOff x="2362320" y="5019480"/>
                <a:chExt cx="761760" cy="14637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362320" y="501948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0033"/>
                      </a:solidFill>
                      <a:latin typeface="Times New Roman"/>
                    </a:rPr>
                    <a:t>÷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2320" y="608436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0033"/>
                      </a:solidFill>
                      <a:latin typeface="Times New Roman"/>
                    </a:rPr>
                    <a:t>÷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-1804680" y="-1803960"/>
            <a:ext cx="12393000" cy="10578240"/>
            <a:chOff x="-1804680" y="-1803960"/>
            <a:chExt cx="12393000" cy="10578240"/>
          </a:xfrm>
        </p:grpSpPr>
        <p:sp>
          <p:nvSpPr>
            <p:cNvPr id="379" name=""/>
            <p:cNvSpPr/>
            <p:nvPr/>
          </p:nvSpPr>
          <p:spPr>
            <a:xfrm>
              <a:off x="4267080" y="3245760"/>
              <a:ext cx="4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-1804680" y="-1803960"/>
              <a:ext cx="12393000" cy="10578240"/>
              <a:chOff x="-1804680" y="-1803960"/>
              <a:chExt cx="12393000" cy="1057824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141200" y="1347840"/>
                <a:ext cx="3135240" cy="4242240"/>
                <a:chOff x="1141200" y="1347840"/>
                <a:chExt cx="3135240" cy="4242240"/>
              </a:xfrm>
            </p:grpSpPr>
            <p:sp>
              <p:nvSpPr>
                <p:cNvPr id="382" name=""/>
                <p:cNvSpPr/>
                <p:nvPr/>
              </p:nvSpPr>
              <p:spPr>
                <a:xfrm rot="7285800">
                  <a:off x="1748160" y="1805040"/>
                  <a:ext cx="2197800" cy="2007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608" y="1695"/>
                      </a:moveTo>
                      <a:arcTo wR="10800" hR="10800" stAng="-3448119" swAng="37864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608" y="1695"/>
                      </a:moveTo>
                      <a:arcTo wR="10800" hR="10800" stAng="-3448119" swAng="3786498"/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miter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060000">
                  <a:off x="1463760" y="3135600"/>
                  <a:ext cx="2197800" cy="1996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608" y="1695"/>
                      </a:moveTo>
                      <a:arcTo wR="10800" hR="10800" stAng="-3448119" swAng="37864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608" y="1695"/>
                      </a:moveTo>
                      <a:arcTo wR="10800" hR="10800" stAng="-3448119" swAng="3786498"/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-1804680" y="-1803960"/>
                <a:ext cx="12393000" cy="10578240"/>
                <a:chOff x="-1804680" y="-1803960"/>
                <a:chExt cx="12393000" cy="10578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85" name=""/>
                    <p:cNvSpPr txBox="1"/>
                    <p:nvPr/>
                  </p:nvSpPr>
                  <p:spPr>
                    <a:xfrm>
                      <a:off x="1600200" y="3116160"/>
                      <a:ext cx="746280" cy="705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86" name=""/>
                    <p:cNvSpPr txBox="1"/>
                    <p:nvPr/>
                  </p:nvSpPr>
                  <p:spPr>
                    <a:xfrm>
                      <a:off x="3236760" y="3116160"/>
                      <a:ext cx="746280" cy="705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87" name=""/>
                    <p:cNvSpPr txBox="1"/>
                    <p:nvPr/>
                  </p:nvSpPr>
                  <p:spPr>
                    <a:xfrm>
                      <a:off x="6794640" y="3116160"/>
                      <a:ext cx="895320" cy="706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88" name=""/>
                    <p:cNvSpPr txBox="1"/>
                    <p:nvPr/>
                  </p:nvSpPr>
                  <p:spPr>
                    <a:xfrm>
                      <a:off x="4989600" y="3116160"/>
                      <a:ext cx="745920" cy="705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9" name=""/>
                <p:cNvSpPr/>
                <p:nvPr/>
              </p:nvSpPr>
              <p:spPr>
                <a:xfrm>
                  <a:off x="2515680" y="3180960"/>
                  <a:ext cx="41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=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020640" y="3180960"/>
                  <a:ext cx="41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=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97160" y="3245760"/>
                  <a:ext cx="41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=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-336960" y="-88920"/>
                  <a:ext cx="7804080" cy="7089120"/>
                  <a:chOff x="-336960" y="-88920"/>
                  <a:chExt cx="7804080" cy="70891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6361200">
                    <a:off x="1238400" y="-575280"/>
                    <a:ext cx="3367080" cy="5814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608" y="1695"/>
                        </a:moveTo>
                        <a:arcTo wR="10800" hR="10800" stAng="-3448119" swAng="37864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608" y="1695"/>
                        </a:moveTo>
                        <a:arcTo wR="10800" hR="10800" stAng="-3448119" swAng="3786498"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miter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7134800">
                    <a:off x="2547720" y="1711440"/>
                    <a:ext cx="3364200" cy="578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608" y="1695"/>
                        </a:moveTo>
                        <a:arcTo wR="10800" hR="10800" stAng="-3448119" swAng="37864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608" y="1695"/>
                        </a:moveTo>
                        <a:arcTo wR="10800" hR="10800" stAng="-3448119" swAng="3786498"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4191120" y="2857320"/>
                  <a:ext cx="609480" cy="1186560"/>
                  <a:chOff x="4191120" y="2857320"/>
                  <a:chExt cx="609480" cy="11865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4191120" y="3645000"/>
                    <a:ext cx="6094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33"/>
                        </a:solidFill>
                        <a:latin typeface="Times New Roman"/>
                      </a:rPr>
                      <a:t>×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191120" y="2857320"/>
                    <a:ext cx="6094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33"/>
                        </a:solidFill>
                        <a:latin typeface="Times New Roman"/>
                      </a:rPr>
                      <a:t>×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2514600" y="3051360"/>
                  <a:ext cx="685800" cy="852120"/>
                  <a:chOff x="2514600" y="3051360"/>
                  <a:chExt cx="685800" cy="852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514600" y="3504600"/>
                    <a:ext cx="685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33"/>
                        </a:solidFill>
                        <a:latin typeface="Times New Roman"/>
                      </a:rPr>
                      <a:t>×2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514600" y="3051360"/>
                    <a:ext cx="685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33"/>
                        </a:solidFill>
                        <a:latin typeface="Times New Roman"/>
                      </a:rPr>
                      <a:t>×2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5715000" y="2857320"/>
                  <a:ext cx="761760" cy="1436040"/>
                  <a:chOff x="5715000" y="2857320"/>
                  <a:chExt cx="761760" cy="143604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5715000" y="285732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33"/>
                        </a:solidFill>
                        <a:latin typeface="Times New Roman"/>
                      </a:rPr>
                      <a:t>×6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5715000" y="3894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33"/>
                        </a:solidFill>
                        <a:latin typeface="Times New Roman"/>
                      </a:rPr>
                      <a:t>×6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>
                  <a:off x="8061480" y="3180960"/>
                  <a:ext cx="1082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……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-1804680" y="-1803960"/>
                  <a:ext cx="12393000" cy="10578240"/>
                  <a:chOff x="-1804680" y="-1803960"/>
                  <a:chExt cx="12393000" cy="105782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6373800">
                    <a:off x="892080" y="-2823120"/>
                    <a:ext cx="4788720" cy="9211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720" y="1767"/>
                        </a:moveTo>
                        <a:arcTo wR="10800" hR="10800" stAng="-3405667" swAng="374404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720" y="1767"/>
                        </a:moveTo>
                        <a:arcTo wR="10800" hR="10800" stAng="-3405667" swAng="3744046"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miter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17148000">
                    <a:off x="3134160" y="642240"/>
                    <a:ext cx="4788720" cy="916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608" y="1695"/>
                        </a:moveTo>
                        <a:arcTo wR="10800" hR="10800" stAng="-3448119" swAng="37379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608" y="1695"/>
                        </a:moveTo>
                        <a:arcTo wR="10800" hR="10800" stAng="-3448119" swAng="3737938"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08" name="Rm_07" descr=""/>
          <p:cNvPicPr/>
          <p:nvPr/>
        </p:nvPicPr>
        <p:blipFill>
          <a:blip r:embed="rId1"/>
          <a:srcRect l="6245" t="26097" r="34380" b="0"/>
          <a:stretch/>
        </p:blipFill>
        <p:spPr>
          <a:xfrm>
            <a:off x="0" y="2438280"/>
            <a:ext cx="1447920" cy="2210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28600" y="228600"/>
            <a:ext cx="4114800" cy="990720"/>
          </a:xfrm>
          <a:prstGeom prst="cloudCallout">
            <a:avLst>
              <a:gd name="adj1" fmla="val -30287"/>
              <a:gd name="adj2" fmla="val 13525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刚才的演示中，你发现了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1371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、分母同时乘以或除以相同的数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190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大小不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5484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413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65530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m_07" descr=""/>
          <p:cNvPicPr/>
          <p:nvPr/>
        </p:nvPicPr>
        <p:blipFill>
          <a:blip r:embed="rId1"/>
          <a:srcRect l="6245" t="26097" r="34380" b="0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57200" y="2666880"/>
            <a:ext cx="3733920" cy="914400"/>
          </a:xfrm>
          <a:prstGeom prst="cloudCallout">
            <a:avLst>
              <a:gd name="adj1" fmla="val -44856"/>
              <a:gd name="adj2" fmla="val 15538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边的式子对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3880" y="12952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、分母同时乘以或除以相同的数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大小不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4240" y="1273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黑体"/>
              </a:rPr>
              <a:t>同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29400" y="1273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33"/>
                </a:solidFill>
                <a:latin typeface="Times New Roman"/>
                <a:ea typeface="黑体"/>
              </a:rPr>
              <a:t>相同的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419720" y="3276720"/>
                <a:ext cx="3143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4419720"/>
                <a:ext cx="3028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1" name="GTH_00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422" name="GTH_00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0:16:53Z</dcterms:created>
  <dc:creator/>
  <dc:description/>
  <dc:language>en-US</dc:language>
  <cp:lastModifiedBy>User</cp:lastModifiedBy>
  <dcterms:modified xsi:type="dcterms:W3CDTF">2005-04-07T12:42:25Z</dcterms:modified>
  <cp:revision>32</cp:revision>
  <dc:subject/>
  <dc:title>PowerPoint 演示文稿</dc:title>
</cp:coreProperties>
</file>