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36A-6DC8-4F90-8C37-D3CD49DE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C24-0639-417C-83CF-3751FF5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AEB-F7C8-421B-A473-0D7E1D5C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F77-D951-475B-9BF7-C4A13385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1AD-5ADE-44F8-A0F5-CA74250D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F80-6759-4230-8170-58468E87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860-E473-4F42-9209-96BB4EAA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981-9DC3-4D4B-B9BE-DB7DEE54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D86-992B-409D-BC16-29435DDC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96F-5E0C-491F-887C-AC6D92D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24C-35E5-427D-B58B-1434682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DBB-702C-4A24-A264-F43BBC2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5F6-2B72-49E8-AE51-B9A181DEB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4292640"/>
            <a:ext cx="936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39640" y="549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211640" y="2060640"/>
            <a:ext cx="502920" cy="1013040"/>
            <a:chOff x="4211640" y="2060640"/>
            <a:chExt cx="502920" cy="1013040"/>
          </a:xfrm>
        </p:grpSpPr>
        <p:sp>
          <p:nvSpPr>
            <p:cNvPr id="383" name=""/>
            <p:cNvSpPr/>
            <p:nvPr/>
          </p:nvSpPr>
          <p:spPr>
            <a:xfrm>
              <a:off x="4282920" y="2492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11640" y="2563920"/>
              <a:ext cx="50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2920" y="2060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9280" y="981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把下面的分数化成分母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而大小不变的分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627280" y="2060640"/>
            <a:ext cx="938160" cy="1013040"/>
            <a:chOff x="2627280" y="2060640"/>
            <a:chExt cx="938160" cy="1013040"/>
          </a:xfrm>
        </p:grpSpPr>
        <p:sp>
          <p:nvSpPr>
            <p:cNvPr id="388" name=""/>
            <p:cNvSpPr/>
            <p:nvPr/>
          </p:nvSpPr>
          <p:spPr>
            <a:xfrm>
              <a:off x="2700000" y="2492280"/>
              <a:ext cx="86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27280" y="2565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00000" y="20606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116000" y="2492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42920" y="256536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79640" y="206064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724360" y="2060640"/>
            <a:ext cx="502920" cy="1013040"/>
            <a:chOff x="5724360" y="2060640"/>
            <a:chExt cx="502920" cy="1013040"/>
          </a:xfrm>
        </p:grpSpPr>
        <p:sp>
          <p:nvSpPr>
            <p:cNvPr id="395" name=""/>
            <p:cNvSpPr/>
            <p:nvPr/>
          </p:nvSpPr>
          <p:spPr>
            <a:xfrm>
              <a:off x="5795640" y="2492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24360" y="2563920"/>
              <a:ext cx="50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95640" y="2060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093080" y="2060640"/>
            <a:ext cx="502920" cy="1013040"/>
            <a:chOff x="7093080" y="2060640"/>
            <a:chExt cx="502920" cy="1013040"/>
          </a:xfrm>
        </p:grpSpPr>
        <p:sp>
          <p:nvSpPr>
            <p:cNvPr id="399" name=""/>
            <p:cNvSpPr/>
            <p:nvPr/>
          </p:nvSpPr>
          <p:spPr>
            <a:xfrm>
              <a:off x="7164360" y="2492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93080" y="2563920"/>
              <a:ext cx="50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64360" y="2060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68360" y="148428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把下面的数化成分子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而大小不变的分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187280" y="2421000"/>
            <a:ext cx="938160" cy="1013040"/>
            <a:chOff x="1187280" y="2421000"/>
            <a:chExt cx="938160" cy="1013040"/>
          </a:xfrm>
        </p:grpSpPr>
        <p:sp>
          <p:nvSpPr>
            <p:cNvPr id="404" name=""/>
            <p:cNvSpPr/>
            <p:nvPr/>
          </p:nvSpPr>
          <p:spPr>
            <a:xfrm>
              <a:off x="1260000" y="2852640"/>
              <a:ext cx="86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7280" y="2925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60000" y="2421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2728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54200" y="292572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7020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6728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94200" y="292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020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2292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49840" y="292572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6584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46920" y="292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6292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68360" y="1125360"/>
            <a:ext cx="86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把下面的分数化成分子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而大小不变的分数，并按照从小到大的顺序排列进来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3068640"/>
            <a:ext cx="7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65400" y="3141720"/>
            <a:ext cx="57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32000" y="2637000"/>
            <a:ext cx="6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3068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70200" y="3141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2637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7640" y="3068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54560" y="3141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9080" y="2637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38920" y="3068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5840" y="3141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81840" y="2637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78560" y="3068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6000" y="3141720"/>
            <a:ext cx="71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78560" y="2637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7964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71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38560" y="443700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19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1964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9928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780000" y="443700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052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动手操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组：把准备好的纸条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997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涂上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580000" y="1989000"/>
            <a:ext cx="792360" cy="1013400"/>
            <a:chOff x="5580000" y="1989000"/>
            <a:chExt cx="792360" cy="1013400"/>
          </a:xfrm>
        </p:grpSpPr>
        <p:sp>
          <p:nvSpPr>
            <p:cNvPr id="47" name=""/>
            <p:cNvSpPr/>
            <p:nvPr/>
          </p:nvSpPr>
          <p:spPr>
            <a:xfrm>
              <a:off x="5796000" y="24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80000" y="249372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6000" y="1989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659640" y="1989000"/>
            <a:ext cx="792000" cy="1013400"/>
            <a:chOff x="6659640" y="1989000"/>
            <a:chExt cx="792000" cy="1013400"/>
          </a:xfrm>
        </p:grpSpPr>
        <p:sp>
          <p:nvSpPr>
            <p:cNvPr id="51" name=""/>
            <p:cNvSpPr/>
            <p:nvPr/>
          </p:nvSpPr>
          <p:spPr>
            <a:xfrm>
              <a:off x="6875280" y="24210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9640" y="2493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75280" y="19890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740720" y="2060640"/>
            <a:ext cx="792000" cy="1013400"/>
            <a:chOff x="7740720" y="2060640"/>
            <a:chExt cx="792000" cy="1013400"/>
          </a:xfrm>
        </p:grpSpPr>
        <p:sp>
          <p:nvSpPr>
            <p:cNvPr id="55" name=""/>
            <p:cNvSpPr/>
            <p:nvPr/>
          </p:nvSpPr>
          <p:spPr>
            <a:xfrm>
              <a:off x="7956360" y="2492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40720" y="2565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56360" y="2060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050920" y="458136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讨论：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907920"/>
            <a:ext cx="583236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907920"/>
            <a:ext cx="3024000" cy="57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907920"/>
            <a:ext cx="0" cy="57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4360" y="2349360"/>
            <a:ext cx="5832360" cy="576360"/>
            <a:chOff x="684360" y="2349360"/>
            <a:chExt cx="5832360" cy="576360"/>
          </a:xfrm>
        </p:grpSpPr>
        <p:sp>
          <p:nvSpPr>
            <p:cNvPr id="64" name=""/>
            <p:cNvSpPr/>
            <p:nvPr/>
          </p:nvSpPr>
          <p:spPr>
            <a:xfrm>
              <a:off x="3637080" y="2349360"/>
              <a:ext cx="0" cy="57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4360" y="2349360"/>
              <a:ext cx="5832360" cy="5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95640" y="2349360"/>
              <a:ext cx="0" cy="57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6720" y="2349360"/>
              <a:ext cx="0" cy="57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403280" y="4076640"/>
            <a:ext cx="79236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349360"/>
            <a:ext cx="1511280" cy="576360"/>
          </a:xfrm>
          <a:prstGeom prst="rect">
            <a:avLst/>
          </a:prstGeom>
          <a:solidFill>
            <a:srgbClr val="fad7a4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2349360"/>
            <a:ext cx="1439640" cy="576360"/>
          </a:xfrm>
          <a:prstGeom prst="rect">
            <a:avLst/>
          </a:prstGeom>
          <a:solidFill>
            <a:srgbClr val="fad7a4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4360" y="4076640"/>
            <a:ext cx="5832360" cy="576000"/>
            <a:chOff x="684360" y="4076640"/>
            <a:chExt cx="5832360" cy="576000"/>
          </a:xfrm>
        </p:grpSpPr>
        <p:sp>
          <p:nvSpPr>
            <p:cNvPr id="72" name=""/>
            <p:cNvSpPr/>
            <p:nvPr/>
          </p:nvSpPr>
          <p:spPr>
            <a:xfrm>
              <a:off x="684360" y="4076640"/>
              <a:ext cx="5832360" cy="576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37080" y="4076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640" y="40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6720" y="4076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4076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4720" y="4076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56000" y="4076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96000" y="4076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84360" y="4076640"/>
            <a:ext cx="71892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4076640"/>
            <a:ext cx="71892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4076640"/>
            <a:ext cx="71892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020000" y="692280"/>
            <a:ext cx="792000" cy="1013400"/>
            <a:chOff x="7020000" y="692280"/>
            <a:chExt cx="792000" cy="1013400"/>
          </a:xfrm>
        </p:grpSpPr>
        <p:sp>
          <p:nvSpPr>
            <p:cNvPr id="84" name=""/>
            <p:cNvSpPr/>
            <p:nvPr/>
          </p:nvSpPr>
          <p:spPr>
            <a:xfrm>
              <a:off x="7235640" y="112428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20000" y="119700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5640" y="69228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093080" y="2133720"/>
            <a:ext cx="792000" cy="1013400"/>
            <a:chOff x="7093080" y="2133720"/>
            <a:chExt cx="792000" cy="1013400"/>
          </a:xfrm>
        </p:grpSpPr>
        <p:sp>
          <p:nvSpPr>
            <p:cNvPr id="88" name=""/>
            <p:cNvSpPr/>
            <p:nvPr/>
          </p:nvSpPr>
          <p:spPr>
            <a:xfrm>
              <a:off x="7308720" y="256572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3080" y="263844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08720" y="213372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093080" y="3789360"/>
            <a:ext cx="792000" cy="1013400"/>
            <a:chOff x="7093080" y="3789360"/>
            <a:chExt cx="792000" cy="1013400"/>
          </a:xfrm>
        </p:grpSpPr>
        <p:sp>
          <p:nvSpPr>
            <p:cNvPr id="92" name=""/>
            <p:cNvSpPr/>
            <p:nvPr/>
          </p:nvSpPr>
          <p:spPr>
            <a:xfrm>
              <a:off x="7308720" y="422136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3080" y="429408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08720" y="378936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58920" y="5084640"/>
            <a:ext cx="792000" cy="1013400"/>
            <a:chOff x="1258920" y="5084640"/>
            <a:chExt cx="792000" cy="1013400"/>
          </a:xfrm>
        </p:grpSpPr>
        <p:sp>
          <p:nvSpPr>
            <p:cNvPr id="96" name=""/>
            <p:cNvSpPr/>
            <p:nvPr/>
          </p:nvSpPr>
          <p:spPr>
            <a:xfrm>
              <a:off x="1474560" y="5516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8920" y="5589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4560" y="5084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43280" y="5084640"/>
            <a:ext cx="792000" cy="1013400"/>
            <a:chOff x="2843280" y="5084640"/>
            <a:chExt cx="792000" cy="1013400"/>
          </a:xfrm>
        </p:grpSpPr>
        <p:sp>
          <p:nvSpPr>
            <p:cNvPr id="100" name=""/>
            <p:cNvSpPr/>
            <p:nvPr/>
          </p:nvSpPr>
          <p:spPr>
            <a:xfrm>
              <a:off x="3058920" y="5516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43280" y="5589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58920" y="5084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427640" y="5084640"/>
            <a:ext cx="792000" cy="1013400"/>
            <a:chOff x="4427640" y="5084640"/>
            <a:chExt cx="792000" cy="1013400"/>
          </a:xfrm>
        </p:grpSpPr>
        <p:sp>
          <p:nvSpPr>
            <p:cNvPr id="104" name=""/>
            <p:cNvSpPr/>
            <p:nvPr/>
          </p:nvSpPr>
          <p:spPr>
            <a:xfrm>
              <a:off x="4643280" y="5516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27640" y="5589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3280" y="5084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195640" y="53006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530064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35280" y="-532080"/>
            <a:ext cx="73080" cy="561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619280" y="2060640"/>
            <a:ext cx="525780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分数的基本性质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98900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分数的分子和分母同时乘以或者除以相同的数（零除外），分数的大小不变。这叫做分数的基本性质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93960" y="2203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71640" y="1843200"/>
            <a:ext cx="792000" cy="1013400"/>
            <a:chOff x="971640" y="1843200"/>
            <a:chExt cx="792000" cy="1013400"/>
          </a:xfrm>
        </p:grpSpPr>
        <p:sp>
          <p:nvSpPr>
            <p:cNvPr id="114" name=""/>
            <p:cNvSpPr/>
            <p:nvPr/>
          </p:nvSpPr>
          <p:spPr>
            <a:xfrm>
              <a:off x="1187280" y="22752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71640" y="23479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7280" y="18432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92360" y="19875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2274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2347920"/>
            <a:ext cx="19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8432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960" y="18432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53960" y="18432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53960" y="227664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643280" y="1843200"/>
            <a:ext cx="792360" cy="1013400"/>
            <a:chOff x="4643280" y="1843200"/>
            <a:chExt cx="792360" cy="1013400"/>
          </a:xfrm>
        </p:grpSpPr>
        <p:sp>
          <p:nvSpPr>
            <p:cNvPr id="125" name=""/>
            <p:cNvSpPr/>
            <p:nvPr/>
          </p:nvSpPr>
          <p:spPr>
            <a:xfrm>
              <a:off x="4859280" y="22752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34792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9280" y="18432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140360" y="19875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71640" y="2997360"/>
            <a:ext cx="4463640" cy="1084320"/>
            <a:chOff x="971640" y="2997360"/>
            <a:chExt cx="4463640" cy="1084320"/>
          </a:xfrm>
        </p:grpSpPr>
        <p:sp>
          <p:nvSpPr>
            <p:cNvPr id="130" name=""/>
            <p:cNvSpPr/>
            <p:nvPr/>
          </p:nvSpPr>
          <p:spPr>
            <a:xfrm>
              <a:off x="1620720" y="321156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40000" y="34988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7080" y="3571920"/>
              <a:ext cx="1942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0000" y="30672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2320" y="30672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82320" y="350028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7280" y="2997360"/>
              <a:ext cx="1008000" cy="1011240"/>
              <a:chOff x="4427280" y="2997360"/>
              <a:chExt cx="1008000" cy="10112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89360" y="34272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44720" y="350172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27280" y="299736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068720" y="3213000"/>
              <a:ext cx="100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27280" y="306864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7280" y="350028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971640" y="2997360"/>
              <a:ext cx="792000" cy="1013400"/>
              <a:chOff x="971640" y="2997360"/>
              <a:chExt cx="792000" cy="1013400"/>
            </a:xfrm>
          </p:grpSpPr>
          <p:sp>
            <p:nvSpPr>
              <p:cNvPr id="144" name=""/>
              <p:cNvSpPr/>
              <p:nvPr/>
            </p:nvSpPr>
            <p:spPr>
              <a:xfrm>
                <a:off x="1187280" y="3429360"/>
                <a:ext cx="43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71640" y="350208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87280" y="2997360"/>
                <a:ext cx="43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826920" y="4149720"/>
            <a:ext cx="4680000" cy="1084680"/>
            <a:chOff x="826920" y="4149720"/>
            <a:chExt cx="4680000" cy="1084680"/>
          </a:xfrm>
        </p:grpSpPr>
        <p:grpSp>
          <p:nvGrpSpPr>
            <p:cNvPr id="148" name=""/>
            <p:cNvGrpSpPr/>
            <p:nvPr/>
          </p:nvGrpSpPr>
          <p:grpSpPr>
            <a:xfrm>
              <a:off x="826920" y="4221000"/>
              <a:ext cx="1008000" cy="1011600"/>
              <a:chOff x="826920" y="4221000"/>
              <a:chExt cx="1008000" cy="1011600"/>
            </a:xfrm>
          </p:grpSpPr>
          <p:sp>
            <p:nvSpPr>
              <p:cNvPr id="149" name=""/>
              <p:cNvSpPr/>
              <p:nvPr/>
            </p:nvSpPr>
            <p:spPr>
              <a:xfrm>
                <a:off x="1089000" y="46512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44360" y="472572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6920" y="422100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763280" y="443700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95280" y="4653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68360" y="4724280"/>
              <a:ext cx="194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11280" y="42195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53600" y="42195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53600" y="46530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40000" y="436572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1640" y="4221000"/>
              <a:ext cx="504720" cy="5050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1640" y="4724280"/>
              <a:ext cx="504720" cy="5050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716000" y="4149720"/>
              <a:ext cx="790920" cy="1013040"/>
              <a:chOff x="4716000" y="4149720"/>
              <a:chExt cx="790920" cy="1013040"/>
            </a:xfrm>
          </p:grpSpPr>
          <p:sp>
            <p:nvSpPr>
              <p:cNvPr id="162" name=""/>
              <p:cNvSpPr/>
              <p:nvPr/>
            </p:nvSpPr>
            <p:spPr>
              <a:xfrm>
                <a:off x="4787640" y="4581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16000" y="4653000"/>
                <a:ext cx="7909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87640" y="414972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900000" y="5373720"/>
            <a:ext cx="4627800" cy="1086120"/>
            <a:chOff x="900000" y="5373720"/>
            <a:chExt cx="4627800" cy="1086120"/>
          </a:xfrm>
        </p:grpSpPr>
        <p:grpSp>
          <p:nvGrpSpPr>
            <p:cNvPr id="166" name=""/>
            <p:cNvGrpSpPr/>
            <p:nvPr/>
          </p:nvGrpSpPr>
          <p:grpSpPr>
            <a:xfrm>
              <a:off x="900000" y="5446800"/>
              <a:ext cx="1008000" cy="1011240"/>
              <a:chOff x="900000" y="5446800"/>
              <a:chExt cx="1008000" cy="1011240"/>
            </a:xfrm>
          </p:grpSpPr>
          <p:sp>
            <p:nvSpPr>
              <p:cNvPr id="167" name=""/>
              <p:cNvSpPr/>
              <p:nvPr/>
            </p:nvSpPr>
            <p:spPr>
              <a:xfrm>
                <a:off x="1162080" y="587664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17440" y="595116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00000" y="544680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836720" y="566280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68360" y="58784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41440" y="595008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4360" y="54453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27040" y="54453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27040" y="58784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13080" y="559116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44720" y="5446800"/>
              <a:ext cx="50472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44720" y="5950080"/>
              <a:ext cx="50472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60720" y="580716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16360" y="5878440"/>
              <a:ext cx="790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0720" y="537372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92360" y="18432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500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22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9640" y="30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414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465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4221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653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36880" y="5373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36880" y="5877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544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5877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在下面的（　）里填上适当的数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　　里填上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×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号或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÷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使等式成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2000" y="549360"/>
            <a:ext cx="43200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09960" y="18432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87280" y="1482840"/>
            <a:ext cx="792360" cy="1013400"/>
            <a:chOff x="1187280" y="1482840"/>
            <a:chExt cx="792360" cy="1013400"/>
          </a:xfrm>
        </p:grpSpPr>
        <p:sp>
          <p:nvSpPr>
            <p:cNvPr id="198" name=""/>
            <p:cNvSpPr/>
            <p:nvPr/>
          </p:nvSpPr>
          <p:spPr>
            <a:xfrm>
              <a:off x="1403280" y="1914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7280" y="198756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3280" y="1482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08000" y="16272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19144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1987560"/>
            <a:ext cx="19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148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09960" y="14828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3800" y="148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380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859280" y="1482840"/>
            <a:ext cx="792360" cy="1013400"/>
            <a:chOff x="4859280" y="1482840"/>
            <a:chExt cx="792360" cy="1013400"/>
          </a:xfrm>
        </p:grpSpPr>
        <p:sp>
          <p:nvSpPr>
            <p:cNvPr id="209" name=""/>
            <p:cNvSpPr/>
            <p:nvPr/>
          </p:nvSpPr>
          <p:spPr>
            <a:xfrm>
              <a:off x="5075280" y="1914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59280" y="198756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5280" y="1482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356000" y="16272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87280" y="2637000"/>
            <a:ext cx="3960720" cy="1084320"/>
            <a:chOff x="1187280" y="2637000"/>
            <a:chExt cx="3960720" cy="1084320"/>
          </a:xfrm>
        </p:grpSpPr>
        <p:sp>
          <p:nvSpPr>
            <p:cNvPr id="214" name=""/>
            <p:cNvSpPr/>
            <p:nvPr/>
          </p:nvSpPr>
          <p:spPr>
            <a:xfrm>
              <a:off x="1836720" y="28512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55640" y="31384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2720" y="3211560"/>
              <a:ext cx="1440000" cy="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55640" y="27064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77800" y="2708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7800" y="3139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140000" y="2708280"/>
              <a:ext cx="1008000" cy="1011240"/>
              <a:chOff x="4140000" y="2708280"/>
              <a:chExt cx="1008000" cy="101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4402080" y="313812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57440" y="321264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40000" y="270828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3781440" y="292392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2920" y="2708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42920" y="31399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187280" y="2637000"/>
              <a:ext cx="792360" cy="1013040"/>
              <a:chOff x="1187280" y="2637000"/>
              <a:chExt cx="792360" cy="1013040"/>
            </a:xfrm>
          </p:grpSpPr>
          <p:sp>
            <p:nvSpPr>
              <p:cNvPr id="228" name=""/>
              <p:cNvSpPr/>
              <p:nvPr/>
            </p:nvSpPr>
            <p:spPr>
              <a:xfrm>
                <a:off x="1403280" y="3068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87280" y="3141360"/>
                <a:ext cx="792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03280" y="2637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1187280" y="3789360"/>
            <a:ext cx="4413240" cy="1084320"/>
            <a:chOff x="1187280" y="3789360"/>
            <a:chExt cx="4413240" cy="1084320"/>
          </a:xfrm>
        </p:grpSpPr>
        <p:sp>
          <p:nvSpPr>
            <p:cNvPr id="232" name=""/>
            <p:cNvSpPr/>
            <p:nvPr/>
          </p:nvSpPr>
          <p:spPr>
            <a:xfrm>
              <a:off x="1836720" y="40032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55640" y="4290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2720" y="4363560"/>
              <a:ext cx="187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55640" y="3858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2520" y="38606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2520" y="429228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33800" y="429228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790880" y="4363560"/>
              <a:ext cx="71928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2160" y="3860640"/>
              <a:ext cx="96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4360" y="407628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42920" y="3860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42920" y="4292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187280" y="3789360"/>
              <a:ext cx="792360" cy="1013040"/>
              <a:chOff x="1187280" y="3789360"/>
              <a:chExt cx="792360" cy="1013040"/>
            </a:xfrm>
          </p:grpSpPr>
          <p:sp>
            <p:nvSpPr>
              <p:cNvPr id="245" name=""/>
              <p:cNvSpPr/>
              <p:nvPr/>
            </p:nvSpPr>
            <p:spPr>
              <a:xfrm>
                <a:off x="1403280" y="4221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87280" y="4293720"/>
                <a:ext cx="792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03280" y="3789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1187280" y="4941720"/>
            <a:ext cx="4464360" cy="1014840"/>
            <a:chOff x="1187280" y="4941720"/>
            <a:chExt cx="4464360" cy="1014840"/>
          </a:xfrm>
        </p:grpSpPr>
        <p:grpSp>
          <p:nvGrpSpPr>
            <p:cNvPr id="249" name=""/>
            <p:cNvGrpSpPr/>
            <p:nvPr/>
          </p:nvGrpSpPr>
          <p:grpSpPr>
            <a:xfrm>
              <a:off x="1187280" y="4941720"/>
              <a:ext cx="792360" cy="1013400"/>
              <a:chOff x="1187280" y="4941720"/>
              <a:chExt cx="792360" cy="1013400"/>
            </a:xfrm>
          </p:grpSpPr>
          <p:sp>
            <p:nvSpPr>
              <p:cNvPr id="250" name=""/>
              <p:cNvSpPr/>
              <p:nvPr/>
            </p:nvSpPr>
            <p:spPr>
              <a:xfrm>
                <a:off x="1403280" y="5373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87280" y="5446440"/>
                <a:ext cx="792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03280" y="4941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908000" y="50860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7280" y="53737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4360" y="544680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7280" y="49417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09960" y="49417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93800" y="4941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93800" y="5375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859280" y="4941720"/>
              <a:ext cx="792360" cy="1013400"/>
              <a:chOff x="4859280" y="4941720"/>
              <a:chExt cx="792360" cy="1013400"/>
            </a:xfrm>
          </p:grpSpPr>
          <p:sp>
            <p:nvSpPr>
              <p:cNvPr id="261" name=""/>
              <p:cNvSpPr/>
              <p:nvPr/>
            </p:nvSpPr>
            <p:spPr>
              <a:xfrm>
                <a:off x="5075280" y="5373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59280" y="5446440"/>
                <a:ext cx="792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75280" y="4941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356000" y="50860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6360" y="53751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116000" y="476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请你当法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（说明理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177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59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378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4000" y="50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04760" y="255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76400" y="35593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720" y="162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80360" y="5013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971640" y="1557360"/>
            <a:ext cx="792000" cy="1013400"/>
            <a:chOff x="971640" y="1557360"/>
            <a:chExt cx="792000" cy="1013400"/>
          </a:xfrm>
        </p:grpSpPr>
        <p:sp>
          <p:nvSpPr>
            <p:cNvPr id="276" name=""/>
            <p:cNvSpPr/>
            <p:nvPr/>
          </p:nvSpPr>
          <p:spPr>
            <a:xfrm>
              <a:off x="1187280" y="198936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71640" y="206208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87280" y="155736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92360" y="17733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3284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8360" y="206208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1557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71640" y="2852640"/>
            <a:ext cx="2879640" cy="1013400"/>
            <a:chOff x="971640" y="2852640"/>
            <a:chExt cx="2879640" cy="1013400"/>
          </a:xfrm>
        </p:grpSpPr>
        <p:grpSp>
          <p:nvGrpSpPr>
            <p:cNvPr id="285" name=""/>
            <p:cNvGrpSpPr/>
            <p:nvPr/>
          </p:nvGrpSpPr>
          <p:grpSpPr>
            <a:xfrm>
              <a:off x="971640" y="2852640"/>
              <a:ext cx="836640" cy="1013040"/>
              <a:chOff x="971640" y="2852640"/>
              <a:chExt cx="836640" cy="1013040"/>
            </a:xfrm>
          </p:grpSpPr>
          <p:sp>
            <p:nvSpPr>
              <p:cNvPr id="286" name=""/>
              <p:cNvSpPr/>
              <p:nvPr/>
            </p:nvSpPr>
            <p:spPr>
              <a:xfrm>
                <a:off x="971640" y="328428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97200" y="3355920"/>
                <a:ext cx="720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41560" y="285264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692360" y="306864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24000" y="32846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68360" y="3357720"/>
              <a:ext cx="1008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50920" y="285264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72000" y="1484280"/>
            <a:ext cx="2952720" cy="1084680"/>
            <a:chOff x="4572000" y="1484280"/>
            <a:chExt cx="2952720" cy="1084680"/>
          </a:xfrm>
        </p:grpSpPr>
        <p:sp>
          <p:nvSpPr>
            <p:cNvPr id="294" name=""/>
            <p:cNvSpPr/>
            <p:nvPr/>
          </p:nvSpPr>
          <p:spPr>
            <a:xfrm>
              <a:off x="4643640" y="198756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572000" y="2058480"/>
              <a:ext cx="81756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43640" y="155556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360" y="170028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0" y="148428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0360" y="1989000"/>
              <a:ext cx="1008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24720" y="191592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570560" y="2852640"/>
            <a:ext cx="2736720" cy="1013400"/>
            <a:chOff x="4570560" y="2852640"/>
            <a:chExt cx="2736720" cy="1013400"/>
          </a:xfrm>
        </p:grpSpPr>
        <p:grpSp>
          <p:nvGrpSpPr>
            <p:cNvPr id="302" name=""/>
            <p:cNvGrpSpPr/>
            <p:nvPr/>
          </p:nvGrpSpPr>
          <p:grpSpPr>
            <a:xfrm>
              <a:off x="4570560" y="2852640"/>
              <a:ext cx="792000" cy="1013400"/>
              <a:chOff x="4570560" y="2852640"/>
              <a:chExt cx="792000" cy="1013400"/>
            </a:xfrm>
          </p:grpSpPr>
          <p:sp>
            <p:nvSpPr>
              <p:cNvPr id="303" name=""/>
              <p:cNvSpPr/>
              <p:nvPr/>
            </p:nvSpPr>
            <p:spPr>
              <a:xfrm>
                <a:off x="4786200" y="3284640"/>
                <a:ext cx="43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70560" y="3357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6200" y="2852640"/>
                <a:ext cx="43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5291280" y="306864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1640" y="328464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3357720"/>
              <a:ext cx="1008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22920" y="28526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98560" y="4076640"/>
            <a:ext cx="5905440" cy="1013400"/>
            <a:chOff x="898560" y="4076640"/>
            <a:chExt cx="5905440" cy="1013400"/>
          </a:xfrm>
        </p:grpSpPr>
        <p:grpSp>
          <p:nvGrpSpPr>
            <p:cNvPr id="311" name=""/>
            <p:cNvGrpSpPr/>
            <p:nvPr/>
          </p:nvGrpSpPr>
          <p:grpSpPr>
            <a:xfrm>
              <a:off x="898560" y="4076640"/>
              <a:ext cx="792000" cy="1013400"/>
              <a:chOff x="898560" y="4076640"/>
              <a:chExt cx="792000" cy="1013400"/>
            </a:xfrm>
          </p:grpSpPr>
          <p:sp>
            <p:nvSpPr>
              <p:cNvPr id="312" name=""/>
              <p:cNvSpPr/>
              <p:nvPr/>
            </p:nvSpPr>
            <p:spPr>
              <a:xfrm>
                <a:off x="1114200" y="4508640"/>
                <a:ext cx="43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98560" y="4581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14200" y="4076640"/>
                <a:ext cx="43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619280" y="4292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79640" y="450864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076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03640" y="429264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64000" y="450864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8000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35280" y="40766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88000" y="429264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48360" y="450864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4000" y="4581360"/>
              <a:ext cx="1008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59280" y="4076640"/>
              <a:ext cx="18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66560" y="5373720"/>
            <a:ext cx="5113440" cy="1013040"/>
            <a:chOff x="466560" y="5373720"/>
            <a:chExt cx="5113440" cy="1013040"/>
          </a:xfrm>
        </p:grpSpPr>
        <p:sp>
          <p:nvSpPr>
            <p:cNvPr id="328" name=""/>
            <p:cNvSpPr/>
            <p:nvPr/>
          </p:nvSpPr>
          <p:spPr>
            <a:xfrm>
              <a:off x="755640" y="580536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16000" y="587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6560" y="537372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35280" y="558972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6920" y="58053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11280" y="5878440"/>
              <a:ext cx="1008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93840" y="537372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19640" y="558972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51280" y="53737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95640" y="587844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0000" y="580536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9640" y="549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在下面的括号里填上适当的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148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2764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56000" y="2781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450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2436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40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00360" y="537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580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0000" y="476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把相等的分数写在同一个圈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284640"/>
            <a:ext cx="381636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3213000"/>
            <a:ext cx="381636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551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79640" y="5589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95640" y="50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978200" y="1413000"/>
            <a:ext cx="938160" cy="1013040"/>
            <a:chOff x="1978200" y="1413000"/>
            <a:chExt cx="938160" cy="1013040"/>
          </a:xfrm>
        </p:grpSpPr>
        <p:sp>
          <p:nvSpPr>
            <p:cNvPr id="355" name=""/>
            <p:cNvSpPr/>
            <p:nvPr/>
          </p:nvSpPr>
          <p:spPr>
            <a:xfrm>
              <a:off x="2050920" y="1844640"/>
              <a:ext cx="86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7820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93840" y="141300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900000" y="1413000"/>
            <a:ext cx="792360" cy="1013040"/>
            <a:chOff x="900000" y="1413000"/>
            <a:chExt cx="792360" cy="1013040"/>
          </a:xfrm>
        </p:grpSpPr>
        <p:sp>
          <p:nvSpPr>
            <p:cNvPr id="359" name=""/>
            <p:cNvSpPr/>
            <p:nvPr/>
          </p:nvSpPr>
          <p:spPr>
            <a:xfrm>
              <a:off x="971640" y="184464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0000" y="191772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16000" y="1413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443640" y="558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7640" y="566244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51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203640" y="1413000"/>
            <a:ext cx="938160" cy="1013040"/>
            <a:chOff x="3203640" y="1413000"/>
            <a:chExt cx="938160" cy="1013040"/>
          </a:xfrm>
        </p:grpSpPr>
        <p:sp>
          <p:nvSpPr>
            <p:cNvPr id="366" name=""/>
            <p:cNvSpPr/>
            <p:nvPr/>
          </p:nvSpPr>
          <p:spPr>
            <a:xfrm>
              <a:off x="327672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364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720" y="141300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282920" y="1413000"/>
            <a:ext cx="938520" cy="1013040"/>
            <a:chOff x="4282920" y="1413000"/>
            <a:chExt cx="938520" cy="1013040"/>
          </a:xfrm>
        </p:grpSpPr>
        <p:sp>
          <p:nvSpPr>
            <p:cNvPr id="370" name=""/>
            <p:cNvSpPr/>
            <p:nvPr/>
          </p:nvSpPr>
          <p:spPr>
            <a:xfrm>
              <a:off x="4356000" y="1844640"/>
              <a:ext cx="86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82920" y="191772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6000" y="1413000"/>
              <a:ext cx="86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506920" y="1413000"/>
            <a:ext cx="938160" cy="1013040"/>
            <a:chOff x="5506920" y="1413000"/>
            <a:chExt cx="938160" cy="1013040"/>
          </a:xfrm>
        </p:grpSpPr>
        <p:sp>
          <p:nvSpPr>
            <p:cNvPr id="374" name=""/>
            <p:cNvSpPr/>
            <p:nvPr/>
          </p:nvSpPr>
          <p:spPr>
            <a:xfrm>
              <a:off x="558000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06920" y="191772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80000" y="141300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804000" y="1413000"/>
            <a:ext cx="938160" cy="1013040"/>
            <a:chOff x="6804000" y="1413000"/>
            <a:chExt cx="938160" cy="1013040"/>
          </a:xfrm>
        </p:grpSpPr>
        <p:sp>
          <p:nvSpPr>
            <p:cNvPr id="378" name=""/>
            <p:cNvSpPr/>
            <p:nvPr/>
          </p:nvSpPr>
          <p:spPr>
            <a:xfrm>
              <a:off x="687708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04000" y="191772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7080" y="141300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64162E-006 L 0.53959 0.32508 E">
                                      <p:cBhvr>
                                        <p:cTn id="413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4162E-006 L 0.5158 0.34589 E">
                                      <p:cBhvr>
                                        <p:cTn id="41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64162E-006 L -0.35035 0.29364 E">
                                      <p:cBhvr>
                                        <p:cTn id="42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64162E-006 L -0.38975 0.31445 E">
                                      <p:cBhvr>
                                        <p:cTn id="425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64162E-006 L -0.41337 0.32508 E">
                                      <p:cBhvr>
                                        <p:cTn id="429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0:35:46Z</dcterms:created>
  <dc:creator>微软用户</dc:creator>
  <dc:description/>
  <dc:language>en-US</dc:language>
  <cp:lastModifiedBy>番茄花园</cp:lastModifiedBy>
  <dcterms:modified xsi:type="dcterms:W3CDTF">2008-01-03T07:59:38Z</dcterms:modified>
  <cp:revision>7</cp:revision>
  <dc:subject/>
  <dc:title>幻灯片 1</dc:title>
</cp:coreProperties>
</file>