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9C83-95F2-414B-B4A1-B955C8A16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5D3A-3547-4B76-A0D6-8E0746EF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6CF0-9D1B-4DD6-B18A-57C833A4D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EDB6-D516-479F-900D-467B8CA94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8734-29FB-4085-9187-F76CCCE3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3E43-6C5E-4711-B2AD-E67F3F34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9EF9-3E19-47B9-A242-EA2FAB4F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E15D-3459-4376-A89D-BC301D55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11B8-F11D-45CA-86D4-AAF161E6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58F3-0397-42B7-852F-4814C3D1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F8C1-4921-40E6-A575-FB045547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2334-0142-46BE-A495-736F356B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00CC-C1D0-407F-8046-C042ABB2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9083-D516-4218-9294-85FEF3EA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D817-1249-4B07-8102-4E3ABD57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709F-AA5C-4245-A1FE-BD5C79A95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6FE1-E558-4F15-B196-67BF8D7AD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8126-C42A-47DE-B2F5-261E9C7D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3758-518E-499C-A65F-150D1835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F429-A5DB-4EC4-867E-EB2F0011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34E0-4C6A-484B-9DF8-6A6DB1EB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61D8-CBD2-4B90-AD83-31168578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EF90-9D9A-492D-941E-D5605B10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3604-B9DE-4B2C-A360-A3965018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E1E5-C26F-4969-946A-068050EABD96}" type="slidenum">
              <a:rPr b="0" lang="zh-CN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AACE-3E84-4CBF-99BC-066551305CEA}" type="slidenum">
              <a:rPr b="0" lang="zh-CN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7400" y="19807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8f8f8"/>
                </a:solidFill>
                <a:latin typeface="华文楷体"/>
                <a:ea typeface="华文楷体"/>
              </a:rPr>
              <a:t>比     较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24960" y="457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练习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914400"/>
            <a:ext cx="701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很快说出下面每组数的最大公约数和最小公倍数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20680" y="1579680"/>
            <a:ext cx="10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5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06440" y="1593720"/>
            <a:ext cx="32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最大公约数是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最小公倍数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10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36160" y="2417760"/>
            <a:ext cx="10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27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38120" y="2438280"/>
            <a:ext cx="305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最大公约数是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最小公倍数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27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28600" y="335268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38120" y="3352680"/>
            <a:ext cx="305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最大公约数是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最小公倍数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4267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82400" y="4238640"/>
            <a:ext cx="305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最大公约数是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最小公倍数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84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24960" y="457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43000" y="996840"/>
            <a:ext cx="430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求</a:t>
            </a:r>
            <a:r>
              <a:rPr b="0" lang="zh-CN" sz="28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28</a:t>
            </a:r>
            <a:r>
              <a:rPr b="0" lang="zh-CN" sz="28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和</a:t>
            </a:r>
            <a:r>
              <a:rPr b="0" lang="zh-CN" sz="28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42</a:t>
            </a:r>
            <a:r>
              <a:rPr b="0" lang="zh-CN" sz="28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的最大公约数和最小公倍数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88920" y="171288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2 8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03320" y="169848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4 2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1676520"/>
            <a:ext cx="0" cy="53316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2209680"/>
            <a:ext cx="213372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43000" y="1724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2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88920" y="224640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1 4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03320" y="224640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2 1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2209680"/>
            <a:ext cx="0" cy="53352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2743200"/>
            <a:ext cx="213372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79520" y="2247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7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87720" y="2808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2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87720" y="2808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3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44200" y="3618000"/>
            <a:ext cx="42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28</a:t>
            </a:r>
            <a:r>
              <a:rPr b="0" lang="zh-CN" sz="28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和</a:t>
            </a:r>
            <a:r>
              <a:rPr b="0" lang="zh-CN" sz="28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42</a:t>
            </a:r>
            <a:r>
              <a:rPr b="0" lang="zh-CN" sz="28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的最大公约数 </a:t>
            </a:r>
            <a:r>
              <a:rPr b="0" lang="zh-CN" sz="28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8f8f8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7</a:t>
            </a:r>
            <a:r>
              <a:rPr b="0" lang="zh-CN" sz="2800" spc="-1" strike="noStrike">
                <a:solidFill>
                  <a:srgbClr val="f8f8f8"/>
                </a:solidFill>
                <a:latin typeface="Times New Roman"/>
              </a:rPr>
              <a:t>＝</a:t>
            </a:r>
            <a:r>
              <a:rPr b="0" lang="zh-CN" sz="28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14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99360" y="4913280"/>
            <a:ext cx="49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28</a:t>
            </a:r>
            <a:r>
              <a:rPr b="0" lang="zh-CN" sz="28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和</a:t>
            </a:r>
            <a:r>
              <a:rPr b="0" lang="zh-CN" sz="28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42</a:t>
            </a:r>
            <a:r>
              <a:rPr b="0" lang="zh-CN" sz="28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的最小公倍数 </a:t>
            </a:r>
            <a:r>
              <a:rPr b="0" lang="zh-CN" sz="28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8f8f8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7</a:t>
            </a:r>
            <a:r>
              <a:rPr b="0" lang="zh-CN" sz="2800" spc="-1" strike="noStrike">
                <a:solidFill>
                  <a:srgbClr val="f8f8f8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8f8f8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f8f8f8"/>
                </a:solidFill>
                <a:latin typeface="Times New Roman"/>
              </a:rPr>
              <a:t>＝</a:t>
            </a:r>
            <a:r>
              <a:rPr b="0" lang="zh-CN" sz="28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84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24960" y="457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09480" y="1295280"/>
          <a:ext cx="8077320" cy="3676680"/>
        </p:xfrm>
        <a:graphic>
          <a:graphicData uri="http://schemas.openxmlformats.org/drawingml/2006/table">
            <a:tbl>
              <a:tblPr/>
              <a:tblGrid>
                <a:gridCol w="1940040"/>
                <a:gridCol w="3444840"/>
                <a:gridCol w="2692440"/>
              </a:tblGrid>
              <a:tr h="94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8f8f8"/>
                          </a:solidFill>
                          <a:latin typeface="Tahoma"/>
                          <a:ea typeface="楷体_GB2312"/>
                        </a:rPr>
                        <a:t>求两个数的最大公约数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8f8f8"/>
                          </a:solidFill>
                          <a:latin typeface="Tahoma"/>
                          <a:ea typeface="楷体_GB2312"/>
                        </a:rPr>
                        <a:t>求两个数的最小公倍数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18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8f8f8"/>
                          </a:solidFill>
                          <a:latin typeface="Tahoma"/>
                          <a:ea typeface="楷体_GB2312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f8f8f8"/>
                          </a:solidFill>
                          <a:latin typeface="Tahoma"/>
                          <a:ea typeface="楷体_GB2312"/>
                        </a:rPr>
                        <a:t>相同点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8f8f8"/>
                          </a:solidFill>
                          <a:latin typeface="Tahoma"/>
                          <a:ea typeface="楷体_GB2312"/>
                        </a:rPr>
                        <a:t>  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8f8f8"/>
                          </a:solidFill>
                          <a:latin typeface="Tahoma"/>
                          <a:ea typeface="楷体_GB2312"/>
                        </a:rPr>
                        <a:t>         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8f8f8"/>
                          </a:solidFill>
                          <a:latin typeface="Tahoma"/>
                          <a:ea typeface="楷体_GB2312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f8f8f8"/>
                          </a:solidFill>
                          <a:latin typeface="Tahoma"/>
                          <a:ea typeface="楷体_GB2312"/>
                        </a:rPr>
                        <a:t>不同点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3957480" y="3672000"/>
            <a:ext cx="600120" cy="3045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19880" y="3657600"/>
            <a:ext cx="121464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5880" y="2252520"/>
            <a:ext cx="200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用短除的形式分解质因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数，直到两个商是互质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数为止．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8160" y="3581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把所有的除数乘起来．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10080" y="2590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ahoma"/>
                <a:ea typeface="楷体_GB2312"/>
              </a:rPr>
              <a:t>同左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3602160"/>
            <a:ext cx="26668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把所有的除数和商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乘起来．</a:t>
            </a:r>
            <a:r>
              <a:rPr b="0" lang="zh-CN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666520" y="1011240"/>
            <a:ext cx="464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为什么求两个数的最大公约数是把所有的除数乘起来，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而求两个数的最小</a:t>
            </a:r>
            <a:r>
              <a:rPr b="0" lang="zh-CN" sz="2400" spc="-1" strike="noStrike">
                <a:solidFill>
                  <a:srgbClr val="f8f8f8"/>
                </a:solidFill>
                <a:latin typeface="宋体"/>
                <a:ea typeface="楷体_GB2312"/>
              </a:rPr>
              <a:t>公倍数是把所有的除数和商乘起来</a:t>
            </a:r>
            <a:r>
              <a:rPr b="0" lang="zh-CN" sz="2400" spc="-1" strike="noStrike">
                <a:solidFill>
                  <a:srgbClr val="f8f8f8"/>
                </a:solidFill>
                <a:latin typeface="宋体"/>
              </a:rPr>
              <a:t>？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35" name="问号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31880" cy="434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355760" y="2154240"/>
            <a:ext cx="702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两个数的最大公约数是它们的公约数中最大的，它必须包含两个数全部公有的质因数．所有除数正好是两个数全部公有的质因数，所以，求最大公约数就要把所有除数乘起来．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91120" y="2604960"/>
            <a:ext cx="1828800" cy="304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32080" y="4191120"/>
            <a:ext cx="694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最小公倍数既要包含两个数全部公有的质因数，又要包含各自独有的质因数．两个数的商分别是它们独有的质因数．所以求两个数的最小公倍数要把所有的除数和商乘起来．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2100240"/>
            <a:ext cx="6934320" cy="1600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4191120"/>
            <a:ext cx="6934320" cy="1600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76920" y="4281480"/>
            <a:ext cx="1828800" cy="304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8120" y="4662360"/>
            <a:ext cx="1828800" cy="304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24960" y="457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练习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88000" y="8380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根据下面的短除，选择正确答案．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027520" y="1446120"/>
            <a:ext cx="3078000" cy="1569600"/>
            <a:chOff x="2027520" y="1446120"/>
            <a:chExt cx="3078000" cy="1569600"/>
          </a:xfrm>
        </p:grpSpPr>
        <p:sp>
          <p:nvSpPr>
            <p:cNvPr id="146" name=""/>
            <p:cNvSpPr/>
            <p:nvPr/>
          </p:nvSpPr>
          <p:spPr>
            <a:xfrm>
              <a:off x="2590920" y="1447920"/>
              <a:ext cx="0" cy="53316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90920" y="1981080"/>
              <a:ext cx="213336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21320" y="1446120"/>
              <a:ext cx="170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8f8f8"/>
                  </a:solidFill>
                  <a:latin typeface="Times New Roman"/>
                  <a:ea typeface="楷体_GB2312"/>
                </a:rPr>
                <a:t>1  8        3  0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27520" y="1447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67040" y="1981080"/>
              <a:ext cx="0" cy="53352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67040" y="2514600"/>
              <a:ext cx="2238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52520" y="2028960"/>
              <a:ext cx="14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8f8f8"/>
                  </a:solidFill>
                  <a:latin typeface="Times New Roman"/>
                </a:rPr>
                <a:t>9        1  5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86080" y="2041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3800" y="2556000"/>
              <a:ext cx="14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8f8f8"/>
                  </a:solidFill>
                  <a:latin typeface="Times New Roman"/>
                </a:rPr>
                <a:t>3            5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555920" y="32004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18</a:t>
            </a:r>
            <a:r>
              <a:rPr b="0" lang="zh-CN" sz="24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30</a:t>
            </a:r>
            <a:r>
              <a:rPr b="0" lang="zh-CN" sz="24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的最大公约数是</a:t>
            </a:r>
            <a:r>
              <a:rPr b="0" lang="zh-CN" sz="2400" spc="-1" strike="noStrike">
                <a:solidFill>
                  <a:srgbClr val="f8f8f8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8f8f8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88880" y="3774960"/>
            <a:ext cx="66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2×3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＝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6      B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3×5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＝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15       C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2×3×3×5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＝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64800" y="3200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84720" y="441972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18</a:t>
            </a:r>
            <a:r>
              <a:rPr b="0" lang="zh-CN" sz="24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30</a:t>
            </a:r>
            <a:r>
              <a:rPr b="0" lang="zh-CN" sz="24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的最小公倍数是</a:t>
            </a:r>
            <a:r>
              <a:rPr b="0" lang="zh-CN" sz="2400" spc="-1" strike="noStrike">
                <a:solidFill>
                  <a:srgbClr val="f8f8f8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8f8f8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84560" y="4994280"/>
            <a:ext cx="68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8f8f8"/>
                </a:solidFill>
                <a:latin typeface="宋体"/>
              </a:rPr>
              <a:t>：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8f8f8"/>
                </a:solidFill>
                <a:latin typeface="宋体"/>
              </a:rPr>
              <a:t>×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8f8f8"/>
                </a:solidFill>
                <a:latin typeface="宋体"/>
              </a:rPr>
              <a:t>＝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6      B</a:t>
            </a:r>
            <a:r>
              <a:rPr b="0" lang="en-US" sz="2400" spc="-1" strike="noStrike">
                <a:solidFill>
                  <a:srgbClr val="f8f8f8"/>
                </a:solidFill>
                <a:latin typeface="宋体"/>
              </a:rPr>
              <a:t>：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8f8f8"/>
                </a:solidFill>
                <a:latin typeface="宋体"/>
              </a:rPr>
              <a:t>×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8f8f8"/>
                </a:solidFill>
                <a:latin typeface="宋体"/>
              </a:rPr>
              <a:t>×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8f8f8"/>
                </a:solidFill>
                <a:latin typeface="宋体"/>
              </a:rPr>
              <a:t>×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f8f8f8"/>
                </a:solidFill>
                <a:latin typeface="宋体"/>
              </a:rPr>
              <a:t>＝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90   C</a:t>
            </a:r>
            <a:r>
              <a:rPr b="0" lang="en-US" sz="2400" spc="-1" strike="noStrike">
                <a:solidFill>
                  <a:srgbClr val="f8f8f8"/>
                </a:solidFill>
                <a:latin typeface="宋体"/>
              </a:rPr>
              <a:t>：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f8f8f8"/>
                </a:solidFill>
                <a:latin typeface="宋体"/>
              </a:rPr>
              <a:t>×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8f8f8"/>
                </a:solidFill>
                <a:latin typeface="宋体"/>
              </a:rPr>
              <a:t>＝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540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15200" y="4419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24960" y="457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练习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55200" y="838080"/>
            <a:ext cx="45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改错：找出下列各题错在哪里，并说明如何改正 ．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90920" y="1558800"/>
            <a:ext cx="0" cy="53352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2092320"/>
            <a:ext cx="213336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1320" y="155736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6  0        9  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27520" y="155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43200" y="2092320"/>
            <a:ext cx="0" cy="53352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43200" y="2625840"/>
            <a:ext cx="223848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68840" y="213984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3  0        4  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7800" y="215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7280" y="266688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1  0        1  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64120" y="3886200"/>
            <a:ext cx="358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60</a:t>
            </a:r>
            <a:r>
              <a:rPr b="0" lang="zh-CN" sz="24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90</a:t>
            </a:r>
            <a:r>
              <a:rPr b="0" lang="zh-CN" sz="24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的最大公约数是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2×3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＝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6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96600" y="5029200"/>
            <a:ext cx="49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60</a:t>
            </a:r>
            <a:r>
              <a:rPr b="0" lang="zh-CN" sz="24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90</a:t>
            </a:r>
            <a:r>
              <a:rPr b="0" lang="zh-CN" sz="24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的最小公倍数是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2×3 ×10 ×15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＝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9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2633760"/>
            <a:ext cx="0" cy="533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3166920"/>
            <a:ext cx="22384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8472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0364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3720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59160" y="441972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2×3 ×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＝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1360" y="5508720"/>
            <a:ext cx="272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2×3 ×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5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×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×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＝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18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24960" y="457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练习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55200" y="838080"/>
            <a:ext cx="45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改错：找出下列各题错在哪里，并说明如何改正 ．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90920" y="1558800"/>
            <a:ext cx="0" cy="53352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90920" y="2092320"/>
            <a:ext cx="213336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20960" y="155736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7        1  2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27520" y="155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38600" y="21398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09760" y="2971800"/>
            <a:ext cx="262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的最大公约数是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7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05400" y="2155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1  2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30360" y="3886200"/>
            <a:ext cx="40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的最小公倍数是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7×1×12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＝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84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02480" y="4648320"/>
            <a:ext cx="25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因为  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是互质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4600" y="5113440"/>
            <a:ext cx="449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所以  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的最大公约数是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1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的最小公倍数是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7×12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＝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84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19320" y="4676760"/>
            <a:ext cx="99072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24960" y="457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练习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11200" y="838080"/>
            <a:ext cx="574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下面的数，哪些能被</a:t>
            </a:r>
            <a:r>
              <a:rPr b="0" lang="zh-CN" sz="24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整除？哪些能被</a:t>
            </a:r>
            <a:r>
              <a:rPr b="0" lang="zh-CN" sz="24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整除？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哪些能被</a:t>
            </a:r>
            <a:r>
              <a:rPr b="0" lang="zh-CN" sz="24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整除？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12     21     36     45     60     105     144     25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00320" y="2733840"/>
            <a:ext cx="13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能被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整除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47960" y="273852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12    36     60      144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00320" y="3654360"/>
            <a:ext cx="13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能被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整除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65240" y="365436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12    21    36     45    60     105    144   25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00320" y="4568760"/>
            <a:ext cx="13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能被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整除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14920" y="4572000"/>
            <a:ext cx="26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45   60    105     25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24960" y="457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练习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914400"/>
            <a:ext cx="701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很快说出下面每组数的最大公约数和最小公倍数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35800" y="1579680"/>
            <a:ext cx="8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5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06440" y="1593720"/>
            <a:ext cx="305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最大公约数是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最小公倍数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35800" y="2417760"/>
            <a:ext cx="8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6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38120" y="2438280"/>
            <a:ext cx="305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最大公约数是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最小公倍数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28600" y="335268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38120" y="3352680"/>
            <a:ext cx="305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最大公约数是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最小公倍数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430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82400" y="4238640"/>
            <a:ext cx="305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最大公约数是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最小公倍数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56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62080" y="5105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14440" y="5076720"/>
            <a:ext cx="305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最大公约数是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最小公倍数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5T03:15:10Z</dcterms:created>
  <dc:creator>yiqingnu</dc:creator>
  <dc:description/>
  <dc:language>en-US</dc:language>
  <cp:lastModifiedBy>yangjiuling</cp:lastModifiedBy>
  <dcterms:modified xsi:type="dcterms:W3CDTF">2003-03-20T02:14:28Z</dcterms:modified>
  <cp:revision>47</cp:revision>
  <dc:subject/>
  <dc:title>第二十章   光的反射和折射</dc:title>
</cp:coreProperties>
</file>