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4.gif" ContentType="image/gif"/>
  <Override PartName="/ppt/media/image6.png" ContentType="image/png"/>
  <Override PartName="/ppt/media/type.wav" ContentType="audio/x-wav"/>
  <Override PartName="/ppt/media/drumroll.wav" ContentType="audio/x-wav"/>
  <Override PartName="/ppt/media/cashreg.wav" ContentType="audio/x-wav"/>
  <Override PartName="/ppt/media/driveby.wav" ContentType="audio/x-wav"/>
  <Override PartName="/ppt/media/image16.gif" ContentType="image/gif"/>
  <Override PartName="/ppt/media/projctor.wav" ContentType="audio/x-wav"/>
  <Override PartName="/ppt/media/image5.gif" ContentType="image/gif"/>
  <Override PartName="/ppt/media/image14.jpeg" ContentType="image/jpeg"/>
  <Override PartName="/ppt/media/image18.gif" ContentType="image/gif"/>
  <Override PartName="/ppt/media/image15.gif" ContentType="image/gif"/>
  <Override PartName="/ppt/media/image1.png" ContentType="image/png"/>
  <Override PartName="/ppt/media/image12.png" ContentType="image/png"/>
  <Override PartName="/ppt/media/image11.png" ContentType="image/png"/>
  <Override PartName="/ppt/media/image10.jpeg" ContentType="image/jpeg"/>
  <Override PartName="/ppt/media/image9.gif" ContentType="image/gif"/>
  <Override PartName="/ppt/media/image8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13.gif" ContentType="image/gif"/>
  <Override PartName="/ppt/media/chimes.wav" ContentType="audio/x-wav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1F7-9BFC-41E1-831C-2A2D2F65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096-80AF-4B3E-9522-EEEE9A82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CCB-C1D9-4761-A06B-9657748C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6BE-4423-42BE-8B7C-9D05B3CE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10A5-0A2A-4ECD-A46A-96845934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2D45-AC1A-4A81-8317-781B96E6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97E2-8995-4E8E-8780-15D47BED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77C9-A6D5-4129-AFAB-020E6879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5AD3-0A0E-44E4-8510-15D4943D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811D-8102-4A31-A4BB-7AF29D0F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47EE-61AE-41FE-A8D1-129B351D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D18-1AE3-44DE-97F0-B24E3C7D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7FBD-3816-4BF0-A643-CA6D319C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8895-0280-4618-8849-E63B7512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07F3-07DA-4B25-9323-4272E709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6AF6-4CB3-42B7-BAEF-9221B5B8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4BF0-796E-4F8C-B29B-103FD1D7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7808-45DC-4940-8F46-1AC5F03B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FE890-470E-4346-842C-D0900A0B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9AD94-0141-4016-BF0C-3FB1B826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E2201-A509-46BF-8ED6-A1664CF2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F7E7D-A43A-4F62-ABE2-987978B1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072-7E25-4EEE-B027-360A9C4B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C0844-7DB5-4A1F-8FC5-F38E5AE0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D5EFB-BC76-4A4B-A0B1-D6A25630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505D-6989-4528-81F8-216CA66F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C94D4-6057-4F2E-90CD-E99FA3B2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D0D33-2B8A-43B6-BD4C-225D6D69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AD704-1B20-4092-AD9F-2FF829FB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7E025-D0A7-4415-997E-86439240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6C30B-BFA5-4E3E-AEF3-52BD2799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E50AF-0256-47DF-B2E0-BB5F3D86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EB81F-7FD2-4AB9-AC4B-4705CB45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DE7-FC31-4D2D-8DE2-1E53D0F9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6076E-A856-4040-A6AE-A2E3FF69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50AF3-CE78-414E-AA11-35A8B90E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F1BC5-21EF-4299-8DE3-462C6154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35DEF-DF30-4A24-B836-5D974851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D542C-4813-4569-8666-FD5DFFA8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939CB-0419-4AA6-8BF7-7DEEC88C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AD7F2-ED05-457E-B461-8D64EC18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9AB6C-482F-4AE2-B9B7-C39604F8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8F45E-B970-415C-8905-FC817D18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DD0B0-2618-4721-9093-41EB5C9A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BB3-B51B-4195-8BD6-1AF4218D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37E61-2DA0-466B-86F9-EE68B7F3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0273B-F4FE-4D6D-9C30-B900EC23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21C2D-BEE1-4F81-8CAC-0BEC4DCB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D8D1F-C857-47A3-A7AC-1E454F73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AE8BF-DE55-4DF8-8C66-AE86CA7F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8C3E1-F209-42EF-9DAB-7993965B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7F5F5-5ED3-48A0-B191-C480F3A5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85E4E-0CAE-44C8-B1DF-9D57E22D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382CE-ED5C-4943-8E81-9B5A90E6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39EBE-EE9A-4E71-8FCB-764C1F2E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D62-9A0C-41DB-A8E0-966DF3BA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24735-A28F-4D17-960A-7FCD7D5D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D906F-EED7-46B8-81D1-952037D2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11C6B-5B8D-4868-AE44-CFB7B084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0F7C0-33D4-4362-A51A-7CFC13EF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D2DCD-F8BE-4E63-AEF1-0AFA390B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F568A-6B80-4787-BD01-29EC600D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62720-FF5C-43FA-A1CB-AC193CBF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64462-9AC0-4894-8FB1-7E14E27F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8D939-7AED-40AD-98F8-62EFFADC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1430A-908C-4B65-B0AF-8E67CBF5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4B40-8AB2-4B92-BF42-AEC11BFB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7BA1B-2EF9-45E7-9CDD-1BAB6023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9448D-4BD8-4A63-860D-608CAF33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FA9AD-45C7-4E6C-B556-9553F90E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8BD89D-E121-4864-AE84-3A3CE5EC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2C800-9D0D-47C4-8570-854B0E10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0E8D2-D6D0-41FE-9090-19BADECA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9A498C-0679-4735-88BF-5BF57680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39D427-63AC-4B5B-8126-5322BAC9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43B70C-A8FF-4B46-B10E-8CCFE3C2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E7F8D-72B7-4A0A-9D71-F42D0204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FBA-C471-488F-A923-F8EAC885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CFBF63-0A62-419A-B89C-92953F49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33AF20-5E51-4351-AA45-1F39AC03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90BE9F-CDFC-4C4D-B6C2-ADF3029E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24CA4F-03D2-46DA-85CE-B5170605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1C4D35-C34D-411F-A822-83905E8B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A8956-9339-4332-9746-946315A4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82B34-C40D-4E92-89F5-EBD7CD55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49355-7DAE-464C-8454-FD3AC153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1E723-C14E-467C-8785-5FD606DE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7AE38-2127-4440-920C-DD49AC3F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431-6E4B-4059-85F7-9420C644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BA76C-456E-44B7-8998-DF15F33E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17295-A199-4510-8C97-6931CFDD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107E2-E941-4B39-9712-ABB1DCFF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2CECB-685E-4B57-B7FE-74C4AFB5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F6A9B-6BCE-4349-AA2C-0360B850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B2AD6-0F94-4A79-8212-A0BF6899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25696-8447-436D-AB6A-A39D7F4D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436B-04C5-41DE-8D74-6700102145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EEC4-AB63-4CBC-B8C2-9C088ECAA5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6B66-FB51-4CC7-84FD-D0CB432194F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FED3-17C4-4242-B147-C8385B55B78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808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e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808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E460-BA42-48BD-8583-E645137D456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4F02-2776-497D-99A0-C472A7D258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BB03-1CA7-4E77-9E82-3A119BD6F82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2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AF6D-B1BC-4279-ADF6-30B33534736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audio" Target="../media/driveby.wav"/><Relationship Id="rId4" Type="http://schemas.openxmlformats.org/officeDocument/2006/relationships/audio" Target="../media/drumroll.wav"/><Relationship Id="rId5" Type="http://schemas.openxmlformats.org/officeDocument/2006/relationships/audio" Target="../media/type.wav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audio" Target="../media/projctor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1979640" y="1268280"/>
            <a:ext cx="496872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长城新魏碑体"/>
              </a:rPr>
              <a:t>求特殊情况下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长城新魏碑体"/>
              <a:ea typeface="长城新魏碑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71640" y="2997360"/>
            <a:ext cx="7127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长城新魏碑体"/>
              </a:rPr>
              <a:t>两个数的最小公倍数</a:t>
            </a:r>
            <a:endParaRPr b="1" lang="en-US" sz="2400" spc="1" strike="noStrike">
              <a:ln w="12600">
                <a:solidFill>
                  <a:srgbClr val="333399"/>
                </a:solidFill>
                <a:miter/>
              </a:ln>
              <a:solidFill>
                <a:srgbClr val="c0c0c0">
                  <a:alpha val="3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长城新魏碑体"/>
              <a:ea typeface="长城新魏碑体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3385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35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两个数的最小公倍数一定比这两个数都大　　　　　　　　　　　　（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两个数的积，一定是这两个数的公倍数　　　　　　　　　　　　　（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两个数的最小公倍数一定能被这两个数整除　　　　　　　　（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6732720" y="4365720"/>
            <a:ext cx="1506240" cy="17589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684360" y="404640"/>
            <a:ext cx="17269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小法官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81080" y="-458640"/>
            <a:ext cx="9649080" cy="75596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8930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年级同学参加植树劳动，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一组或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一组都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好分为完，五年级同学参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植树的至少有多少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7020000" y="3860640"/>
            <a:ext cx="1825560" cy="21607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539640" y="404640"/>
            <a:ext cx="24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经典美黑简"/>
              </a:rPr>
              <a:t>到生活中去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经典美黑简"/>
              <a:ea typeface="经典美黑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0" y="0"/>
            <a:ext cx="2743200" cy="1828800"/>
            <a:chOff x="0" y="0"/>
            <a:chExt cx="2743200" cy="1828800"/>
          </a:xfrm>
        </p:grpSpPr>
        <p:sp>
          <p:nvSpPr>
            <p:cNvPr id="422" name=""/>
            <p:cNvSpPr/>
            <p:nvPr/>
          </p:nvSpPr>
          <p:spPr>
            <a:xfrm>
              <a:off x="0" y="0"/>
              <a:ext cx="2743200" cy="1828800"/>
            </a:xfrm>
            <a:prstGeom prst="cloudCallout">
              <a:avLst>
                <a:gd name="adj1" fmla="val 23902"/>
                <a:gd name="adj2" fmla="val 79689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3520" y="609480"/>
              <a:ext cx="1523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0000"/>
                  </a:solidFill>
                  <a:latin typeface="Times New Roman"/>
                  <a:ea typeface="华文彩云"/>
                </a:rPr>
                <a:t>加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876920" y="533520"/>
            <a:ext cx="4266720" cy="2666880"/>
            <a:chOff x="4876920" y="533520"/>
            <a:chExt cx="4266720" cy="2666880"/>
          </a:xfrm>
        </p:grpSpPr>
        <p:pic>
          <p:nvPicPr>
            <p:cNvPr id="425" name="" descr=""/>
            <p:cNvPicPr/>
            <p:nvPr/>
          </p:nvPicPr>
          <p:blipFill>
            <a:blip r:embed="rId1"/>
            <a:stretch/>
          </p:blipFill>
          <p:spPr>
            <a:xfrm>
              <a:off x="6960600" y="533520"/>
              <a:ext cx="218304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876920" y="722880"/>
              <a:ext cx="2034000" cy="1388520"/>
            </a:xfrm>
            <a:prstGeom prst="cloudCallout">
              <a:avLst>
                <a:gd name="adj1" fmla="val 75967"/>
                <a:gd name="adj2" fmla="val 31342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" descr=""/>
            <p:cNvPicPr/>
            <p:nvPr/>
          </p:nvPicPr>
          <p:blipFill>
            <a:blip r:embed="rId2"/>
            <a:stretch/>
          </p:blipFill>
          <p:spPr>
            <a:xfrm>
              <a:off x="6265800" y="912240"/>
              <a:ext cx="645120" cy="8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 txBox="1"/>
            <p:nvPr/>
          </p:nvSpPr>
          <p:spPr>
            <a:xfrm>
              <a:off x="5074920" y="912240"/>
              <a:ext cx="1339560" cy="88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做练习啦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1143000" y="2666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幼圆"/>
              </a:rPr>
              <a:t>求下面每组数的最小公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3886200"/>
            <a:ext cx="784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 (            )                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(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5 (             )                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 (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38280" y="3886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732720" y="3886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90920" y="5410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54100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75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0" y="0"/>
            <a:ext cx="9143640" cy="3200400"/>
            <a:chOff x="0" y="0"/>
            <a:chExt cx="9143640" cy="3200400"/>
          </a:xfrm>
        </p:grpSpPr>
        <p:grpSp>
          <p:nvGrpSpPr>
            <p:cNvPr id="436" name=""/>
            <p:cNvGrpSpPr/>
            <p:nvPr/>
          </p:nvGrpSpPr>
          <p:grpSpPr>
            <a:xfrm>
              <a:off x="0" y="0"/>
              <a:ext cx="2743200" cy="1828800"/>
              <a:chOff x="0" y="0"/>
              <a:chExt cx="2743200" cy="182880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0"/>
                <a:ext cx="2743200" cy="1828800"/>
              </a:xfrm>
              <a:prstGeom prst="cloudCallout">
                <a:avLst>
                  <a:gd name="adj1" fmla="val 23902"/>
                  <a:gd name="adj2" fmla="val 79689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57200" y="609480"/>
                <a:ext cx="19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cc0000"/>
                    </a:solidFill>
                    <a:latin typeface="Times New Roman"/>
                    <a:ea typeface="华文彩云"/>
                  </a:rPr>
                  <a:t>来点难的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4876920" y="533520"/>
              <a:ext cx="4266720" cy="2666880"/>
              <a:chOff x="4876920" y="533520"/>
              <a:chExt cx="4266720" cy="2666880"/>
            </a:xfrm>
          </p:grpSpPr>
          <p:pic>
            <p:nvPicPr>
              <p:cNvPr id="4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960600" y="533520"/>
                <a:ext cx="2183040" cy="266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4876920" y="722880"/>
                <a:ext cx="2034000" cy="1388520"/>
              </a:xfrm>
              <a:prstGeom prst="cloudCallout">
                <a:avLst>
                  <a:gd name="adj1" fmla="val 75967"/>
                  <a:gd name="adj2" fmla="val 31342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65800" y="912240"/>
                <a:ext cx="64512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 txBox="1"/>
              <p:nvPr/>
            </p:nvSpPr>
            <p:spPr>
              <a:xfrm>
                <a:off x="5074920" y="912240"/>
                <a:ext cx="1339560" cy="883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effectLst>
                      <a:outerShdw dist="153753" dir="2700000" blurRad="0" rotWithShape="0">
                        <a:srgbClr val="c0c0c0"/>
                      </a:outerShdw>
                    </a:effectLst>
                    <a:latin typeface="宋体"/>
                  </a:rPr>
                  <a:t>做练习啦</a:t>
                </a:r>
                <a:endPara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</p:grpSp>
      <p:sp>
        <p:nvSpPr>
          <p:cNvPr id="444" name=""/>
          <p:cNvSpPr/>
          <p:nvPr/>
        </p:nvSpPr>
        <p:spPr>
          <a:xfrm>
            <a:off x="1143000" y="2666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幼圆"/>
              </a:rPr>
              <a:t>求下面每组数的最小公倍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3886200"/>
            <a:ext cx="784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6 (            )               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 (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4 (             )               3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 (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9625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705720" y="3886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14600" y="5410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05720" y="53341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75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228240" y="0"/>
            <a:ext cx="8915760" cy="3200400"/>
            <a:chOff x="228240" y="0"/>
            <a:chExt cx="8915760" cy="3200400"/>
          </a:xfrm>
        </p:grpSpPr>
        <p:pic>
          <p:nvPicPr>
            <p:cNvPr id="451" name="" descr=""/>
            <p:cNvPicPr/>
            <p:nvPr/>
          </p:nvPicPr>
          <p:blipFill>
            <a:blip r:embed="rId1"/>
            <a:stretch/>
          </p:blipFill>
          <p:spPr>
            <a:xfrm>
              <a:off x="5943600" y="0"/>
              <a:ext cx="3200400" cy="3200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2" name=""/>
            <p:cNvGrpSpPr/>
            <p:nvPr/>
          </p:nvGrpSpPr>
          <p:grpSpPr>
            <a:xfrm>
              <a:off x="228240" y="0"/>
              <a:ext cx="3352680" cy="2057400"/>
              <a:chOff x="228240" y="0"/>
              <a:chExt cx="3352680" cy="2057400"/>
            </a:xfrm>
          </p:grpSpPr>
          <p:sp>
            <p:nvSpPr>
              <p:cNvPr id="453" name=""/>
              <p:cNvSpPr/>
              <p:nvPr/>
            </p:nvSpPr>
            <p:spPr>
              <a:xfrm flipH="1">
                <a:off x="227880" y="0"/>
                <a:ext cx="3352680" cy="2057400"/>
              </a:xfrm>
              <a:prstGeom prst="wedgeEllipseCallout">
                <a:avLst>
                  <a:gd name="adj1" fmla="val -69416"/>
                  <a:gd name="adj2" fmla="val 107712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 txBox="1"/>
              <p:nvPr/>
            </p:nvSpPr>
            <p:spPr>
              <a:xfrm>
                <a:off x="914400" y="457200"/>
                <a:ext cx="2057400" cy="106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blipFill rotWithShape="0">
                      <a:blip r:embed="rId2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宋体"/>
                  </a:rPr>
                  <a:t>I see!</a:t>
                </a:r>
                <a:endPara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</p:grpSp>
      <p:sp>
        <p:nvSpPr>
          <p:cNvPr id="455" name=""/>
          <p:cNvSpPr/>
          <p:nvPr/>
        </p:nvSpPr>
        <p:spPr>
          <a:xfrm>
            <a:off x="1143000" y="36576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如果较大数是较小数的倍数，那么较大数就是这两个数的最小公倍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75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75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609480" y="228600"/>
            <a:ext cx="8534520" cy="3124080"/>
            <a:chOff x="609480" y="228600"/>
            <a:chExt cx="8534520" cy="3124080"/>
          </a:xfrm>
        </p:grpSpPr>
        <p:grpSp>
          <p:nvGrpSpPr>
            <p:cNvPr id="457" name=""/>
            <p:cNvGrpSpPr/>
            <p:nvPr/>
          </p:nvGrpSpPr>
          <p:grpSpPr>
            <a:xfrm>
              <a:off x="609480" y="304920"/>
              <a:ext cx="3124080" cy="1828800"/>
              <a:chOff x="609480" y="304920"/>
              <a:chExt cx="3124080" cy="1828800"/>
            </a:xfrm>
          </p:grpSpPr>
          <p:sp>
            <p:nvSpPr>
              <p:cNvPr id="458" name=""/>
              <p:cNvSpPr/>
              <p:nvPr/>
            </p:nvSpPr>
            <p:spPr>
              <a:xfrm>
                <a:off x="609480" y="304920"/>
                <a:ext cx="3124080" cy="1828800"/>
              </a:xfrm>
              <a:prstGeom prst="cloudCallout">
                <a:avLst>
                  <a:gd name="adj1" fmla="val 63254"/>
                  <a:gd name="adj2" fmla="val 7856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03920" y="457200"/>
                <a:ext cx="1603440" cy="1428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6383160" y="228600"/>
              <a:ext cx="2760840" cy="31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1" name=""/>
          <p:cNvSpPr/>
          <p:nvPr/>
        </p:nvSpPr>
        <p:spPr>
          <a:xfrm>
            <a:off x="685800" y="2895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幼圆"/>
              </a:rPr>
              <a:t>求下面每组数的最小公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14400" y="38098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d11d7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2d11d7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2d11d7"/>
                </a:solidFill>
                <a:latin typeface="Times New Roman"/>
              </a:rPr>
              <a:t>5                     8</a:t>
            </a:r>
            <a:r>
              <a:rPr b="1" lang="zh-CN" sz="4000" spc="-1" strike="noStrike">
                <a:solidFill>
                  <a:srgbClr val="2d11d7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2d11d7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" y="4572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的最小公倍数是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4×5=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54100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的最小公倍数是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8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15=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761760" y="0"/>
            <a:ext cx="2819160" cy="2057400"/>
            <a:chOff x="761760" y="0"/>
            <a:chExt cx="2819160" cy="2057400"/>
          </a:xfrm>
        </p:grpSpPr>
        <p:sp>
          <p:nvSpPr>
            <p:cNvPr id="466" name=""/>
            <p:cNvSpPr/>
            <p:nvPr/>
          </p:nvSpPr>
          <p:spPr>
            <a:xfrm flipH="1">
              <a:off x="761400" y="0"/>
              <a:ext cx="2819160" cy="2057400"/>
            </a:xfrm>
            <a:prstGeom prst="cloudCallout">
              <a:avLst>
                <a:gd name="adj1" fmla="val -51412"/>
                <a:gd name="adj2" fmla="val 9066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1295280" y="304560"/>
              <a:ext cx="1447560" cy="133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哇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1371600" y="29718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方正综艺简体"/>
              </a:rPr>
              <a:t>        </a:t>
            </a:r>
            <a:r>
              <a:rPr b="1" lang="zh-CN" sz="4800" spc="-1" strike="noStrike">
                <a:solidFill>
                  <a:srgbClr val="003300"/>
                </a:solidFill>
                <a:latin typeface="Times New Roman"/>
                <a:ea typeface="MingLiU"/>
              </a:rPr>
              <a:t>如果两个数是互质数，那么这两个数的积就是它们的最小公倍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1905120" cy="3581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3505320" y="380880"/>
            <a:ext cx="5105160" cy="1067040"/>
            <a:chOff x="3505320" y="380880"/>
            <a:chExt cx="5105160" cy="1067040"/>
          </a:xfrm>
        </p:grpSpPr>
        <p:sp>
          <p:nvSpPr>
            <p:cNvPr id="471" name=""/>
            <p:cNvSpPr/>
            <p:nvPr/>
          </p:nvSpPr>
          <p:spPr>
            <a:xfrm>
              <a:off x="3505320" y="380880"/>
              <a:ext cx="5105160" cy="1067040"/>
            </a:xfrm>
            <a:prstGeom prst="cloudCallout">
              <a:avLst>
                <a:gd name="adj1" fmla="val -25000"/>
                <a:gd name="adj2" fmla="val 110861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4572000" y="533520"/>
              <a:ext cx="3048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记住了吗？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209680" y="2438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如果较大数是较小数的倍数，那么较大数就是这两个数的最小公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09680" y="4572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如果两个数是互质数，那么这两个数的积就是它们的最小公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75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75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75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75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直接说出下列各组数的最小公倍数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　　　　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1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5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　　　　　　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　　　　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3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9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　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21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　　　　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8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4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9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4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　　　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50920" y="260280"/>
            <a:ext cx="216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经典隶变简"/>
              </a:rPr>
              <a:t>我真行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经典隶变简"/>
              <a:ea typeface="经典隶变简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23050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826560" y="1557000"/>
            <a:ext cx="65516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一个数同时能被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整除，这个数最小是（   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=2×3×5,b=3×3×5,a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的最小公倍数是（     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甲数与乙数是互质数，它们的最小公倍数是（  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两个质数的最小公倍数是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，这两个数分别是（   ）和（  ）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 txBox="1"/>
          <p:nvPr/>
        </p:nvSpPr>
        <p:spPr>
          <a:xfrm>
            <a:off x="971640" y="404640"/>
            <a:ext cx="208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经典隶书简"/>
              </a:rPr>
              <a:t>我会填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经典隶书简"/>
              <a:ea typeface="经典隶书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23:42:25Z</dcterms:created>
  <dc:creator>founder</dc:creator>
  <dc:description/>
  <dc:language>en-US</dc:language>
  <cp:lastModifiedBy>mzc</cp:lastModifiedBy>
  <dcterms:modified xsi:type="dcterms:W3CDTF">2006-05-21T10:11:13Z</dcterms:modified>
  <cp:revision>81</cp:revision>
  <dc:subject/>
  <dc:title>PowerPoint 演示文稿</dc:title>
</cp:coreProperties>
</file>