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type.wav" ContentType="audio/x-wav"/>
  <Override PartName="/ppt/media/cashreg.wav" ContentType="audio/x-wav"/>
  <Override PartName="/ppt/media/image4.png" ContentType="image/png"/>
  <Override PartName="/ppt/media/image6.png" ContentType="image/png"/>
  <Override PartName="/ppt/media/camera.wav" ContentType="audio/x-wav"/>
  <Override PartName="/ppt/media/chimes.wav" ContentType="audio/x-wav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9E1-FB01-4B43-BE47-768CA974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0DD-2871-4ECC-9BAD-B0B73FD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ECA-35A1-4602-94ED-63A52B4D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7C7-7DD2-4B36-A88E-84042673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20E-DBBF-4D1A-BD2E-1FA1464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830-5541-4D52-A165-643DB9E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D76-C835-4DAA-B3CA-9A397932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88D-3619-40A9-B7B6-DFEDA2F4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8D5-4D00-4C2F-AFBA-749DC4ED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CED-8343-4526-8CD7-514379C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803-C47C-47F4-AD9D-0BAAAF9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614-34F5-4C07-807C-2F8D476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AFF5-30F5-4DC9-BF01-BD3D7ACD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cashreg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shreg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cashreg.wav"/><Relationship Id="rId24" Type="http://schemas.openxmlformats.org/officeDocument/2006/relationships/audio" Target="../media/camera.wav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shreg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shreg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shreg.wav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539720"/>
            <a:ext cx="6408720" cy="1084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分  数  的  约  分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08320" y="3151080"/>
            <a:ext cx="925560" cy="92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95520" y="765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26920" y="5446800"/>
            <a:ext cx="2160720" cy="6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5445000"/>
            <a:ext cx="2160720" cy="6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31000" y="4498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总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复  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89000"/>
            <a:ext cx="547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填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284720" y="1251000"/>
                <a:ext cx="4032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395280" y="1198440"/>
            <a:ext cx="8748720" cy="1133640"/>
            <a:chOff x="395280" y="1198440"/>
            <a:chExt cx="8748720" cy="1133640"/>
          </a:xfrm>
        </p:grpSpPr>
        <p:sp>
          <p:nvSpPr>
            <p:cNvPr id="48" name=""/>
            <p:cNvSpPr/>
            <p:nvPr/>
          </p:nvSpPr>
          <p:spPr>
            <a:xfrm>
              <a:off x="395280" y="1324080"/>
              <a:ext cx="8748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⑴       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的分数单位是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)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，它有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)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个这样的分数单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7280" y="1198440"/>
                  <a:ext cx="439920" cy="11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" name=""/>
          <p:cNvSpPr/>
          <p:nvPr/>
        </p:nvSpPr>
        <p:spPr>
          <a:xfrm>
            <a:off x="6372360" y="1393920"/>
            <a:ext cx="93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92428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99280" y="4581360"/>
            <a:ext cx="93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84720" y="2781360"/>
                <a:ext cx="4381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395280" y="2781360"/>
            <a:ext cx="8748720" cy="1133280"/>
            <a:chOff x="395280" y="2781360"/>
            <a:chExt cx="8748720" cy="1133280"/>
          </a:xfrm>
        </p:grpSpPr>
        <p:sp>
          <p:nvSpPr>
            <p:cNvPr id="55" name=""/>
            <p:cNvSpPr/>
            <p:nvPr/>
          </p:nvSpPr>
          <p:spPr>
            <a:xfrm>
              <a:off x="395280" y="2906640"/>
              <a:ext cx="8748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⑵       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的分数单位是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)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，它有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)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个这样的分数单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71640" y="2781360"/>
                  <a:ext cx="693720" cy="11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84720" y="4437000"/>
                <a:ext cx="4078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395280" y="4437000"/>
            <a:ext cx="8748720" cy="1152720"/>
            <a:chOff x="395280" y="4437000"/>
            <a:chExt cx="8748720" cy="1152720"/>
          </a:xfrm>
        </p:grpSpPr>
        <p:sp>
          <p:nvSpPr>
            <p:cNvPr id="59" name=""/>
            <p:cNvSpPr/>
            <p:nvPr/>
          </p:nvSpPr>
          <p:spPr>
            <a:xfrm>
              <a:off x="395280" y="4543560"/>
              <a:ext cx="8748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⑶       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的分数单位是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)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，它有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(      )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个这样的分数单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990720" y="4437000"/>
                  <a:ext cx="66816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619280" y="1270080"/>
            <a:ext cx="2085480" cy="1224000"/>
            <a:chOff x="1619280" y="1270080"/>
            <a:chExt cx="2085480" cy="122400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619280" y="1270080"/>
                  <a:ext cx="7110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320560" y="1414440"/>
              <a:ext cx="50472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680920" y="1270080"/>
                  <a:ext cx="1023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2916360" y="112536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65360" y="2852640"/>
            <a:ext cx="2085480" cy="1224000"/>
            <a:chOff x="1665360" y="2852640"/>
            <a:chExt cx="2085480" cy="122400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665360" y="2852640"/>
                  <a:ext cx="7110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366640" y="2997000"/>
              <a:ext cx="50472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2727000" y="2852640"/>
                  <a:ext cx="1023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3030480" y="270828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华文新魏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08200" y="489600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华文新魏"/>
              </a:rPr>
              <a:t>24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60720" y="206280"/>
            <a:ext cx="5688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填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68720" y="424800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华文新魏"/>
              </a:rPr>
              <a:t>1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复  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7080" y="4824360"/>
            <a:ext cx="8636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华文新魏"/>
              </a:rPr>
              <a:t>2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47640" y="4334040"/>
            <a:ext cx="4768560" cy="1399680"/>
            <a:chOff x="1547640" y="4334040"/>
            <a:chExt cx="4768560" cy="1399680"/>
          </a:xfrm>
        </p:grpSpPr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043080" y="4390920"/>
                  <a:ext cx="474480" cy="12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580840" y="4535280"/>
              <a:ext cx="5050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547640" y="4390920"/>
                  <a:ext cx="1023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924000" y="4392360"/>
                  <a:ext cx="1023840" cy="12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3492360" y="4535280"/>
              <a:ext cx="50472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292360" y="4334040"/>
                  <a:ext cx="1023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860720" y="4535280"/>
              <a:ext cx="50472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156360" y="292752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580000" y="2781360"/>
            <a:ext cx="1800360" cy="1224000"/>
            <a:chOff x="5580000" y="2781360"/>
            <a:chExt cx="1800360" cy="122400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746760" y="2781360"/>
                  <a:ext cx="6336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5580000" y="2781360"/>
                  <a:ext cx="4748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" name=""/>
            <p:cNvSpPr/>
            <p:nvPr/>
          </p:nvSpPr>
          <p:spPr>
            <a:xfrm>
              <a:off x="6083280" y="3140280"/>
              <a:ext cx="649440" cy="64944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复  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60280"/>
            <a:ext cx="817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           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出下面哪组数是互质数，各组数的最大公约数分别是多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1773360"/>
            <a:ext cx="2303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18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1773360"/>
            <a:ext cx="2303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45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1773360"/>
            <a:ext cx="194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90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73360"/>
            <a:ext cx="194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8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620800"/>
            <a:ext cx="468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8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2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是互质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2567160"/>
            <a:ext cx="1079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3286080"/>
            <a:ext cx="60469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18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12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最大公约数是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6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3917880"/>
            <a:ext cx="612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45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60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最大公约数是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15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4637160"/>
            <a:ext cx="6480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8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2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最大公约数是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5357880"/>
            <a:ext cx="662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90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和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60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最大公约数是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30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260280"/>
            <a:ext cx="309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       化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79840" y="11592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34920" y="2768760"/>
            <a:ext cx="3240000" cy="1431360"/>
            <a:chOff x="34920" y="2768760"/>
            <a:chExt cx="3240000" cy="1431360"/>
          </a:xfrm>
        </p:grpSpPr>
        <p:sp>
          <p:nvSpPr>
            <p:cNvPr id="108" name=""/>
            <p:cNvSpPr/>
            <p:nvPr/>
          </p:nvSpPr>
          <p:spPr>
            <a:xfrm>
              <a:off x="34920" y="2841480"/>
              <a:ext cx="324000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25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的分子、分母有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公约数 </a:t>
              </a:r>
              <a:r>
                <a:rPr b="1" lang="en-US" sz="25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2 </a:t>
              </a:r>
              <a:r>
                <a:rPr b="1" lang="en-US" sz="25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，用 </a:t>
              </a:r>
              <a:r>
                <a:rPr b="1" lang="en-US" sz="25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2 </a:t>
              </a:r>
              <a:r>
                <a:rPr b="1" lang="en-US" sz="25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去除分子、分母，得：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309240" y="2768760"/>
                  <a:ext cx="44568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5797440" y="1413000"/>
            <a:ext cx="2446560" cy="1295280"/>
            <a:chOff x="5797440" y="1413000"/>
            <a:chExt cx="2446560" cy="129528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977160" y="1413000"/>
              <a:ext cx="1266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6200000">
              <a:off x="5963400" y="1724040"/>
              <a:ext cx="387000" cy="719280"/>
            </a:xfrm>
            <a:prstGeom prst="downArrow">
              <a:avLst>
                <a:gd name="adj1" fmla="val 50000"/>
                <a:gd name="adj2" fmla="val 46465"/>
              </a:avLst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588000" y="1557360"/>
                  <a:ext cx="390600" cy="100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"/>
          <p:cNvGrpSpPr/>
          <p:nvPr/>
        </p:nvGrpSpPr>
        <p:grpSpPr>
          <a:xfrm>
            <a:off x="2914560" y="1413000"/>
            <a:ext cx="2521080" cy="1295280"/>
            <a:chOff x="2914560" y="1413000"/>
            <a:chExt cx="2521080" cy="129528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4168800" y="1413000"/>
              <a:ext cx="1266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rot="16200000">
              <a:off x="3080520" y="1677960"/>
              <a:ext cx="387000" cy="719280"/>
            </a:xfrm>
            <a:prstGeom prst="downArrow">
              <a:avLst>
                <a:gd name="adj1" fmla="val 50000"/>
                <a:gd name="adj2" fmla="val 46465"/>
              </a:avLst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819600" y="1557360"/>
                  <a:ext cx="390600" cy="100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641520" y="1413000"/>
            <a:ext cx="1812600" cy="1295280"/>
            <a:chOff x="641520" y="1413000"/>
            <a:chExt cx="1812600" cy="12952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41520" y="1557360"/>
                  <a:ext cx="5205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1187280" y="1413000"/>
              <a:ext cx="1266840" cy="12952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0800" y="5013360"/>
                <a:ext cx="2148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3059280" y="2768760"/>
            <a:ext cx="3240000" cy="1431360"/>
            <a:chOff x="3059280" y="2768760"/>
            <a:chExt cx="3240000" cy="1431360"/>
          </a:xfrm>
        </p:grpSpPr>
        <p:sp>
          <p:nvSpPr>
            <p:cNvPr id="123" name=""/>
            <p:cNvSpPr/>
            <p:nvPr/>
          </p:nvSpPr>
          <p:spPr>
            <a:xfrm>
              <a:off x="3059280" y="2841480"/>
              <a:ext cx="324000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25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的分子、分母有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公约数 </a:t>
              </a:r>
              <a:r>
                <a:rPr b="1" lang="en-US" sz="25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3 </a:t>
              </a:r>
              <a:r>
                <a:rPr b="1" lang="en-US" sz="25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，用 </a:t>
              </a:r>
              <a:r>
                <a:rPr b="1" lang="en-US" sz="25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3 </a:t>
              </a:r>
              <a:r>
                <a:rPr b="1" lang="en-US" sz="25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去除分子、分母，得：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3389400" y="2768760"/>
                  <a:ext cx="33444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01880" y="5013360"/>
                <a:ext cx="1870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÷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÷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6012000" y="2768760"/>
            <a:ext cx="3240000" cy="1431360"/>
            <a:chOff x="6012000" y="2768760"/>
            <a:chExt cx="3240000" cy="1431360"/>
          </a:xfrm>
        </p:grpSpPr>
        <p:sp>
          <p:nvSpPr>
            <p:cNvPr id="127" name=""/>
            <p:cNvSpPr/>
            <p:nvPr/>
          </p:nvSpPr>
          <p:spPr>
            <a:xfrm>
              <a:off x="6012000" y="2841480"/>
              <a:ext cx="324000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25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的分子、分母是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互质数，不能再化简了。所以：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342120" y="2768760"/>
                  <a:ext cx="33444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00720" y="4797360"/>
                <a:ext cx="5968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804000" y="4821120"/>
                <a:ext cx="782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524720" y="4797360"/>
                <a:ext cx="782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0720" y="260280"/>
            <a:ext cx="309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       化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79840" y="11592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05360" y="189000"/>
                <a:ext cx="596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308640" y="212760"/>
                <a:ext cx="782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029360" y="189000"/>
                <a:ext cx="782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2133720"/>
            <a:ext cx="8893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  <a:ea typeface="楷体_GB2312"/>
              </a:rPr>
              <a:t>把一个分数的分子与分母的公因数约去的过程，称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约分（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cancelling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523880"/>
            <a:ext cx="8353440" cy="7761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分子、分母是互质数的分数，叫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最简分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3429000"/>
            <a:ext cx="8785080" cy="1081080"/>
            <a:chOff x="395280" y="3429000"/>
            <a:chExt cx="8785080" cy="108108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2916360" y="3429000"/>
                  <a:ext cx="55872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95280" y="3500280"/>
              <a:ext cx="8785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例如，上面的    约分后得到的   就是最简分数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5796000" y="3429000"/>
                  <a:ext cx="419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34920" y="4365720"/>
            <a:ext cx="3600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化最简分数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343400"/>
            <a:ext cx="882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   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将分子和分母分别除以它们的最大公因数，也可以不断地约分，直到分子、分母互素为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60280"/>
            <a:ext cx="309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       约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25840" y="11736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-76320" y="1295280"/>
            <a:ext cx="6191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约分时，可以写成这样的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615000" y="112392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748560" y="1197000"/>
            <a:ext cx="43164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110360" y="822240"/>
                <a:ext cx="287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991200" y="2349360"/>
                <a:ext cx="478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748560" y="184464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08920" y="907920"/>
            <a:ext cx="28728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242100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324560" y="549360"/>
                <a:ext cx="266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311960" y="2728800"/>
                <a:ext cx="295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315200" y="1143000"/>
                <a:ext cx="82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08000" y="2924280"/>
            <a:ext cx="89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可以直接用分子和分母的最大公约数去除，比较简便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476360" y="468792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609560" y="4761000"/>
            <a:ext cx="432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9560" y="5408640"/>
            <a:ext cx="432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363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006640" y="5894280"/>
                <a:ext cx="347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85920" y="4687920"/>
                <a:ext cx="82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419640" y="4724280"/>
            <a:ext cx="3168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或者直接写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418440" y="458136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128000" y="4581360"/>
                <a:ext cx="82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86400" y="113832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174360" y="1432080"/>
            <a:ext cx="43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471960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68840" y="5013360"/>
            <a:ext cx="43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60360" y="115920"/>
            <a:ext cx="7704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下面哪些分数是最简分数？       把没有约成最简分数的进行约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23960" y="1484280"/>
                <a:ext cx="63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66560" y="3013200"/>
            <a:ext cx="352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最简分数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672080"/>
            <a:ext cx="3168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约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84280"/>
                <a:ext cx="711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470400" y="1484280"/>
                <a:ext cx="63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89520" y="1484280"/>
                <a:ext cx="669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47120" y="1484280"/>
                <a:ext cx="63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276960" y="148428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510000" y="2852640"/>
                <a:ext cx="630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092560" y="285264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03280" y="459900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471680" y="470844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71680" y="535608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825560" y="4433760"/>
                <a:ext cx="349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886040" y="5751360"/>
                <a:ext cx="3124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48040" y="4635360"/>
                <a:ext cx="828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348000" y="4602240"/>
                <a:ext cx="709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454560" y="471168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54560" y="535932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97360" y="43657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851280" y="5751360"/>
                <a:ext cx="3477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030560" y="4638600"/>
                <a:ext cx="82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238720" y="4595760"/>
                <a:ext cx="671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26200" y="470520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5353200"/>
            <a:ext cx="43164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735520" y="436572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740560" y="5680080"/>
                <a:ext cx="312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02200" y="4632480"/>
                <a:ext cx="82872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240680" y="459900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7308720" y="4708440"/>
            <a:ext cx="43200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08720" y="5356080"/>
            <a:ext cx="43200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740720" y="436572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707240" y="5751360"/>
                <a:ext cx="3463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885080" y="4635360"/>
                <a:ext cx="82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63640" cy="1297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60360" y="115920"/>
            <a:ext cx="7704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         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下面相等的分数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88920" y="1773360"/>
                <a:ext cx="630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37000" y="1773360"/>
                <a:ext cx="711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335480" y="1773360"/>
                <a:ext cx="669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413480" y="1773360"/>
                <a:ext cx="7081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827680" y="1773360"/>
                <a:ext cx="711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41560" y="4076640"/>
                <a:ext cx="433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05040" y="4076640"/>
                <a:ext cx="474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33760" y="4076640"/>
                <a:ext cx="474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019920" y="4076640"/>
                <a:ext cx="473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602480" y="4076640"/>
                <a:ext cx="474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971640" y="1773360"/>
            <a:ext cx="647640" cy="122400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1773360"/>
            <a:ext cx="647640" cy="122400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1773360"/>
            <a:ext cx="647640" cy="122400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1773360"/>
            <a:ext cx="648000" cy="122400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773360"/>
            <a:ext cx="647640" cy="122400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2320" y="4076640"/>
            <a:ext cx="841320" cy="1297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4076640"/>
            <a:ext cx="841320" cy="1297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4076640"/>
            <a:ext cx="841320" cy="1297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4076640"/>
            <a:ext cx="841320" cy="1297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51640" y="4076640"/>
            <a:ext cx="841320" cy="1297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9440" y="2997360"/>
            <a:ext cx="1150920" cy="12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2997360"/>
            <a:ext cx="2808360" cy="12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618920" y="2997360"/>
            <a:ext cx="3097080" cy="12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45080" y="2997360"/>
            <a:ext cx="1151280" cy="12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005080" y="2997360"/>
            <a:ext cx="259092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3:26:53Z</dcterms:created>
  <dc:creator>杨顺京</dc:creator>
  <dc:description/>
  <dc:language>en-US</dc:language>
  <cp:lastModifiedBy>qi</cp:lastModifiedBy>
  <dcterms:modified xsi:type="dcterms:W3CDTF">2005-09-15T04:42:15Z</dcterms:modified>
  <cp:revision>265</cp:revision>
  <dc:subject/>
  <dc:title>PowerPoint 演示文稿</dc:title>
</cp:coreProperties>
</file>