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laser.wav" ContentType="audio/x-wav"/>
  <Override PartName="/ppt/media/driveby.wav" ContentType="audio/x-wav"/>
  <Override PartName="/ppt/media/camera.wav" ContentType="audio/x-wav"/>
  <Override PartName="/ppt/media/explode.wav" ContentType="audio/x-wav"/>
  <Override PartName="/ppt/media/type.wav" ContentType="audio/x-wav"/>
  <Override PartName="/ppt/media/applause.wav" ContentType="audio/x-wav"/>
  <Override PartName="/ppt/media/drumroll.wav" ContentType="audio/x-wav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3B4-9510-4D80-87EA-8D75FCFC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7D9-EBC8-4B2D-B775-D2E6C89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36B-306F-407D-81B0-651DECE5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43F-F9E1-4E32-8782-E1E63A9A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B9D-78D0-424E-9B3F-0F383CDF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0DF-FDBE-4A49-BDE5-1890990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8800-921B-44B2-AEB0-EF8CF0A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FF11-2851-4F87-A92A-7FAD9926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21F6-6D26-4945-9BCA-34448B1C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B6C-90E7-4DAF-967B-092723EB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7D1D-967C-4CA9-80E1-BC18F967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585-B695-41ED-8572-564E3E0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8B7-8E48-4857-A23E-493A8F7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F7C9-F032-423F-9068-24916E8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4C68-A2FD-403A-B181-E2C5D7EE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017F-0C53-4FC5-83D1-C6AFF62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26D-594A-4252-89C3-D6D1D1BB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E5E-3FF8-4E8C-B16C-B25DC6FE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493-9890-4989-A013-C10FF4D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CD2-FEB2-45C0-A6EB-C464803F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DCA-84B1-43EC-A696-CAC9EA2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F2-65C3-430D-AD71-389B20B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73D-D9CB-48B6-9284-5C2A94A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73A-8FC2-4A86-8B2D-87F536F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98E-19E5-421E-A5A5-41C5B719E22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0DFE-7A01-4EB5-AB18-B982E6663E4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audio" Target="../media/explode.wav"/><Relationship Id="rId21" Type="http://schemas.openxmlformats.org/officeDocument/2006/relationships/audio" Target="../media/applause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driveby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84280" y="2066400"/>
            <a:ext cx="6400800" cy="150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最大公因数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187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如果数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能被数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不能为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整除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就叫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就叫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400" y="2278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请写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个数的因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16160" y="29257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1616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1436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16160" y="4772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5240" y="2914560"/>
            <a:ext cx="990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0560" y="3559320"/>
            <a:ext cx="18288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1720" y="4152960"/>
            <a:ext cx="19051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6160" y="4772160"/>
            <a:ext cx="289584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63280" y="1547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1547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52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6922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有哪些因数？它们公有的因数有哪几个？其中最大的因数是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2133720"/>
            <a:ext cx="1728720" cy="1477080"/>
          </a:xfrm>
          <a:prstGeom prst="rect">
            <a:avLst/>
          </a:prstGeom>
          <a:solidFill>
            <a:srgbClr val="00b200"/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057040" y="2286000"/>
            <a:ext cx="1143720" cy="21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352680" y="19051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列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24670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14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438280"/>
            <a:ext cx="381240" cy="5814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438280"/>
            <a:ext cx="380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43828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438280"/>
            <a:ext cx="45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124080"/>
            <a:ext cx="381240" cy="5814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124080"/>
            <a:ext cx="380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124080"/>
            <a:ext cx="45720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124080"/>
            <a:ext cx="457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3124080"/>
            <a:ext cx="4572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124080"/>
            <a:ext cx="6858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4191120"/>
            <a:ext cx="43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有的因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75240" y="4419360"/>
            <a:ext cx="1372320" cy="15300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cxnSp>
        <p:nvCxnSpPr>
          <p:cNvPr id="184" name=""/>
          <p:cNvCxnSpPr/>
          <p:nvPr/>
        </p:nvCxnSpPr>
        <p:spPr>
          <a:xfrm flipH="1" rot="16200000">
            <a:off x="151560" y="4343040"/>
            <a:ext cx="1372320" cy="30564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cxnSp>
        <p:nvCxnSpPr>
          <p:cNvPr id="185" name=""/>
          <p:cNvCxnSpPr/>
          <p:nvPr/>
        </p:nvCxnSpPr>
        <p:spPr>
          <a:xfrm>
            <a:off x="1752120" y="3657600"/>
            <a:ext cx="1080" cy="488160"/>
          </a:xfrm>
          <a:prstGeom prst="straightConnector1">
            <a:avLst/>
          </a:prstGeom>
          <a:ln w="442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91320" y="4191120"/>
            <a:ext cx="457200" cy="5814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191120"/>
            <a:ext cx="380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19112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/>
          <p:nvPr/>
        </p:nvCxnSpPr>
        <p:spPr>
          <a:xfrm flipH="1" rot="16200000">
            <a:off x="456480" y="4267080"/>
            <a:ext cx="1296000" cy="229320"/>
          </a:xfrm>
          <a:prstGeom prst="bentConnector3">
            <a:avLst>
              <a:gd name="adj1" fmla="val 49986"/>
            </a:avLst>
          </a:prstGeom>
          <a:ln w="0">
            <a:noFill/>
          </a:ln>
        </p:spPr>
      </p:cxnSp>
      <p:cxnSp>
        <p:nvCxnSpPr>
          <p:cNvPr id="190" name=""/>
          <p:cNvCxnSpPr>
            <a:stCxn id="167" idx="2"/>
          </p:cNvCxnSpPr>
          <p:nvPr/>
        </p:nvCxnSpPr>
        <p:spPr>
          <a:xfrm flipH="1" rot="16200000">
            <a:off x="380880" y="4290120"/>
            <a:ext cx="1478880" cy="153000"/>
          </a:xfrm>
          <a:prstGeom prst="bentConnector3">
            <a:avLst>
              <a:gd name="adj1" fmla="val 49622"/>
            </a:avLst>
          </a:prstGeom>
          <a:ln w="0">
            <a:noFill/>
          </a:ln>
        </p:spPr>
      </p:cxnSp>
      <p:cxnSp>
        <p:nvCxnSpPr>
          <p:cNvPr id="191" name=""/>
          <p:cNvCxnSpPr>
            <a:stCxn id="167" idx="2"/>
          </p:cNvCxnSpPr>
          <p:nvPr/>
        </p:nvCxnSpPr>
        <p:spPr>
          <a:xfrm flipH="1" rot="16200000">
            <a:off x="496080" y="4175640"/>
            <a:ext cx="2393280" cy="1296000"/>
          </a:xfrm>
          <a:prstGeom prst="bentConnector3">
            <a:avLst>
              <a:gd name="adj1" fmla="val 49766"/>
            </a:avLst>
          </a:prstGeom>
          <a:ln w="0">
            <a:noFill/>
          </a:ln>
        </p:spPr>
      </p:cxnSp>
      <p:sp>
        <p:nvSpPr>
          <p:cNvPr id="192" name=""/>
          <p:cNvSpPr/>
          <p:nvPr/>
        </p:nvSpPr>
        <p:spPr>
          <a:xfrm>
            <a:off x="1600200" y="495288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找出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最大公因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952880"/>
            <a:ext cx="6094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H="1" rot="16200000">
            <a:off x="334800" y="4312800"/>
            <a:ext cx="1616760" cy="305280"/>
          </a:xfrm>
          <a:prstGeom prst="bentConnector2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655640" y="5581800"/>
            <a:ext cx="75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几个数公有的因数叫做这几个数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公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最大的一个叫做这几个数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大公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476280"/>
            <a:ext cx="1584000" cy="6426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练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0720" y="1343160"/>
            <a:ext cx="62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数、公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填在下面的圈内，再找出它们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大公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5080" y="3051360"/>
            <a:ext cx="2827440" cy="14364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6160" y="3740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31305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17880" y="31305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41560" y="37400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81000" y="2990520"/>
            <a:ext cx="1287360" cy="1572480"/>
          </a:xfrm>
          <a:prstGeom prst="rightArrowCallout">
            <a:avLst>
              <a:gd name="adj1" fmla="val 30540"/>
              <a:gd name="adj2" fmla="val 30537"/>
              <a:gd name="adj3" fmla="val 16667"/>
              <a:gd name="adj4" fmla="val 66667"/>
            </a:avLst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因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28960" y="3054240"/>
            <a:ext cx="2743200" cy="144792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3377880"/>
            <a:ext cx="1295280" cy="825480"/>
          </a:xfrm>
          <a:prstGeom prst="leftArrowCallout">
            <a:avLst>
              <a:gd name="adj1" fmla="val 25002"/>
              <a:gd name="adj2" fmla="val 25000"/>
              <a:gd name="adj3" fmla="val 26152"/>
              <a:gd name="adj4" fmla="val 66673"/>
            </a:avLst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因数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00560" y="3137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6000" y="3141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10280" y="38163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57760" y="3816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8160" y="4498920"/>
            <a:ext cx="2373480" cy="1238040"/>
          </a:xfrm>
          <a:prstGeom prst="upArrowCallout">
            <a:avLst>
              <a:gd name="adj1" fmla="val 47932"/>
              <a:gd name="adj2" fmla="val 47928"/>
              <a:gd name="adj3" fmla="val 16667"/>
              <a:gd name="adj4" fmla="val 66660"/>
            </a:avLst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数的公因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111636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求几个整数的最大公因数，除了我们上面用的这种方法以外，还有什么其它的方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3429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要把它们所有的素因数连乘，所得的积就是它们的最大公因数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76280"/>
            <a:ext cx="1439640" cy="6426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思考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2483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例题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求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的最大公因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4724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试一试：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求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48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的最大公因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54936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公因数和最大公因数各是几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141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249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公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41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17960" y="198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因数有：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17960" y="249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公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141720"/>
            <a:ext cx="7128000" cy="581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面两组数的公因数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933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因数只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个数，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互素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5373720"/>
            <a:ext cx="6629400" cy="581400"/>
          </a:xfrm>
          <a:prstGeom prst="rect">
            <a:avLst/>
          </a:prstGeom>
          <a:solidFill>
            <a:srgbClr val="99ff99"/>
          </a:solidFill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素数吗？根据这一点，你可以得到什么结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46386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素数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素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3800" y="13366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解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65160" y="1580400"/>
            <a:ext cx="659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．口答填空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公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．请找出下面各组数的最大公因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 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2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 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733320"/>
            <a:ext cx="1152720" cy="10688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46200" y="733320"/>
            <a:ext cx="741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．快速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公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、找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观察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最大公因数是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7:02:48Z</dcterms:created>
  <dc:creator>tong mei chun</dc:creator>
  <dc:description/>
  <dc:language>en-US</dc:language>
  <cp:lastModifiedBy>User</cp:lastModifiedBy>
  <dcterms:modified xsi:type="dcterms:W3CDTF">2005-10-07T09:07:59Z</dcterms:modified>
  <cp:revision>43</cp:revision>
  <dc:subject/>
  <dc:title>PowerPoint 演示文稿</dc:title>
</cp:coreProperties>
</file>