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757C-82EA-456D-9A1A-73762CA3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EA06-D91D-46C9-8627-42515DB7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D2A7-CB9C-441A-A9EC-324CCA608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1AA5-0834-48DF-BA22-C5F869FF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78B0-9174-4BA9-8FF7-6808DAF4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DEA0-B544-48DC-A614-EC8E9938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264C-40DB-4B34-AFAC-A8AD84F6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F021-4B2F-4CF0-A44A-98C5A5EA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8FEC-9E13-4069-A547-171611E7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B062-6FF7-46E2-B1F7-15054E72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6F3B-79F9-4666-93EF-DF94790E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7A62-4F85-475B-8720-E39007AE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B025-6229-4E79-B3CC-0FB816A9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BE7D-06AF-4830-902B-2ABF264A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B948-6811-41C4-8706-1A56178B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4CC7-4E64-4982-BE53-B43702B0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B8EF-65F5-423C-84AC-256614D8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5ED4-91CE-48B8-AA74-18516331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210E-0BFD-4657-8A42-C535161D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6905-EAFE-4DEA-870B-BF5E7706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4D8D-5E97-48F6-877B-9B80E42E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7A3D-132D-425F-B594-2B374FA4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56D8-B632-487B-8FCE-1D4559DD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8A7C-4514-4136-A3C9-47109674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BE44-3514-4A62-A61A-2075BC1EDF7F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3D22-B8E9-4710-830B-800EA864349B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347360" y="1676520"/>
            <a:ext cx="1399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约   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课题：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19320" y="1849320"/>
            <a:ext cx="7391160" cy="44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根据分数的基本性质填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6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）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）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——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  ——  =   ——  =   ——  =   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2           16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）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）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            10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）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  ——  =   ——  =   ——  =   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            3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）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4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复习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复习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362320"/>
            <a:ext cx="6933960" cy="32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、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写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800" spc="-1" strike="noStrike" u="sng">
                <a:solidFill>
                  <a:srgbClr val="993300"/>
                </a:solidFill>
                <a:uFillTx/>
                <a:latin typeface="Times New Roman"/>
                <a:hlinkClick r:id="rId2" action="ppaction://hlinksldjump"/>
              </a:rPr>
              <a:t>公约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指出哪两个数是</a:t>
            </a:r>
            <a:r>
              <a:rPr b="0" lang="zh-CN" sz="28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互质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               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复习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2</a:t>
            </a:r>
            <a:r>
              <a:rPr b="0" lang="zh-CN" sz="4400" spc="-1" strike="noStrike" u="sng">
                <a:solidFill>
                  <a:srgbClr val="993300"/>
                </a:solidFill>
                <a:uFillTx/>
                <a:latin typeface="Times New Roman"/>
                <a:hlinkClick r:id="rId2" action="ppaction://hlinksldjump"/>
              </a:rPr>
              <a:t>（1）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2438280"/>
            <a:ext cx="7315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约数有：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约数有：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公约数有：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新授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1752480"/>
            <a:ext cx="70866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把——化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思考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化简指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化简要运用什么性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化简到什么时候为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练习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（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019240"/>
            <a:ext cx="73915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判断下面各等式，哪些是约分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         2                        20         10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——                   —— = ——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5         3                        24       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          12                         4       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——                    —— = 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2         24                        5     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练习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（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1905120"/>
            <a:ext cx="7315200" cy="44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指出下面哪些分数是最简分数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              6           10           11          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——       ——       ——       ——       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              9           12           12       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4             9            24           21          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——        ——       ——       ——       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6            16           25           24          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新授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1636560"/>
            <a:ext cx="701064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把——约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</a:rPr>
              <a:t>约分的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一般用分子和分母的公约数（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Times New Roman"/>
              </a:rPr>
              <a:t>1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Times New Roman"/>
              </a:rPr>
              <a:t>除外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）去除分数的分子和分母；通常要除到得出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Times New Roman"/>
              </a:rPr>
              <a:t>最简分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为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练习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019240"/>
            <a:ext cx="73915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下面的分数约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            9            5           24          12          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——      ——      ——      ——      ——       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           12          10          30          16        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70         100          80          30         140        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     ——       ——      ——      ——      ——      ——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200        300        400        100        150       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33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2T01:07:01Z</dcterms:created>
  <dc:creator>user</dc:creator>
  <dc:description/>
  <dc:language>en-US</dc:language>
  <cp:lastModifiedBy>tmc</cp:lastModifiedBy>
  <dcterms:modified xsi:type="dcterms:W3CDTF">2005-05-18T14:57:01Z</dcterms:modified>
  <cp:revision>11</cp:revision>
  <dc:subject/>
  <dc:title>复习1</dc:title>
</cp:coreProperties>
</file>