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1%E6%B0%B4%E6%BB%B4.WAV" ContentType="audio/x-wav"/>
  <Override PartName="/ppt/media/image3.jpeg" ContentType="image/jpeg"/>
  <Override PartName="/ppt/media/01%E5%97%96.WAV" ContentType="audio/x-wav"/>
  <Override PartName="/ppt/media/image5.png" ContentType="image/png"/>
  <Override PartName="/ppt/media/chimes.wav" ContentType="audio/x-wav"/>
  <Override PartName="/ppt/media/06%E9%97%AA%E8%89%B2.WAV" ContentType="audio/x-wav"/>
  <Override PartName="/ppt/media/image2.jpeg" ContentType="image/jpeg"/>
  <Override PartName="/ppt/media/image4.png" ContentType="image/png"/>
  <Override PartName="/ppt/media/image6.png" ContentType="image/png"/>
  <Override PartName="/ppt/media/2%E5%98%9F.WAV" ContentType="audio/x-wav"/>
  <Override PartName="/ppt/media/image1.jpeg" ContentType="image/jpeg"/>
  <Override PartName="/ppt/media/image7.png" ContentType="image/png"/>
  <Override PartName="/ppt/media/image8.png" ContentType="image/png"/>
  <Override PartName="/ppt/media/01%E6%8C%89%E9%92%AE.WAV" ContentType="audio/x-wav"/>
  <Override PartName="/ppt/media/02%E9%97%AA%E8%89%B2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0AA-BA13-409F-9B43-6057FCA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2BE-081D-4D93-89E5-479EE509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0FB-5D88-4EC6-9659-B2C5BE96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F7F-4D52-4D6A-AA37-6A10EA56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1BEE-5BF8-4681-93E0-171CA47A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6B1-D097-46BC-9864-56220C9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DCA0-5EA3-4A23-B10D-AA0B438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3DEE-0CCC-4EFA-989F-9901A5E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939-9FF2-402D-82CD-C46B4A88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ADD6-BE78-468A-87FF-C1CCEE3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EFED-742F-4231-A78C-69BF3B6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C46-6FB6-4DC1-8D46-7265796D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59A2-4106-4A14-B819-8D29D92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4724-6CE2-47EF-A4EB-6221900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74ED-6A6A-46CB-ADCC-2206823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7BD2-DD95-461D-A594-AF784CB0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FD82-A74F-452B-9929-127ED20C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8539-F842-43B2-8DC6-16CC158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BF13-DE55-476A-9F22-C88302D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F6BB-2C68-4AFA-B76C-F0FC56B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E3AE-25AA-451C-8F7F-1949A07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7F0A-E473-48CA-A923-13E1E7E5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9B6-7D2B-4FE6-B4BB-0A603B8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8782-96A8-464D-9B55-4854428C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7B25-5220-40A0-8153-0A22E83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8C81-8EF8-4E3F-BEA1-3DDBA97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C732-B0CE-4BD1-A27B-02F8188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A54C-0828-4B93-8611-127BE502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4153-EE78-47F7-B5D7-2C038134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F771-6093-4525-86AA-EC0DF514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186D-6B42-41BD-834A-586B8C9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17AD-697F-4668-A0E0-D9FAC10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2C27-95B6-4B1D-BDF1-ECCE5A13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F45-AA93-450B-A89B-AA874E4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702A-62E2-411C-A34A-5AD4FEA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6AEC-72D8-4C2A-8744-23FEA877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357E-F824-4BE9-A996-5E493E5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29AC-6035-4494-B284-4F7E5FD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6CD5-8BD0-4424-BFB6-4F99E92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EDF3-073E-4A6D-86F4-4262681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B3FA-D9C0-405D-BC04-AEE7763E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2627-F47D-4866-91D2-42B678BC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2733-18B5-4EA4-AB47-8B644E7D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6487-2C5F-44FA-9A18-3E2F5A9A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DD2-326A-4B0F-927B-5A8DA0F2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47BA-18F5-4154-ACE0-729B9E0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201F1-C6ED-41A9-AEAE-8A59A65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8EAA-69C8-4595-9382-609A7F5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2CDEA-928B-4A7C-8CAA-248B3BE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87A8-1DCD-4C42-940C-9012FD3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D3F5-75A6-440B-9A30-A991814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FD3D-97E6-42FD-94F1-D1CCCC8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7AA7-00DD-4910-92F2-58B2DEF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2A65-F551-4D9C-9567-E57D84B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7FFD-0ACD-45F3-ABCB-7C40D9F7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BF5-4F7B-441F-97A6-0448CE7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371E-1423-4E99-9884-6E6DC1B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0EE00-F47F-4FCE-B66D-6C860A08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115C-E1D7-41E6-ADCD-B79828D4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E47E-C33E-4CAA-8EC9-84D8941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9DA0-2926-436D-816E-37463BC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BC49-051E-4A1F-88AE-D3229DF6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A388-4EC4-4A0C-9B8D-33164D3D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45D7-0038-4C5A-980F-8F9ABA6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DAF8-88AD-48A2-9E8F-A513740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24CD-936E-4823-9BA0-E70B9A4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541-DD03-4D84-9CD5-3774C4F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5B54-5BF1-4F9F-9C1D-161CA57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FB01-C4CA-4586-8950-570ABD72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1566-D811-4A83-9A02-90BE5FA6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21FA8-C465-4446-BB38-4B4462D9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D089-57A4-47DE-A03F-65913DE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B9B1-C86E-4FC5-B2B7-50EB594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2019-C239-4420-8CA3-D25E7A0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804C-A71E-4F9E-8A32-F37CFB5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0D97-7A22-4D96-8DB6-AFE23EE5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FE054-E67E-446C-BBFD-7367323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7FD-58FB-4761-9AF4-CC785D7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6702-B388-4695-926A-8D52CD8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7C94-B4F1-4F0F-B4D7-015B565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59A2-0C7B-4AB4-BF77-1B7302D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D5C5-2586-4D69-A16A-D33BDE7F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3566-76B9-4D3B-8DC7-139DBCDA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FF54-A5AA-419F-9F45-D751DAA3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77B6-B61E-47D7-BA56-081E4E65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AE58-96FC-41C5-B356-070DF87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E10C-9C7B-46AC-8CF8-4ADE692C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EE82-607C-424D-BE1C-519F208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6F3-DE4A-4489-8528-7659584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F76A-0D73-4F5F-886E-115B4F94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D02B-7FC2-4199-913E-E799223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698BB-7513-4F0B-A44C-8AF4E2F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ABF2-9147-44DC-BAEF-9BFC1F7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7624-74DB-4E2F-A3D0-F0354B91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036F-D4C3-4605-8952-23201358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EB9A-6B10-4EC6-9C5B-BD46A352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91D-72A2-4481-B4F6-F529D3BCE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BFAF-1D4C-41AB-9803-9A2E9EF89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9B3-DCE6-4D2C-BDB3-C13770F2641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1DCB-2A0D-4778-B31A-282B1ED8BF1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B69-177F-4B1E-BDAE-985A77CCA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46C-15DD-4813-8B31-286CD7B46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4C28-6A96-4F9A-91DB-3478776AE8B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1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FE70-5451-4861-8E8D-3AE81E6CC72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9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02&#38378;&#33394;.WAV" TargetMode="External"/><Relationship Id="rId3" Type="http://schemas.microsoft.com/office/2007/relationships/media" Target="file:///tmp/home/.config/libreoffice/4/user/gallery/02&#38378;&#33394;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01&#21974;.WAV"/><Relationship Id="rId3" Type="http://schemas.openxmlformats.org/officeDocument/2006/relationships/audio" Target="../media/01&#21974;.WAV"/><Relationship Id="rId4" Type="http://schemas.openxmlformats.org/officeDocument/2006/relationships/audio" Target="../media/01&#21974;.WAV"/><Relationship Id="rId5" Type="http://schemas.openxmlformats.org/officeDocument/2006/relationships/audio" Target="../media/01&#21974;.WAV"/><Relationship Id="rId6" Type="http://schemas.openxmlformats.org/officeDocument/2006/relationships/audio" Target="../media/01&#21974;.WAV"/><Relationship Id="rId7" Type="http://schemas.openxmlformats.org/officeDocument/2006/relationships/audio" Target="../media/01&#21974;.WAV"/><Relationship Id="rId8" Type="http://schemas.openxmlformats.org/officeDocument/2006/relationships/audio" Target="../media/01&#21974;.WAV"/><Relationship Id="rId9" Type="http://schemas.openxmlformats.org/officeDocument/2006/relationships/audio" Target="../media/01&#21974;.WAV"/><Relationship Id="rId10" Type="http://schemas.openxmlformats.org/officeDocument/2006/relationships/audio" Target="../media/01&#21974;.WAV"/><Relationship Id="rId11" Type="http://schemas.openxmlformats.org/officeDocument/2006/relationships/audio" Target="../media/01&#21974;.WAV"/><Relationship Id="rId1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2&#22047;.WAV"/><Relationship Id="rId8" Type="http://schemas.openxmlformats.org/officeDocument/2006/relationships/audio" Target="../media/2&#22047;.WAV"/><Relationship Id="rId9" Type="http://schemas.openxmlformats.org/officeDocument/2006/relationships/audio" Target="../media/2&#22047;.WAV"/><Relationship Id="rId10" Type="http://schemas.openxmlformats.org/officeDocument/2006/relationships/audio" Target="../media/2&#22047;.WAV"/><Relationship Id="rId11" Type="http://schemas.openxmlformats.org/officeDocument/2006/relationships/audio" Target="../media/2&#22047;.WAV"/><Relationship Id="rId12" Type="http://schemas.openxmlformats.org/officeDocument/2006/relationships/audio" Target="../media/2&#22047;.WAV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01&#25353;&#38062;.WAV"/><Relationship Id="rId2" Type="http://schemas.openxmlformats.org/officeDocument/2006/relationships/audio" Target="../media/01&#25353;&#38062;.WAV"/><Relationship Id="rId3" Type="http://schemas.openxmlformats.org/officeDocument/2006/relationships/audio" Target="../media/01&#25353;&#38062;.WAV"/><Relationship Id="rId4" Type="http://schemas.openxmlformats.org/officeDocument/2006/relationships/audio" Target="../media/01&#25353;&#38062;.WAV"/><Relationship Id="rId5" Type="http://schemas.openxmlformats.org/officeDocument/2006/relationships/audio" Target="../media/01&#25353;&#38062;.WAV"/><Relationship Id="rId6" Type="http://schemas.openxmlformats.org/officeDocument/2006/relationships/audio" Target="../media/01&#25353;&#38062;.WAV"/><Relationship Id="rId7" Type="http://schemas.openxmlformats.org/officeDocument/2006/relationships/audio" Target="../media/01&#25353;&#38062;.WAV"/><Relationship Id="rId8" Type="http://schemas.openxmlformats.org/officeDocument/2006/relationships/audio" Target="../media/01&#25353;&#38062;.WAV"/><Relationship Id="rId9" Type="http://schemas.openxmlformats.org/officeDocument/2006/relationships/audio" Target="../media/01&#25353;&#38062;.WAV"/><Relationship Id="rId10" Type="http://schemas.openxmlformats.org/officeDocument/2006/relationships/audio" Target="../media/01&#25353;&#38062;.WAV"/><Relationship Id="rId11" Type="http://schemas.openxmlformats.org/officeDocument/2006/relationships/audio" Target="../media/01&#25353;&#38062;.WAV"/><Relationship Id="rId12" Type="http://schemas.openxmlformats.org/officeDocument/2006/relationships/audio" Target="../media/01&#25353;&#38062;.WAV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02&#38378;&#33394;.WAV"/><Relationship Id="rId3" Type="http://schemas.openxmlformats.org/officeDocument/2006/relationships/audio" Target="../media/06&#38378;&#33394;.WAV"/><Relationship Id="rId4" Type="http://schemas.openxmlformats.org/officeDocument/2006/relationships/audio" Target="../media/02&#38378;&#33394;.WAV"/><Relationship Id="rId5" Type="http://schemas.openxmlformats.org/officeDocument/2006/relationships/audio" Target="../media/06&#38378;&#33394;.WAV"/><Relationship Id="rId6" Type="http://schemas.openxmlformats.org/officeDocument/2006/relationships/audio" Target="../media/02&#38378;&#33394;.WAV"/><Relationship Id="rId7" Type="http://schemas.openxmlformats.org/officeDocument/2006/relationships/audio" Target="../media/06&#38378;&#33394;.WAV"/><Relationship Id="rId8" Type="http://schemas.openxmlformats.org/officeDocument/2006/relationships/audio" Target="../media/02&#38378;&#33394;.WAV"/><Relationship Id="rId9" Type="http://schemas.openxmlformats.org/officeDocument/2006/relationships/audio" Target="../media/06&#38378;&#33394;.WAV"/><Relationship Id="rId10" Type="http://schemas.openxmlformats.org/officeDocument/2006/relationships/audio" Target="../media/06&#38378;&#33394;.WAV"/><Relationship Id="rId11" Type="http://schemas.openxmlformats.org/officeDocument/2006/relationships/audio" Target="../media/06&#38378;&#33394;.WAV"/><Relationship Id="rId1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02&#38378;&#33394;.WAV"/><Relationship Id="rId3" Type="http://schemas.openxmlformats.org/officeDocument/2006/relationships/audio" Target="../media/02&#38378;&#33394;.WAV"/><Relationship Id="rId4" Type="http://schemas.openxmlformats.org/officeDocument/2006/relationships/audio" Target="../media/02&#38378;&#33394;.WAV"/><Relationship Id="rId5" Type="http://schemas.openxmlformats.org/officeDocument/2006/relationships/audio" Target="../media/02&#38378;&#33394;.WAV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1&#27700;&#28404;.WAV"/><Relationship Id="rId3" Type="http://schemas.openxmlformats.org/officeDocument/2006/relationships/audio" Target="../media/1&#27700;&#28404;.WAV"/><Relationship Id="rId4" Type="http://schemas.openxmlformats.org/officeDocument/2006/relationships/audio" Target="../media/01&#25353;&#38062;.WAV"/><Relationship Id="rId5" Type="http://schemas.openxmlformats.org/officeDocument/2006/relationships/audio" Target="../media/02&#38378;&#33394;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619280" y="1413000"/>
            <a:ext cx="619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方正姚体"/>
              </a:rPr>
              <a:t>分数与小数的互化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4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638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24120" y="10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把下面的分数化成小数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902880" y="2433600"/>
            <a:ext cx="1026720" cy="1068840"/>
            <a:chOff x="902880" y="2433600"/>
            <a:chExt cx="1026720" cy="1068840"/>
          </a:xfrm>
        </p:grpSpPr>
        <p:sp>
          <p:nvSpPr>
            <p:cNvPr id="674" name=""/>
            <p:cNvSpPr/>
            <p:nvPr/>
          </p:nvSpPr>
          <p:spPr>
            <a:xfrm>
              <a:off x="902880" y="2433600"/>
              <a:ext cx="102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3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44000" y="2925720"/>
              <a:ext cx="72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366640" y="2419200"/>
            <a:ext cx="744480" cy="1068840"/>
            <a:chOff x="2366640" y="2419200"/>
            <a:chExt cx="744480" cy="1068840"/>
          </a:xfrm>
        </p:grpSpPr>
        <p:sp>
          <p:nvSpPr>
            <p:cNvPr id="677" name=""/>
            <p:cNvSpPr/>
            <p:nvPr/>
          </p:nvSpPr>
          <p:spPr>
            <a:xfrm>
              <a:off x="2366640" y="24192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71400" y="29113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664440" y="2433600"/>
            <a:ext cx="1297440" cy="1068840"/>
            <a:chOff x="3664440" y="2433600"/>
            <a:chExt cx="1297440" cy="1068840"/>
          </a:xfrm>
        </p:grpSpPr>
        <p:grpSp>
          <p:nvGrpSpPr>
            <p:cNvPr id="680" name=""/>
            <p:cNvGrpSpPr/>
            <p:nvPr/>
          </p:nvGrpSpPr>
          <p:grpSpPr>
            <a:xfrm>
              <a:off x="3934080" y="2433600"/>
              <a:ext cx="1027800" cy="1068840"/>
              <a:chOff x="3934080" y="2433600"/>
              <a:chExt cx="1027800" cy="1068840"/>
            </a:xfrm>
          </p:grpSpPr>
          <p:sp>
            <p:nvSpPr>
              <p:cNvPr id="681" name=""/>
              <p:cNvSpPr/>
              <p:nvPr/>
            </p:nvSpPr>
            <p:spPr>
              <a:xfrm>
                <a:off x="3934080" y="2433600"/>
                <a:ext cx="1027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98600" y="2925720"/>
                <a:ext cx="83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3664440" y="25779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5464800" y="2419200"/>
            <a:ext cx="1636200" cy="1068840"/>
            <a:chOff x="5464800" y="2419200"/>
            <a:chExt cx="1636200" cy="1068840"/>
          </a:xfrm>
        </p:grpSpPr>
        <p:grpSp>
          <p:nvGrpSpPr>
            <p:cNvPr id="685" name=""/>
            <p:cNvGrpSpPr/>
            <p:nvPr/>
          </p:nvGrpSpPr>
          <p:grpSpPr>
            <a:xfrm>
              <a:off x="5792400" y="2419200"/>
              <a:ext cx="1308600" cy="1068840"/>
              <a:chOff x="5792400" y="2419200"/>
              <a:chExt cx="1308600" cy="1068840"/>
            </a:xfrm>
          </p:grpSpPr>
          <p:sp>
            <p:nvSpPr>
              <p:cNvPr id="686" name=""/>
              <p:cNvSpPr/>
              <p:nvPr/>
            </p:nvSpPr>
            <p:spPr>
              <a:xfrm>
                <a:off x="5792400" y="2419200"/>
                <a:ext cx="1308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89320" y="2911320"/>
                <a:ext cx="1003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5464800" y="256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826920" y="404640"/>
            <a:ext cx="6559200" cy="1579320"/>
            <a:chOff x="826920" y="404640"/>
            <a:chExt cx="6559200" cy="1579320"/>
          </a:xfrm>
        </p:grpSpPr>
        <p:sp>
          <p:nvSpPr>
            <p:cNvPr id="691" name=""/>
            <p:cNvSpPr/>
            <p:nvPr/>
          </p:nvSpPr>
          <p:spPr>
            <a:xfrm>
              <a:off x="826920" y="549360"/>
              <a:ext cx="1151280" cy="71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1840" y="593640"/>
              <a:ext cx="427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把   、   、   、  、   化成小数</a:t>
              </a: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2486520" y="404640"/>
              <a:ext cx="462600" cy="1068840"/>
              <a:chOff x="2486520" y="404640"/>
              <a:chExt cx="462600" cy="1068840"/>
            </a:xfrm>
          </p:grpSpPr>
          <p:sp>
            <p:nvSpPr>
              <p:cNvPr id="694" name=""/>
              <p:cNvSpPr/>
              <p:nvPr/>
            </p:nvSpPr>
            <p:spPr>
              <a:xfrm>
                <a:off x="2486520" y="404640"/>
                <a:ext cx="462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56000" y="896760"/>
                <a:ext cx="360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3105000" y="404640"/>
              <a:ext cx="744480" cy="1068840"/>
              <a:chOff x="3105000" y="404640"/>
              <a:chExt cx="744480" cy="1068840"/>
            </a:xfrm>
          </p:grpSpPr>
          <p:sp>
            <p:nvSpPr>
              <p:cNvPr id="697" name=""/>
              <p:cNvSpPr/>
              <p:nvPr/>
            </p:nvSpPr>
            <p:spPr>
              <a:xfrm>
                <a:off x="310500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7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06520" y="896760"/>
                <a:ext cx="518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3927240" y="404640"/>
              <a:ext cx="744480" cy="1068840"/>
              <a:chOff x="3927240" y="404640"/>
              <a:chExt cx="744480" cy="1068840"/>
            </a:xfrm>
          </p:grpSpPr>
          <p:sp>
            <p:nvSpPr>
              <p:cNvPr id="700" name=""/>
              <p:cNvSpPr/>
              <p:nvPr/>
            </p:nvSpPr>
            <p:spPr>
              <a:xfrm>
                <a:off x="392724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4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27320" y="896760"/>
                <a:ext cx="519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4905720" y="404640"/>
              <a:ext cx="462600" cy="1068840"/>
              <a:chOff x="4905720" y="404640"/>
              <a:chExt cx="462600" cy="1068840"/>
            </a:xfrm>
          </p:grpSpPr>
          <p:sp>
            <p:nvSpPr>
              <p:cNvPr id="703" name=""/>
              <p:cNvSpPr/>
              <p:nvPr/>
            </p:nvSpPr>
            <p:spPr>
              <a:xfrm>
                <a:off x="4905720" y="404640"/>
                <a:ext cx="462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79880" y="896760"/>
                <a:ext cx="383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511600" y="417600"/>
              <a:ext cx="744480" cy="1068840"/>
              <a:chOff x="5511600" y="417600"/>
              <a:chExt cx="744480" cy="1068840"/>
            </a:xfrm>
          </p:grpSpPr>
          <p:sp>
            <p:nvSpPr>
              <p:cNvPr id="706" name=""/>
              <p:cNvSpPr/>
              <p:nvPr/>
            </p:nvSpPr>
            <p:spPr>
              <a:xfrm>
                <a:off x="5511600" y="41760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4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611680" y="909720"/>
                <a:ext cx="519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2891520" y="1341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（除不尽的保留三位小数。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722960" y="2781360"/>
            <a:ext cx="63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母不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0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分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小数，要用分母去除分子；除不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可以根据需要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舍五入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位小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30400" y="404640"/>
            <a:ext cx="44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把下面的分数化成小数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973440" y="1209600"/>
            <a:ext cx="462600" cy="1068840"/>
            <a:chOff x="973440" y="1209600"/>
            <a:chExt cx="462600" cy="1068840"/>
          </a:xfrm>
        </p:grpSpPr>
        <p:sp>
          <p:nvSpPr>
            <p:cNvPr id="713" name=""/>
            <p:cNvSpPr/>
            <p:nvPr/>
          </p:nvSpPr>
          <p:spPr>
            <a:xfrm>
              <a:off x="973440" y="12096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43280" y="17017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973440" y="2421000"/>
            <a:ext cx="462600" cy="1068840"/>
            <a:chOff x="973440" y="2421000"/>
            <a:chExt cx="462600" cy="1068840"/>
          </a:xfrm>
        </p:grpSpPr>
        <p:sp>
          <p:nvSpPr>
            <p:cNvPr id="716" name=""/>
            <p:cNvSpPr/>
            <p:nvPr/>
          </p:nvSpPr>
          <p:spPr>
            <a:xfrm>
              <a:off x="9734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2920" y="2913120"/>
              <a:ext cx="360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554440" y="1197000"/>
            <a:ext cx="744480" cy="1068840"/>
            <a:chOff x="5554440" y="1197000"/>
            <a:chExt cx="744480" cy="1068840"/>
          </a:xfrm>
        </p:grpSpPr>
        <p:sp>
          <p:nvSpPr>
            <p:cNvPr id="719" name=""/>
            <p:cNvSpPr/>
            <p:nvPr/>
          </p:nvSpPr>
          <p:spPr>
            <a:xfrm>
              <a:off x="5554440" y="1197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72160" y="168912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890640" y="5013360"/>
            <a:ext cx="462600" cy="1068840"/>
            <a:chOff x="890640" y="5013360"/>
            <a:chExt cx="462600" cy="1068840"/>
          </a:xfrm>
        </p:grpSpPr>
        <p:sp>
          <p:nvSpPr>
            <p:cNvPr id="722" name=""/>
            <p:cNvSpPr/>
            <p:nvPr/>
          </p:nvSpPr>
          <p:spPr>
            <a:xfrm>
              <a:off x="890640" y="50133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60480" y="55054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268800" y="5025960"/>
            <a:ext cx="462600" cy="1068840"/>
            <a:chOff x="3268800" y="5025960"/>
            <a:chExt cx="462600" cy="1068840"/>
          </a:xfrm>
        </p:grpSpPr>
        <p:sp>
          <p:nvSpPr>
            <p:cNvPr id="725" name=""/>
            <p:cNvSpPr/>
            <p:nvPr/>
          </p:nvSpPr>
          <p:spPr>
            <a:xfrm>
              <a:off x="3268800" y="50259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38640" y="55180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272040" y="3730680"/>
            <a:ext cx="462600" cy="1068840"/>
            <a:chOff x="3272040" y="3730680"/>
            <a:chExt cx="462600" cy="1068840"/>
          </a:xfrm>
        </p:grpSpPr>
        <p:sp>
          <p:nvSpPr>
            <p:cNvPr id="728" name=""/>
            <p:cNvSpPr/>
            <p:nvPr/>
          </p:nvSpPr>
          <p:spPr>
            <a:xfrm>
              <a:off x="32720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418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272040" y="2421000"/>
            <a:ext cx="462600" cy="1068840"/>
            <a:chOff x="3272040" y="2421000"/>
            <a:chExt cx="462600" cy="1068840"/>
          </a:xfrm>
        </p:grpSpPr>
        <p:sp>
          <p:nvSpPr>
            <p:cNvPr id="731" name=""/>
            <p:cNvSpPr/>
            <p:nvPr/>
          </p:nvSpPr>
          <p:spPr>
            <a:xfrm>
              <a:off x="32720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41880" y="29131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211560" y="1270080"/>
            <a:ext cx="462600" cy="1068840"/>
            <a:chOff x="3211560" y="1270080"/>
            <a:chExt cx="462600" cy="1068840"/>
          </a:xfrm>
        </p:grpSpPr>
        <p:sp>
          <p:nvSpPr>
            <p:cNvPr id="734" name=""/>
            <p:cNvSpPr/>
            <p:nvPr/>
          </p:nvSpPr>
          <p:spPr>
            <a:xfrm>
              <a:off x="3211560" y="12700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81400" y="17622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973440" y="3730680"/>
            <a:ext cx="462600" cy="1068840"/>
            <a:chOff x="973440" y="3730680"/>
            <a:chExt cx="462600" cy="1068840"/>
          </a:xfrm>
        </p:grpSpPr>
        <p:sp>
          <p:nvSpPr>
            <p:cNvPr id="737" name=""/>
            <p:cNvSpPr/>
            <p:nvPr/>
          </p:nvSpPr>
          <p:spPr>
            <a:xfrm>
              <a:off x="9734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32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610240" y="2565360"/>
            <a:ext cx="744480" cy="1068840"/>
            <a:chOff x="5610240" y="2565360"/>
            <a:chExt cx="744480" cy="1068840"/>
          </a:xfrm>
        </p:grpSpPr>
        <p:sp>
          <p:nvSpPr>
            <p:cNvPr id="740" name=""/>
            <p:cNvSpPr/>
            <p:nvPr/>
          </p:nvSpPr>
          <p:spPr>
            <a:xfrm>
              <a:off x="5610240" y="256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27960" y="305748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333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33080" y="2565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33080" y="3860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65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32040" y="2565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632040" y="3867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22680" y="51688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50280" y="515772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1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24040" y="1341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57520" y="2709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0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1546560" y="1004760"/>
            <a:ext cx="5744160" cy="2397600"/>
            <a:chOff x="1546560" y="1004760"/>
            <a:chExt cx="5744160" cy="2397600"/>
          </a:xfrm>
        </p:grpSpPr>
        <p:sp>
          <p:nvSpPr>
            <p:cNvPr id="463" name=""/>
            <p:cNvSpPr/>
            <p:nvPr/>
          </p:nvSpPr>
          <p:spPr>
            <a:xfrm>
              <a:off x="1546560" y="1004760"/>
              <a:ext cx="574416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00ffcc"/>
                  </a:solidFill>
                  <a:latin typeface="Arial"/>
                </a:rPr>
                <a:t>有两位同学进行登山比赛，从山下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cc"/>
                  </a:solidFill>
                  <a:latin typeface="Arial"/>
                </a:rPr>
                <a:t>山顶，甲用了     时，乙用了</a:t>
              </a:r>
              <a:r>
                <a:rPr b="1" lang="zh-CN" sz="3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r>
                <a:rPr b="1" lang="zh-CN" sz="3600" spc="-1" strike="noStrike">
                  <a:solidFill>
                    <a:srgbClr val="00ffcc"/>
                  </a:solidFill>
                  <a:latin typeface="Arial"/>
                </a:rPr>
                <a:t>时，哪位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ffcc"/>
                  </a:solidFill>
                  <a:latin typeface="Arial"/>
                </a:rPr>
                <a:t>同学登得快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133800" y="1844640"/>
              <a:ext cx="462600" cy="947160"/>
              <a:chOff x="3133800" y="1844640"/>
              <a:chExt cx="462600" cy="947160"/>
            </a:xfrm>
          </p:grpSpPr>
          <p:sp>
            <p:nvSpPr>
              <p:cNvPr id="465" name=""/>
              <p:cNvSpPr/>
              <p:nvPr/>
            </p:nvSpPr>
            <p:spPr>
              <a:xfrm>
                <a:off x="3133800" y="1844640"/>
                <a:ext cx="46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03280" y="2276280"/>
                <a:ext cx="360360" cy="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1478160" y="3922560"/>
            <a:ext cx="2039400" cy="947160"/>
            <a:chOff x="1478160" y="3922560"/>
            <a:chExt cx="2039400" cy="947160"/>
          </a:xfrm>
        </p:grpSpPr>
        <p:grpSp>
          <p:nvGrpSpPr>
            <p:cNvPr id="468" name=""/>
            <p:cNvGrpSpPr/>
            <p:nvPr/>
          </p:nvGrpSpPr>
          <p:grpSpPr>
            <a:xfrm>
              <a:off x="1478160" y="3922560"/>
              <a:ext cx="462600" cy="947160"/>
              <a:chOff x="1478160" y="3922560"/>
              <a:chExt cx="462600" cy="947160"/>
            </a:xfrm>
          </p:grpSpPr>
          <p:sp>
            <p:nvSpPr>
              <p:cNvPr id="469" name=""/>
              <p:cNvSpPr/>
              <p:nvPr/>
            </p:nvSpPr>
            <p:spPr>
              <a:xfrm>
                <a:off x="1478160" y="3922560"/>
                <a:ext cx="46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47640" y="4354200"/>
                <a:ext cx="360360" cy="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052360" y="4137120"/>
              <a:ext cx="504360" cy="50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01440" y="406548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78520" y="3933720"/>
            <a:ext cx="2051280" cy="947160"/>
            <a:chOff x="5078520" y="3933720"/>
            <a:chExt cx="2051280" cy="947160"/>
          </a:xfrm>
        </p:grpSpPr>
        <p:grpSp>
          <p:nvGrpSpPr>
            <p:cNvPr id="474" name=""/>
            <p:cNvGrpSpPr/>
            <p:nvPr/>
          </p:nvGrpSpPr>
          <p:grpSpPr>
            <a:xfrm>
              <a:off x="5078520" y="3933720"/>
              <a:ext cx="462600" cy="947160"/>
              <a:chOff x="5078520" y="3933720"/>
              <a:chExt cx="462600" cy="947160"/>
            </a:xfrm>
          </p:grpSpPr>
          <p:sp>
            <p:nvSpPr>
              <p:cNvPr id="475" name=""/>
              <p:cNvSpPr/>
              <p:nvPr/>
            </p:nvSpPr>
            <p:spPr>
              <a:xfrm>
                <a:off x="5078520" y="3933720"/>
                <a:ext cx="46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cc"/>
                    </a:solidFill>
                    <a:latin typeface="Arial"/>
                  </a:rPr>
                  <a:t>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148000" y="4365360"/>
                <a:ext cx="360360" cy="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5533200" y="402264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cc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59160" y="400536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cc"/>
                  </a:solidFill>
                  <a:latin typeface="Arial"/>
                </a:rPr>
                <a:t>1.56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165960" y="1366920"/>
            <a:ext cx="7905600" cy="3320280"/>
            <a:chOff x="165960" y="1366920"/>
            <a:chExt cx="7905600" cy="3320280"/>
          </a:xfrm>
        </p:grpSpPr>
        <p:grpSp>
          <p:nvGrpSpPr>
            <p:cNvPr id="480" name=""/>
            <p:cNvGrpSpPr/>
            <p:nvPr/>
          </p:nvGrpSpPr>
          <p:grpSpPr>
            <a:xfrm>
              <a:off x="395280" y="1844640"/>
              <a:ext cx="2190600" cy="1409760"/>
              <a:chOff x="395280" y="1844640"/>
              <a:chExt cx="2190600" cy="140976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395280" y="1844640"/>
              <a:ext cx="2190600" cy="1409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5280" y="1844640"/>
                        <a:ext cx="2190600" cy="140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83" name=""/>
              <p:cNvGrpSpPr/>
              <p:nvPr/>
            </p:nvGrpSpPr>
            <p:grpSpPr>
              <a:xfrm>
                <a:off x="425160" y="1855800"/>
                <a:ext cx="2160360" cy="1368360"/>
                <a:chOff x="425160" y="1855800"/>
                <a:chExt cx="2160360" cy="13683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5160" y="1855800"/>
                  <a:ext cx="2160360" cy="13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4224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5824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73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89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505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721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37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153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369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203640" y="1413000"/>
              <a:ext cx="1914480" cy="1895400"/>
              <a:chOff x="3203640" y="1413000"/>
              <a:chExt cx="1914480" cy="1895400"/>
            </a:xfrm>
          </p:grpSpPr>
          <p:graphicFrame>
            <p:nvGraphicFramePr>
              <p:cNvPr id="495" name=""/>
              <p:cNvGraphicFramePr/>
              <p:nvPr/>
            </p:nvGraphicFramePr>
            <p:xfrm>
              <a:off x="3203640" y="1413000"/>
              <a:ext cx="1914480" cy="1895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03640" y="1413000"/>
                        <a:ext cx="1914480" cy="189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97" name=""/>
              <p:cNvGrpSpPr/>
              <p:nvPr/>
            </p:nvGrpSpPr>
            <p:grpSpPr>
              <a:xfrm>
                <a:off x="3218040" y="1414440"/>
                <a:ext cx="1871640" cy="1871640"/>
                <a:chOff x="3218040" y="1414440"/>
                <a:chExt cx="1871640" cy="187164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3218040" y="1414440"/>
                  <a:ext cx="1871640" cy="1871640"/>
                  <a:chOff x="3218040" y="1414440"/>
                  <a:chExt cx="1871640" cy="18716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218040" y="1414440"/>
                    <a:ext cx="1871640" cy="1871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218040" y="160128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3218040" y="17881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3218040" y="19753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218040" y="21625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218040" y="23493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218040" y="25365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218040" y="27237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218040" y="291060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218040" y="309744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" name=""/>
                <p:cNvSpPr/>
                <p:nvPr/>
              </p:nvSpPr>
              <p:spPr>
                <a:xfrm>
                  <a:off x="340488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5917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789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9661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1529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3401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273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71420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90104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5856120" y="1366920"/>
              <a:ext cx="2028960" cy="2133360"/>
              <a:chOff x="5856120" y="1366920"/>
              <a:chExt cx="2028960" cy="2133360"/>
            </a:xfrm>
          </p:grpSpPr>
          <p:graphicFrame>
            <p:nvGraphicFramePr>
              <p:cNvPr id="519" name=""/>
              <p:cNvGraphicFramePr/>
              <p:nvPr/>
            </p:nvGraphicFramePr>
            <p:xfrm>
              <a:off x="5856120" y="1366920"/>
              <a:ext cx="2028960" cy="2133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2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56120" y="1366920"/>
                        <a:ext cx="2028960" cy="21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21" name=""/>
              <p:cNvGrpSpPr/>
              <p:nvPr/>
            </p:nvGrpSpPr>
            <p:grpSpPr>
              <a:xfrm>
                <a:off x="5868720" y="1484280"/>
                <a:ext cx="1944720" cy="1944360"/>
                <a:chOff x="5868720" y="1484280"/>
                <a:chExt cx="1944720" cy="19443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68720" y="1484280"/>
                  <a:ext cx="1944720" cy="194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6516360" y="1557000"/>
                  <a:ext cx="649080" cy="179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89440" y="1557000"/>
                  <a:ext cx="503280" cy="179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6084360" y="1915560"/>
                  <a:ext cx="1584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868720" y="2491920"/>
                  <a:ext cx="19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086520" y="1915560"/>
                  <a:ext cx="1511280" cy="115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165960" y="3684600"/>
              <a:ext cx="2433240" cy="970920"/>
              <a:chOff x="165960" y="3684600"/>
              <a:chExt cx="2433240" cy="970920"/>
            </a:xfrm>
          </p:grpSpPr>
          <p:sp>
            <p:nvSpPr>
              <p:cNvPr id="529" name=""/>
              <p:cNvSpPr/>
              <p:nvPr/>
            </p:nvSpPr>
            <p:spPr>
              <a:xfrm>
                <a:off x="165960" y="368460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)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47640" y="413064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903040" y="3716280"/>
              <a:ext cx="2433240" cy="970920"/>
              <a:chOff x="2903040" y="3716280"/>
              <a:chExt cx="2433240" cy="970920"/>
            </a:xfrm>
          </p:grpSpPr>
          <p:sp>
            <p:nvSpPr>
              <p:cNvPr id="532" name=""/>
              <p:cNvSpPr/>
              <p:nvPr/>
            </p:nvSpPr>
            <p:spPr>
              <a:xfrm>
                <a:off x="2903040" y="371628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)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284720" y="416232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5638320" y="3716280"/>
              <a:ext cx="2433240" cy="970920"/>
              <a:chOff x="5638320" y="3716280"/>
              <a:chExt cx="2433240" cy="970920"/>
            </a:xfrm>
          </p:grpSpPr>
          <p:sp>
            <p:nvSpPr>
              <p:cNvPr id="535" name=""/>
              <p:cNvSpPr/>
              <p:nvPr/>
            </p:nvSpPr>
            <p:spPr>
              <a:xfrm>
                <a:off x="5638320" y="371628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)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(          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20000" y="416232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298440" y="38671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50160" y="345132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89080" y="39099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25800" y="3860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42880" y="350028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950880" y="348624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70760" y="5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用小数和分数表示下面每个图中的涂色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24784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20880" y="189000"/>
            <a:ext cx="536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里面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（       ）分之一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表示（        ）分之（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8200" y="1414440"/>
            <a:ext cx="55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0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里面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（       ）分之一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表示（        ）分之（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6800" y="2722680"/>
            <a:ext cx="60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0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里面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（       ）分之一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表示（        ）分之（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7040" y="4162320"/>
            <a:ext cx="55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表示（        ）又（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之（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88880" y="115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361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5868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3794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37960" y="1846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58680" y="1846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11040" y="263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37960" y="32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11520" y="3168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9832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6192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53120" y="46083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十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6920" y="476280"/>
            <a:ext cx="1151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50640" y="260280"/>
            <a:ext cx="58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0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4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成分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20720" y="185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62200" y="184464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十分之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627280" y="1628640"/>
            <a:ext cx="1079280" cy="1020240"/>
            <a:chOff x="2627280" y="1628640"/>
            <a:chExt cx="1079280" cy="1020240"/>
          </a:xfrm>
        </p:grpSpPr>
        <p:sp>
          <p:nvSpPr>
            <p:cNvPr id="567" name=""/>
            <p:cNvSpPr/>
            <p:nvPr/>
          </p:nvSpPr>
          <p:spPr>
            <a:xfrm>
              <a:off x="2627280" y="1628640"/>
              <a:ext cx="107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30240" y="2120760"/>
              <a:ext cx="5187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20360" y="2852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0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33840" y="290988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.0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百分之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843280" y="2637000"/>
            <a:ext cx="1439280" cy="1020240"/>
            <a:chOff x="2843280" y="2637000"/>
            <a:chExt cx="1439280" cy="1020240"/>
          </a:xfrm>
        </p:grpSpPr>
        <p:sp>
          <p:nvSpPr>
            <p:cNvPr id="572" name=""/>
            <p:cNvSpPr/>
            <p:nvPr/>
          </p:nvSpPr>
          <p:spPr>
            <a:xfrm>
              <a:off x="2843280" y="263700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80800" y="3129120"/>
              <a:ext cx="691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648800" y="37958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21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73560" y="3716280"/>
            <a:ext cx="18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2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一又百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二十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059280" y="3633840"/>
            <a:ext cx="1439280" cy="1020240"/>
            <a:chOff x="3059280" y="3633840"/>
            <a:chExt cx="1439280" cy="1020240"/>
          </a:xfrm>
        </p:grpSpPr>
        <p:sp>
          <p:nvSpPr>
            <p:cNvPr id="577" name=""/>
            <p:cNvSpPr/>
            <p:nvPr/>
          </p:nvSpPr>
          <p:spPr>
            <a:xfrm>
              <a:off x="3059280" y="363384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2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96800" y="4125960"/>
              <a:ext cx="691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772000" y="3738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81920" y="49323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425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06720" y="4869000"/>
            <a:ext cx="25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.42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千分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百二十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987640" y="4724280"/>
            <a:ext cx="1799640" cy="1020240"/>
            <a:chOff x="2987640" y="4724280"/>
            <a:chExt cx="1799640" cy="1020240"/>
          </a:xfrm>
        </p:grpSpPr>
        <p:sp>
          <p:nvSpPr>
            <p:cNvPr id="583" name=""/>
            <p:cNvSpPr/>
            <p:nvPr/>
          </p:nvSpPr>
          <p:spPr>
            <a:xfrm>
              <a:off x="2987640" y="4724280"/>
              <a:ext cx="179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425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59360" y="5216400"/>
              <a:ext cx="865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322520" y="4653000"/>
            <a:ext cx="744480" cy="1068840"/>
            <a:chOff x="4322520" y="4653000"/>
            <a:chExt cx="744480" cy="1068840"/>
          </a:xfrm>
        </p:grpSpPr>
        <p:sp>
          <p:nvSpPr>
            <p:cNvPr id="586" name=""/>
            <p:cNvSpPr/>
            <p:nvPr/>
          </p:nvSpPr>
          <p:spPr>
            <a:xfrm>
              <a:off x="4322520" y="4653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7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27280" y="51451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962520" y="4875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786320" y="333360"/>
            <a:ext cx="460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请你观察例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中的题目，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小数化分数有什么简便的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85800" y="20667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92360" y="1844640"/>
            <a:ext cx="1079280" cy="1020240"/>
            <a:chOff x="3492360" y="1844640"/>
            <a:chExt cx="1079280" cy="1020240"/>
          </a:xfrm>
        </p:grpSpPr>
        <p:sp>
          <p:nvSpPr>
            <p:cNvPr id="593" name=""/>
            <p:cNvSpPr/>
            <p:nvPr/>
          </p:nvSpPr>
          <p:spPr>
            <a:xfrm>
              <a:off x="3492360" y="1844640"/>
              <a:ext cx="107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95320" y="2336760"/>
              <a:ext cx="5187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485440" y="306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0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708360" y="2852640"/>
            <a:ext cx="1439640" cy="1020240"/>
            <a:chOff x="3708360" y="2852640"/>
            <a:chExt cx="1439640" cy="1020240"/>
          </a:xfrm>
        </p:grpSpPr>
        <p:sp>
          <p:nvSpPr>
            <p:cNvPr id="597" name=""/>
            <p:cNvSpPr/>
            <p:nvPr/>
          </p:nvSpPr>
          <p:spPr>
            <a:xfrm>
              <a:off x="3708360" y="2852640"/>
              <a:ext cx="143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45880" y="3344760"/>
              <a:ext cx="691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485440" y="4005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21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924360" y="3849840"/>
            <a:ext cx="1439280" cy="1020240"/>
            <a:chOff x="3924360" y="3849840"/>
            <a:chExt cx="1439280" cy="1020240"/>
          </a:xfrm>
        </p:grpSpPr>
        <p:sp>
          <p:nvSpPr>
            <p:cNvPr id="601" name=""/>
            <p:cNvSpPr/>
            <p:nvPr/>
          </p:nvSpPr>
          <p:spPr>
            <a:xfrm>
              <a:off x="3924360" y="384984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2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61880" y="4341960"/>
              <a:ext cx="691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637440" y="3954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47360" y="51483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.425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52720" y="4940280"/>
            <a:ext cx="1799640" cy="1020240"/>
            <a:chOff x="3852720" y="4940280"/>
            <a:chExt cx="1799640" cy="1020240"/>
          </a:xfrm>
        </p:grpSpPr>
        <p:sp>
          <p:nvSpPr>
            <p:cNvPr id="606" name=""/>
            <p:cNvSpPr/>
            <p:nvPr/>
          </p:nvSpPr>
          <p:spPr>
            <a:xfrm>
              <a:off x="3852720" y="4940280"/>
              <a:ext cx="179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425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24440" y="5432400"/>
              <a:ext cx="865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187960" y="4869000"/>
            <a:ext cx="744480" cy="1068840"/>
            <a:chOff x="5187960" y="4869000"/>
            <a:chExt cx="744480" cy="1068840"/>
          </a:xfrm>
        </p:grpSpPr>
        <p:sp>
          <p:nvSpPr>
            <p:cNvPr id="609" name=""/>
            <p:cNvSpPr/>
            <p:nvPr/>
          </p:nvSpPr>
          <p:spPr>
            <a:xfrm>
              <a:off x="5187960" y="4869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7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92720" y="53611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827600" y="5091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84320" y="13874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提示：用什么数作分母？用什么数作分子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637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80000" y="2852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16360" y="3645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067280" y="3789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59280" y="57340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211640" y="5877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44720" y="20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36720" y="177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3440" y="306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7080" y="2787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96360" y="48751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17080" y="51642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068360" y="37958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872800" y="4005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916360" y="458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4797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786320" y="333360"/>
            <a:ext cx="460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请你观察例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中的题目，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小数化分数有什么简便的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132640" y="2151000"/>
            <a:ext cx="54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化分数，原来有几位小数，就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面写几个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分母，把原来的小数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掉小数点作分子；化成分数后，能约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要约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26920" y="404640"/>
            <a:ext cx="6750360" cy="1068840"/>
            <a:chOff x="826920" y="404640"/>
            <a:chExt cx="6750360" cy="1068840"/>
          </a:xfrm>
        </p:grpSpPr>
        <p:sp>
          <p:nvSpPr>
            <p:cNvPr id="634" name=""/>
            <p:cNvSpPr/>
            <p:nvPr/>
          </p:nvSpPr>
          <p:spPr>
            <a:xfrm>
              <a:off x="826920" y="549360"/>
              <a:ext cx="1151280" cy="71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88640" y="593640"/>
              <a:ext cx="468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把     、      、          化成小数</a:t>
              </a: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2485800" y="404640"/>
              <a:ext cx="744480" cy="1068840"/>
              <a:chOff x="2485800" y="404640"/>
              <a:chExt cx="744480" cy="1068840"/>
            </a:xfrm>
          </p:grpSpPr>
          <p:sp>
            <p:nvSpPr>
              <p:cNvPr id="637" name=""/>
              <p:cNvSpPr/>
              <p:nvPr/>
            </p:nvSpPr>
            <p:spPr>
              <a:xfrm>
                <a:off x="248580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90560" y="896760"/>
                <a:ext cx="534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279600" y="404640"/>
              <a:ext cx="1026720" cy="1068840"/>
              <a:chOff x="3279600" y="404640"/>
              <a:chExt cx="1026720" cy="1068840"/>
            </a:xfrm>
          </p:grpSpPr>
          <p:sp>
            <p:nvSpPr>
              <p:cNvPr id="640" name=""/>
              <p:cNvSpPr/>
              <p:nvPr/>
            </p:nvSpPr>
            <p:spPr>
              <a:xfrm>
                <a:off x="3279600" y="404640"/>
                <a:ext cx="102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67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21440" y="896760"/>
                <a:ext cx="7279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02520" y="404640"/>
              <a:ext cx="1635840" cy="1068840"/>
              <a:chOff x="4502520" y="404640"/>
              <a:chExt cx="1635840" cy="106884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4829760" y="404640"/>
                <a:ext cx="1308600" cy="1068840"/>
                <a:chOff x="4829760" y="404640"/>
                <a:chExt cx="1308600" cy="10688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829760" y="404640"/>
                  <a:ext cx="1308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  </a:t>
                  </a: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49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1000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027040" y="896760"/>
                  <a:ext cx="1003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4502520" y="549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3060720" y="20667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12640" y="3940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32960" y="1989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81800" y="1995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68720" y="19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158080" y="1844640"/>
            <a:ext cx="1933200" cy="1068840"/>
            <a:chOff x="5158080" y="1844640"/>
            <a:chExt cx="1933200" cy="1068840"/>
          </a:xfrm>
        </p:grpSpPr>
        <p:grpSp>
          <p:nvGrpSpPr>
            <p:cNvPr id="653" name=""/>
            <p:cNvGrpSpPr/>
            <p:nvPr/>
          </p:nvGrpSpPr>
          <p:grpSpPr>
            <a:xfrm>
              <a:off x="5158080" y="1844640"/>
              <a:ext cx="1635840" cy="1068840"/>
              <a:chOff x="5158080" y="1844640"/>
              <a:chExt cx="1635840" cy="106884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485320" y="1844640"/>
                <a:ext cx="1308600" cy="1068840"/>
                <a:chOff x="5485320" y="1844640"/>
                <a:chExt cx="1308600" cy="10688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485320" y="1844640"/>
                  <a:ext cx="1308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  </a:t>
                  </a: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49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1000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82600" y="2336760"/>
                  <a:ext cx="1003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5158080" y="1989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6643800" y="1989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892160" y="1916280"/>
            <a:ext cx="1112760" cy="1068840"/>
            <a:chOff x="1892160" y="1916280"/>
            <a:chExt cx="1112760" cy="1068840"/>
          </a:xfrm>
        </p:grpSpPr>
        <p:grpSp>
          <p:nvGrpSpPr>
            <p:cNvPr id="660" name=""/>
            <p:cNvGrpSpPr/>
            <p:nvPr/>
          </p:nvGrpSpPr>
          <p:grpSpPr>
            <a:xfrm>
              <a:off x="1892160" y="1916280"/>
              <a:ext cx="744480" cy="1068840"/>
              <a:chOff x="1892160" y="1916280"/>
              <a:chExt cx="744480" cy="1068840"/>
            </a:xfrm>
          </p:grpSpPr>
          <p:sp>
            <p:nvSpPr>
              <p:cNvPr id="661" name=""/>
              <p:cNvSpPr/>
              <p:nvPr/>
            </p:nvSpPr>
            <p:spPr>
              <a:xfrm>
                <a:off x="1892160" y="191628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96920" y="2408400"/>
                <a:ext cx="534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2557440" y="20606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893600" y="3789360"/>
            <a:ext cx="1327320" cy="1068840"/>
            <a:chOff x="1893600" y="3789360"/>
            <a:chExt cx="1327320" cy="1068840"/>
          </a:xfrm>
        </p:grpSpPr>
        <p:grpSp>
          <p:nvGrpSpPr>
            <p:cNvPr id="665" name=""/>
            <p:cNvGrpSpPr/>
            <p:nvPr/>
          </p:nvGrpSpPr>
          <p:grpSpPr>
            <a:xfrm>
              <a:off x="1893600" y="3789360"/>
              <a:ext cx="1026720" cy="1068840"/>
              <a:chOff x="1893600" y="3789360"/>
              <a:chExt cx="1026720" cy="1068840"/>
            </a:xfrm>
          </p:grpSpPr>
          <p:sp>
            <p:nvSpPr>
              <p:cNvPr id="666" name=""/>
              <p:cNvSpPr/>
              <p:nvPr/>
            </p:nvSpPr>
            <p:spPr>
              <a:xfrm>
                <a:off x="1893600" y="3789360"/>
                <a:ext cx="102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67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1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035440" y="4281480"/>
                <a:ext cx="728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2773440" y="3933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1%E6%B0%B4%E6%BB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1%E6%B0%B4%E6%BB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1240" y="0"/>
            <a:ext cx="78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方正姚体"/>
              </a:rPr>
              <a:t>分数与小数的互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74480" y="1700280"/>
            <a:ext cx="712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母是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……的分数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，可以直接去掉分母，看分母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有几个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就在分子中从最后一位起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数出几位，点上小数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06:02:29Z</dcterms:created>
  <dc:creator>yws</dc:creator>
  <dc:description/>
  <dc:language>en-US</dc:language>
  <cp:lastModifiedBy>番茄花园</cp:lastModifiedBy>
  <dcterms:modified xsi:type="dcterms:W3CDTF">2008-01-03T08:04:33Z</dcterms:modified>
  <cp:revision>38</cp:revision>
  <dc:subject/>
  <dc:title>幻灯片 1</dc:title>
</cp:coreProperties>
</file>