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20.wmf" ContentType="image/x-wmf"/>
  <Override PartName="/ppt/media/image24.wmf" ContentType="image/x-wmf"/>
  <Override PartName="/ppt/media/image19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type.wav" ContentType="audio/x-wav"/>
  <Override PartName="/ppt/media/image14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1A7-E5CB-49F7-A538-6ACB56FA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983-49C9-4888-8F81-E040DEFD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857-BDA3-4A79-A8EC-B47A3F32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D52-2752-44E3-B3FD-65FC24AC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842D-4994-4106-A182-2762B55A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37E5-BFE5-4D01-A2A5-C18E3789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241B-C19D-4A8D-AA6B-CDB2BF5D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881E-C7C2-4D1B-8421-19C19C2F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8956-0B2E-40B4-BD2B-26D2314E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9D6-C960-4675-A4A4-E4C1F1EF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0E46-34D2-4DEB-9AB5-80D878B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984-4E54-4B89-AB6C-7B4BE107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734D-B1F0-4505-9C99-C4F38B43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09C5-4544-4EBB-92AB-7AFF4B7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F2EB-FD30-4987-93D0-A1FE7C88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6D14-123D-427B-BA1B-DA78E3DE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3D60-52F1-4D86-859C-CDBF6BE8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6639-9B4B-484B-8ADE-BCA372BA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6732-5EBF-4DF6-87F5-5C2627D4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361C-1EDF-48A3-B28F-FAD8FCED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B9D0-B3A5-46C4-8F90-6E0B1943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6CF0F-1D38-4D60-9369-6AC1047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802-0010-49A3-9A2C-1A9B4B4A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01A2-0134-452B-8C53-C6580F29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2D71-6B3F-4C78-9252-8787F951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A4D2-EDC0-4784-9460-E8AF6E30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A9B3-AA0F-4BF9-B266-76A49DF3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CDFA-2B66-4321-BC2F-0E729C22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208E-F5A5-44E0-8249-852DE247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32D6-DC16-40C7-9E6A-F3608B1A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845-28B1-4CE4-A4D7-1F2A82E4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68A-1FDD-449B-9B23-B641C241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60D-2479-4B03-88F6-0FDF22E5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6D9-1ACF-4E30-9F9F-89B5F95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226-E5EA-40C1-BABA-EA93DD5D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34C-C954-47C2-AA0D-5857F80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752E-70D3-43F0-A7B4-CAC790A3CA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F78B-DCF4-4CA4-A792-7B0B9F6E72A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ED2-4AF2-40E0-B7E2-DEC4322AFAF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22764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316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38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1844640"/>
            <a:ext cx="698508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把下面的小数化成分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0.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　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0.7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　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0.053      0.75      2.0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 rot="21573600">
            <a:off x="252360" y="189000"/>
            <a:ext cx="468144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比一比，看谁做得好！</a:t>
            </a:r>
            <a:endParaRPr b="0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p:transition spd="med"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79280" y="1773360"/>
            <a:ext cx="8785440" cy="1728720"/>
            <a:chOff x="179280" y="1773360"/>
            <a:chExt cx="8785440" cy="1728720"/>
          </a:xfrm>
        </p:grpSpPr>
        <p:sp>
          <p:nvSpPr>
            <p:cNvPr id="203" name=""/>
            <p:cNvSpPr/>
            <p:nvPr/>
          </p:nvSpPr>
          <p:spPr>
            <a:xfrm>
              <a:off x="179280" y="2173320"/>
              <a:ext cx="878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把      、      、      化成小数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1619280" y="1773360"/>
                  <a:ext cx="892080" cy="17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916360" y="1844640"/>
                  <a:ext cx="1176120" cy="16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284720" y="1916280"/>
                  <a:ext cx="1442880" cy="15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710640" y="476280"/>
            <a:ext cx="21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例 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2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bff"/>
            </a:gs>
            <a:gs pos="50000">
              <a:srgbClr val="ccccff"/>
            </a:gs>
            <a:gs pos="100000">
              <a:srgbClr val="ff7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0920" y="83664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分母是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000……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的分数化小数，可以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直接去掉分母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看分母中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后面有几个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0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，就在分子中从最后一位起向左数出几位，点上小数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70440" y="4897440"/>
            <a:ext cx="53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试一试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把      化成小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356000" y="4724280"/>
                <a:ext cx="14130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0920" y="404640"/>
            <a:ext cx="727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下面的分数化成小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4700520"/>
            <a:ext cx="9143640" cy="2157120"/>
            <a:chOff x="0" y="4700520"/>
            <a:chExt cx="9143640" cy="215712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0" y="4700520"/>
              <a:ext cx="914364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 txBox="1"/>
            <p:nvPr/>
          </p:nvSpPr>
          <p:spPr>
            <a:xfrm>
              <a:off x="1361880" y="5081400"/>
              <a:ext cx="311256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我能行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995640" y="1341360"/>
                <a:ext cx="15843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03280" y="3213000"/>
                <a:ext cx="172872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692360" y="1341360"/>
                <a:ext cx="9604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284720" y="3213000"/>
                <a:ext cx="11732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588000" y="1341360"/>
                <a:ext cx="144936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372360" y="3213000"/>
                <a:ext cx="208728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8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8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8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3022560" cy="4392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78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时代超市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售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1.2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农工商超市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售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幼圆"/>
                <a:ea typeface="幼圆"/>
              </a:rPr>
              <a:t>你能比较出在哪儿买合算吗？</a:t>
            </a:r>
            <a:r>
              <a:rPr b="0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987640" y="3718080"/>
                <a:ext cx="71136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65720" y="333360"/>
            <a:ext cx="240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幼圆"/>
                <a:ea typeface="幼圆"/>
              </a:rPr>
              <a:t>课堂小结</a:t>
            </a:r>
            <a:r>
              <a:rPr b="1" lang="zh-CN" sz="5400" spc="-1" strike="noStrike">
                <a:solidFill>
                  <a:srgbClr val="0066ff"/>
                </a:solidFill>
                <a:latin typeface="幼圆"/>
                <a:ea typeface="幼圆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dd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981080" y="2971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92280"/>
            <a:ext cx="91440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黑体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堂堂清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黑体"/>
              </a:rPr>
              <a:t>》检测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一、填  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化分数时，因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）小数，所以就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面写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（         ），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掉小数点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　　），最后是（　　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0400" y="36543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19840" y="365436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87480" y="45194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0400" y="5527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911840" y="5238720"/>
            <a:ext cx="685800" cy="1144800"/>
            <a:chOff x="4911840" y="5238720"/>
            <a:chExt cx="685800" cy="1144800"/>
          </a:xfrm>
        </p:grpSpPr>
        <p:sp>
          <p:nvSpPr>
            <p:cNvPr id="233" name=""/>
            <p:cNvSpPr/>
            <p:nvPr/>
          </p:nvSpPr>
          <p:spPr>
            <a:xfrm>
              <a:off x="4911840" y="5802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11840" y="5238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11840" y="5848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510080" y="404640"/>
            <a:ext cx="4165200" cy="1242720"/>
            <a:chOff x="4510080" y="404640"/>
            <a:chExt cx="4165200" cy="1242720"/>
          </a:xfrm>
        </p:grpSpPr>
        <p:sp>
          <p:nvSpPr>
            <p:cNvPr id="237" name=""/>
            <p:cNvSpPr/>
            <p:nvPr/>
          </p:nvSpPr>
          <p:spPr>
            <a:xfrm>
              <a:off x="4934880" y="404640"/>
              <a:ext cx="3570120" cy="1242720"/>
            </a:xfrm>
            <a:prstGeom prst="flowChartMagneticTap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10080" y="581760"/>
              <a:ext cx="416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华文新魏"/>
                  <a:ea typeface="华文新魏"/>
                </a:rPr>
                <a:t>一 展 身 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765000"/>
            <a:ext cx="86407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              化小数时，整数部分不变，直接去掉分母，看分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面有几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就在分子中从（              ）起，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　）数出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位，点上（　　     ）结果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2708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270828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1916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最后一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04000" y="2781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数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3357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050920" y="498600"/>
            <a:ext cx="1219320" cy="916920"/>
            <a:chOff x="2050920" y="498600"/>
            <a:chExt cx="1219320" cy="916920"/>
          </a:xfrm>
        </p:grpSpPr>
        <p:sp>
          <p:nvSpPr>
            <p:cNvPr id="247" name=""/>
            <p:cNvSpPr/>
            <p:nvPr/>
          </p:nvSpPr>
          <p:spPr>
            <a:xfrm>
              <a:off x="2050920" y="727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79520" y="9558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08120" y="498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55840" y="955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1871640" cy="1309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9280" y="620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二、下面的分数与小数互化是否正确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124080" y="4952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81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38880" y="3276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4952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31240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17524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1981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5 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0.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33526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07 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0.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95288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65 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0.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33720" y="1752480"/>
            <a:ext cx="609480" cy="1114920"/>
            <a:chOff x="2133720" y="1752480"/>
            <a:chExt cx="609480" cy="1114920"/>
          </a:xfrm>
        </p:grpSpPr>
        <p:sp>
          <p:nvSpPr>
            <p:cNvPr id="264" name=""/>
            <p:cNvSpPr/>
            <p:nvPr/>
          </p:nvSpPr>
          <p:spPr>
            <a:xfrm>
              <a:off x="2209680" y="1752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720" y="2286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680" y="2362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057400" y="3200400"/>
            <a:ext cx="1066680" cy="1038600"/>
            <a:chOff x="2057400" y="3200400"/>
            <a:chExt cx="1066680" cy="1038600"/>
          </a:xfrm>
        </p:grpSpPr>
        <p:sp>
          <p:nvSpPr>
            <p:cNvPr id="268" name=""/>
            <p:cNvSpPr/>
            <p:nvPr/>
          </p:nvSpPr>
          <p:spPr>
            <a:xfrm>
              <a:off x="2057400" y="3657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32004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7400" y="37339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48320" y="3200400"/>
            <a:ext cx="1066680" cy="1038600"/>
            <a:chOff x="4648320" y="3200400"/>
            <a:chExt cx="1066680" cy="1038600"/>
          </a:xfrm>
        </p:grpSpPr>
        <p:sp>
          <p:nvSpPr>
            <p:cNvPr id="272" name=""/>
            <p:cNvSpPr/>
            <p:nvPr/>
          </p:nvSpPr>
          <p:spPr>
            <a:xfrm>
              <a:off x="4648320" y="3657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006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24280" y="3733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343400" y="4724280"/>
            <a:ext cx="1447920" cy="1114920"/>
            <a:chOff x="4343400" y="4724280"/>
            <a:chExt cx="1447920" cy="1114920"/>
          </a:xfrm>
        </p:grpSpPr>
        <p:sp>
          <p:nvSpPr>
            <p:cNvPr id="276" name=""/>
            <p:cNvSpPr/>
            <p:nvPr/>
          </p:nvSpPr>
          <p:spPr>
            <a:xfrm>
              <a:off x="4343400" y="52578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95680" y="4724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19720" y="53341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133720" y="4724280"/>
            <a:ext cx="1143000" cy="1114920"/>
            <a:chOff x="2133720" y="4724280"/>
            <a:chExt cx="1143000" cy="1114920"/>
          </a:xfrm>
        </p:grpSpPr>
        <p:sp>
          <p:nvSpPr>
            <p:cNvPr id="280" name=""/>
            <p:cNvSpPr/>
            <p:nvPr/>
          </p:nvSpPr>
          <p:spPr>
            <a:xfrm>
              <a:off x="2286000" y="5257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33720" y="47242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9680" y="5334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724280" y="1828800"/>
            <a:ext cx="838440" cy="1038600"/>
            <a:chOff x="4724280" y="1828800"/>
            <a:chExt cx="838440" cy="1038600"/>
          </a:xfrm>
        </p:grpSpPr>
        <p:sp>
          <p:nvSpPr>
            <p:cNvPr id="284" name=""/>
            <p:cNvSpPr/>
            <p:nvPr/>
          </p:nvSpPr>
          <p:spPr>
            <a:xfrm>
              <a:off x="47242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00600" y="1828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00600" y="2362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e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6015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三、 把下面的小数和与它相等的分数用线连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00200" y="1447920"/>
            <a:ext cx="6172200" cy="4863960"/>
            <a:chOff x="1600200" y="1447920"/>
            <a:chExt cx="6172200" cy="4863960"/>
          </a:xfrm>
        </p:grpSpPr>
        <p:sp>
          <p:nvSpPr>
            <p:cNvPr id="289" name=""/>
            <p:cNvSpPr/>
            <p:nvPr/>
          </p:nvSpPr>
          <p:spPr>
            <a:xfrm>
              <a:off x="1600200" y="1600200"/>
              <a:ext cx="6172200" cy="44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8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410080" y="4038480"/>
              <a:ext cx="685800" cy="1028520"/>
              <a:chOff x="5410080" y="4038480"/>
              <a:chExt cx="685800" cy="1028520"/>
            </a:xfrm>
          </p:grpSpPr>
          <p:sp>
            <p:nvSpPr>
              <p:cNvPr id="291" name=""/>
              <p:cNvSpPr/>
              <p:nvPr/>
            </p:nvSpPr>
            <p:spPr>
              <a:xfrm>
                <a:off x="5410080" y="431784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15000" y="454644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16440" y="4038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15000" y="45464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38680" y="5334120"/>
              <a:ext cx="381240" cy="977760"/>
              <a:chOff x="5638680" y="5334120"/>
              <a:chExt cx="381240" cy="977760"/>
            </a:xfrm>
          </p:grpSpPr>
          <p:sp>
            <p:nvSpPr>
              <p:cNvPr id="296" name=""/>
              <p:cNvSpPr/>
              <p:nvPr/>
            </p:nvSpPr>
            <p:spPr>
              <a:xfrm>
                <a:off x="5638680" y="5334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38680" y="57913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57913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562720" y="2743200"/>
              <a:ext cx="761760" cy="977760"/>
              <a:chOff x="5562720" y="2743200"/>
              <a:chExt cx="761760" cy="977760"/>
            </a:xfrm>
          </p:grpSpPr>
          <p:sp>
            <p:nvSpPr>
              <p:cNvPr id="300" name=""/>
              <p:cNvSpPr/>
              <p:nvPr/>
            </p:nvSpPr>
            <p:spPr>
              <a:xfrm>
                <a:off x="5562720" y="320040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62720" y="27432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38680" y="320040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562720" y="1447920"/>
              <a:ext cx="838080" cy="901440"/>
              <a:chOff x="5562720" y="1447920"/>
              <a:chExt cx="838080" cy="901440"/>
            </a:xfrm>
          </p:grpSpPr>
          <p:sp>
            <p:nvSpPr>
              <p:cNvPr id="304" name=""/>
              <p:cNvSpPr/>
              <p:nvPr/>
            </p:nvSpPr>
            <p:spPr>
              <a:xfrm>
                <a:off x="5638680" y="1447920"/>
                <a:ext cx="47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562720" y="1828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38680" y="190512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2438280" y="1981080"/>
            <a:ext cx="3048120" cy="3810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438280" y="1980720"/>
            <a:ext cx="30481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495680"/>
            <a:ext cx="2971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362320" y="3276360"/>
            <a:ext cx="320040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119640" y="4365720"/>
            <a:ext cx="302436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19320" y="533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四、把下面的分数化成小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981080" y="1523880"/>
            <a:ext cx="871200" cy="977760"/>
            <a:chOff x="1981080" y="1523880"/>
            <a:chExt cx="871200" cy="977760"/>
          </a:xfrm>
        </p:grpSpPr>
        <p:sp>
          <p:nvSpPr>
            <p:cNvPr id="315" name=""/>
            <p:cNvSpPr/>
            <p:nvPr/>
          </p:nvSpPr>
          <p:spPr>
            <a:xfrm>
              <a:off x="1981080" y="19810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60280" y="152388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60280" y="1981080"/>
              <a:ext cx="5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962520" y="1523880"/>
            <a:ext cx="952200" cy="977760"/>
            <a:chOff x="3962520" y="1523880"/>
            <a:chExt cx="952200" cy="977760"/>
          </a:xfrm>
        </p:grpSpPr>
        <p:sp>
          <p:nvSpPr>
            <p:cNvPr id="319" name=""/>
            <p:cNvSpPr/>
            <p:nvPr/>
          </p:nvSpPr>
          <p:spPr>
            <a:xfrm>
              <a:off x="3962520" y="1752480"/>
              <a:ext cx="31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00480" y="198108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79680" y="1523880"/>
              <a:ext cx="31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9680" y="198108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172200" y="1523880"/>
            <a:ext cx="1176480" cy="977760"/>
            <a:chOff x="6172200" y="1523880"/>
            <a:chExt cx="1176480" cy="977760"/>
          </a:xfrm>
        </p:grpSpPr>
        <p:sp>
          <p:nvSpPr>
            <p:cNvPr id="324" name=""/>
            <p:cNvSpPr/>
            <p:nvPr/>
          </p:nvSpPr>
          <p:spPr>
            <a:xfrm>
              <a:off x="6172200" y="198108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11960" y="1523880"/>
              <a:ext cx="3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51760" y="1981080"/>
              <a:ext cx="71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332000" y="3284640"/>
            <a:ext cx="66294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五、把下面的小数化成分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4              0.29            1.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3049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课前复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341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看图写出分数和小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28954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.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324480" y="4038480"/>
          <a:ext cx="1825920" cy="1905120"/>
        </p:xfrm>
        <a:graphic>
          <a:graphicData uri="http://schemas.openxmlformats.org/drawingml/2006/table">
            <a:tbl>
              <a:tblPr/>
              <a:tblGrid>
                <a:gridCol w="182520"/>
                <a:gridCol w="182880"/>
                <a:gridCol w="182520"/>
                <a:gridCol w="182520"/>
                <a:gridCol w="181080"/>
                <a:gridCol w="183960"/>
                <a:gridCol w="200160"/>
                <a:gridCol w="164880"/>
                <a:gridCol w="182520"/>
                <a:gridCol w="182880"/>
              </a:tblGrid>
              <a:tr h="19080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905120" y="4114800"/>
            <a:ext cx="45385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数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数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495680" y="5029200"/>
            <a:ext cx="838440" cy="1190880"/>
            <a:chOff x="4495680" y="5029200"/>
            <a:chExt cx="838440" cy="1190880"/>
          </a:xfrm>
        </p:grpSpPr>
        <p:sp>
          <p:nvSpPr>
            <p:cNvPr id="134" name=""/>
            <p:cNvSpPr/>
            <p:nvPr/>
          </p:nvSpPr>
          <p:spPr>
            <a:xfrm>
              <a:off x="4572000" y="563868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5680" y="5638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50292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419720" y="4083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315200" y="2362320"/>
            <a:ext cx="914400" cy="1252080"/>
            <a:chOff x="7315200" y="2362320"/>
            <a:chExt cx="914400" cy="1252080"/>
          </a:xfrm>
        </p:grpSpPr>
        <p:sp>
          <p:nvSpPr>
            <p:cNvPr id="139" name=""/>
            <p:cNvSpPr/>
            <p:nvPr/>
          </p:nvSpPr>
          <p:spPr>
            <a:xfrm>
              <a:off x="7315200" y="3048120"/>
              <a:ext cx="582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91520" y="2362320"/>
              <a:ext cx="58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15200" y="29718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855720" y="2035440"/>
            <a:ext cx="7297560" cy="1687680"/>
            <a:chOff x="855720" y="2035440"/>
            <a:chExt cx="7297560" cy="1687680"/>
          </a:xfrm>
        </p:grpSpPr>
        <p:grpSp>
          <p:nvGrpSpPr>
            <p:cNvPr id="143" name=""/>
            <p:cNvGrpSpPr/>
            <p:nvPr/>
          </p:nvGrpSpPr>
          <p:grpSpPr>
            <a:xfrm>
              <a:off x="855720" y="2035440"/>
              <a:ext cx="5715000" cy="609120"/>
              <a:chOff x="855720" y="2035440"/>
              <a:chExt cx="5715000" cy="6091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55720" y="2492280"/>
                <a:ext cx="5715000" cy="152280"/>
                <a:chOff x="855720" y="2492280"/>
                <a:chExt cx="5715000" cy="152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55720" y="2644560"/>
                  <a:ext cx="571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5572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43352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01132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8948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16728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74508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32324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90104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47920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05700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570720" y="249228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rot="16227600">
                <a:off x="1587240" y="1355040"/>
                <a:ext cx="382680" cy="1757520"/>
              </a:xfrm>
              <a:custGeom>
                <a:avLst/>
                <a:gdLst>
                  <a:gd name="textAreaLeft" fmla="*/ 0 w 382680"/>
                  <a:gd name="textAreaRight" fmla="*/ 138240 w 382680"/>
                  <a:gd name="textAreaTop" fmla="*/ 45720 h 1757520"/>
                  <a:gd name="textAreaBottom" fmla="*/ 1711800 h 175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258920" y="3141720"/>
              <a:ext cx="6894360" cy="581400"/>
              <a:chOff x="1258920" y="3141720"/>
              <a:chExt cx="6894360" cy="581400"/>
            </a:xfrm>
          </p:grpSpPr>
          <p:sp>
            <p:nvSpPr>
              <p:cNvPr id="159" name=""/>
              <p:cNvSpPr/>
              <p:nvPr/>
            </p:nvSpPr>
            <p:spPr>
              <a:xfrm>
                <a:off x="1258920" y="3141720"/>
                <a:ext cx="617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小数表示                       分数表示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76720" y="35636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162920" y="356364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684360" y="378936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066680" y="990720"/>
            <a:ext cx="3048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看看谁最聪明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143000" y="3657600"/>
            <a:ext cx="2590920" cy="1312920"/>
            <a:chOff x="1143000" y="3657600"/>
            <a:chExt cx="2590920" cy="1312920"/>
          </a:xfrm>
        </p:grpSpPr>
        <p:grpSp>
          <p:nvGrpSpPr>
            <p:cNvPr id="331" name=""/>
            <p:cNvGrpSpPr/>
            <p:nvPr/>
          </p:nvGrpSpPr>
          <p:grpSpPr>
            <a:xfrm>
              <a:off x="2971800" y="3657600"/>
              <a:ext cx="762120" cy="1312920"/>
              <a:chOff x="2971800" y="3657600"/>
              <a:chExt cx="762120" cy="1312920"/>
            </a:xfrm>
          </p:grpSpPr>
          <p:sp>
            <p:nvSpPr>
              <p:cNvPr id="332" name=""/>
              <p:cNvSpPr/>
              <p:nvPr/>
            </p:nvSpPr>
            <p:spPr>
              <a:xfrm>
                <a:off x="2971800" y="426708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048120" y="365760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48120" y="43430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143000" y="388620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86000" y="388620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mb dir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 rot="21343200">
            <a:off x="1044720" y="979200"/>
            <a:ext cx="33829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动脑筋</a:t>
            </a: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: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66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2924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.a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化成分数，不要约分就是一个最简分数，这样的小数有多少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428480" cy="1200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14480" y="642960"/>
            <a:ext cx="22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课堂总结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68360" y="2112840"/>
            <a:ext cx="6624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学完这节课你有哪些收获、体会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请畅所欲言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            </a:t>
            </a:r>
            <a:r>
              <a:rPr b="1" lang="zh-CN" sz="3200" spc="-1" strike="noStrike">
                <a:solidFill>
                  <a:srgbClr val="6600cc"/>
                </a:solidFill>
                <a:latin typeface="幼圆"/>
                <a:ea typeface="幼圆"/>
              </a:rPr>
              <a:t>畅所欲言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                 </a:t>
            </a:r>
            <a:r>
              <a:rPr b="1" lang="zh-CN" sz="3200" spc="-1" strike="noStrike">
                <a:solidFill>
                  <a:srgbClr val="990099"/>
                </a:solidFill>
                <a:latin typeface="幼圆"/>
                <a:ea typeface="幼圆"/>
              </a:rPr>
              <a:t>畅所欲言！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700360" y="4129200"/>
            <a:ext cx="2448000" cy="1892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、说出下列各分数的分数单位和有几个这样的单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55920" y="2133720"/>
                <a:ext cx="9284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73600" y="2133720"/>
                <a:ext cx="892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318360" y="2205000"/>
                <a:ext cx="11239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300720" y="4221000"/>
                <a:ext cx="136836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32000" y="4149720"/>
                <a:ext cx="13190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80000" y="4213080"/>
                <a:ext cx="13190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87280" y="4762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、填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1163520"/>
            <a:ext cx="7812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面有（      ）个十分之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表示（      ）分之（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1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面有（      ）个百分之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表示（      ）分之（     　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00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面有（      ）个千分之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表示（　）分之（　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10526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18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1890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5672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3567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十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3290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5243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243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2728800"/>
            <a:ext cx="7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486320" cy="547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黑体"/>
              </a:rPr>
              <a:t>邱慧子同学的难题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幼圆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651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时代超市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ts val="54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幼圆"/>
                <a:ea typeface="幼圆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标价是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1.25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元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ts val="1998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ts val="54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农工商超市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ts val="54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幼圆"/>
                <a:ea typeface="幼圆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标价是   元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疑问"/>
          <p:cNvPicPr/>
          <p:nvPr/>
        </p:nvPicPr>
        <p:blipFill>
          <a:blip r:embed="rId2"/>
          <a:stretch/>
        </p:blipFill>
        <p:spPr>
          <a:xfrm>
            <a:off x="8028000" y="549360"/>
            <a:ext cx="79200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940360" y="4365720"/>
                <a:ext cx="685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5867280"/>
            <a:ext cx="838080" cy="709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010280" y="228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258920" y="2131920"/>
            <a:ext cx="640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方正姚体"/>
              </a:rPr>
              <a:t>分数与小数的互化</a:t>
            </a:r>
            <a:endParaRPr b="0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</p:spTree>
  </p:cSld>
  <p:transition spd="med">
    <p:wheel spokes="8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90720" y="1143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14400"/>
            <a:ext cx="632484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理解并掌握小数与分数互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能正确地把小数化分数，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能把分母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0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分数化成小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9280" y="1052640"/>
            <a:ext cx="896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自学内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自学时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自学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真自学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理解、掌握小数化分数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着把下面各小数化成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7        0.18        0.6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66ff33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000" y="4762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　 小数化分数，原来有几位小数，就在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的后面写几个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0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作分母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把原来的小数点去掉作分子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;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化成分数后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能约分的要约分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58920" y="3860640"/>
            <a:ext cx="3908520" cy="136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06160" y="4834080"/>
            <a:ext cx="329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试一试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幼圆"/>
                <a:ea typeface="幼圆"/>
              </a:rPr>
              <a:t>把</a:t>
            </a:r>
            <a:r>
              <a:rPr b="1" lang="zh-CN" sz="4400" spc="-1" strike="noStrike">
                <a:solidFill>
                  <a:srgbClr val="0000ff"/>
                </a:solidFill>
                <a:latin typeface="幼圆"/>
                <a:ea typeface="幼圆"/>
              </a:rPr>
              <a:t>1.45</a:t>
            </a:r>
            <a:r>
              <a:rPr b="1" lang="zh-CN" sz="4400" spc="-1" strike="noStrike">
                <a:solidFill>
                  <a:srgbClr val="0000ff"/>
                </a:solidFill>
                <a:latin typeface="幼圆"/>
                <a:ea typeface="幼圆"/>
              </a:rPr>
              <a:t>化成假分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02:26:32Z</dcterms:created>
  <dc:creator>user</dc:creator>
  <dc:description/>
  <dc:language>en-US</dc:language>
  <cp:lastModifiedBy>番茄花园</cp:lastModifiedBy>
  <dcterms:modified xsi:type="dcterms:W3CDTF">2008-01-03T08:05:25Z</dcterms:modified>
  <cp:revision>46</cp:revision>
  <dc:subject/>
  <dc:title>PowerPoint 演示文稿</dc:title>
</cp:coreProperties>
</file>