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3DB-313E-477A-BC38-D0E42AA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1DE-40F6-4E55-92CF-587EE99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C32-37B8-46BD-A8B4-0A018BA7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4B7-C07C-455F-A75E-CF7F1462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E3A7-E145-4EE4-91DD-20F0B29B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3026-C651-4B6C-9FBD-49CF2A60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264-1A0E-4310-82C2-BDE146B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47D0-64F2-4336-A2B4-DCCE848F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122-6E4C-4DE6-AA9F-F4133DE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C5D-C613-4FBE-BC5B-704C1DF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FEC0-8FCA-4C60-9B08-54EBE853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055-267E-4921-B04B-2AD7718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E0D1-86F5-4FDE-91A2-91CD334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728-0707-4913-9A98-AF2D6DE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EBB6-3D80-4BE1-987F-1B60275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792-65E0-477A-A017-BCBD6F55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189-77B3-47E2-8213-72BB1F75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59E-FE15-49E4-9D13-4EA16DF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E04-8084-435E-B364-8F96F69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C55-EB57-456F-BE23-3E928476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65B-F105-4FAD-9D8B-D020A16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873-46E6-4AE9-8343-B02E080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BBC-1904-45EF-9657-ACEB0E2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FDF-340D-442E-99AA-08B21B3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1F5F-6A51-4BAE-973C-4707210A8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2205-BD3C-4903-AA8E-7709CBD7A3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685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7621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.9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异分母分数加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828800"/>
            <a:ext cx="4876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填空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3/4 = (      ) / 8      2/5 = 6 / (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2/9 = (      ) /36     5/8 = (      ) /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1148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通分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1/4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2/5      3/7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5/14      5/6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3/8     5/1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4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334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105520"/>
            <a:ext cx="228600" cy="366480"/>
          </a:xfrm>
          <a:prstGeom prst="downArrow">
            <a:avLst>
              <a:gd name="adj1" fmla="val 50000"/>
              <a:gd name="adj2" fmla="val 4007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5/20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6/14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5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0/24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9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5/60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6/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6520" y="685800"/>
            <a:ext cx="6019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口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/20+8/20 =                        6/14-5/14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-1(2/3)=                            15/24+9/24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219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1219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752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752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4/24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新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505320"/>
            <a:ext cx="6705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/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/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通分，得到怎样的两个分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如何计算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/2+1/3=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？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/2 - 1/3=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D00028_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479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一）思考讨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40384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解：用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的最小公倍数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做公分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/2=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×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×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=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/3=(1×2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3×2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=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105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152424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01320" y="457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7640" y="1828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2952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838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409760" cy="505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6200" y="1523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5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12952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9144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295280" cy="36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11000" y="1523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8120" y="68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样想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 分母不同，我们可以利用通分把这两个分数化成同分母分数后相加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962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1/2+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495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=3/6+2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952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=5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419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………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通分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962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1/2-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=3/6-2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952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=1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762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异分母分数加减法法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447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异分母分数相加减，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通分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然后按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分母分数加减法的法则进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8320" y="259092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计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9/10-3/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7800" y="3276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: 9/10-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120" y="380988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=36/40-15/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3200" y="441972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=21/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75440" y="259092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2.x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加上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的和等于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4/5,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4200" y="32767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根据题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8000" y="38098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X+1/3=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3440" y="426708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X=4/5-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80060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X=12/15-5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4160" y="54100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X=7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07320" y="45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27240" y="990720"/>
            <a:ext cx="7489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口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/2+1/3=               1/3+1/4=            1/5+1/6=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/2 -1/3=               1/3 -1/4=            1/5 -1/6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920" y="1600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5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800" y="16002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7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480" y="160020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4280" y="22860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1 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800" y="22860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1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800" y="22860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8080" y="2819520"/>
            <a:ext cx="3885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、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3/5+5/8=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9/20+3/4=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1/4+1/5+1/1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2/3-2/7-3/14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8800" y="35053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4/40+25/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9040" y="350532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=49/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440" y="411480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9/20+15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5000" y="41148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=24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6880" y="472428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5/20+4/20+2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6600" y="472428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=11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53960" y="35053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9/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8360" y="41148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=6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1200" y="4114800"/>
            <a:ext cx="180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7200" y="541008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8/42-12/42-9/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6600" y="54100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=7/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7680" y="541008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=1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=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61400" y="838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异分母分数加减法解题步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40480" y="1523880"/>
            <a:ext cx="82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一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二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三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四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五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98080" y="1523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是同分母还是异分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90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19040" y="274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18600" y="342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要约成最简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60440" y="4114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是假分数的要化成带分数或整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84000" y="914400"/>
            <a:ext cx="420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某数减去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差是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2/7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，求这个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9440" y="2362320"/>
            <a:ext cx="2907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解：根据题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X - 1/2=2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5000" y="350532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X=2/7+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4640" y="403848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X=4/14+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5000" y="457200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X=11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0680" y="51814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答：这个数是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11/14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676520" y="609480"/>
            <a:ext cx="914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>
            <a:off x="2552400" y="160020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Times New Roman"/>
                <a:ea typeface="幼圆"/>
              </a:rPr>
              <a:t>异分母分数加减法法则</a:t>
            </a:r>
            <a:r>
              <a:rPr b="1" lang="zh-CN" sz="2800" spc="-1" strike="noStrike">
                <a:solidFill>
                  <a:srgbClr val="3694b6"/>
                </a:solidFill>
                <a:latin typeface="Times New Roman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39480" y="2286000"/>
            <a:ext cx="3807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异分母分数相加减，先通分，然后按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同分母分数加减法的法则进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0040" y="358128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课堂作业：</a:t>
            </a: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册习题</a:t>
            </a: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1.9(1</a:t>
            </a: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3760" y="4343400"/>
            <a:ext cx="3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家庭作业：课课练，测试与评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                   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复习；预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2362320"/>
            <a:ext cx="3962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方正舒体"/>
              </a:rPr>
              <a:t>下课啦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3:03:28Z</dcterms:created>
  <dc:creator>ABC</dc:creator>
  <dc:description/>
  <dc:language>en-US</dc:language>
  <cp:lastModifiedBy>pc</cp:lastModifiedBy>
  <dcterms:modified xsi:type="dcterms:W3CDTF">2002-10-10T00:58:22Z</dcterms:modified>
  <cp:revision>19</cp:revision>
  <dc:subject/>
  <dc:title>PowerPoint 演示文稿</dc:title>
</cp:coreProperties>
</file>