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E29-672C-4B0C-9136-92989505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74E-81EC-4AD9-AFEE-796395A7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9A4-FCE8-42A3-809C-8650B696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9BE-1BB2-46A3-9142-91DB3644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7509-BC87-4FCE-8428-2F2A28EA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17F5-05A5-4361-87E6-95F9E8A6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6D7D-0532-45AF-8CFB-5E1EA4BB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9CCA-AB23-45EB-8C68-017BB38A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0D0E-A322-4765-BA13-5C21B6D3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C2DA-B547-4536-81BA-EDAD70C1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7691-4B2A-4E5C-817F-1A85B0BC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2E9-99D0-42A1-B6F6-5624D08C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E7D1-62F3-44DB-AD1D-0AD3587C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A5A5-3BB8-47F0-9D08-8DCCD2A2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2573-06CB-498A-9164-3194BE85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CE2F-A23C-47AE-9448-B9D13145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0617-15A2-4E6C-80BB-677BD815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B90-964F-4126-A6B9-5ECE1176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814-85DD-4AA9-B6EB-09EE84E2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ADD-522D-49F7-98AA-41DFBF92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44A-CD7E-499C-838A-1908420A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D34-BC7D-4761-9DB3-DE946759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B15-045D-4C2A-AFF7-D1E82C42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6FD-01E8-4D0C-ACF9-9C81363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24D6-7A9A-4A8C-B468-DC0A84FEB6B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BECE-E67C-413A-A1DF-CB08C085C4B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2997000"/>
            <a:ext cx="4800600" cy="990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数加减混合运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填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11746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数加减混合运算的运算顺序和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相同．没有括号的分数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减混合运算顺序是                 ；有括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分数加减混合运算的运算顺序是先算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后算           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89760" y="177336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680" y="27226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61200" y="118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整数加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47960" y="3664080"/>
            <a:ext cx="337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10040" y="560376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14200" y="21398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混合运算的运算顺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85520" y="3098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从左往右依次计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12040" y="4572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560376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52520" y="405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括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6400" y="5091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里面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56000" y="504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括号外面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50680" y="11826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整数加减混合运算的运算顺序是怎样的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17840" y="2179800"/>
            <a:ext cx="61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整数加减混合运算顺序是从左往右依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计算．遇到有括号的，应该先算括号里面的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600" y="121932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楷体_GB2312"/>
              </a:rPr>
              <a:t>分数加减混合运算的运算顺序又是什么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02716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数加减混合运算的运算顺序与整数加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混合运算的运算顺序的相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8160" y="3108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．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3880" y="1006560"/>
            <a:ext cx="609480" cy="1300320"/>
            <a:chOff x="1523880" y="1006560"/>
            <a:chExt cx="609480" cy="1300320"/>
          </a:xfrm>
        </p:grpSpPr>
        <p:sp>
          <p:nvSpPr>
            <p:cNvPr id="92" name=""/>
            <p:cNvSpPr/>
            <p:nvPr/>
          </p:nvSpPr>
          <p:spPr>
            <a:xfrm>
              <a:off x="164268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944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388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819520" y="968400"/>
            <a:ext cx="609480" cy="1338120"/>
            <a:chOff x="2819520" y="968400"/>
            <a:chExt cx="609480" cy="1338120"/>
          </a:xfrm>
        </p:grpSpPr>
        <p:sp>
          <p:nvSpPr>
            <p:cNvPr id="96" name=""/>
            <p:cNvSpPr/>
            <p:nvPr/>
          </p:nvSpPr>
          <p:spPr>
            <a:xfrm>
              <a:off x="2957400" y="96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54160" y="1603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19520" y="16380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096800" y="1009800"/>
            <a:ext cx="689760" cy="1319400"/>
            <a:chOff x="4096800" y="1009800"/>
            <a:chExt cx="689760" cy="1319400"/>
          </a:xfrm>
        </p:grpSpPr>
        <p:sp>
          <p:nvSpPr>
            <p:cNvPr id="100" name=""/>
            <p:cNvSpPr/>
            <p:nvPr/>
          </p:nvSpPr>
          <p:spPr>
            <a:xfrm>
              <a:off x="4233600" y="1009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6800" y="16257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1480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16160" y="12636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38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166068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7720" y="139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从左往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89280" y="2635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3880" y="2298600"/>
            <a:ext cx="609480" cy="1300320"/>
            <a:chOff x="1523880" y="2298600"/>
            <a:chExt cx="609480" cy="1300320"/>
          </a:xfrm>
        </p:grpSpPr>
        <p:sp>
          <p:nvSpPr>
            <p:cNvPr id="109" name=""/>
            <p:cNvSpPr/>
            <p:nvPr/>
          </p:nvSpPr>
          <p:spPr>
            <a:xfrm>
              <a:off x="1642680" y="2298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39440" y="2895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29304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00440" y="2263680"/>
            <a:ext cx="609480" cy="1338120"/>
            <a:chOff x="2800440" y="2263680"/>
            <a:chExt cx="609480" cy="1338120"/>
          </a:xfrm>
        </p:grpSpPr>
        <p:sp>
          <p:nvSpPr>
            <p:cNvPr id="113" name=""/>
            <p:cNvSpPr/>
            <p:nvPr/>
          </p:nvSpPr>
          <p:spPr>
            <a:xfrm>
              <a:off x="2938320" y="2263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35080" y="2898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00440" y="2933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096800" y="2282760"/>
            <a:ext cx="689760" cy="1319400"/>
            <a:chOff x="4096800" y="2282760"/>
            <a:chExt cx="689760" cy="1319400"/>
          </a:xfrm>
        </p:grpSpPr>
        <p:sp>
          <p:nvSpPr>
            <p:cNvPr id="117" name=""/>
            <p:cNvSpPr/>
            <p:nvPr/>
          </p:nvSpPr>
          <p:spPr>
            <a:xfrm>
              <a:off x="4233600" y="2282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96800" y="2898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2933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216160" y="25560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38440" y="25718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86040" y="4041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3880" y="3670200"/>
            <a:ext cx="609480" cy="1338120"/>
            <a:chOff x="1523880" y="3670200"/>
            <a:chExt cx="609480" cy="1338120"/>
          </a:xfrm>
        </p:grpSpPr>
        <p:sp>
          <p:nvSpPr>
            <p:cNvPr id="124" name=""/>
            <p:cNvSpPr/>
            <p:nvPr/>
          </p:nvSpPr>
          <p:spPr>
            <a:xfrm>
              <a:off x="1661760" y="3670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58520" y="4304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43398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20600" y="3689280"/>
            <a:ext cx="689760" cy="1319400"/>
            <a:chOff x="2820600" y="3689280"/>
            <a:chExt cx="689760" cy="1319400"/>
          </a:xfrm>
        </p:grpSpPr>
        <p:sp>
          <p:nvSpPr>
            <p:cNvPr id="128" name=""/>
            <p:cNvSpPr/>
            <p:nvPr/>
          </p:nvSpPr>
          <p:spPr>
            <a:xfrm>
              <a:off x="2957400" y="3689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20600" y="430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38600" y="43401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262240" y="39783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70480" y="4044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05040" y="3711600"/>
            <a:ext cx="689760" cy="1319400"/>
            <a:chOff x="5405040" y="3711600"/>
            <a:chExt cx="689760" cy="1319400"/>
          </a:xfrm>
        </p:grpSpPr>
        <p:sp>
          <p:nvSpPr>
            <p:cNvPr id="134" name=""/>
            <p:cNvSpPr/>
            <p:nvPr/>
          </p:nvSpPr>
          <p:spPr>
            <a:xfrm>
              <a:off x="5541840" y="3711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5040" y="43275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23040" y="4362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846680" y="398160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096800" y="3711600"/>
            <a:ext cx="715320" cy="1280880"/>
            <a:chOff x="4096800" y="3711600"/>
            <a:chExt cx="715320" cy="1280880"/>
          </a:xfrm>
        </p:grpSpPr>
        <p:sp>
          <p:nvSpPr>
            <p:cNvPr id="139" name=""/>
            <p:cNvSpPr/>
            <p:nvPr/>
          </p:nvSpPr>
          <p:spPr>
            <a:xfrm>
              <a:off x="4122360" y="37116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6800" y="4289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33880" y="43621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447920" y="2286000"/>
            <a:ext cx="2133360" cy="1295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91456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84080" y="258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9400" y="3714840"/>
            <a:ext cx="2133720" cy="1295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362480"/>
            <a:ext cx="6793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31040" y="4030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再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6040" y="53341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05880" y="5006880"/>
            <a:ext cx="715320" cy="1281240"/>
            <a:chOff x="1505880" y="5006880"/>
            <a:chExt cx="715320" cy="1281240"/>
          </a:xfrm>
        </p:grpSpPr>
        <p:sp>
          <p:nvSpPr>
            <p:cNvPr id="150" name=""/>
            <p:cNvSpPr/>
            <p:nvPr/>
          </p:nvSpPr>
          <p:spPr>
            <a:xfrm>
              <a:off x="1531440" y="5006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05880" y="5584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42960" y="5657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523880" y="1006560"/>
            <a:ext cx="609480" cy="1300320"/>
            <a:chOff x="1523880" y="1006560"/>
            <a:chExt cx="609480" cy="1300320"/>
          </a:xfrm>
        </p:grpSpPr>
        <p:sp>
          <p:nvSpPr>
            <p:cNvPr id="155" name=""/>
            <p:cNvSpPr/>
            <p:nvPr/>
          </p:nvSpPr>
          <p:spPr>
            <a:xfrm>
              <a:off x="164268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3944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388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819520" y="990720"/>
            <a:ext cx="609480" cy="1338120"/>
            <a:chOff x="2819520" y="990720"/>
            <a:chExt cx="609480" cy="1338120"/>
          </a:xfrm>
        </p:grpSpPr>
        <p:sp>
          <p:nvSpPr>
            <p:cNvPr id="159" name=""/>
            <p:cNvSpPr/>
            <p:nvPr/>
          </p:nvSpPr>
          <p:spPr>
            <a:xfrm>
              <a:off x="295740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54160" y="1625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1660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096800" y="990720"/>
            <a:ext cx="689760" cy="1319400"/>
            <a:chOff x="4096800" y="990720"/>
            <a:chExt cx="689760" cy="1319400"/>
          </a:xfrm>
        </p:grpSpPr>
        <p:sp>
          <p:nvSpPr>
            <p:cNvPr id="163" name=""/>
            <p:cNvSpPr/>
            <p:nvPr/>
          </p:nvSpPr>
          <p:spPr>
            <a:xfrm>
              <a:off x="423360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96800" y="1606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1641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216160" y="12636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38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9280" y="2635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35240" y="25750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57520" y="259092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6040" y="4041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115880" y="2305080"/>
            <a:ext cx="689760" cy="1319400"/>
            <a:chOff x="4115880" y="2305080"/>
            <a:chExt cx="689760" cy="1319400"/>
          </a:xfrm>
        </p:grpSpPr>
        <p:sp>
          <p:nvSpPr>
            <p:cNvPr id="173" name=""/>
            <p:cNvSpPr/>
            <p:nvPr/>
          </p:nvSpPr>
          <p:spPr>
            <a:xfrm>
              <a:off x="4252680" y="230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15880" y="2921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33880" y="29559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86040" y="5353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49000" y="2305080"/>
            <a:ext cx="715320" cy="1280880"/>
            <a:chOff x="1449000" y="2305080"/>
            <a:chExt cx="715320" cy="1280880"/>
          </a:xfrm>
        </p:grpSpPr>
        <p:sp>
          <p:nvSpPr>
            <p:cNvPr id="178" name=""/>
            <p:cNvSpPr/>
            <p:nvPr/>
          </p:nvSpPr>
          <p:spPr>
            <a:xfrm>
              <a:off x="1474560" y="2305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49000" y="28825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86080" y="2955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782440" y="2305080"/>
            <a:ext cx="715320" cy="1280880"/>
            <a:chOff x="2782440" y="2305080"/>
            <a:chExt cx="715320" cy="1280880"/>
          </a:xfrm>
        </p:grpSpPr>
        <p:sp>
          <p:nvSpPr>
            <p:cNvPr id="182" name=""/>
            <p:cNvSpPr/>
            <p:nvPr/>
          </p:nvSpPr>
          <p:spPr>
            <a:xfrm>
              <a:off x="2808000" y="2305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82440" y="28825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9520" y="2955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048280" y="294480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49920" y="2658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一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75960" y="3676680"/>
            <a:ext cx="689760" cy="1319400"/>
            <a:chOff x="2775960" y="3676680"/>
            <a:chExt cx="689760" cy="1319400"/>
          </a:xfrm>
        </p:grpSpPr>
        <p:sp>
          <p:nvSpPr>
            <p:cNvPr id="188" name=""/>
            <p:cNvSpPr/>
            <p:nvPr/>
          </p:nvSpPr>
          <p:spPr>
            <a:xfrm>
              <a:off x="2912760" y="3676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5960" y="4292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93960" y="43275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217600" y="39466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468080" y="3676680"/>
            <a:ext cx="715320" cy="1280880"/>
            <a:chOff x="1468080" y="3676680"/>
            <a:chExt cx="715320" cy="1280880"/>
          </a:xfrm>
        </p:grpSpPr>
        <p:sp>
          <p:nvSpPr>
            <p:cNvPr id="193" name=""/>
            <p:cNvSpPr/>
            <p:nvPr/>
          </p:nvSpPr>
          <p:spPr>
            <a:xfrm>
              <a:off x="1493640" y="3676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68080" y="42541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5160" y="43272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505880" y="5006880"/>
            <a:ext cx="715320" cy="1281240"/>
            <a:chOff x="1505880" y="5006880"/>
            <a:chExt cx="715320" cy="1281240"/>
          </a:xfrm>
        </p:grpSpPr>
        <p:sp>
          <p:nvSpPr>
            <p:cNvPr id="197" name=""/>
            <p:cNvSpPr/>
            <p:nvPr/>
          </p:nvSpPr>
          <p:spPr>
            <a:xfrm>
              <a:off x="1531440" y="5006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05880" y="5584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42960" y="5657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思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08360" y="1058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两种方法有什么不同？哪一种简便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5080" y="2117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第一种方法：分步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20920" y="3154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第二种方法：一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85840" y="4289400"/>
            <a:ext cx="263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三个分数都是异分母分数，一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比较简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5952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42960" y="723960"/>
            <a:ext cx="609480" cy="1300320"/>
            <a:chOff x="1542960" y="723960"/>
            <a:chExt cx="609480" cy="1300320"/>
          </a:xfrm>
        </p:grpSpPr>
        <p:sp>
          <p:nvSpPr>
            <p:cNvPr id="207" name=""/>
            <p:cNvSpPr/>
            <p:nvPr/>
          </p:nvSpPr>
          <p:spPr>
            <a:xfrm>
              <a:off x="1661760" y="723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58520" y="1320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42960" y="1355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91120" y="685800"/>
            <a:ext cx="609480" cy="1338120"/>
            <a:chOff x="4191120" y="685800"/>
            <a:chExt cx="609480" cy="1338120"/>
          </a:xfrm>
        </p:grpSpPr>
        <p:sp>
          <p:nvSpPr>
            <p:cNvPr id="211" name=""/>
            <p:cNvSpPr/>
            <p:nvPr/>
          </p:nvSpPr>
          <p:spPr>
            <a:xfrm>
              <a:off x="4329000" y="685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25760" y="1320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91120" y="13554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801520" y="708120"/>
            <a:ext cx="689760" cy="1319400"/>
            <a:chOff x="2801520" y="708120"/>
            <a:chExt cx="689760" cy="1319400"/>
          </a:xfrm>
        </p:grpSpPr>
        <p:sp>
          <p:nvSpPr>
            <p:cNvPr id="215" name=""/>
            <p:cNvSpPr/>
            <p:nvPr/>
          </p:nvSpPr>
          <p:spPr>
            <a:xfrm>
              <a:off x="2938320" y="708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01520" y="1324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19520" y="13590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562560" y="9810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62240" y="9777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89280" y="223524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06840" y="21747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0960" y="219060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6040" y="3774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896560" y="1905120"/>
            <a:ext cx="689760" cy="1319400"/>
            <a:chOff x="2896560" y="1905120"/>
            <a:chExt cx="689760" cy="1319400"/>
          </a:xfrm>
        </p:grpSpPr>
        <p:sp>
          <p:nvSpPr>
            <p:cNvPr id="225" name=""/>
            <p:cNvSpPr/>
            <p:nvPr/>
          </p:nvSpPr>
          <p:spPr>
            <a:xfrm>
              <a:off x="3033360" y="1905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6560" y="2521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560" y="25560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507120" y="3807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49000" y="1905120"/>
            <a:ext cx="715320" cy="1280880"/>
            <a:chOff x="1449000" y="1905120"/>
            <a:chExt cx="715320" cy="1280880"/>
          </a:xfrm>
        </p:grpSpPr>
        <p:sp>
          <p:nvSpPr>
            <p:cNvPr id="230" name=""/>
            <p:cNvSpPr/>
            <p:nvPr/>
          </p:nvSpPr>
          <p:spPr>
            <a:xfrm>
              <a:off x="1474560" y="19051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9000" y="24825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86080" y="2555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154040" y="1905120"/>
            <a:ext cx="715320" cy="1280880"/>
            <a:chOff x="4154040" y="1905120"/>
            <a:chExt cx="715320" cy="1280880"/>
          </a:xfrm>
        </p:grpSpPr>
        <p:sp>
          <p:nvSpPr>
            <p:cNvPr id="234" name=""/>
            <p:cNvSpPr/>
            <p:nvPr/>
          </p:nvSpPr>
          <p:spPr>
            <a:xfrm>
              <a:off x="4179600" y="19051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54040" y="24825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91120" y="2555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084200" y="3444840"/>
            <a:ext cx="715320" cy="1280880"/>
            <a:chOff x="4084200" y="3444840"/>
            <a:chExt cx="715320" cy="1280880"/>
          </a:xfrm>
        </p:grpSpPr>
        <p:sp>
          <p:nvSpPr>
            <p:cNvPr id="238" name=""/>
            <p:cNvSpPr/>
            <p:nvPr/>
          </p:nvSpPr>
          <p:spPr>
            <a:xfrm>
              <a:off x="4109760" y="34448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200" y="40222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21280" y="4095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429920" y="3425760"/>
            <a:ext cx="715320" cy="1280880"/>
            <a:chOff x="1429920" y="3425760"/>
            <a:chExt cx="715320" cy="1280880"/>
          </a:xfrm>
        </p:grpSpPr>
        <p:sp>
          <p:nvSpPr>
            <p:cNvPr id="242" name=""/>
            <p:cNvSpPr/>
            <p:nvPr/>
          </p:nvSpPr>
          <p:spPr>
            <a:xfrm>
              <a:off x="1455480" y="34257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29920" y="40032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67000" y="4076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158920" y="37148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706120" y="3444840"/>
            <a:ext cx="715320" cy="1280880"/>
            <a:chOff x="2706120" y="3444840"/>
            <a:chExt cx="715320" cy="1280880"/>
          </a:xfrm>
        </p:grpSpPr>
        <p:sp>
          <p:nvSpPr>
            <p:cNvPr id="247" name=""/>
            <p:cNvSpPr/>
            <p:nvPr/>
          </p:nvSpPr>
          <p:spPr>
            <a:xfrm>
              <a:off x="2731680" y="34448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06120" y="40222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3200" y="4095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973440" y="5187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86080" y="4800600"/>
            <a:ext cx="609480" cy="1338120"/>
            <a:chOff x="1486080" y="4800600"/>
            <a:chExt cx="609480" cy="1338120"/>
          </a:xfrm>
        </p:grpSpPr>
        <p:sp>
          <p:nvSpPr>
            <p:cNvPr id="252" name=""/>
            <p:cNvSpPr/>
            <p:nvPr/>
          </p:nvSpPr>
          <p:spPr>
            <a:xfrm>
              <a:off x="1623960" y="4800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20720" y="5435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86080" y="54702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952880" y="408780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89560" y="3801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注意约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3448080"/>
            <a:ext cx="838440" cy="1295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1006560"/>
            <a:ext cx="609480" cy="1300320"/>
            <a:chOff x="1371600" y="1006560"/>
            <a:chExt cx="609480" cy="1300320"/>
          </a:xfrm>
        </p:grpSpPr>
        <p:sp>
          <p:nvSpPr>
            <p:cNvPr id="260" name=""/>
            <p:cNvSpPr/>
            <p:nvPr/>
          </p:nvSpPr>
          <p:spPr>
            <a:xfrm>
              <a:off x="149040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8716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743200" y="990720"/>
            <a:ext cx="609480" cy="1338120"/>
            <a:chOff x="2743200" y="990720"/>
            <a:chExt cx="609480" cy="1338120"/>
          </a:xfrm>
        </p:grpSpPr>
        <p:sp>
          <p:nvSpPr>
            <p:cNvPr id="264" name=""/>
            <p:cNvSpPr/>
            <p:nvPr/>
          </p:nvSpPr>
          <p:spPr>
            <a:xfrm>
              <a:off x="288108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7840" y="1625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3200" y="1660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01760" y="1009800"/>
            <a:ext cx="689760" cy="1319400"/>
            <a:chOff x="4001760" y="1009800"/>
            <a:chExt cx="689760" cy="1319400"/>
          </a:xfrm>
        </p:grpSpPr>
        <p:sp>
          <p:nvSpPr>
            <p:cNvPr id="268" name=""/>
            <p:cNvSpPr/>
            <p:nvPr/>
          </p:nvSpPr>
          <p:spPr>
            <a:xfrm>
              <a:off x="4138560" y="1009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01760" y="16257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1976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435480" y="12794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71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66068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56520" y="1374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先算括号里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6520" y="25146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60600" y="249408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95480" y="24940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6520" y="4032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019040" y="2230560"/>
            <a:ext cx="689760" cy="1319400"/>
            <a:chOff x="4019040" y="2230560"/>
            <a:chExt cx="689760" cy="1319400"/>
          </a:xfrm>
        </p:grpSpPr>
        <p:sp>
          <p:nvSpPr>
            <p:cNvPr id="280" name=""/>
            <p:cNvSpPr/>
            <p:nvPr/>
          </p:nvSpPr>
          <p:spPr>
            <a:xfrm>
              <a:off x="4155840" y="2230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9040" y="28465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37040" y="28814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76520" y="534204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729880" y="2209680"/>
            <a:ext cx="715320" cy="1281240"/>
            <a:chOff x="2729880" y="2209680"/>
            <a:chExt cx="715320" cy="1281240"/>
          </a:xfrm>
        </p:grpSpPr>
        <p:sp>
          <p:nvSpPr>
            <p:cNvPr id="285" name=""/>
            <p:cNvSpPr/>
            <p:nvPr/>
          </p:nvSpPr>
          <p:spPr>
            <a:xfrm>
              <a:off x="2755440" y="2209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9880" y="27874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6960" y="28605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023920" y="39909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92000" y="3727440"/>
            <a:ext cx="715320" cy="1280880"/>
            <a:chOff x="2592000" y="3727440"/>
            <a:chExt cx="715320" cy="1280880"/>
          </a:xfrm>
        </p:grpSpPr>
        <p:sp>
          <p:nvSpPr>
            <p:cNvPr id="290" name=""/>
            <p:cNvSpPr/>
            <p:nvPr/>
          </p:nvSpPr>
          <p:spPr>
            <a:xfrm>
              <a:off x="2617560" y="3727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2000" y="4304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29080" y="43779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247120" y="1219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04480" y="1238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5280" y="2209680"/>
            <a:ext cx="609480" cy="1300320"/>
            <a:chOff x="1295280" y="2209680"/>
            <a:chExt cx="609480" cy="1300320"/>
          </a:xfrm>
        </p:grpSpPr>
        <p:sp>
          <p:nvSpPr>
            <p:cNvPr id="296" name=""/>
            <p:cNvSpPr/>
            <p:nvPr/>
          </p:nvSpPr>
          <p:spPr>
            <a:xfrm>
              <a:off x="1414080" y="2209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10840" y="28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5280" y="2841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189880" y="243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5400" y="243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3730680"/>
            <a:ext cx="609480" cy="1300320"/>
            <a:chOff x="1295280" y="3730680"/>
            <a:chExt cx="609480" cy="1300320"/>
          </a:xfrm>
        </p:grpSpPr>
        <p:sp>
          <p:nvSpPr>
            <p:cNvPr id="302" name=""/>
            <p:cNvSpPr/>
            <p:nvPr/>
          </p:nvSpPr>
          <p:spPr>
            <a:xfrm>
              <a:off x="1414080" y="3730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10840" y="4327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95280" y="4362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335760" y="4032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83160" y="39909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150880" y="3727440"/>
            <a:ext cx="715320" cy="1280880"/>
            <a:chOff x="5150880" y="3727440"/>
            <a:chExt cx="715320" cy="1280880"/>
          </a:xfrm>
        </p:grpSpPr>
        <p:sp>
          <p:nvSpPr>
            <p:cNvPr id="308" name=""/>
            <p:cNvSpPr/>
            <p:nvPr/>
          </p:nvSpPr>
          <p:spPr>
            <a:xfrm>
              <a:off x="5176440" y="3727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50880" y="4304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7960" y="43779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20680" y="3727440"/>
            <a:ext cx="715320" cy="1280880"/>
            <a:chOff x="3820680" y="3727440"/>
            <a:chExt cx="715320" cy="1280880"/>
          </a:xfrm>
        </p:grpSpPr>
        <p:sp>
          <p:nvSpPr>
            <p:cNvPr id="312" name=""/>
            <p:cNvSpPr/>
            <p:nvPr/>
          </p:nvSpPr>
          <p:spPr>
            <a:xfrm>
              <a:off x="3846240" y="3727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20680" y="4304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57760" y="43779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269360" y="5027760"/>
            <a:ext cx="689760" cy="1319400"/>
            <a:chOff x="1269360" y="5027760"/>
            <a:chExt cx="689760" cy="1319400"/>
          </a:xfrm>
        </p:grpSpPr>
        <p:sp>
          <p:nvSpPr>
            <p:cNvPr id="316" name=""/>
            <p:cNvSpPr/>
            <p:nvPr/>
          </p:nvSpPr>
          <p:spPr>
            <a:xfrm>
              <a:off x="1406160" y="5027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9360" y="5643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7360" y="5678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078280" y="53341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625840" y="5008680"/>
            <a:ext cx="609480" cy="1338120"/>
            <a:chOff x="2625840" y="5008680"/>
            <a:chExt cx="609480" cy="1338120"/>
          </a:xfrm>
        </p:grpSpPr>
        <p:sp>
          <p:nvSpPr>
            <p:cNvPr id="321" name=""/>
            <p:cNvSpPr/>
            <p:nvPr/>
          </p:nvSpPr>
          <p:spPr>
            <a:xfrm>
              <a:off x="2763720" y="5008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480" y="5643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25840" y="5678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62120" y="2251080"/>
            <a:ext cx="4308480" cy="1219320"/>
          </a:xfrm>
          <a:prstGeom prst="rect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0240" y="3754440"/>
            <a:ext cx="2728800" cy="1219320"/>
          </a:xfrm>
          <a:prstGeom prst="rect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方框部分可以省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47120" y="1219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0320" y="1239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371600" y="1006560"/>
            <a:ext cx="609480" cy="1300320"/>
            <a:chOff x="1371600" y="1006560"/>
            <a:chExt cx="609480" cy="1300320"/>
          </a:xfrm>
        </p:grpSpPr>
        <p:sp>
          <p:nvSpPr>
            <p:cNvPr id="331" name=""/>
            <p:cNvSpPr/>
            <p:nvPr/>
          </p:nvSpPr>
          <p:spPr>
            <a:xfrm>
              <a:off x="149040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8716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7160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895480" y="990720"/>
            <a:ext cx="609480" cy="1338480"/>
            <a:chOff x="2895480" y="990720"/>
            <a:chExt cx="609480" cy="1338480"/>
          </a:xfrm>
        </p:grpSpPr>
        <p:sp>
          <p:nvSpPr>
            <p:cNvPr id="335" name=""/>
            <p:cNvSpPr/>
            <p:nvPr/>
          </p:nvSpPr>
          <p:spPr>
            <a:xfrm>
              <a:off x="299520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3240" y="1625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071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6520" y="28386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6520" y="43308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77640" y="1254240"/>
            <a:ext cx="79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37080" y="1273320"/>
            <a:ext cx="9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89200" y="12952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191120" y="990720"/>
            <a:ext cx="609480" cy="1338480"/>
            <a:chOff x="4191120" y="990720"/>
            <a:chExt cx="609480" cy="1338480"/>
          </a:xfrm>
        </p:grpSpPr>
        <p:sp>
          <p:nvSpPr>
            <p:cNvPr id="345" name=""/>
            <p:cNvSpPr/>
            <p:nvPr/>
          </p:nvSpPr>
          <p:spPr>
            <a:xfrm>
              <a:off x="429084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68880" y="1625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9112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371600" y="2514600"/>
            <a:ext cx="609480" cy="1300320"/>
            <a:chOff x="1371600" y="2514600"/>
            <a:chExt cx="609480" cy="1300320"/>
          </a:xfrm>
        </p:grpSpPr>
        <p:sp>
          <p:nvSpPr>
            <p:cNvPr id="349" name=""/>
            <p:cNvSpPr/>
            <p:nvPr/>
          </p:nvSpPr>
          <p:spPr>
            <a:xfrm>
              <a:off x="1490400" y="2514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87160" y="3111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71600" y="31464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090520" y="27687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743200" y="2495520"/>
            <a:ext cx="609480" cy="1338480"/>
            <a:chOff x="2743200" y="2495520"/>
            <a:chExt cx="609480" cy="1338480"/>
          </a:xfrm>
        </p:grpSpPr>
        <p:sp>
          <p:nvSpPr>
            <p:cNvPr id="354" name=""/>
            <p:cNvSpPr/>
            <p:nvPr/>
          </p:nvSpPr>
          <p:spPr>
            <a:xfrm>
              <a:off x="2842920" y="2495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0960" y="3130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3200" y="3165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47920" y="3940200"/>
            <a:ext cx="609480" cy="1338480"/>
            <a:chOff x="1447920" y="3940200"/>
            <a:chExt cx="609480" cy="1338480"/>
          </a:xfrm>
        </p:grpSpPr>
        <p:sp>
          <p:nvSpPr>
            <p:cNvPr id="358" name=""/>
            <p:cNvSpPr/>
            <p:nvPr/>
          </p:nvSpPr>
          <p:spPr>
            <a:xfrm>
              <a:off x="1547640" y="3940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25680" y="4575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47920" y="46101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3:15:10Z</dcterms:created>
  <dc:creator>yangjiuling</dc:creator>
  <dc:description/>
  <dc:language>en-US</dc:language>
  <cp:lastModifiedBy>番茄花园</cp:lastModifiedBy>
  <dcterms:modified xsi:type="dcterms:W3CDTF">2008-01-03T08:08:08Z</dcterms:modified>
  <cp:revision>63</cp:revision>
  <dc:subject/>
  <dc:title>分数加减混合运算</dc:title>
</cp:coreProperties>
</file>