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76A9-B741-405C-97D4-610D3C95A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E254-B19E-4594-8BB4-4A7E97A59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73BF-8BE4-4ACF-B36D-C8702648E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65EA-8BFD-4409-AD00-08D90F555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34E92-81C0-4961-B48E-19043A4D6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3CAC3-99EA-4D3C-A36F-1C3FD3E34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4F28F-839D-4DC8-A66D-442A31E04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A6CB2-9D62-43FE-A94C-65CFE665F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9926E-0B08-48BB-A716-229678C3B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A75F1-2B96-475C-92BC-6491A8289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CBCA6-2BAC-44C6-B97B-E336F6BA9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7F08-C445-442B-8F7E-D90744EB4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36571-9C1F-4954-B029-503F07EE0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DA10D-26F1-4DBF-8D18-B4B06682E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15715-FEC0-4BFB-B72F-0D01A7A58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83B3F-4CEC-4391-ACCA-6C980B68C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A3011-ECD5-4D51-9875-87A6317BC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270F-0A5E-4B12-8158-1917F15E3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273A-4914-4715-B38F-678509493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0595-3574-46DE-B749-40CE0CA6C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010F-32F6-4765-A68A-6F03F98DD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A0C9-F1B9-4522-82D8-B5DCA7BEC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1D76-DF01-4A31-8181-E40B1CFE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F56E-92A0-41BF-B405-B59BF8EDA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A6888-EACA-464A-8521-449F0E3F1029}" type="slidenum">
              <a:rPr b="0" lang="zh-CN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E69EC-D22F-4054-9275-95D796A9EA48}" type="slidenum">
              <a:rPr b="0" lang="zh-CN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3962520" y="4191120"/>
            <a:ext cx="4190760" cy="1066680"/>
            <a:chOff x="3962520" y="4191120"/>
            <a:chExt cx="4190760" cy="1066680"/>
          </a:xfrm>
        </p:grpSpPr>
        <p:sp>
          <p:nvSpPr>
            <p:cNvPr id="109" name=""/>
            <p:cNvSpPr/>
            <p:nvPr/>
          </p:nvSpPr>
          <p:spPr>
            <a:xfrm>
              <a:off x="3962520" y="4191120"/>
              <a:ext cx="4190760" cy="10666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6699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0" name=""/>
            <p:cNvSpPr txBox="1"/>
            <p:nvPr/>
          </p:nvSpPr>
          <p:spPr>
            <a:xfrm>
              <a:off x="4267080" y="4419720"/>
              <a:ext cx="350496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1" strike="noStrike">
                  <a:ln w="0">
                    <a:noFill/>
                  </a:ln>
                  <a:gradFill rotWithShape="0">
                    <a:gsLst>
                      <a:gs pos="0">
                        <a:srgbClr val="9933ff"/>
                      </a:gs>
                      <a:gs pos="100000">
                        <a:srgbClr val="00ffff"/>
                      </a:gs>
                    </a:gsLst>
                    <a:path path="rect">
                      <a:fillToRect l="50000" t="50000" r="50000" b="50000"/>
                    </a:path>
                  </a:gra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黑体"/>
                </a:rPr>
                <a:t>分数加法</a:t>
              </a:r>
              <a:endParaRPr b="0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9933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黑体"/>
                <a:ea typeface="黑体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685800" y="914400"/>
            <a:ext cx="6934320" cy="916920"/>
          </a:xfrm>
          <a:prstGeom prst="rect">
            <a:avLst/>
          </a:prstGeom>
          <a:blipFill rotWithShape="0">
            <a:blip r:embed="rId2"/>
            <a:srcRect/>
            <a:stretch/>
          </a:blipFill>
          <a:ln w="28440">
            <a:solidFill>
              <a:srgbClr val="6699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整数加法运算定律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295280" y="1981080"/>
            <a:ext cx="4572000" cy="2057400"/>
            <a:chOff x="1295280" y="1981080"/>
            <a:chExt cx="4572000" cy="2057400"/>
          </a:xfrm>
        </p:grpSpPr>
        <p:sp>
          <p:nvSpPr>
            <p:cNvPr id="113" name=""/>
            <p:cNvSpPr/>
            <p:nvPr/>
          </p:nvSpPr>
          <p:spPr>
            <a:xfrm>
              <a:off x="1295280" y="1981080"/>
              <a:ext cx="0" cy="1218960"/>
            </a:xfrm>
            <a:prstGeom prst="line">
              <a:avLst/>
            </a:prstGeom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24080" y="2971440"/>
              <a:ext cx="1371600" cy="457200"/>
            </a:xfrm>
            <a:custGeom>
              <a:avLst/>
              <a:gdLst>
                <a:gd name="textAreaLeft" fmla="*/ 214200 w 1371600"/>
                <a:gd name="textAreaRight" fmla="*/ 848880 w 1371600"/>
                <a:gd name="textAreaTop" fmla="*/ 64440 h 457200"/>
                <a:gd name="textAreaBottom" fmla="*/ 3927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3050"/>
                  </a:moveTo>
                  <a:lnTo>
                    <a:pt x="10125" y="3050"/>
                  </a:lnTo>
                  <a:lnTo>
                    <a:pt x="10125" y="0"/>
                  </a:lnTo>
                  <a:lnTo>
                    <a:pt x="21600" y="10800"/>
                  </a:lnTo>
                  <a:lnTo>
                    <a:pt x="10125" y="21600"/>
                  </a:lnTo>
                  <a:lnTo>
                    <a:pt x="10125" y="18550"/>
                  </a:lnTo>
                  <a:lnTo>
                    <a:pt x="3375" y="18550"/>
                  </a:lnTo>
                  <a:close/>
                </a:path>
                <a:path w="21600" h="21600">
                  <a:moveTo>
                    <a:pt x="0" y="3050"/>
                  </a:moveTo>
                  <a:lnTo>
                    <a:pt x="675" y="3050"/>
                  </a:lnTo>
                  <a:lnTo>
                    <a:pt x="675" y="18550"/>
                  </a:lnTo>
                  <a:lnTo>
                    <a:pt x="0" y="18550"/>
                  </a:lnTo>
                  <a:close/>
                </a:path>
                <a:path w="21600" h="21600">
                  <a:moveTo>
                    <a:pt x="1350" y="3050"/>
                  </a:moveTo>
                  <a:lnTo>
                    <a:pt x="2700" y="3050"/>
                  </a:lnTo>
                  <a:lnTo>
                    <a:pt x="2700" y="18550"/>
                  </a:lnTo>
                  <a:lnTo>
                    <a:pt x="1350" y="1855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6699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295280" y="3200040"/>
              <a:ext cx="1676520" cy="0"/>
            </a:xfrm>
            <a:prstGeom prst="line">
              <a:avLst/>
            </a:prstGeom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724280" y="3124080"/>
              <a:ext cx="1143000" cy="0"/>
            </a:xfrm>
            <a:prstGeom prst="line">
              <a:avLst/>
            </a:prstGeom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867280" y="3124080"/>
              <a:ext cx="0" cy="914400"/>
            </a:xfrm>
            <a:prstGeom prst="line">
              <a:avLst/>
            </a:prstGeom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59520" y="495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复习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99072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8f8f8"/>
                </a:solidFill>
                <a:latin typeface="楷体_GB2312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f8f8f8"/>
                </a:solidFill>
                <a:latin typeface="楷体_GB2312"/>
                <a:ea typeface="楷体_GB2312"/>
              </a:rPr>
              <a:t>整数加法的运算定律有几个？用字母怎样表示？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438640" y="241632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99ff"/>
                </a:solidFill>
                <a:latin typeface="Times New Roman"/>
                <a:ea typeface="楷体_GB2312"/>
              </a:rPr>
              <a:t>整数加法的运算定律有两个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8560" y="3625920"/>
            <a:ext cx="444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8f8f8"/>
                </a:solidFill>
                <a:latin typeface="Times New Roman"/>
                <a:ea typeface="楷体_GB2312"/>
              </a:rPr>
              <a:t>加法交换律：</a:t>
            </a:r>
            <a:r>
              <a:rPr b="0" i="1" lang="en-US" sz="3600" spc="-1" strike="noStrike">
                <a:solidFill>
                  <a:srgbClr val="f8f8f8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f8f8f8"/>
                </a:solidFill>
                <a:latin typeface="宋体"/>
              </a:rPr>
              <a:t>＋</a:t>
            </a:r>
            <a:r>
              <a:rPr b="0" i="1" lang="en-US" sz="3600" spc="-1" strike="noStrike">
                <a:solidFill>
                  <a:srgbClr val="f8f8f8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f8f8f8"/>
                </a:solidFill>
                <a:latin typeface="宋体"/>
              </a:rPr>
              <a:t>＝</a:t>
            </a:r>
            <a:r>
              <a:rPr b="0" i="1" lang="en-US" sz="3600" spc="-1" strike="noStrike">
                <a:solidFill>
                  <a:srgbClr val="f8f8f8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f8f8f8"/>
                </a:solidFill>
                <a:latin typeface="宋体"/>
              </a:rPr>
              <a:t>＋</a:t>
            </a:r>
            <a:r>
              <a:rPr b="0" i="1" lang="en-US" sz="3600" spc="-1" strike="noStrike">
                <a:solidFill>
                  <a:srgbClr val="f8f8f8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f8f8f8"/>
                </a:solidFill>
                <a:latin typeface="Times New Roman"/>
                <a:ea typeface="楷体_GB2312"/>
              </a:rPr>
              <a:t>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74320" y="4692600"/>
            <a:ext cx="692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8f8f8"/>
                </a:solidFill>
                <a:latin typeface="Times New Roman"/>
                <a:ea typeface="楷体_GB2312"/>
              </a:rPr>
              <a:t>加法结合律：</a:t>
            </a: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（</a:t>
            </a:r>
            <a:r>
              <a:rPr b="0" i="1" lang="en-US" sz="3600" spc="-1" strike="noStrike">
                <a:solidFill>
                  <a:srgbClr val="f8f8f8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＋</a:t>
            </a:r>
            <a:r>
              <a:rPr b="0" i="1" lang="en-US" sz="3600" spc="-1" strike="noStrike">
                <a:solidFill>
                  <a:srgbClr val="f8f8f8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）＋</a:t>
            </a:r>
            <a:r>
              <a:rPr b="0" i="1" lang="en-US" sz="3600" spc="-1" strike="noStrike">
                <a:solidFill>
                  <a:srgbClr val="f8f8f8"/>
                </a:solidFill>
                <a:latin typeface="Times New Roman"/>
              </a:rPr>
              <a:t>c</a:t>
            </a: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＝</a:t>
            </a:r>
            <a:r>
              <a:rPr b="0" i="1" lang="en-US" sz="3600" spc="-1" strike="noStrike">
                <a:solidFill>
                  <a:srgbClr val="f8f8f8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＋（</a:t>
            </a:r>
            <a:r>
              <a:rPr b="0" i="1" lang="en-US" sz="3600" spc="-1" strike="noStrike">
                <a:solidFill>
                  <a:srgbClr val="f8f8f8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＋</a:t>
            </a:r>
            <a:r>
              <a:rPr b="0" i="1" lang="en-US" sz="3600" spc="-1" strike="noStrike">
                <a:solidFill>
                  <a:srgbClr val="f8f8f8"/>
                </a:solidFill>
                <a:latin typeface="Times New Roman"/>
              </a:rPr>
              <a:t>c</a:t>
            </a: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59520" y="495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复习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95600" y="990720"/>
            <a:ext cx="429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8f8f8"/>
                </a:solidFill>
                <a:latin typeface="Times New Roman"/>
                <a:ea typeface="楷体_GB2312"/>
              </a:rPr>
              <a:t>下面各等式应用了什么运算定律？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46920" y="1828800"/>
            <a:ext cx="82245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①</a:t>
            </a: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25</a:t>
            </a: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＋</a:t>
            </a: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36</a:t>
            </a: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＝</a:t>
            </a: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36</a:t>
            </a: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＋</a:t>
            </a: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25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②</a:t>
            </a: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（</a:t>
            </a: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17</a:t>
            </a: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＋</a:t>
            </a: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28</a:t>
            </a: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）＋ </a:t>
            </a: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72</a:t>
            </a: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＝</a:t>
            </a: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17 </a:t>
            </a: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＋（</a:t>
            </a: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28</a:t>
            </a: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＋</a:t>
            </a: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72</a:t>
            </a: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8f8f8"/>
                </a:solidFill>
                <a:latin typeface="宋体"/>
              </a:rPr>
              <a:t>③</a:t>
            </a: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6.2</a:t>
            </a:r>
            <a:r>
              <a:rPr b="0" lang="zh-CN" sz="3600" spc="-1" strike="noStrike">
                <a:solidFill>
                  <a:srgbClr val="f8f8f8"/>
                </a:solidFill>
                <a:latin typeface="宋体"/>
              </a:rPr>
              <a:t>＋</a:t>
            </a: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2.3</a:t>
            </a:r>
            <a:r>
              <a:rPr b="0" lang="zh-CN" sz="3600" spc="-1" strike="noStrike">
                <a:solidFill>
                  <a:srgbClr val="f8f8f8"/>
                </a:solidFill>
                <a:latin typeface="宋体"/>
              </a:rPr>
              <a:t>＝</a:t>
            </a: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2.3</a:t>
            </a:r>
            <a:r>
              <a:rPr b="0" lang="zh-CN" sz="3600" spc="-1" strike="noStrike">
                <a:solidFill>
                  <a:srgbClr val="f8f8f8"/>
                </a:solidFill>
                <a:latin typeface="宋体"/>
              </a:rPr>
              <a:t>＋</a:t>
            </a: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6.2  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8f8f8"/>
                </a:solidFill>
                <a:latin typeface="宋体"/>
              </a:rPr>
              <a:t>④</a:t>
            </a:r>
            <a:r>
              <a:rPr b="0" lang="zh-CN" sz="3600" spc="-1" strike="noStrike">
                <a:solidFill>
                  <a:srgbClr val="f8f8f8"/>
                </a:solidFill>
                <a:latin typeface="宋体"/>
              </a:rPr>
              <a:t>（</a:t>
            </a: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0.5</a:t>
            </a:r>
            <a:r>
              <a:rPr b="0" lang="zh-CN" sz="3600" spc="-1" strike="noStrike">
                <a:solidFill>
                  <a:srgbClr val="f8f8f8"/>
                </a:solidFill>
                <a:latin typeface="宋体"/>
              </a:rPr>
              <a:t>＋</a:t>
            </a: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1.6</a:t>
            </a:r>
            <a:r>
              <a:rPr b="0" lang="zh-CN" sz="3600" spc="-1" strike="noStrike">
                <a:solidFill>
                  <a:srgbClr val="f8f8f8"/>
                </a:solidFill>
                <a:latin typeface="宋体"/>
              </a:rPr>
              <a:t>）＋ </a:t>
            </a: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8.4</a:t>
            </a:r>
            <a:r>
              <a:rPr b="0" lang="zh-CN" sz="3600" spc="-1" strike="noStrike">
                <a:solidFill>
                  <a:srgbClr val="f8f8f8"/>
                </a:solidFill>
                <a:latin typeface="宋体"/>
              </a:rPr>
              <a:t>＝</a:t>
            </a: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0.5 </a:t>
            </a:r>
            <a:r>
              <a:rPr b="0" lang="zh-CN" sz="3600" spc="-1" strike="noStrike">
                <a:solidFill>
                  <a:srgbClr val="f8f8f8"/>
                </a:solidFill>
                <a:latin typeface="宋体"/>
              </a:rPr>
              <a:t>＋（</a:t>
            </a: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1.6</a:t>
            </a:r>
            <a:r>
              <a:rPr b="0" lang="zh-CN" sz="3600" spc="-1" strike="noStrike">
                <a:solidFill>
                  <a:srgbClr val="f8f8f8"/>
                </a:solidFill>
                <a:latin typeface="宋体"/>
              </a:rPr>
              <a:t>＋</a:t>
            </a: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8.4</a:t>
            </a:r>
            <a:r>
              <a:rPr b="0" lang="zh-CN" sz="3600" spc="-1" strike="noStrike">
                <a:solidFill>
                  <a:srgbClr val="f8f8f8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531960" y="23623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99ff"/>
                </a:solidFill>
                <a:latin typeface="Times New Roman"/>
                <a:ea typeface="楷体_GB2312"/>
              </a:rPr>
              <a:t>加法交换律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531960" y="35053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99ff"/>
                </a:solidFill>
                <a:latin typeface="Times New Roman"/>
                <a:ea typeface="楷体_GB2312"/>
              </a:rPr>
              <a:t>加法结合律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31960" y="45259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99ff"/>
                </a:solidFill>
                <a:latin typeface="Times New Roman"/>
                <a:ea typeface="楷体_GB2312"/>
              </a:rPr>
              <a:t>加法交换律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531960" y="56689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99ff"/>
                </a:solidFill>
                <a:latin typeface="Times New Roman"/>
                <a:ea typeface="楷体_GB2312"/>
              </a:rPr>
              <a:t>加法结合律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59520" y="495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复习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22000" y="1163520"/>
            <a:ext cx="456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楷体_GB2312"/>
                <a:ea typeface="楷体_GB2312"/>
              </a:rPr>
              <a:t>下面每组算式的左右两边有什么关系？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143000" y="1940040"/>
            <a:ext cx="609480" cy="1300320"/>
            <a:chOff x="1143000" y="1940040"/>
            <a:chExt cx="609480" cy="1300320"/>
          </a:xfrm>
        </p:grpSpPr>
        <p:sp>
          <p:nvSpPr>
            <p:cNvPr id="133" name=""/>
            <p:cNvSpPr/>
            <p:nvPr/>
          </p:nvSpPr>
          <p:spPr>
            <a:xfrm>
              <a:off x="1261440" y="194004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258200" y="253692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7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143000" y="2571840"/>
              <a:ext cx="60948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2438280" y="1905120"/>
            <a:ext cx="609480" cy="1338480"/>
            <a:chOff x="2438280" y="1905120"/>
            <a:chExt cx="609480" cy="1338480"/>
          </a:xfrm>
        </p:grpSpPr>
        <p:sp>
          <p:nvSpPr>
            <p:cNvPr id="137" name=""/>
            <p:cNvSpPr/>
            <p:nvPr/>
          </p:nvSpPr>
          <p:spPr>
            <a:xfrm>
              <a:off x="2576160" y="190512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72920" y="25401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5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38280" y="2575080"/>
              <a:ext cx="60948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835280" y="2197080"/>
            <a:ext cx="56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宋体"/>
              </a:rPr>
              <a:t>＋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5505480" y="1943280"/>
            <a:ext cx="609480" cy="1300320"/>
            <a:chOff x="5505480" y="1943280"/>
            <a:chExt cx="609480" cy="1300320"/>
          </a:xfrm>
        </p:grpSpPr>
        <p:sp>
          <p:nvSpPr>
            <p:cNvPr id="142" name=""/>
            <p:cNvSpPr/>
            <p:nvPr/>
          </p:nvSpPr>
          <p:spPr>
            <a:xfrm>
              <a:off x="5623920" y="19432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620680" y="25401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7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505480" y="2575080"/>
              <a:ext cx="60948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267080" y="1908000"/>
            <a:ext cx="609480" cy="1338480"/>
            <a:chOff x="4267080" y="1908000"/>
            <a:chExt cx="609480" cy="1338480"/>
          </a:xfrm>
        </p:grpSpPr>
        <p:sp>
          <p:nvSpPr>
            <p:cNvPr id="146" name=""/>
            <p:cNvSpPr/>
            <p:nvPr/>
          </p:nvSpPr>
          <p:spPr>
            <a:xfrm>
              <a:off x="4404960" y="19080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401720" y="254304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5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267080" y="2577960"/>
              <a:ext cx="60948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4959360" y="2200320"/>
            <a:ext cx="56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宋体"/>
              </a:rPr>
              <a:t>＋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76520" y="3664080"/>
            <a:ext cx="76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宋体"/>
              </a:rPr>
              <a:t>＋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1143000" y="3413160"/>
            <a:ext cx="609480" cy="1300320"/>
            <a:chOff x="1143000" y="3413160"/>
            <a:chExt cx="609480" cy="1300320"/>
          </a:xfrm>
        </p:grpSpPr>
        <p:sp>
          <p:nvSpPr>
            <p:cNvPr id="152" name=""/>
            <p:cNvSpPr/>
            <p:nvPr/>
          </p:nvSpPr>
          <p:spPr>
            <a:xfrm>
              <a:off x="1261800" y="34131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258560" y="401004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143000" y="4044960"/>
              <a:ext cx="60948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646920" y="36226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8f8f8"/>
                </a:solidFill>
                <a:latin typeface="Times New Roman"/>
              </a:rPr>
              <a:t>（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971080" y="36226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8f8f8"/>
                </a:solidFill>
                <a:latin typeface="Times New Roman"/>
              </a:rPr>
              <a:t>）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124080" y="3679920"/>
            <a:ext cx="76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宋体"/>
              </a:rPr>
              <a:t>＋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733920" y="3375000"/>
            <a:ext cx="609480" cy="1300320"/>
            <a:chOff x="3733920" y="3375000"/>
            <a:chExt cx="609480" cy="1300320"/>
          </a:xfrm>
        </p:grpSpPr>
        <p:sp>
          <p:nvSpPr>
            <p:cNvPr id="159" name=""/>
            <p:cNvSpPr/>
            <p:nvPr/>
          </p:nvSpPr>
          <p:spPr>
            <a:xfrm>
              <a:off x="3833640" y="33750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811680" y="39718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4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733920" y="4044960"/>
              <a:ext cx="60948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5848200" y="3679920"/>
            <a:ext cx="76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宋体"/>
              </a:rPr>
              <a:t>＋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257800" y="3413160"/>
            <a:ext cx="609480" cy="1300320"/>
            <a:chOff x="5257800" y="3413160"/>
            <a:chExt cx="609480" cy="1300320"/>
          </a:xfrm>
        </p:grpSpPr>
        <p:sp>
          <p:nvSpPr>
            <p:cNvPr id="164" name=""/>
            <p:cNvSpPr/>
            <p:nvPr/>
          </p:nvSpPr>
          <p:spPr>
            <a:xfrm>
              <a:off x="5376600" y="34131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73360" y="401004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57800" y="4044960"/>
              <a:ext cx="60948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171480" y="364176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8f8f8"/>
                </a:solidFill>
                <a:latin typeface="Times New Roman"/>
              </a:rPr>
              <a:t>（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62080" y="364176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8f8f8"/>
                </a:solidFill>
                <a:latin typeface="Times New Roman"/>
              </a:rPr>
              <a:t>）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629400" y="3375000"/>
            <a:ext cx="609480" cy="1338480"/>
            <a:chOff x="6629400" y="3375000"/>
            <a:chExt cx="609480" cy="1338480"/>
          </a:xfrm>
        </p:grpSpPr>
        <p:sp>
          <p:nvSpPr>
            <p:cNvPr id="170" name=""/>
            <p:cNvSpPr/>
            <p:nvPr/>
          </p:nvSpPr>
          <p:spPr>
            <a:xfrm>
              <a:off x="6726240" y="33750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707160" y="401004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4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629400" y="4044960"/>
              <a:ext cx="60948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7162920" y="3679920"/>
            <a:ext cx="76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宋体"/>
              </a:rPr>
              <a:t>＋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7772400" y="3375000"/>
            <a:ext cx="609480" cy="1300320"/>
            <a:chOff x="7772400" y="3375000"/>
            <a:chExt cx="609480" cy="1300320"/>
          </a:xfrm>
        </p:grpSpPr>
        <p:sp>
          <p:nvSpPr>
            <p:cNvPr id="175" name=""/>
            <p:cNvSpPr/>
            <p:nvPr/>
          </p:nvSpPr>
          <p:spPr>
            <a:xfrm>
              <a:off x="7872120" y="33750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850160" y="39718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4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772400" y="4044960"/>
              <a:ext cx="60948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3459960" y="2216160"/>
            <a:ext cx="60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宋体"/>
              </a:rPr>
              <a:t>＝</a:t>
            </a: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90360" y="3683160"/>
            <a:ext cx="60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宋体"/>
              </a:rPr>
              <a:t>＝</a:t>
            </a: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345760" y="5288040"/>
            <a:ext cx="464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99ff"/>
                </a:solidFill>
                <a:latin typeface="楷体_GB2312"/>
                <a:ea typeface="楷体_GB2312"/>
              </a:rPr>
              <a:t>整数加法运算定律，对分数加法同样适用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2362320" y="3373560"/>
            <a:ext cx="609480" cy="1338480"/>
            <a:chOff x="2362320" y="3373560"/>
            <a:chExt cx="609480" cy="1338480"/>
          </a:xfrm>
        </p:grpSpPr>
        <p:sp>
          <p:nvSpPr>
            <p:cNvPr id="182" name=""/>
            <p:cNvSpPr/>
            <p:nvPr/>
          </p:nvSpPr>
          <p:spPr>
            <a:xfrm>
              <a:off x="2459160" y="33735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440080" y="40086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4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62320" y="4043520"/>
              <a:ext cx="60948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59520" y="495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新授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447920" y="1143000"/>
            <a:ext cx="609480" cy="1300320"/>
            <a:chOff x="1447920" y="1143000"/>
            <a:chExt cx="609480" cy="1300320"/>
          </a:xfrm>
        </p:grpSpPr>
        <p:sp>
          <p:nvSpPr>
            <p:cNvPr id="187" name=""/>
            <p:cNvSpPr/>
            <p:nvPr/>
          </p:nvSpPr>
          <p:spPr>
            <a:xfrm>
              <a:off x="1566360" y="11430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563120" y="17398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7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447920" y="1774800"/>
              <a:ext cx="60948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2139840" y="1400040"/>
            <a:ext cx="56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宋体"/>
              </a:rPr>
              <a:t>＋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511440" y="1409760"/>
            <a:ext cx="56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宋体"/>
              </a:rPr>
              <a:t>＋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41400" y="27558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Times New Roman"/>
              </a:rPr>
              <a:t>（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360600" y="27367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5486400" y="1104840"/>
            <a:ext cx="609480" cy="1338480"/>
            <a:chOff x="5486400" y="1104840"/>
            <a:chExt cx="609480" cy="1338480"/>
          </a:xfrm>
        </p:grpSpPr>
        <p:sp>
          <p:nvSpPr>
            <p:cNvPr id="195" name=""/>
            <p:cNvSpPr/>
            <p:nvPr/>
          </p:nvSpPr>
          <p:spPr>
            <a:xfrm>
              <a:off x="5583240" y="110484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564160" y="17398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4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486400" y="1774800"/>
              <a:ext cx="60948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4794120" y="1393920"/>
            <a:ext cx="76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宋体"/>
              </a:rPr>
              <a:t>＋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2743200" y="1104840"/>
            <a:ext cx="609480" cy="1300320"/>
            <a:chOff x="2743200" y="1104840"/>
            <a:chExt cx="609480" cy="1300320"/>
          </a:xfrm>
        </p:grpSpPr>
        <p:sp>
          <p:nvSpPr>
            <p:cNvPr id="200" name=""/>
            <p:cNvSpPr/>
            <p:nvPr/>
          </p:nvSpPr>
          <p:spPr>
            <a:xfrm>
              <a:off x="2842920" y="110484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820960" y="170172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4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743200" y="1774800"/>
              <a:ext cx="60948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4152960" y="1143000"/>
            <a:ext cx="609480" cy="1300320"/>
            <a:chOff x="4152960" y="1143000"/>
            <a:chExt cx="609480" cy="1300320"/>
          </a:xfrm>
        </p:grpSpPr>
        <p:sp>
          <p:nvSpPr>
            <p:cNvPr id="204" name=""/>
            <p:cNvSpPr/>
            <p:nvPr/>
          </p:nvSpPr>
          <p:spPr>
            <a:xfrm>
              <a:off x="4271400" y="11430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268160" y="17398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7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152960" y="1774800"/>
              <a:ext cx="60948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634320" y="2743200"/>
            <a:ext cx="60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宋体"/>
              </a:rPr>
              <a:t>＝</a:t>
            </a: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1447920" y="2457360"/>
            <a:ext cx="609480" cy="1300320"/>
            <a:chOff x="1447920" y="2457360"/>
            <a:chExt cx="609480" cy="1300320"/>
          </a:xfrm>
        </p:grpSpPr>
        <p:sp>
          <p:nvSpPr>
            <p:cNvPr id="209" name=""/>
            <p:cNvSpPr/>
            <p:nvPr/>
          </p:nvSpPr>
          <p:spPr>
            <a:xfrm>
              <a:off x="1566360" y="24573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563120" y="305424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7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447920" y="3089160"/>
              <a:ext cx="60948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2120760" y="2708280"/>
            <a:ext cx="56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宋体"/>
              </a:rPr>
              <a:t>＋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2743200" y="2457360"/>
            <a:ext cx="609480" cy="1300320"/>
            <a:chOff x="2743200" y="2457360"/>
            <a:chExt cx="609480" cy="1300320"/>
          </a:xfrm>
        </p:grpSpPr>
        <p:sp>
          <p:nvSpPr>
            <p:cNvPr id="214" name=""/>
            <p:cNvSpPr/>
            <p:nvPr/>
          </p:nvSpPr>
          <p:spPr>
            <a:xfrm>
              <a:off x="2861640" y="24573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858400" y="305424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7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743200" y="3089160"/>
              <a:ext cx="60948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4135320" y="27558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Times New Roman"/>
              </a:rPr>
              <a:t>（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573960" y="27367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334120" y="2727360"/>
            <a:ext cx="56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宋体"/>
              </a:rPr>
              <a:t>＋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4648320" y="2435400"/>
            <a:ext cx="609480" cy="1300320"/>
            <a:chOff x="4648320" y="2435400"/>
            <a:chExt cx="609480" cy="1300320"/>
          </a:xfrm>
        </p:grpSpPr>
        <p:sp>
          <p:nvSpPr>
            <p:cNvPr id="221" name=""/>
            <p:cNvSpPr/>
            <p:nvPr/>
          </p:nvSpPr>
          <p:spPr>
            <a:xfrm>
              <a:off x="4748040" y="24354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726080" y="30322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4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648320" y="3105360"/>
              <a:ext cx="60948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943600" y="2438280"/>
            <a:ext cx="609480" cy="1338480"/>
            <a:chOff x="5943600" y="2438280"/>
            <a:chExt cx="609480" cy="1338480"/>
          </a:xfrm>
        </p:grpSpPr>
        <p:sp>
          <p:nvSpPr>
            <p:cNvPr id="225" name=""/>
            <p:cNvSpPr/>
            <p:nvPr/>
          </p:nvSpPr>
          <p:spPr>
            <a:xfrm>
              <a:off x="6040440" y="24382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021360" y="307332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4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943600" y="3108240"/>
              <a:ext cx="60948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3753000" y="2708280"/>
            <a:ext cx="56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宋体"/>
              </a:rPr>
              <a:t>＋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34320" y="4930920"/>
            <a:ext cx="60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宋体"/>
              </a:rPr>
              <a:t>＝</a:t>
            </a: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1295280" y="4645080"/>
            <a:ext cx="609840" cy="1300320"/>
            <a:chOff x="1295280" y="4645080"/>
            <a:chExt cx="609840" cy="1300320"/>
          </a:xfrm>
        </p:grpSpPr>
        <p:sp>
          <p:nvSpPr>
            <p:cNvPr id="231" name=""/>
            <p:cNvSpPr/>
            <p:nvPr/>
          </p:nvSpPr>
          <p:spPr>
            <a:xfrm>
              <a:off x="1414440" y="464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411200" y="52419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7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295280" y="5276880"/>
              <a:ext cx="60984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2006640" y="4915080"/>
            <a:ext cx="56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宋体"/>
              </a:rPr>
              <a:t>＋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439360" y="48769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8f8f8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318040" y="396252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99ff"/>
                </a:solidFill>
                <a:latin typeface="Times New Roman"/>
                <a:ea typeface="楷体_GB2312"/>
              </a:rPr>
              <a:t>同时应用了交换律和结合律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1104840" y="2438280"/>
            <a:ext cx="5791320" cy="1219320"/>
            <a:chOff x="1104840" y="2438280"/>
            <a:chExt cx="5791320" cy="1219320"/>
          </a:xfrm>
        </p:grpSpPr>
        <p:sp>
          <p:nvSpPr>
            <p:cNvPr id="238" name=""/>
            <p:cNvSpPr/>
            <p:nvPr/>
          </p:nvSpPr>
          <p:spPr>
            <a:xfrm>
              <a:off x="1104840" y="2438280"/>
              <a:ext cx="2590920" cy="121932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305240" y="2438280"/>
              <a:ext cx="2590920" cy="121932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2362320" y="3657600"/>
            <a:ext cx="3200400" cy="304920"/>
            <a:chOff x="2362320" y="3657600"/>
            <a:chExt cx="3200400" cy="304920"/>
          </a:xfrm>
        </p:grpSpPr>
        <p:sp>
          <p:nvSpPr>
            <p:cNvPr id="241" name=""/>
            <p:cNvSpPr/>
            <p:nvPr/>
          </p:nvSpPr>
          <p:spPr>
            <a:xfrm>
              <a:off x="2362320" y="3657600"/>
              <a:ext cx="0" cy="3049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562720" y="3657600"/>
              <a:ext cx="0" cy="3049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913840" y="4933800"/>
            <a:ext cx="60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宋体"/>
              </a:rPr>
              <a:t>＝</a:t>
            </a: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3353760" y="4648320"/>
            <a:ext cx="913320" cy="1300320"/>
            <a:chOff x="3353760" y="4648320"/>
            <a:chExt cx="913320" cy="1300320"/>
          </a:xfrm>
        </p:grpSpPr>
        <p:grpSp>
          <p:nvGrpSpPr>
            <p:cNvPr id="245" name=""/>
            <p:cNvGrpSpPr/>
            <p:nvPr/>
          </p:nvGrpSpPr>
          <p:grpSpPr>
            <a:xfrm>
              <a:off x="3657600" y="4648320"/>
              <a:ext cx="609480" cy="1300320"/>
              <a:chOff x="3657600" y="4648320"/>
              <a:chExt cx="609480" cy="1300320"/>
            </a:xfrm>
          </p:grpSpPr>
          <p:sp>
            <p:nvSpPr>
              <p:cNvPr id="246" name=""/>
              <p:cNvSpPr/>
              <p:nvPr/>
            </p:nvSpPr>
            <p:spPr>
              <a:xfrm>
                <a:off x="3776040" y="4648320"/>
                <a:ext cx="4352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000" spc="-1" strike="noStrike">
                    <a:solidFill>
                      <a:srgbClr val="f8f8f8"/>
                    </a:solidFill>
                    <a:latin typeface="Times New Roman"/>
                  </a:rPr>
                  <a:t>3</a:t>
                </a:r>
                <a:endParaRPr b="0" lang="en-US" sz="40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772800" y="5245200"/>
                <a:ext cx="4352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000" spc="-1" strike="noStrike">
                    <a:solidFill>
                      <a:srgbClr val="f8f8f8"/>
                    </a:solidFill>
                    <a:latin typeface="Times New Roman"/>
                  </a:rPr>
                  <a:t>7</a:t>
                </a:r>
                <a:endParaRPr b="0" lang="en-US" sz="40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657600" y="5280120"/>
                <a:ext cx="609480" cy="0"/>
              </a:xfrm>
              <a:prstGeom prst="line">
                <a:avLst/>
              </a:prstGeom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>
              <a:off x="3353760" y="4879800"/>
              <a:ext cx="461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8f8f8"/>
                  </a:solidFill>
                  <a:latin typeface="Times New Roman"/>
                </a:rPr>
                <a:t>1</a:t>
              </a:r>
              <a:endParaRPr b="0" lang="en-US" sz="4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659520" y="495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小结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469520" y="1371600"/>
            <a:ext cx="6325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8f8f8"/>
                </a:solidFill>
                <a:latin typeface="Times New Roman"/>
                <a:ea typeface="楷体_GB2312"/>
              </a:rPr>
              <a:t>       </a:t>
            </a:r>
            <a:r>
              <a:rPr b="0" lang="zh-CN" sz="3600" spc="-1" strike="noStrike">
                <a:solidFill>
                  <a:srgbClr val="f8f8f8"/>
                </a:solidFill>
                <a:latin typeface="Times New Roman"/>
                <a:ea typeface="楷体_GB2312"/>
              </a:rPr>
              <a:t>应用整数加法的运算定律可以把分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8f8f8"/>
                </a:solidFill>
                <a:latin typeface="Times New Roman"/>
                <a:ea typeface="楷体_GB2312"/>
              </a:rPr>
              <a:t>母相同的分数先加起来，或凑成整数再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8f8f8"/>
                </a:solidFill>
                <a:latin typeface="Times New Roman"/>
                <a:ea typeface="楷体_GB2312"/>
              </a:rPr>
              <a:t>计算比较简便．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659520" y="495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练习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1447920" y="1143000"/>
            <a:ext cx="609480" cy="1300320"/>
            <a:chOff x="1447920" y="1143000"/>
            <a:chExt cx="609480" cy="1300320"/>
          </a:xfrm>
        </p:grpSpPr>
        <p:sp>
          <p:nvSpPr>
            <p:cNvPr id="254" name=""/>
            <p:cNvSpPr/>
            <p:nvPr/>
          </p:nvSpPr>
          <p:spPr>
            <a:xfrm>
              <a:off x="1566360" y="11430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563120" y="17398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5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447920" y="1774800"/>
              <a:ext cx="60948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2139840" y="1400040"/>
            <a:ext cx="56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宋体"/>
              </a:rPr>
              <a:t>＋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4114800" y="1104840"/>
            <a:ext cx="609480" cy="1338480"/>
            <a:chOff x="4114800" y="1104840"/>
            <a:chExt cx="609480" cy="1338480"/>
          </a:xfrm>
        </p:grpSpPr>
        <p:sp>
          <p:nvSpPr>
            <p:cNvPr id="259" name=""/>
            <p:cNvSpPr/>
            <p:nvPr/>
          </p:nvSpPr>
          <p:spPr>
            <a:xfrm>
              <a:off x="4211640" y="110484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92560" y="17398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5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114800" y="1774800"/>
              <a:ext cx="60948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3429000" y="1393920"/>
            <a:ext cx="76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宋体"/>
              </a:rPr>
              <a:t>＋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2743200" y="1143000"/>
            <a:ext cx="609480" cy="1300320"/>
            <a:chOff x="2743200" y="1143000"/>
            <a:chExt cx="609480" cy="1300320"/>
          </a:xfrm>
        </p:grpSpPr>
        <p:sp>
          <p:nvSpPr>
            <p:cNvPr id="264" name=""/>
            <p:cNvSpPr/>
            <p:nvPr/>
          </p:nvSpPr>
          <p:spPr>
            <a:xfrm>
              <a:off x="2861640" y="11430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858400" y="17398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743200" y="1774800"/>
              <a:ext cx="60948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941400" y="27558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Times New Roman"/>
              </a:rPr>
              <a:t>（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360600" y="27367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34320" y="2743200"/>
            <a:ext cx="60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宋体"/>
              </a:rPr>
              <a:t>＝</a:t>
            </a: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1447920" y="2457360"/>
            <a:ext cx="609480" cy="1300320"/>
            <a:chOff x="1447920" y="2457360"/>
            <a:chExt cx="609480" cy="1300320"/>
          </a:xfrm>
        </p:grpSpPr>
        <p:sp>
          <p:nvSpPr>
            <p:cNvPr id="271" name=""/>
            <p:cNvSpPr/>
            <p:nvPr/>
          </p:nvSpPr>
          <p:spPr>
            <a:xfrm>
              <a:off x="1566360" y="24573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563120" y="305424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5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447920" y="3089160"/>
              <a:ext cx="60948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2120760" y="2708280"/>
            <a:ext cx="56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宋体"/>
              </a:rPr>
              <a:t>＋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2705040" y="2416320"/>
            <a:ext cx="609480" cy="1300320"/>
            <a:chOff x="2705040" y="2416320"/>
            <a:chExt cx="609480" cy="1300320"/>
          </a:xfrm>
        </p:grpSpPr>
        <p:sp>
          <p:nvSpPr>
            <p:cNvPr id="276" name=""/>
            <p:cNvSpPr/>
            <p:nvPr/>
          </p:nvSpPr>
          <p:spPr>
            <a:xfrm>
              <a:off x="2804760" y="241632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782800" y="30132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5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705040" y="3086280"/>
              <a:ext cx="60948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3753000" y="2708280"/>
            <a:ext cx="56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宋体"/>
              </a:rPr>
              <a:t>＋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419720" y="2454120"/>
            <a:ext cx="609480" cy="1300320"/>
            <a:chOff x="4419720" y="2454120"/>
            <a:chExt cx="609480" cy="1300320"/>
          </a:xfrm>
        </p:grpSpPr>
        <p:sp>
          <p:nvSpPr>
            <p:cNvPr id="281" name=""/>
            <p:cNvSpPr/>
            <p:nvPr/>
          </p:nvSpPr>
          <p:spPr>
            <a:xfrm>
              <a:off x="4538160" y="245412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34920" y="30510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419720" y="3085920"/>
              <a:ext cx="60948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634320" y="4251240"/>
            <a:ext cx="60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宋体"/>
              </a:rPr>
              <a:t>＝</a:t>
            </a: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1067760" y="3959280"/>
            <a:ext cx="910080" cy="1300320"/>
            <a:chOff x="1067760" y="3959280"/>
            <a:chExt cx="910080" cy="1300320"/>
          </a:xfrm>
        </p:grpSpPr>
        <p:grpSp>
          <p:nvGrpSpPr>
            <p:cNvPr id="286" name=""/>
            <p:cNvGrpSpPr/>
            <p:nvPr/>
          </p:nvGrpSpPr>
          <p:grpSpPr>
            <a:xfrm>
              <a:off x="1368360" y="3959280"/>
              <a:ext cx="609480" cy="1300320"/>
              <a:chOff x="1368360" y="3959280"/>
              <a:chExt cx="609480" cy="1300320"/>
            </a:xfrm>
          </p:grpSpPr>
          <p:sp>
            <p:nvSpPr>
              <p:cNvPr id="287" name=""/>
              <p:cNvSpPr/>
              <p:nvPr/>
            </p:nvSpPr>
            <p:spPr>
              <a:xfrm>
                <a:off x="1486800" y="3959280"/>
                <a:ext cx="4352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000" spc="-1" strike="noStrike">
                    <a:solidFill>
                      <a:srgbClr val="f8f8f8"/>
                    </a:solidFill>
                    <a:latin typeface="Times New Roman"/>
                  </a:rPr>
                  <a:t>1</a:t>
                </a:r>
                <a:endParaRPr b="0" lang="en-US" sz="40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483560" y="4556160"/>
                <a:ext cx="4352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000" spc="-1" strike="noStrike">
                    <a:solidFill>
                      <a:srgbClr val="f8f8f8"/>
                    </a:solidFill>
                    <a:latin typeface="Times New Roman"/>
                  </a:rPr>
                  <a:t>3</a:t>
                </a:r>
                <a:endParaRPr b="0" lang="en-US" sz="40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368360" y="4591080"/>
                <a:ext cx="609480" cy="0"/>
              </a:xfrm>
              <a:prstGeom prst="line">
                <a:avLst/>
              </a:prstGeom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1067760" y="4214880"/>
              <a:ext cx="461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8f8f8"/>
                  </a:solidFill>
                  <a:latin typeface="Times New Roman"/>
                </a:rPr>
                <a:t>1</a:t>
              </a:r>
              <a:endParaRPr b="0" lang="en-US" sz="4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659520" y="495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练习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5410080" y="1143000"/>
            <a:ext cx="609840" cy="1300320"/>
            <a:chOff x="5410080" y="1143000"/>
            <a:chExt cx="609840" cy="1300320"/>
          </a:xfrm>
        </p:grpSpPr>
        <p:sp>
          <p:nvSpPr>
            <p:cNvPr id="293" name=""/>
            <p:cNvSpPr/>
            <p:nvPr/>
          </p:nvSpPr>
          <p:spPr>
            <a:xfrm>
              <a:off x="5529240" y="11430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526000" y="17398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410080" y="1774800"/>
              <a:ext cx="60984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2139840" y="1400040"/>
            <a:ext cx="56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宋体"/>
              </a:rPr>
              <a:t>＋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429000" y="1393920"/>
            <a:ext cx="76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宋体"/>
              </a:rPr>
              <a:t>＋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2743200" y="1143000"/>
            <a:ext cx="609480" cy="1300320"/>
            <a:chOff x="2743200" y="1143000"/>
            <a:chExt cx="609480" cy="1300320"/>
          </a:xfrm>
        </p:grpSpPr>
        <p:sp>
          <p:nvSpPr>
            <p:cNvPr id="299" name=""/>
            <p:cNvSpPr/>
            <p:nvPr/>
          </p:nvSpPr>
          <p:spPr>
            <a:xfrm>
              <a:off x="2861640" y="11430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858400" y="17398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743200" y="1774800"/>
              <a:ext cx="60948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941400" y="27558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Times New Roman"/>
              </a:rPr>
              <a:t>（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360600" y="27367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34320" y="2743200"/>
            <a:ext cx="60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宋体"/>
              </a:rPr>
              <a:t>＝</a:t>
            </a: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120760" y="2708280"/>
            <a:ext cx="56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宋体"/>
              </a:rPr>
              <a:t>＋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53000" y="2708280"/>
            <a:ext cx="56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宋体"/>
              </a:rPr>
              <a:t>＋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4419720" y="2454120"/>
            <a:ext cx="609480" cy="1300320"/>
            <a:chOff x="4419720" y="2454120"/>
            <a:chExt cx="609480" cy="1300320"/>
          </a:xfrm>
        </p:grpSpPr>
        <p:sp>
          <p:nvSpPr>
            <p:cNvPr id="308" name=""/>
            <p:cNvSpPr/>
            <p:nvPr/>
          </p:nvSpPr>
          <p:spPr>
            <a:xfrm>
              <a:off x="4538160" y="245412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534920" y="30510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419720" y="3085920"/>
              <a:ext cx="60948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634320" y="4102200"/>
            <a:ext cx="60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宋体"/>
              </a:rPr>
              <a:t>＝</a:t>
            </a: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1295280" y="3809880"/>
            <a:ext cx="609840" cy="1300320"/>
            <a:chOff x="1295280" y="3809880"/>
            <a:chExt cx="609840" cy="1300320"/>
          </a:xfrm>
        </p:grpSpPr>
        <p:sp>
          <p:nvSpPr>
            <p:cNvPr id="313" name=""/>
            <p:cNvSpPr/>
            <p:nvPr/>
          </p:nvSpPr>
          <p:spPr>
            <a:xfrm>
              <a:off x="1414440" y="38098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411200" y="44067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295280" y="4441680"/>
              <a:ext cx="60984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2439360" y="40654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8f8f8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1447920" y="1143000"/>
            <a:ext cx="609480" cy="1300320"/>
            <a:chOff x="1447920" y="1143000"/>
            <a:chExt cx="609480" cy="1300320"/>
          </a:xfrm>
        </p:grpSpPr>
        <p:sp>
          <p:nvSpPr>
            <p:cNvPr id="318" name=""/>
            <p:cNvSpPr/>
            <p:nvPr/>
          </p:nvSpPr>
          <p:spPr>
            <a:xfrm>
              <a:off x="1566720" y="11430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563480" y="17398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4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447920" y="1774800"/>
              <a:ext cx="60948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4114800" y="1143000"/>
            <a:ext cx="609480" cy="1300320"/>
            <a:chOff x="4114800" y="1143000"/>
            <a:chExt cx="609480" cy="1300320"/>
          </a:xfrm>
        </p:grpSpPr>
        <p:sp>
          <p:nvSpPr>
            <p:cNvPr id="322" name=""/>
            <p:cNvSpPr/>
            <p:nvPr/>
          </p:nvSpPr>
          <p:spPr>
            <a:xfrm>
              <a:off x="4233600" y="11430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230360" y="17398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4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114800" y="1774800"/>
              <a:ext cx="60948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4718160" y="1409760"/>
            <a:ext cx="76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宋体"/>
              </a:rPr>
              <a:t>＋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1447920" y="2454120"/>
            <a:ext cx="609480" cy="1300320"/>
            <a:chOff x="1447920" y="2454120"/>
            <a:chExt cx="609480" cy="1300320"/>
          </a:xfrm>
        </p:grpSpPr>
        <p:sp>
          <p:nvSpPr>
            <p:cNvPr id="327" name=""/>
            <p:cNvSpPr/>
            <p:nvPr/>
          </p:nvSpPr>
          <p:spPr>
            <a:xfrm>
              <a:off x="1566720" y="245412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563480" y="30510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4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447920" y="3085920"/>
              <a:ext cx="60948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2743200" y="2457360"/>
            <a:ext cx="609480" cy="1300320"/>
            <a:chOff x="2743200" y="2457360"/>
            <a:chExt cx="609480" cy="1300320"/>
          </a:xfrm>
        </p:grpSpPr>
        <p:sp>
          <p:nvSpPr>
            <p:cNvPr id="331" name=""/>
            <p:cNvSpPr/>
            <p:nvPr/>
          </p:nvSpPr>
          <p:spPr>
            <a:xfrm>
              <a:off x="2862000" y="24573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858760" y="305424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4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743200" y="3089160"/>
              <a:ext cx="60948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4002120" y="27432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Times New Roman"/>
              </a:rPr>
              <a:t>（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275520" y="27432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124600" y="2724120"/>
            <a:ext cx="56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宋体"/>
              </a:rPr>
              <a:t>＋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5676840" y="2454120"/>
            <a:ext cx="609840" cy="1300320"/>
            <a:chOff x="5676840" y="2454120"/>
            <a:chExt cx="609840" cy="1300320"/>
          </a:xfrm>
        </p:grpSpPr>
        <p:sp>
          <p:nvSpPr>
            <p:cNvPr id="338" name=""/>
            <p:cNvSpPr/>
            <p:nvPr/>
          </p:nvSpPr>
          <p:spPr>
            <a:xfrm>
              <a:off x="5796000" y="245412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792760" y="30510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676840" y="3085920"/>
              <a:ext cx="60984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634320" y="5394240"/>
            <a:ext cx="60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宋体"/>
              </a:rPr>
              <a:t>＝</a:t>
            </a: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1067760" y="5102280"/>
            <a:ext cx="910440" cy="1300320"/>
            <a:chOff x="1067760" y="5102280"/>
            <a:chExt cx="910440" cy="1300320"/>
          </a:xfrm>
        </p:grpSpPr>
        <p:grpSp>
          <p:nvGrpSpPr>
            <p:cNvPr id="343" name=""/>
            <p:cNvGrpSpPr/>
            <p:nvPr/>
          </p:nvGrpSpPr>
          <p:grpSpPr>
            <a:xfrm>
              <a:off x="1368360" y="5102280"/>
              <a:ext cx="609840" cy="1300320"/>
              <a:chOff x="1368360" y="5102280"/>
              <a:chExt cx="609840" cy="1300320"/>
            </a:xfrm>
          </p:grpSpPr>
          <p:sp>
            <p:nvSpPr>
              <p:cNvPr id="344" name=""/>
              <p:cNvSpPr/>
              <p:nvPr/>
            </p:nvSpPr>
            <p:spPr>
              <a:xfrm>
                <a:off x="1487520" y="5102280"/>
                <a:ext cx="4352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000" spc="-1" strike="noStrike">
                    <a:solidFill>
                      <a:srgbClr val="f8f8f8"/>
                    </a:solidFill>
                    <a:latin typeface="Times New Roman"/>
                  </a:rPr>
                  <a:t>1</a:t>
                </a:r>
                <a:endParaRPr b="0" lang="en-US" sz="40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484280" y="5699160"/>
                <a:ext cx="4352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000" spc="-1" strike="noStrike">
                    <a:solidFill>
                      <a:srgbClr val="f8f8f8"/>
                    </a:solidFill>
                    <a:latin typeface="Times New Roman"/>
                  </a:rPr>
                  <a:t>2</a:t>
                </a:r>
                <a:endParaRPr b="0" lang="en-US" sz="40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368360" y="5734080"/>
                <a:ext cx="609840" cy="0"/>
              </a:xfrm>
              <a:prstGeom prst="line">
                <a:avLst/>
              </a:prstGeom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>
              <a:off x="1067760" y="5357880"/>
              <a:ext cx="461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8f8f8"/>
                  </a:solidFill>
                  <a:latin typeface="Times New Roman"/>
                </a:rPr>
                <a:t>1</a:t>
              </a:r>
              <a:endParaRPr b="0" lang="en-US" sz="4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1905120" y="4060800"/>
            <a:ext cx="76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宋体"/>
              </a:rPr>
              <a:t>＋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621360" y="4572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思考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355840" y="1039680"/>
            <a:ext cx="52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f8f8"/>
                </a:solidFill>
                <a:latin typeface="Times New Roman"/>
              </a:rPr>
              <a:t>－</a:t>
            </a:r>
            <a:r>
              <a:rPr b="0" lang="zh-CN" sz="40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058480" y="1116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2819520" y="936720"/>
            <a:ext cx="457200" cy="1019160"/>
            <a:chOff x="2819520" y="936720"/>
            <a:chExt cx="457200" cy="1019160"/>
          </a:xfrm>
        </p:grpSpPr>
        <p:sp>
          <p:nvSpPr>
            <p:cNvPr id="353" name=""/>
            <p:cNvSpPr/>
            <p:nvPr/>
          </p:nvSpPr>
          <p:spPr>
            <a:xfrm>
              <a:off x="2862000" y="936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819520" y="1431720"/>
              <a:ext cx="45720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8760" y="13744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3809880" y="963720"/>
            <a:ext cx="457200" cy="1019160"/>
            <a:chOff x="3809880" y="963720"/>
            <a:chExt cx="457200" cy="1019160"/>
          </a:xfrm>
        </p:grpSpPr>
        <p:sp>
          <p:nvSpPr>
            <p:cNvPr id="357" name=""/>
            <p:cNvSpPr/>
            <p:nvPr/>
          </p:nvSpPr>
          <p:spPr>
            <a:xfrm>
              <a:off x="3852360" y="963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809880" y="1458720"/>
              <a:ext cx="45720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849120" y="14014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5861160" y="1058760"/>
            <a:ext cx="52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f8f8"/>
                </a:solidFill>
                <a:latin typeface="Times New Roman"/>
              </a:rPr>
              <a:t>－</a:t>
            </a:r>
            <a:r>
              <a:rPr b="0" lang="zh-CN" sz="40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6324480" y="936720"/>
            <a:ext cx="457200" cy="1019160"/>
            <a:chOff x="6324480" y="936720"/>
            <a:chExt cx="457200" cy="1019160"/>
          </a:xfrm>
        </p:grpSpPr>
        <p:sp>
          <p:nvSpPr>
            <p:cNvPr id="362" name=""/>
            <p:cNvSpPr/>
            <p:nvPr/>
          </p:nvSpPr>
          <p:spPr>
            <a:xfrm>
              <a:off x="6366960" y="936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324480" y="1431720"/>
              <a:ext cx="45720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363720" y="13744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6743880" y="1192320"/>
            <a:ext cx="609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宋体"/>
              </a:rPr>
              <a:t>＝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7315200" y="944640"/>
            <a:ext cx="457200" cy="1019160"/>
            <a:chOff x="7315200" y="944640"/>
            <a:chExt cx="457200" cy="1019160"/>
          </a:xfrm>
        </p:grpSpPr>
        <p:sp>
          <p:nvSpPr>
            <p:cNvPr id="367" name=""/>
            <p:cNvSpPr/>
            <p:nvPr/>
          </p:nvSpPr>
          <p:spPr>
            <a:xfrm>
              <a:off x="7357680" y="944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315200" y="1439640"/>
              <a:ext cx="45720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354440" y="13824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5334120" y="936720"/>
            <a:ext cx="457200" cy="1019160"/>
            <a:chOff x="5334120" y="936720"/>
            <a:chExt cx="457200" cy="1019160"/>
          </a:xfrm>
        </p:grpSpPr>
        <p:sp>
          <p:nvSpPr>
            <p:cNvPr id="371" name=""/>
            <p:cNvSpPr/>
            <p:nvPr/>
          </p:nvSpPr>
          <p:spPr>
            <a:xfrm>
              <a:off x="5376600" y="936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334120" y="1431720"/>
              <a:ext cx="45720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373360" y="13744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2584440" y="2201760"/>
            <a:ext cx="52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f8f8"/>
                </a:solidFill>
                <a:latin typeface="Times New Roman"/>
              </a:rPr>
              <a:t>－</a:t>
            </a:r>
            <a:r>
              <a:rPr b="0" lang="zh-CN" sz="40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3048120" y="2098800"/>
            <a:ext cx="457200" cy="1019160"/>
            <a:chOff x="3048120" y="2098800"/>
            <a:chExt cx="457200" cy="1019160"/>
          </a:xfrm>
        </p:grpSpPr>
        <p:sp>
          <p:nvSpPr>
            <p:cNvPr id="376" name=""/>
            <p:cNvSpPr/>
            <p:nvPr/>
          </p:nvSpPr>
          <p:spPr>
            <a:xfrm>
              <a:off x="3090600" y="20988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048120" y="2593800"/>
              <a:ext cx="45720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087360" y="25365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379" name=""/>
          <p:cNvSpPr/>
          <p:nvPr/>
        </p:nvSpPr>
        <p:spPr>
          <a:xfrm>
            <a:off x="3467160" y="2335320"/>
            <a:ext cx="609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宋体"/>
              </a:rPr>
              <a:t>＝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2057400" y="2098800"/>
            <a:ext cx="457200" cy="1019160"/>
            <a:chOff x="2057400" y="2098800"/>
            <a:chExt cx="457200" cy="1019160"/>
          </a:xfrm>
        </p:grpSpPr>
        <p:sp>
          <p:nvSpPr>
            <p:cNvPr id="381" name=""/>
            <p:cNvSpPr/>
            <p:nvPr/>
          </p:nvSpPr>
          <p:spPr>
            <a:xfrm>
              <a:off x="2099880" y="20988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057400" y="2593800"/>
              <a:ext cx="45720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096640" y="25365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5861160" y="2201760"/>
            <a:ext cx="52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f8f8"/>
                </a:solidFill>
                <a:latin typeface="Times New Roman"/>
              </a:rPr>
              <a:t>－</a:t>
            </a:r>
            <a:r>
              <a:rPr b="0" lang="zh-CN" sz="40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6324480" y="2098800"/>
            <a:ext cx="457200" cy="1019160"/>
            <a:chOff x="6324480" y="2098800"/>
            <a:chExt cx="457200" cy="1019160"/>
          </a:xfrm>
        </p:grpSpPr>
        <p:sp>
          <p:nvSpPr>
            <p:cNvPr id="386" name=""/>
            <p:cNvSpPr/>
            <p:nvPr/>
          </p:nvSpPr>
          <p:spPr>
            <a:xfrm>
              <a:off x="6366960" y="20988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324480" y="2593800"/>
              <a:ext cx="45720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363720" y="25365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6743880" y="2335320"/>
            <a:ext cx="609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宋体"/>
              </a:rPr>
              <a:t>＝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5334120" y="2098800"/>
            <a:ext cx="457200" cy="1019160"/>
            <a:chOff x="5334120" y="2098800"/>
            <a:chExt cx="457200" cy="1019160"/>
          </a:xfrm>
        </p:grpSpPr>
        <p:sp>
          <p:nvSpPr>
            <p:cNvPr id="391" name=""/>
            <p:cNvSpPr/>
            <p:nvPr/>
          </p:nvSpPr>
          <p:spPr>
            <a:xfrm>
              <a:off x="5376600" y="20988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334120" y="2593800"/>
              <a:ext cx="45720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373360" y="25365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2133720" y="3200400"/>
            <a:ext cx="457200" cy="1019520"/>
            <a:chOff x="2133720" y="3200400"/>
            <a:chExt cx="457200" cy="1019520"/>
          </a:xfrm>
        </p:grpSpPr>
        <p:sp>
          <p:nvSpPr>
            <p:cNvPr id="395" name=""/>
            <p:cNvSpPr/>
            <p:nvPr/>
          </p:nvSpPr>
          <p:spPr>
            <a:xfrm>
              <a:off x="2176200" y="32004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133720" y="3695760"/>
              <a:ext cx="45720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172960" y="36385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3200400" y="3200400"/>
            <a:ext cx="457200" cy="1019520"/>
            <a:chOff x="3200400" y="3200400"/>
            <a:chExt cx="457200" cy="1019520"/>
          </a:xfrm>
        </p:grpSpPr>
        <p:sp>
          <p:nvSpPr>
            <p:cNvPr id="399" name=""/>
            <p:cNvSpPr/>
            <p:nvPr/>
          </p:nvSpPr>
          <p:spPr>
            <a:xfrm>
              <a:off x="3242880" y="32004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00400" y="3695760"/>
              <a:ext cx="45720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39640" y="36385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4210560" y="3208320"/>
            <a:ext cx="589320" cy="1000800"/>
            <a:chOff x="4210560" y="3208320"/>
            <a:chExt cx="589320" cy="1000800"/>
          </a:xfrm>
        </p:grpSpPr>
        <p:sp>
          <p:nvSpPr>
            <p:cNvPr id="403" name=""/>
            <p:cNvSpPr/>
            <p:nvPr/>
          </p:nvSpPr>
          <p:spPr>
            <a:xfrm>
              <a:off x="4318920" y="32083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248000" y="3711600"/>
              <a:ext cx="45684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210560" y="362772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12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3962880" y="2095560"/>
            <a:ext cx="589320" cy="1000800"/>
            <a:chOff x="3962880" y="2095560"/>
            <a:chExt cx="589320" cy="1000800"/>
          </a:xfrm>
        </p:grpSpPr>
        <p:sp>
          <p:nvSpPr>
            <p:cNvPr id="407" name=""/>
            <p:cNvSpPr/>
            <p:nvPr/>
          </p:nvSpPr>
          <p:spPr>
            <a:xfrm>
              <a:off x="4071240" y="20955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000320" y="2598840"/>
              <a:ext cx="45684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62880" y="251496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12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7258680" y="2087640"/>
            <a:ext cx="589320" cy="1000800"/>
            <a:chOff x="7258680" y="2087640"/>
            <a:chExt cx="589320" cy="1000800"/>
          </a:xfrm>
        </p:grpSpPr>
        <p:sp>
          <p:nvSpPr>
            <p:cNvPr id="411" name=""/>
            <p:cNvSpPr/>
            <p:nvPr/>
          </p:nvSpPr>
          <p:spPr>
            <a:xfrm>
              <a:off x="7367040" y="2087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296120" y="2590920"/>
              <a:ext cx="45720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258680" y="250704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20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5277240" y="3208320"/>
            <a:ext cx="589320" cy="1000800"/>
            <a:chOff x="5277240" y="3208320"/>
            <a:chExt cx="589320" cy="1000800"/>
          </a:xfrm>
        </p:grpSpPr>
        <p:sp>
          <p:nvSpPr>
            <p:cNvPr id="415" name=""/>
            <p:cNvSpPr/>
            <p:nvPr/>
          </p:nvSpPr>
          <p:spPr>
            <a:xfrm>
              <a:off x="5385600" y="32083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314680" y="3711600"/>
              <a:ext cx="45684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277240" y="362772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20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1002240" y="10904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Times New Roman"/>
                <a:ea typeface="楷体_GB2312"/>
              </a:rPr>
              <a:t>根据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964440" y="34099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Times New Roman"/>
                <a:ea typeface="楷体_GB2312"/>
              </a:rPr>
              <a:t>计算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276720" y="1181160"/>
            <a:ext cx="609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宋体"/>
              </a:rPr>
              <a:t>＝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691360" y="339876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宋体"/>
              </a:rPr>
              <a:t>＋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758040" y="339876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宋体"/>
              </a:rPr>
              <a:t>＋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805640" y="339876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宋体"/>
              </a:rPr>
              <a:t>＋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555920" y="4446720"/>
            <a:ext cx="52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f8f8"/>
                </a:solidFill>
                <a:latin typeface="Times New Roman"/>
              </a:rPr>
              <a:t>－</a:t>
            </a:r>
            <a:r>
              <a:rPr b="0" lang="zh-CN" sz="40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58560" y="45226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2019240" y="4343400"/>
            <a:ext cx="457200" cy="1019520"/>
            <a:chOff x="2019240" y="4343400"/>
            <a:chExt cx="457200" cy="1019520"/>
          </a:xfrm>
        </p:grpSpPr>
        <p:sp>
          <p:nvSpPr>
            <p:cNvPr id="427" name=""/>
            <p:cNvSpPr/>
            <p:nvPr/>
          </p:nvSpPr>
          <p:spPr>
            <a:xfrm>
              <a:off x="2061720" y="43434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19240" y="4838760"/>
              <a:ext cx="45720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058480" y="47815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685800" y="4541760"/>
            <a:ext cx="609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宋体"/>
              </a:rPr>
              <a:t>＝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537000" y="4465800"/>
            <a:ext cx="52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f8f8"/>
                </a:solidFill>
                <a:latin typeface="Times New Roman"/>
              </a:rPr>
              <a:t>－</a:t>
            </a:r>
            <a:r>
              <a:rPr b="0" lang="zh-CN" sz="40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4000680" y="4343400"/>
            <a:ext cx="457200" cy="1019520"/>
            <a:chOff x="4000680" y="4343400"/>
            <a:chExt cx="457200" cy="1019520"/>
          </a:xfrm>
        </p:grpSpPr>
        <p:sp>
          <p:nvSpPr>
            <p:cNvPr id="433" name=""/>
            <p:cNvSpPr/>
            <p:nvPr/>
          </p:nvSpPr>
          <p:spPr>
            <a:xfrm>
              <a:off x="4043160" y="43434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000680" y="4838760"/>
              <a:ext cx="45720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039920" y="47815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3009960" y="4343400"/>
            <a:ext cx="457200" cy="1019520"/>
            <a:chOff x="3009960" y="4343400"/>
            <a:chExt cx="457200" cy="1019520"/>
          </a:xfrm>
        </p:grpSpPr>
        <p:sp>
          <p:nvSpPr>
            <p:cNvPr id="437" name=""/>
            <p:cNvSpPr/>
            <p:nvPr/>
          </p:nvSpPr>
          <p:spPr>
            <a:xfrm>
              <a:off x="3052440" y="43434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009960" y="4838760"/>
              <a:ext cx="45720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049200" y="47815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440" name=""/>
          <p:cNvSpPr/>
          <p:nvPr/>
        </p:nvSpPr>
        <p:spPr>
          <a:xfrm>
            <a:off x="5594400" y="4465800"/>
            <a:ext cx="52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f8f8"/>
                </a:solidFill>
                <a:latin typeface="Times New Roman"/>
              </a:rPr>
              <a:t>－</a:t>
            </a:r>
            <a:r>
              <a:rPr b="0" lang="zh-CN" sz="40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6058080" y="4362480"/>
            <a:ext cx="457200" cy="1019520"/>
            <a:chOff x="6058080" y="4362480"/>
            <a:chExt cx="457200" cy="1019520"/>
          </a:xfrm>
        </p:grpSpPr>
        <p:sp>
          <p:nvSpPr>
            <p:cNvPr id="442" name=""/>
            <p:cNvSpPr/>
            <p:nvPr/>
          </p:nvSpPr>
          <p:spPr>
            <a:xfrm>
              <a:off x="6100560" y="43624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058080" y="4857840"/>
              <a:ext cx="45720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097320" y="48006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5067360" y="4362480"/>
            <a:ext cx="457200" cy="1019520"/>
            <a:chOff x="5067360" y="4362480"/>
            <a:chExt cx="457200" cy="1019520"/>
          </a:xfrm>
        </p:grpSpPr>
        <p:sp>
          <p:nvSpPr>
            <p:cNvPr id="446" name=""/>
            <p:cNvSpPr/>
            <p:nvPr/>
          </p:nvSpPr>
          <p:spPr>
            <a:xfrm>
              <a:off x="5109840" y="43624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067360" y="4857840"/>
              <a:ext cx="45720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106600" y="48006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7537320" y="4454640"/>
            <a:ext cx="52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f8f8"/>
                </a:solidFill>
                <a:latin typeface="Times New Roman"/>
              </a:rPr>
              <a:t>－</a:t>
            </a:r>
            <a:r>
              <a:rPr b="0" lang="zh-CN" sz="40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8001000" y="4351320"/>
            <a:ext cx="457200" cy="1019520"/>
            <a:chOff x="8001000" y="4351320"/>
            <a:chExt cx="457200" cy="1019520"/>
          </a:xfrm>
        </p:grpSpPr>
        <p:sp>
          <p:nvSpPr>
            <p:cNvPr id="451" name=""/>
            <p:cNvSpPr/>
            <p:nvPr/>
          </p:nvSpPr>
          <p:spPr>
            <a:xfrm>
              <a:off x="8043480" y="43513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8001000" y="4846680"/>
              <a:ext cx="45720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8040240" y="47894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7010280" y="4351320"/>
            <a:ext cx="457200" cy="1019520"/>
            <a:chOff x="7010280" y="4351320"/>
            <a:chExt cx="457200" cy="1019520"/>
          </a:xfrm>
        </p:grpSpPr>
        <p:sp>
          <p:nvSpPr>
            <p:cNvPr id="455" name=""/>
            <p:cNvSpPr/>
            <p:nvPr/>
          </p:nvSpPr>
          <p:spPr>
            <a:xfrm>
              <a:off x="7052760" y="43513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010280" y="4846680"/>
              <a:ext cx="45720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049520" y="47894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458" name=""/>
          <p:cNvSpPr/>
          <p:nvPr/>
        </p:nvSpPr>
        <p:spPr>
          <a:xfrm>
            <a:off x="2538720" y="453384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宋体"/>
              </a:rPr>
              <a:t>＋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539240" y="454176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宋体"/>
              </a:rPr>
              <a:t>＋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558480" y="454176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宋体"/>
              </a:rPr>
              <a:t>＋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78200" y="4529520"/>
            <a:ext cx="499680" cy="672480"/>
          </a:xfrm>
          <a:prstGeom prst="line">
            <a:avLst/>
          </a:prstGeom>
          <a:ln w="34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949840" y="4529520"/>
            <a:ext cx="499680" cy="672480"/>
          </a:xfrm>
          <a:prstGeom prst="line">
            <a:avLst/>
          </a:prstGeom>
          <a:ln w="34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42000" y="4529520"/>
            <a:ext cx="499680" cy="672480"/>
          </a:xfrm>
          <a:prstGeom prst="line">
            <a:avLst/>
          </a:prstGeom>
          <a:ln w="349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083200" y="4586400"/>
            <a:ext cx="500400" cy="672480"/>
          </a:xfrm>
          <a:prstGeom prst="line">
            <a:avLst/>
          </a:prstGeom>
          <a:ln w="349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999400" y="4529520"/>
            <a:ext cx="499680" cy="672480"/>
          </a:xfrm>
          <a:prstGeom prst="line">
            <a:avLst/>
          </a:prstGeom>
          <a:ln w="3492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913800" y="4529520"/>
            <a:ext cx="499680" cy="672480"/>
          </a:xfrm>
          <a:prstGeom prst="line">
            <a:avLst/>
          </a:prstGeom>
          <a:ln w="3492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85800" y="5600880"/>
            <a:ext cx="609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宋体"/>
              </a:rPr>
              <a:t>＝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220400" y="55926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555920" y="5486400"/>
            <a:ext cx="52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f8f8"/>
                </a:solidFill>
                <a:latin typeface="Times New Roman"/>
              </a:rPr>
              <a:t>－</a:t>
            </a:r>
            <a:r>
              <a:rPr b="0" lang="zh-CN" sz="40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2019240" y="5383080"/>
            <a:ext cx="457200" cy="1019520"/>
            <a:chOff x="2019240" y="5383080"/>
            <a:chExt cx="457200" cy="1019520"/>
          </a:xfrm>
        </p:grpSpPr>
        <p:sp>
          <p:nvSpPr>
            <p:cNvPr id="471" name=""/>
            <p:cNvSpPr/>
            <p:nvPr/>
          </p:nvSpPr>
          <p:spPr>
            <a:xfrm>
              <a:off x="2061720" y="53830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019240" y="5878440"/>
              <a:ext cx="45720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058480" y="58212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2514600" y="5592600"/>
            <a:ext cx="609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宋体"/>
              </a:rPr>
              <a:t>＝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3124080" y="5383080"/>
            <a:ext cx="457200" cy="1019520"/>
            <a:chOff x="3124080" y="5383080"/>
            <a:chExt cx="457200" cy="1019520"/>
          </a:xfrm>
        </p:grpSpPr>
        <p:sp>
          <p:nvSpPr>
            <p:cNvPr id="476" name=""/>
            <p:cNvSpPr/>
            <p:nvPr/>
          </p:nvSpPr>
          <p:spPr>
            <a:xfrm>
              <a:off x="3166560" y="53830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124080" y="5878440"/>
              <a:ext cx="45720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163320" y="58212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5T03:15:10Z</dcterms:created>
  <dc:creator>he</dc:creator>
  <dc:description/>
  <dc:language>en-US</dc:language>
  <cp:lastModifiedBy>yangjiuling</cp:lastModifiedBy>
  <dcterms:modified xsi:type="dcterms:W3CDTF">2003-05-28T08:08:18Z</dcterms:modified>
  <cp:revision>71</cp:revision>
  <dc:subject/>
  <dc:title>分数加减混合运算</dc:title>
</cp:coreProperties>
</file>