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EC6-04F3-44A8-A283-3BBE9EE4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428-36C9-4E9A-8996-302E8876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2D5-AFD3-430C-BE3F-059913D8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3D8-34A3-4613-827D-49881DF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697-D71D-4965-9E5C-E0222F0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263-9F5F-4142-904A-39CBC1D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C4A-F83A-468D-842A-7CD6AC4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A03-F727-4E5C-957D-E142391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FF9-54A9-4599-9F27-B533B37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4DB-D355-456D-A4D9-2B879CAD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3F3-FD77-451D-9F38-F7760AE0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781-3F02-481E-961A-84E2F242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8A06-B1DB-4459-B7B4-7C2ED187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6BE-939A-4B96-8FB9-D73725CA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4194-DA32-4A26-9B4E-9C8EA816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5186-54BB-4B0F-9228-E9A5D05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A40F-C217-4CD2-B027-81B3F3F8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6B02-C3F8-4E67-A4D7-98CF8D74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844E-1D19-490F-B9B7-EA894FD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ABCB-D3F6-4DED-93DD-BAA98288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39D3-DF63-4B62-AA37-6385AB1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F599-76FF-4425-9530-51D317DB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1E8D-7A4E-4D79-B87B-1FF17D24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4017-3708-4D99-92BD-BCA9A818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21B4-9597-4F9E-BE82-954DEED3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60DD-D3EF-4DE1-9D33-F3EF3E81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949D-1BEE-471C-99A5-0898F3C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838E-17EC-41C5-8E58-E68C90B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12F0-A0F2-4678-8025-78BB299B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24CB-7F33-439E-9BB4-08E64CD5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E5F0-2969-4296-ADBF-0F879BF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6765-AC61-44D1-BD96-4B92F313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48F2-1C01-43E5-97CB-F319F87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93AD-E10C-4F0D-A14E-45B3F4BA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5A5D-FA78-4204-9B2B-B40D52C6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6950-3690-47EF-9343-B25FE356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5762-E258-49F1-B468-594B70F7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4812-5A64-41EE-A1A8-C646023A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FC54-6738-40C0-B3F5-9904E504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0939-6A5D-4242-A090-7818D74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0D23-D2A3-437F-BF61-6EA43FCB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57DF-654C-49BF-B0CD-7B55695B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F0E0-EB01-4A67-912E-FCBAB593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3789-BBD1-43CF-8176-4C2FB04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C72C-DDCD-421F-A7E4-545B65A8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240C-2AB6-4F2A-9967-B553B3BD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9A73-FE8C-4AE0-A0C4-8518B3BD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7169-6FB8-4C6A-81EB-A02655CD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E1A3-E043-49A0-9692-0F08A9D9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67C5-C346-42C0-A336-0A4CE72F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D1D4D-B9E9-4998-B051-06D43D37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9EE8-562B-4413-A12C-07D72ED0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8BE1-9C3B-40CE-A85F-A48CE5F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4A72-A91F-43C3-842F-DD5AE09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3AF7-2BE6-485B-9557-2BD5B47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B7EB-5D2A-4ADC-94DE-554CD4A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5BA6C-9452-4DCC-ADD7-A6FBDC33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D7B4C-2DAA-4018-AC44-421B2E52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3ACDF-7348-487A-92FC-F7A3D993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6F51-5036-4EE2-B228-8D443016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6F0-1020-41A3-947B-BD77419C3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85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A061-3DCE-4B76-B265-52EB68A482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30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3CF5-E2A9-4115-95AD-504FEA661F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8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BA67-9BEB-460A-A108-978FA21EC0B3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6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D44A-2B94-458D-B636-8E6C152B324B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32004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杨    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51640" y="155736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散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003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2952720" cy="3357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362320" y="1219320"/>
            <a:ext cx="19047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老  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9000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484000" y="2286000"/>
            <a:ext cx="6659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爱是一种情感，更是一种美德，其实生活中我们每天都会看到象老王那样的人，你能说说印象深刻的有哪些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 rot="5400000">
            <a:off x="80280" y="2738520"/>
            <a:ext cx="304812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智情迁移</a:t>
            </a:r>
            <a:endParaRPr b="0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838080"/>
            <a:ext cx="2438280" cy="68580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0 h 685800"/>
              <a:gd name="textAreaBottom" fmla="*/ 600120 h 6858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ccff"/>
          </a:solidFill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343400" y="1143000"/>
            <a:ext cx="2438280" cy="68580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0 h 685800"/>
              <a:gd name="textAreaBottom" fmla="*/ 600120 h 6858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ccff"/>
          </a:solidFill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666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同学们，拿起你手中的笔，让爱心流淌，写出你最想对他们说的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 rot="5400000">
            <a:off x="80280" y="2738520"/>
            <a:ext cx="304812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智情迁移</a:t>
            </a:r>
            <a:endParaRPr b="0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Arial"/>
              </a:rPr>
              <a:t>作业</a:t>
            </a:r>
            <a:r>
              <a:rPr b="1" lang="zh-CN" sz="5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209680"/>
            <a:ext cx="69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请同学们课后收集有关“爱心”、“交友”的名言警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4032000" cy="3265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724280" y="9144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杨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原名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杨季康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生于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1911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年，江苏无锡人。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作家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文学翻译家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。主要译著有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《堂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·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吉诃德》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，散文集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《干校六记》《将饮茶》</a:t>
            </a: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等，长篇小说</a:t>
            </a:r>
            <a:r>
              <a:rPr b="1" lang="zh-CN" sz="2400" spc="-1" strike="noStrike" u="sng">
                <a:solidFill>
                  <a:srgbClr val="336600"/>
                </a:solidFill>
                <a:uFillTx/>
                <a:latin typeface="Arial"/>
              </a:rPr>
              <a:t>《洗澡</a:t>
            </a:r>
            <a:r>
              <a:rPr b="1" lang="zh-CN" sz="2400" spc="-1" strike="noStrike" u="sng">
                <a:solidFill>
                  <a:srgbClr val="666633"/>
                </a:solidFill>
                <a:uFillTx/>
                <a:latin typeface="Arial"/>
              </a:rPr>
              <a:t>》</a:t>
            </a: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44197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钱钟书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0—19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江苏无锡人。学者，作家，著有小说《围城》和学术著作《谈艺录》《管锥编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077840" y="609480"/>
            <a:ext cx="707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慌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huān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恐、肿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ǒn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胀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取谛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t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蹋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t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败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伛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q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着背、骷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ɡ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髅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lǒ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攥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huàn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着、滞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笨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愧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ɡu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）作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zuò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荒避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镶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ān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1197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16000" y="10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惶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uán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ǒn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35280" y="19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19280" y="191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缔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d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24360" y="1916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塌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t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63640" y="270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270828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k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ló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35280" y="350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uàn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350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443700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ku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0072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27640" y="4365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5229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xiān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5105520"/>
            <a:ext cx="2286000" cy="99036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一起来找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685800" cy="23623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预习检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9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预习检测二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整体感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55640" y="333000"/>
            <a:ext cx="633708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课文中老王是干什么的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?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最早是在第几自然段交代的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3733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常坐老王的三轮。他蹬，我坐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一路上我们说着闲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1905120"/>
            <a:ext cx="3048120" cy="1523880"/>
          </a:xfrm>
          <a:prstGeom prst="wedgeRoundRectCallout">
            <a:avLst>
              <a:gd name="adj1" fmla="val 40416"/>
              <a:gd name="adj2" fmla="val 6948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老王的职业：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车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”与老王的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主顾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5257800"/>
            <a:ext cx="2895480" cy="914400"/>
          </a:xfrm>
          <a:prstGeom prst="wedgeRoundRectCallout">
            <a:avLst>
              <a:gd name="adj1" fmla="val -22041"/>
              <a:gd name="adj2" fmla="val -9948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我”与老王之间有交往、是平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29400" y="1828800"/>
            <a:ext cx="185724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685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重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点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研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520" y="457200"/>
            <a:ext cx="5976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对课文结尾的最后的一句话，应该怎样理解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666880"/>
            <a:ext cx="5867280" cy="703440"/>
          </a:xfrm>
          <a:prstGeom prst="rect">
            <a:avLst/>
          </a:prstGeom>
          <a:noFill/>
          <a:ln cap="rnd" w="85680">
            <a:solidFill>
              <a:srgbClr val="cc99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那是一个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幸运的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对一个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不幸者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愧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2517480" cy="2278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14400" y="304920"/>
            <a:ext cx="576360" cy="19810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98560" y="304920"/>
            <a:ext cx="7345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职业——蹬三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体——残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住——塌败小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独无亲  被侮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人瞧不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4480" y="2971800"/>
            <a:ext cx="12776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老王的“不幸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914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生活方面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精神方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4114800"/>
            <a:ext cx="2133720" cy="1371600"/>
          </a:xfrm>
          <a:prstGeom prst="cloudCallout">
            <a:avLst>
              <a:gd name="adj1" fmla="val 80060"/>
              <a:gd name="adj2" fmla="val 219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苦…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191120" y="304920"/>
            <a:ext cx="4038480" cy="642600"/>
          </a:xfrm>
          <a:prstGeom prst="rect">
            <a:avLst/>
          </a:prstGeom>
          <a:noFill/>
          <a:ln cap="rnd" w="82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与老王的交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4800600"/>
            <a:ext cx="3962160" cy="1572120"/>
          </a:xfrm>
          <a:prstGeom prst="rect">
            <a:avLst/>
          </a:prstGeom>
          <a:solidFill>
            <a:srgbClr val="ccccff"/>
          </a:solidFill>
          <a:ln cap="rnd" w="5400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送冰块，车费减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送钱先生看病，不要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临死前送来香油、鸡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886200"/>
            <a:ext cx="1600200" cy="106668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25280 h 1066680"/>
              <a:gd name="textAreaBottom" fmla="*/ 669240 h 1066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5257800"/>
            <a:ext cx="1828800" cy="1143000"/>
          </a:xfrm>
          <a:prstGeom prst="upArrowCallout">
            <a:avLst>
              <a:gd name="adj1" fmla="val 51397"/>
              <a:gd name="adj2" fmla="val 53333"/>
              <a:gd name="adj3" fmla="val 10139"/>
              <a:gd name="adj4" fmla="val 7444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善良纯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知恩必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447560" y="14479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顾老王生意，坐他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王再客气，也付给他应得的报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王送来香油鸡蛋，不让他白送，给他钱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心老王的生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女儿送鱼肝油，治好老王夜盲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4800600"/>
            <a:ext cx="1981080" cy="91440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极富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4648320"/>
            <a:ext cx="1752840" cy="129528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838080" cy="35053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我”与老王的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52480" y="1600200"/>
            <a:ext cx="5562720" cy="642600"/>
          </a:xfrm>
          <a:prstGeom prst="rect">
            <a:avLst/>
          </a:prstGeom>
          <a:noFill/>
          <a:ln w="507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既然“我”也关爱老王，为何文中还说“愧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319248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69696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个社会总有幸运者与不幸者，幸运者有责任关爱不幸者，关注他们的命运，让他们也过上好日子，帮助改善他们的处境。作者回想起来，与老王相比，觉得自己对老王的关爱还很不够，所以感到“愧怍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086600" y="1828800"/>
            <a:ext cx="10191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609480"/>
            <a:ext cx="1676520" cy="762120"/>
          </a:xfrm>
          <a:custGeom>
            <a:avLst/>
            <a:gdLst>
              <a:gd name="textAreaLeft" fmla="*/ 419040 w 1676520"/>
              <a:gd name="textAreaRight" fmla="*/ 1257480 w 167652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ccff"/>
          </a:solidFill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追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8:09:08Z</dcterms:created>
  <dc:creator>清华同方思科</dc:creator>
  <dc:description/>
  <dc:language>en-US</dc:language>
  <cp:lastModifiedBy>admin</cp:lastModifiedBy>
  <dcterms:modified xsi:type="dcterms:W3CDTF">2004-10-20T05:47:44Z</dcterms:modified>
  <cp:revision>137</cp:revision>
  <dc:subject/>
  <dc:title>老王</dc:title>
</cp:coreProperties>
</file>