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A87-0F6F-4578-8563-6615787C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531-5222-431E-ABC1-8E54DCB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200-9ED8-401D-904E-DA87BA8B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2AB-37B1-4899-AC6D-B3A253F1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864-DC41-4BDD-8CE0-212FF466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9B0-D3B9-4AF9-BBD3-410DE462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EB8-C7DF-4F12-B038-7509D7EB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F2C-EA88-4E0D-827B-31B273E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FBB-B670-4017-8298-C396BB8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83D-351A-4074-8051-73937B3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EF1-3214-4D20-A3FA-430639B8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29B-447D-4724-BF15-775C51AA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6F29-7314-45B3-BCF0-4956FD52C6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219320"/>
          <a:ext cx="876312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76312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533520"/>
          <a:ext cx="52578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52578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3429000"/>
          <a:ext cx="396252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429000"/>
                    <a:ext cx="3962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419720" y="3429000"/>
          <a:ext cx="441936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429000"/>
                    <a:ext cx="44193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666880" y="4343400"/>
            <a:ext cx="38124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267080"/>
            <a:ext cx="38088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419720"/>
            <a:ext cx="380880" cy="838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495680"/>
            <a:ext cx="38124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38124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4572000"/>
            <a:ext cx="38088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4648320"/>
            <a:ext cx="38088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4648320"/>
            <a:ext cx="38124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0"/>
          <a:ext cx="59878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5987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09680" y="2743200"/>
            <a:ext cx="30492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819520"/>
            <a:ext cx="30492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666880"/>
            <a:ext cx="304920" cy="838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895480"/>
            <a:ext cx="30492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590920"/>
            <a:ext cx="30492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971800"/>
            <a:ext cx="30492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514600"/>
            <a:ext cx="30492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2971800"/>
            <a:ext cx="30492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1523880"/>
            <a:ext cx="30456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1752480"/>
            <a:ext cx="30456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9320" y="2209680"/>
            <a:ext cx="4235400" cy="825480"/>
            <a:chOff x="2119320" y="2209680"/>
            <a:chExt cx="4235400" cy="825480"/>
          </a:xfrm>
        </p:grpSpPr>
        <p:grpSp>
          <p:nvGrpSpPr>
            <p:cNvPr id="70" name=""/>
            <p:cNvGrpSpPr/>
            <p:nvPr/>
          </p:nvGrpSpPr>
          <p:grpSpPr>
            <a:xfrm>
              <a:off x="2119320" y="2400480"/>
              <a:ext cx="806400" cy="482400"/>
              <a:chOff x="2119320" y="2400480"/>
              <a:chExt cx="806400" cy="482400"/>
            </a:xfrm>
          </p:grpSpPr>
          <p:sp>
            <p:nvSpPr>
              <p:cNvPr id="71" name=""/>
              <p:cNvSpPr/>
              <p:nvPr/>
            </p:nvSpPr>
            <p:spPr>
              <a:xfrm>
                <a:off x="2119320" y="24004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16400" y="25146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278160" y="2286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9400" y="2590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1160" y="2286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240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64160" y="2209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540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66680" y="0"/>
          <a:ext cx="581184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0"/>
                    <a:ext cx="581184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33720" y="2362320"/>
            <a:ext cx="22860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286000"/>
            <a:ext cx="22860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209680"/>
            <a:ext cx="22860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286000"/>
            <a:ext cx="22860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590920"/>
            <a:ext cx="2286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2438280"/>
            <a:ext cx="2286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22860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514600"/>
            <a:ext cx="2286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981080"/>
            <a:ext cx="30492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209680"/>
            <a:ext cx="30492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9200" y="1905120"/>
            <a:ext cx="3533400" cy="825480"/>
            <a:chOff x="2059200" y="1905120"/>
            <a:chExt cx="3533400" cy="825480"/>
          </a:xfrm>
        </p:grpSpPr>
        <p:sp>
          <p:nvSpPr>
            <p:cNvPr id="92" name=""/>
            <p:cNvSpPr/>
            <p:nvPr/>
          </p:nvSpPr>
          <p:spPr>
            <a:xfrm>
              <a:off x="2973600" y="1905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59200" y="1981080"/>
              <a:ext cx="3533400" cy="749520"/>
              <a:chOff x="2059200" y="1981080"/>
              <a:chExt cx="3533400" cy="749520"/>
            </a:xfrm>
          </p:grpSpPr>
          <p:sp>
            <p:nvSpPr>
              <p:cNvPr id="94" name=""/>
              <p:cNvSpPr/>
              <p:nvPr/>
            </p:nvSpPr>
            <p:spPr>
              <a:xfrm>
                <a:off x="2059200" y="20574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7800" y="1981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02200" y="1981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48120" y="224784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92560" y="213372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52880" y="2362320"/>
                <a:ext cx="29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83280" y="22096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62120" y="0"/>
          <a:ext cx="61657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61657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52480" y="3124080"/>
            <a:ext cx="304920" cy="1447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3429000"/>
            <a:ext cx="30492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048120"/>
            <a:ext cx="304920" cy="1523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19112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86200"/>
            <a:ext cx="30492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30492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352680"/>
            <a:ext cx="304920" cy="1219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429000"/>
            <a:ext cx="30456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962520"/>
            <a:ext cx="30492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200400"/>
            <a:ext cx="30456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77960" y="2743200"/>
            <a:ext cx="4449960" cy="1473120"/>
            <a:chOff x="1677960" y="2743200"/>
            <a:chExt cx="4449960" cy="1473120"/>
          </a:xfrm>
        </p:grpSpPr>
        <p:sp>
          <p:nvSpPr>
            <p:cNvPr id="114" name=""/>
            <p:cNvSpPr/>
            <p:nvPr/>
          </p:nvSpPr>
          <p:spPr>
            <a:xfrm>
              <a:off x="2957400" y="3848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677960" y="2743200"/>
              <a:ext cx="4449960" cy="1320840"/>
              <a:chOff x="1677960" y="2743200"/>
              <a:chExt cx="4449960" cy="132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1677960" y="281952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43000" y="308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92360" y="27432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66880" y="3467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71800" y="3695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81640" y="30099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62520" y="308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72000" y="3619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15000" y="289548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0"/>
          <a:ext cx="5591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5591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286000" y="2743200"/>
            <a:ext cx="30492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200400"/>
            <a:ext cx="30456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3048120"/>
            <a:ext cx="30492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743200"/>
            <a:ext cx="30492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429000"/>
            <a:ext cx="30456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2209680"/>
            <a:ext cx="304920" cy="1524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95280" y="1828800"/>
            <a:ext cx="3343320" cy="1587600"/>
            <a:chOff x="2195280" y="1828800"/>
            <a:chExt cx="3343320" cy="1587600"/>
          </a:xfrm>
        </p:grpSpPr>
        <p:sp>
          <p:nvSpPr>
            <p:cNvPr id="134" name=""/>
            <p:cNvSpPr/>
            <p:nvPr/>
          </p:nvSpPr>
          <p:spPr>
            <a:xfrm>
              <a:off x="2195280" y="2400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6520" y="2857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440" y="26668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71800" y="2400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24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1828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4800" y="18669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6-11-21T07:56:02Z</dcterms:modified>
  <cp:revision>8</cp:revision>
  <dc:subject/>
  <dc:title>PowerPoint Presentation</dc:title>
</cp:coreProperties>
</file>