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D97-E194-4DE0-A3D4-048897D8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AC1-6A84-4B05-B660-A1497A2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875-FA0B-4FC7-A093-E56C9E4B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D46-0F2D-4D82-AF67-A0F2E26A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0AF-7189-4560-9897-661858BE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82A-0346-4477-8FBC-AC3F7C80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6C-0853-4441-8A0F-96F53EF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580-F24C-443D-9656-1CFD885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E2F-909B-4003-9848-00BD344D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1AB-EEB8-460E-AC3D-2844C6F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55D-BAE2-4605-A3CC-A95D26B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2F2-177A-4933-B417-16E60BD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6DC-44A0-4F8E-B8B1-250044898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990720"/>
            <a:ext cx="792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华统计一个停车场里各种机动车的数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数出有摩托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小汽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大客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载重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帮助她完成下面的统计表和条形统计图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086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29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72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943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514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0800" y="25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09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146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83640" y="362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900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9000" y="476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9000" y="5378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2000" y="3724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0120" y="42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708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708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6600" y="311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8088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522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9480" y="511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12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1280" y="1690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280" y="6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3880" y="838080"/>
            <a:ext cx="6172200" cy="4572000"/>
            <a:chOff x="2063880" y="838080"/>
            <a:chExt cx="6172200" cy="4572000"/>
          </a:xfrm>
        </p:grpSpPr>
        <p:grpSp>
          <p:nvGrpSpPr>
            <p:cNvPr id="104" name=""/>
            <p:cNvGrpSpPr/>
            <p:nvPr/>
          </p:nvGrpSpPr>
          <p:grpSpPr>
            <a:xfrm>
              <a:off x="2063880" y="838080"/>
              <a:ext cx="6172200" cy="4572000"/>
              <a:chOff x="2063880" y="838080"/>
              <a:chExt cx="6172200" cy="4572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063880" y="838080"/>
                <a:ext cx="6172200" cy="45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5181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3880" y="4724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3880" y="4952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63880" y="4495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63880" y="4267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3880" y="4038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63880" y="3809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63880" y="3581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3880" y="3352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63880" y="3124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63880" y="2895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63880" y="2666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63880" y="2438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3880" y="2209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63880" y="1981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63880" y="1752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3880" y="1523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3880" y="1295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3880" y="1066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49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1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70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0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23120" y="53316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90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92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600" y="9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96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12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12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12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352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1280" y="3124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1280" y="2895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1280" y="2666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2438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1280" y="2209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1280" y="1981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928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928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28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28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28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44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44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44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644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4724280"/>
            <a:ext cx="685800" cy="22860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华统计一个路口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钟那各种机动车通过的数量，并制成统计表和条形统计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009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152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7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295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867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438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4382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4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092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070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3640" y="3549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90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9000" y="530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200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0120" y="4205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0120" y="480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120" y="5334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7920" y="48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9720" y="37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9720" y="25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9720" y="1447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62320" y="519120"/>
            <a:ext cx="6095880" cy="4572000"/>
            <a:chOff x="2362320" y="519120"/>
            <a:chExt cx="6095880" cy="4572000"/>
          </a:xfrm>
        </p:grpSpPr>
        <p:sp>
          <p:nvSpPr>
            <p:cNvPr id="213" name=""/>
            <p:cNvSpPr/>
            <p:nvPr/>
          </p:nvSpPr>
          <p:spPr>
            <a:xfrm>
              <a:off x="2362320" y="519120"/>
              <a:ext cx="609588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4862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4405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4176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48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3719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490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033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3262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805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2576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347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2119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1890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662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1433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1204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976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747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8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13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7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899720" y="22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347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119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890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662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5541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29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29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4685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0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92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1240" y="49363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428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0224" descr=""/>
          <p:cNvPicPr/>
          <p:nvPr/>
        </p:nvPicPr>
        <p:blipFill>
          <a:blip r:embed="rId2"/>
          <a:stretch/>
        </p:blipFill>
        <p:spPr>
          <a:xfrm>
            <a:off x="571680" y="533412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95400" y="630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上面的条形统计图中，一个格代表几辆车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控制人口过快增长是我国的一项基本国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从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全国每年增加的人口数依次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完成  下面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480" y="3581280"/>
            <a:ext cx="7543800" cy="1600200"/>
            <a:chOff x="609480" y="3581280"/>
            <a:chExt cx="7543800" cy="1600200"/>
          </a:xfrm>
        </p:grpSpPr>
        <p:sp>
          <p:nvSpPr>
            <p:cNvPr id="299" name=""/>
            <p:cNvSpPr/>
            <p:nvPr/>
          </p:nvSpPr>
          <p:spPr>
            <a:xfrm>
              <a:off x="609480" y="358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74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191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5181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58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948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88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812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80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6400" y="3657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423540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增加人口数（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456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880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812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8708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732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762120"/>
            <a:ext cx="13716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7280" y="15238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画“正”字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80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先写出要统计的数量名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600" y="31384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依次画“正”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9680" y="3976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数出各种题目，按需要分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tf</dc:creator>
  <dc:description/>
  <dc:language>en-US</dc:language>
  <cp:lastModifiedBy>a</cp:lastModifiedBy>
  <dcterms:modified xsi:type="dcterms:W3CDTF">2003-04-18T05:58:00Z</dcterms:modified>
  <cp:revision>65</cp:revision>
  <dc:subject/>
  <dc:title>PowerPoint 演示文稿</dc:title>
</cp:coreProperties>
</file>