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4C8-F4E6-4D38-8E2B-DC8D223A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A491-3A58-4320-A304-72A98084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FA4-EA46-4FA6-B953-6D65AE9E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49B-275F-465C-BC47-2D7A7894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BD0-6ABE-46F7-BBF5-B8B3DA80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4841-0B28-4EE3-87FB-E8F2DEE0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FCA-AE0D-42F9-8A29-6678B248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B7C-4749-4F95-9B3C-6A0FAEA9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513-DB0B-498E-8FD0-E6397B3E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693-7B0C-4C70-A785-2FBB9042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5A7-26EA-47B1-8F25-F2DA0281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52D3-9B3C-493E-9581-0F124983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CB35-595E-4FA1-9139-A7AA1C8683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5638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772080"/>
            <a:ext cx="5486400" cy="823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572000"/>
            <a:ext cx="548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10552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26708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6858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53352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9144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2666880"/>
            <a:ext cx="4191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数据的收集和整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复   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20600" y="1065240"/>
            <a:ext cx="819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我国运动员在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~2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届夏季奥运会上各获得奖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。制成获奖牌的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9718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733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44956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9608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68320" y="3824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奖牌数（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14800" y="31384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届            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220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536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240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9080" y="3124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1964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22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536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85920" y="3809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26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98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5238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下面是兴农小学活动课程四个小组的学生人数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98560" y="2590920"/>
            <a:ext cx="7559640" cy="3202920"/>
            <a:chOff x="898560" y="2590920"/>
            <a:chExt cx="7559640" cy="3202920"/>
          </a:xfrm>
        </p:grpSpPr>
        <p:grpSp>
          <p:nvGrpSpPr>
            <p:cNvPr id="100" name=""/>
            <p:cNvGrpSpPr/>
            <p:nvPr/>
          </p:nvGrpSpPr>
          <p:grpSpPr>
            <a:xfrm>
              <a:off x="898560" y="2590920"/>
              <a:ext cx="3200400" cy="1432800"/>
              <a:chOff x="898560" y="2590920"/>
              <a:chExt cx="3200400" cy="1432800"/>
            </a:xfrm>
          </p:grpSpPr>
          <p:sp>
            <p:nvSpPr>
              <p:cNvPr id="101" name=""/>
              <p:cNvSpPr/>
              <p:nvPr/>
            </p:nvSpPr>
            <p:spPr>
              <a:xfrm>
                <a:off x="1773720" y="2590920"/>
                <a:ext cx="111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数学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8560" y="31068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8560" y="35640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8560" y="40212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1296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7472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3684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006200" y="31273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022040" y="3564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364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9820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286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6668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712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35560" y="35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257800" y="2590920"/>
              <a:ext cx="3200400" cy="1432800"/>
              <a:chOff x="5257800" y="2590920"/>
              <a:chExt cx="3200400" cy="1432800"/>
            </a:xfrm>
          </p:grpSpPr>
          <p:sp>
            <p:nvSpPr>
              <p:cNvPr id="117" name=""/>
              <p:cNvSpPr/>
              <p:nvPr/>
            </p:nvSpPr>
            <p:spPr>
              <a:xfrm>
                <a:off x="6131880" y="2590920"/>
                <a:ext cx="117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生物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31068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257800" y="35640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57800" y="40212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7220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93396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9608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365440" y="31273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81280" y="3564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9568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574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788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2592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35640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894800" y="35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898560" y="4361040"/>
              <a:ext cx="3200400" cy="1432800"/>
              <a:chOff x="898560" y="4361040"/>
              <a:chExt cx="3200400" cy="1432800"/>
            </a:xfrm>
          </p:grpSpPr>
          <p:sp>
            <p:nvSpPr>
              <p:cNvPr id="133" name=""/>
              <p:cNvSpPr/>
              <p:nvPr/>
            </p:nvSpPr>
            <p:spPr>
              <a:xfrm>
                <a:off x="1773720" y="4361040"/>
                <a:ext cx="111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航模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98560" y="48769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98560" y="53341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98560" y="57913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1296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7472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3684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06200" y="4897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22040" y="5334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364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9820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286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6668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9712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35560" y="5334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241960" y="4361040"/>
              <a:ext cx="3200400" cy="1432800"/>
              <a:chOff x="5241960" y="4361040"/>
              <a:chExt cx="3200400" cy="1432800"/>
            </a:xfrm>
          </p:grpSpPr>
          <p:sp>
            <p:nvSpPr>
              <p:cNvPr id="149" name=""/>
              <p:cNvSpPr/>
              <p:nvPr/>
            </p:nvSpPr>
            <p:spPr>
              <a:xfrm>
                <a:off x="6116040" y="4361040"/>
                <a:ext cx="117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美术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41960" y="48769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41960" y="53341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41960" y="57913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5636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1812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8024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49600" y="4897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65440" y="5334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2798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04160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0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1008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4052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7860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3600" y="12193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兴农小学活动课程小组人数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2514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32004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657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4114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5720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0292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2655720"/>
            <a:ext cx="11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男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92800" y="2655720"/>
            <a:ext cx="11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女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32004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学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6920" y="36576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生物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54320" y="41148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航模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54320" y="45720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美术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89400" y="181944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32120" y="1814400"/>
            <a:ext cx="2972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9ADF-7A26-4E5E-9A55-0A341882A6DA}" type="datetime2"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5ADE9-48D6-4AF9-BCD4-539D27019B5B}" type="datetime1">
              <a:rPr lang="en-US"/>
              <a:t>07/31/26</a:t>
            </a:fld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3600" y="12193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兴农小学活动课程小组人数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514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3200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657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114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4572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5029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5486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29080" y="263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26000" y="2655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男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31120" y="2655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女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2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    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93440" y="367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学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360" y="412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生物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61400" y="459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航模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61400" y="4987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美术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51460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6668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960" y="2876400"/>
            <a:ext cx="6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组     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74280" y="2487600"/>
            <a:ext cx="537480" cy="516600"/>
            <a:chOff x="2474280" y="2487600"/>
            <a:chExt cx="537480" cy="516600"/>
          </a:xfrm>
        </p:grpSpPr>
        <p:sp>
          <p:nvSpPr>
            <p:cNvPr id="222" name=""/>
            <p:cNvSpPr/>
            <p:nvPr/>
          </p:nvSpPr>
          <p:spPr>
            <a:xfrm>
              <a:off x="2474280" y="24876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09000" y="2666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718640" y="2482920"/>
            <a:ext cx="683640" cy="494280"/>
            <a:chOff x="1718640" y="2482920"/>
            <a:chExt cx="683640" cy="494280"/>
          </a:xfrm>
        </p:grpSpPr>
        <p:sp>
          <p:nvSpPr>
            <p:cNvPr id="225" name=""/>
            <p:cNvSpPr/>
            <p:nvPr/>
          </p:nvSpPr>
          <p:spPr>
            <a:xfrm>
              <a:off x="1718640" y="24829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99520" y="2639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709600" y="3657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1184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81160" y="4572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73240" y="5043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16600" y="3672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1660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16600" y="4572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0" y="5043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28520" y="3648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19160" y="41054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14120" y="4562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080" y="5029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09600" y="3214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14720" y="31910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19160" y="3214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37080" y="181944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79800" y="1814400"/>
            <a:ext cx="2972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0703-9D5E-4B89-B9B6-B4473749D73F}" type="datetime2"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143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这四个小组共有学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，其中男生有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，女生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87560" y="237636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29200" y="306216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男生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96080" y="382428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女生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0224" descr=""/>
          <p:cNvPicPr/>
          <p:nvPr/>
        </p:nvPicPr>
        <p:blipFill>
          <a:blip r:embed="rId2"/>
          <a:stretch/>
        </p:blipFill>
        <p:spPr>
          <a:xfrm>
            <a:off x="380880" y="5181480"/>
            <a:ext cx="2629080" cy="1143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943000" y="48006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还可以看出什么哪些情况呢？你们能告诉我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7960" y="1157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6320" y="1523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33560" y="153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5876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美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49520" y="3747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美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8600" y="29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数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81360" y="146844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个书店第一季度的售书情况如下，制成统计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60680" y="215424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6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科技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8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60680" y="327672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76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科技书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6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60680" y="455760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三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8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 科技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4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6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19200" y="1461960"/>
            <a:ext cx="13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第一季度售出图书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2701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3387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3844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5280" y="4302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4759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5216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270180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285444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7000" y="306396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种 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474280" y="2674800"/>
            <a:ext cx="537480" cy="516600"/>
            <a:chOff x="2474280" y="2674800"/>
            <a:chExt cx="537480" cy="516600"/>
          </a:xfrm>
        </p:grpSpPr>
        <p:sp>
          <p:nvSpPr>
            <p:cNvPr id="302" name=""/>
            <p:cNvSpPr/>
            <p:nvPr/>
          </p:nvSpPr>
          <p:spPr>
            <a:xfrm>
              <a:off x="2474280" y="26748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09000" y="28540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718640" y="2670120"/>
            <a:ext cx="683640" cy="494280"/>
            <a:chOff x="1718640" y="2670120"/>
            <a:chExt cx="683640" cy="494280"/>
          </a:xfrm>
        </p:grpSpPr>
        <p:sp>
          <p:nvSpPr>
            <p:cNvPr id="305" name=""/>
            <p:cNvSpPr/>
            <p:nvPr/>
          </p:nvSpPr>
          <p:spPr>
            <a:xfrm>
              <a:off x="1718640" y="26701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99520" y="28270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395880" y="28195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92600" y="2819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25040" y="282564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0920" y="284004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三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01720" y="34084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51400" y="3886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文艺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52840" y="4322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科技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2840" y="478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10240" y="384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6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10280" y="3867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7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5600" y="3859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8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94400" y="4316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7680" y="430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5600" y="430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8620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1828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8988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22800" y="3886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2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22800" y="4343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5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98760" y="4800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6080" y="3387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8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7680" y="342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5600" y="342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6480" y="3429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7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04320" y="204804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55960" y="2048040"/>
            <a:ext cx="2972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9300-9A97-48D8-A9E4-E13C093C3460}" type="datetime2"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2:21:36Z</dcterms:created>
  <dc:creator>tf</dc:creator>
  <dc:description/>
  <dc:language>en-US</dc:language>
  <cp:lastModifiedBy>a</cp:lastModifiedBy>
  <dcterms:modified xsi:type="dcterms:W3CDTF">2003-04-18T05:54:41Z</dcterms:modified>
  <cp:revision>70</cp:revision>
  <dc:subject/>
  <dc:title>PowerPoint 演示文稿</dc:title>
</cp:coreProperties>
</file>