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6D2-5FA8-420E-9ADA-296C5FBB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84A-F934-41A2-AAAE-1CB0495E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A61-47DF-4CEA-B40F-B46E484E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F41-2DFB-4B26-87BF-A9BF425F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6045-3A05-4BEA-939C-D4044CF7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EA5-9FAD-49A1-8452-9E6DEBC2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8C8-F8E0-4F95-987D-C3998204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4FB-7B9B-49F0-AF62-EB4E7A71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AD2-CF50-4B18-A1D4-C31445F0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AD51-3F5D-44E1-973D-35749EEE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90F-A877-4EE2-9159-C7BED465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6123-B075-440F-8C5D-75B87549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8B14-04C2-47A8-B1A5-AB0ADCE8A9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049480" y="3203280"/>
            <a:ext cx="4381200" cy="2751480"/>
            <a:chOff x="2049480" y="3203280"/>
            <a:chExt cx="4381200" cy="2751480"/>
          </a:xfrm>
        </p:grpSpPr>
        <p:grpSp>
          <p:nvGrpSpPr>
            <p:cNvPr id="42" name=""/>
            <p:cNvGrpSpPr/>
            <p:nvPr/>
          </p:nvGrpSpPr>
          <p:grpSpPr>
            <a:xfrm>
              <a:off x="2073600" y="3203280"/>
              <a:ext cx="4357080" cy="2468880"/>
              <a:chOff x="2073600" y="3203280"/>
              <a:chExt cx="4357080" cy="2468880"/>
            </a:xfrm>
          </p:grpSpPr>
          <p:sp>
            <p:nvSpPr>
              <p:cNvPr id="43" name=""/>
              <p:cNvSpPr/>
              <p:nvPr/>
            </p:nvSpPr>
            <p:spPr>
              <a:xfrm flipV="1">
                <a:off x="2073600" y="3203280"/>
                <a:ext cx="435708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V="1">
                <a:off x="2073600" y="3474720"/>
                <a:ext cx="435708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V="1">
                <a:off x="2073600" y="3764160"/>
                <a:ext cx="4357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2073600" y="4017600"/>
                <a:ext cx="435708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2073600" y="4304880"/>
                <a:ext cx="435708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V="1">
                <a:off x="2073600" y="4584960"/>
                <a:ext cx="4357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2073600" y="4843080"/>
                <a:ext cx="435708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V="1">
                <a:off x="2073600" y="5119920"/>
                <a:ext cx="4357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2073600" y="5399280"/>
                <a:ext cx="4357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2073600" y="5662800"/>
                <a:ext cx="4357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 flipV="1">
              <a:off x="2049480" y="5945400"/>
              <a:ext cx="435708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484360" y="3212640"/>
            <a:ext cx="3935520" cy="3059640"/>
            <a:chOff x="2484360" y="3212640"/>
            <a:chExt cx="3935520" cy="3059640"/>
          </a:xfrm>
        </p:grpSpPr>
        <p:sp>
          <p:nvSpPr>
            <p:cNvPr id="55" name=""/>
            <p:cNvSpPr/>
            <p:nvPr/>
          </p:nvSpPr>
          <p:spPr>
            <a:xfrm flipV="1">
              <a:off x="6419880" y="3222720"/>
              <a:ext cx="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5975280" y="3222720"/>
              <a:ext cx="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543640" y="3248280"/>
              <a:ext cx="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665600" y="3234960"/>
              <a:ext cx="0" cy="302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789360" y="3225960"/>
              <a:ext cx="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484360" y="3212640"/>
              <a:ext cx="0" cy="302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403280" y="2565360"/>
            <a:ext cx="793800" cy="3804120"/>
            <a:chOff x="1403280" y="2565360"/>
            <a:chExt cx="793800" cy="3804120"/>
          </a:xfrm>
        </p:grpSpPr>
        <p:grpSp>
          <p:nvGrpSpPr>
            <p:cNvPr id="62" name=""/>
            <p:cNvGrpSpPr/>
            <p:nvPr/>
          </p:nvGrpSpPr>
          <p:grpSpPr>
            <a:xfrm>
              <a:off x="2052720" y="2565360"/>
              <a:ext cx="144360" cy="3672000"/>
              <a:chOff x="2052720" y="2565360"/>
              <a:chExt cx="144360" cy="3672000"/>
            </a:xfrm>
          </p:grpSpPr>
          <p:sp>
            <p:nvSpPr>
              <p:cNvPr id="63" name=""/>
              <p:cNvSpPr/>
              <p:nvPr/>
            </p:nvSpPr>
            <p:spPr>
              <a:xfrm flipV="1">
                <a:off x="2052720" y="2565360"/>
                <a:ext cx="0" cy="36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052720" y="568656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052720" y="34876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052720" y="321336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52720" y="43117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052720" y="403704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052720" y="376236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052720" y="48625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052720" y="45864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052720" y="596124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052720" y="54118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052720" y="51372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1549440" y="6093000"/>
              <a:ext cx="50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76360" y="58197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76360" y="527364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76360" y="49989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05080" y="472608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05080" y="445284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05080" y="417816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05080" y="390528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6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05080" y="363204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8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03280" y="335772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76360" y="554688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050200" y="6165360"/>
            <a:ext cx="5832360" cy="464040"/>
            <a:chOff x="2050200" y="6165360"/>
            <a:chExt cx="5832360" cy="464040"/>
          </a:xfrm>
        </p:grpSpPr>
        <p:grpSp>
          <p:nvGrpSpPr>
            <p:cNvPr id="87" name=""/>
            <p:cNvGrpSpPr/>
            <p:nvPr/>
          </p:nvGrpSpPr>
          <p:grpSpPr>
            <a:xfrm>
              <a:off x="2050200" y="6165360"/>
              <a:ext cx="5832360" cy="92520"/>
              <a:chOff x="2050200" y="6165360"/>
              <a:chExt cx="5832360" cy="92520"/>
            </a:xfrm>
          </p:grpSpPr>
          <p:sp>
            <p:nvSpPr>
              <p:cNvPr id="88" name=""/>
              <p:cNvSpPr/>
              <p:nvPr/>
            </p:nvSpPr>
            <p:spPr>
              <a:xfrm>
                <a:off x="2050200" y="6257880"/>
                <a:ext cx="583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2925360" y="6167160"/>
                <a:ext cx="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6418080" y="6165360"/>
                <a:ext cx="0" cy="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5109840" y="6167160"/>
                <a:ext cx="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5546520" y="6165360"/>
                <a:ext cx="0" cy="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5981400" y="6165360"/>
                <a:ext cx="0" cy="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4235040" y="6167160"/>
                <a:ext cx="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4673160" y="6167160"/>
                <a:ext cx="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2489040" y="6167160"/>
                <a:ext cx="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3362040" y="6167160"/>
                <a:ext cx="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3798720" y="6167160"/>
                <a:ext cx="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193840" y="6383160"/>
              <a:ext cx="64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7840" y="6383160"/>
              <a:ext cx="64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4200" y="6383160"/>
              <a:ext cx="64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90920" y="6383160"/>
              <a:ext cx="64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22560" y="6383160"/>
              <a:ext cx="64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4" name=""/>
          <p:cNvGraphicFramePr/>
          <p:nvPr/>
        </p:nvGraphicFramePr>
        <p:xfrm>
          <a:off x="1042920" y="620640"/>
          <a:ext cx="6529320" cy="1079640"/>
        </p:xfrm>
        <a:graphic>
          <a:graphicData uri="http://schemas.openxmlformats.org/drawingml/2006/table">
            <a:tbl>
              <a:tblPr/>
              <a:tblGrid>
                <a:gridCol w="1449360"/>
                <a:gridCol w="1015920"/>
                <a:gridCol w="1016280"/>
                <a:gridCol w="1015920"/>
                <a:gridCol w="1015920"/>
                <a:gridCol w="1015920"/>
              </a:tblGrid>
              <a:tr h="36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无线电一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无线电二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684360" y="18900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某市无线电一厂、二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的产值情况如下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256536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位：万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148360" y="2565360"/>
            <a:ext cx="2087640" cy="563760"/>
            <a:chOff x="5148360" y="2565360"/>
            <a:chExt cx="2087640" cy="563760"/>
          </a:xfrm>
        </p:grpSpPr>
        <p:sp>
          <p:nvSpPr>
            <p:cNvPr id="108" name=""/>
            <p:cNvSpPr/>
            <p:nvPr/>
          </p:nvSpPr>
          <p:spPr>
            <a:xfrm>
              <a:off x="5148360" y="2708280"/>
              <a:ext cx="5760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48360" y="2997360"/>
              <a:ext cx="576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67280" y="2565360"/>
              <a:ext cx="13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无线电一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67280" y="2852640"/>
              <a:ext cx="13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无线电二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050920" y="1773360"/>
            <a:ext cx="5618160" cy="810360"/>
            <a:chOff x="2050920" y="1773360"/>
            <a:chExt cx="5618160" cy="810360"/>
          </a:xfrm>
        </p:grpSpPr>
        <p:sp>
          <p:nvSpPr>
            <p:cNvPr id="113" name=""/>
            <p:cNvSpPr/>
            <p:nvPr/>
          </p:nvSpPr>
          <p:spPr>
            <a:xfrm>
              <a:off x="2050920" y="1773360"/>
              <a:ext cx="468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某市无线电一厂、二厂产值增长情况统计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03640" y="2133720"/>
              <a:ext cx="21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年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08720" y="2276640"/>
              <a:ext cx="21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月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455920" y="5664240"/>
            <a:ext cx="71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55880" y="5411880"/>
            <a:ext cx="71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4894200"/>
            <a:ext cx="71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8720" y="4581360"/>
            <a:ext cx="71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50080" y="3770280"/>
            <a:ext cx="71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476440" y="3762000"/>
            <a:ext cx="3505320" cy="1905120"/>
            <a:chOff x="2476440" y="3762000"/>
            <a:chExt cx="3505320" cy="1905120"/>
          </a:xfrm>
        </p:grpSpPr>
        <p:grpSp>
          <p:nvGrpSpPr>
            <p:cNvPr id="122" name=""/>
            <p:cNvGrpSpPr/>
            <p:nvPr/>
          </p:nvGrpSpPr>
          <p:grpSpPr>
            <a:xfrm>
              <a:off x="2476440" y="4581360"/>
              <a:ext cx="3067200" cy="1085760"/>
              <a:chOff x="2476440" y="4581360"/>
              <a:chExt cx="3067200" cy="1085760"/>
            </a:xfrm>
          </p:grpSpPr>
          <p:sp>
            <p:nvSpPr>
              <p:cNvPr id="123" name=""/>
              <p:cNvSpPr/>
              <p:nvPr/>
            </p:nvSpPr>
            <p:spPr>
              <a:xfrm flipV="1">
                <a:off x="2476440" y="5409720"/>
                <a:ext cx="1314360" cy="2574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3772080" y="4905360"/>
                <a:ext cx="876240" cy="495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4667400" y="4581360"/>
                <a:ext cx="876240" cy="314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V="1">
              <a:off x="5543640" y="3762000"/>
              <a:ext cx="438120" cy="819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751200" y="4954680"/>
            <a:ext cx="2260800" cy="663480"/>
            <a:chOff x="3751200" y="4954680"/>
            <a:chExt cx="2260800" cy="663480"/>
          </a:xfrm>
        </p:grpSpPr>
        <p:sp>
          <p:nvSpPr>
            <p:cNvPr id="128" name=""/>
            <p:cNvSpPr/>
            <p:nvPr/>
          </p:nvSpPr>
          <p:spPr>
            <a:xfrm>
              <a:off x="3751200" y="5618160"/>
              <a:ext cx="7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3280" y="5445000"/>
              <a:ext cx="7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08720" y="5345280"/>
              <a:ext cx="7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40360" y="4954680"/>
              <a:ext cx="7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503440" y="4947840"/>
            <a:ext cx="3485880" cy="723960"/>
            <a:chOff x="2503440" y="4947840"/>
            <a:chExt cx="3485880" cy="723960"/>
          </a:xfrm>
        </p:grpSpPr>
        <p:sp>
          <p:nvSpPr>
            <p:cNvPr id="133" name=""/>
            <p:cNvSpPr/>
            <p:nvPr/>
          </p:nvSpPr>
          <p:spPr>
            <a:xfrm flipV="1">
              <a:off x="2503440" y="5614560"/>
              <a:ext cx="1295280" cy="572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789360" y="5443560"/>
              <a:ext cx="895320" cy="171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684680" y="5329440"/>
              <a:ext cx="87624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560920" y="4947840"/>
              <a:ext cx="428400" cy="3812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050920" y="3500280"/>
            <a:ext cx="4319640" cy="2406960"/>
            <a:chOff x="2050920" y="3500280"/>
            <a:chExt cx="4319640" cy="2406960"/>
          </a:xfrm>
        </p:grpSpPr>
        <p:sp>
          <p:nvSpPr>
            <p:cNvPr id="138" name=""/>
            <p:cNvSpPr/>
            <p:nvPr/>
          </p:nvSpPr>
          <p:spPr>
            <a:xfrm>
              <a:off x="2050920" y="544500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92360" y="515772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56000" y="465300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5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76720" y="4221000"/>
              <a:ext cx="57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24360" y="3500280"/>
              <a:ext cx="57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92360" y="566100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5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27640" y="551664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5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92720" y="537372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5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67280" y="494172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45:37Z</dcterms:created>
  <dc:creator>Legend User</dc:creator>
  <dc:description/>
  <dc:language>en-US</dc:language>
  <cp:lastModifiedBy>Legend User</cp:lastModifiedBy>
  <dcterms:modified xsi:type="dcterms:W3CDTF">2005-04-19T00:42:44Z</dcterms:modified>
  <cp:revision>6</cp:revision>
  <dc:subject/>
  <dc:title>幻灯片 1</dc:title>
</cp:coreProperties>
</file>