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gif" ContentType="image/gif"/>
  <Override PartName="/ppt/media/image13.jpeg" ContentType="image/jpeg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chimes.wav" ContentType="audio/x-wav"/>
  <Override PartName="/ppt/media/image8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gif" ContentType="image/gif"/>
  <Override PartName="/ppt/media/image10.jpeg" ContentType="image/jpeg"/>
  <Override PartName="/ppt/media/Button18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CD5-8DFE-49F7-8C2A-C8BBC1B1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DC7-1C33-4164-9B04-FFA3DBA3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159-409D-4376-A9B0-5FF08AB7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3C2-DD91-4D60-9F45-592559B6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8DC1-B90E-4F68-B23D-DED718DB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DB55-B02C-4B3B-A2C5-73CE2C37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4D15-0D16-47C7-B1B5-FABBFB0E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AFB0-7340-4EC4-9A4A-43916A10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0F5E-8A18-462B-9958-BBC4309E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469E-29E4-492B-AB01-2BA73DDC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FFE3-3EDF-420F-93FB-33534E7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1AA-CAF1-4E7A-B8B2-7042577D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B18C-8801-49F8-8FB6-4D82F33E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07FC-07E1-4A75-A37D-BA66D43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C8FA-4ABB-436C-9A42-B0EFDF1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DE74-B1F1-403F-B3BA-51C5D602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D65F-F35E-477B-8162-613F4245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00AC-9D33-4812-A196-30A01442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42818-2A02-4FC3-993F-C32CEA11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F82B-1FBD-460D-99FF-A018DF25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9826-D344-40FB-B16A-23419CFF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4BD8-25AC-428E-9E4B-9B80EFE2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2DD-BC79-49E7-96C7-D3A8C96A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0DCC-4251-484F-9C2A-26C08D3A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F2CF-96A1-4437-B4EF-FF8F2A4A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7E97-6DE3-4688-BF0B-4016A3CC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0BCD4-D365-4C75-8B64-93B15C6D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A51A-F7CB-4C64-ACF6-EA1A4D2E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F1A3-8DC0-4388-B578-22DFE22D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606E6-E468-4DA6-8416-13C24241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C0A-0807-49C7-AD3A-82399C91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9AA-97EE-4983-B116-361B0EE9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00B-6400-47E1-98B9-D8CA52B3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823-D06B-4FB6-B859-5A8DEAB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3FD-CD0E-4DED-8428-0F93C43A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AA2-6B72-402C-9683-F9A92E90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0A18-9D16-425E-A737-7AE63EBB26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95F-BF5A-4D86-A87A-32B3E0930B2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F392-27C4-48C7-A421-D649AD637D1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audio" Target="../media/Button18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gi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28520" y="-130320"/>
            <a:ext cx="9402840" cy="712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47628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行楷"/>
              </a:rPr>
              <a:t>九年义务教育小学数学第十一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00000" y="2205000"/>
            <a:ext cx="799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3500000" blurRad="0" rotWithShape="0">
                    <a:srgbClr val="000099">
                      <a:alpha val="50000"/>
                    </a:srgbClr>
                  </a:outerShdw>
                </a:effectLst>
                <a:latin typeface="隶书"/>
              </a:rPr>
              <a:t>分数连乘应用题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3500000" blurRad="0" rotWithShape="0">
                  <a:srgbClr val="000099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9144000" cy="7173720"/>
            <a:chOff x="0" y="0"/>
            <a:chExt cx="9144000" cy="717372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17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"/>
            <p:cNvGrpSpPr/>
            <p:nvPr/>
          </p:nvGrpSpPr>
          <p:grpSpPr>
            <a:xfrm>
              <a:off x="4392720" y="2004480"/>
              <a:ext cx="360360" cy="894240"/>
              <a:chOff x="4392720" y="2004480"/>
              <a:chExt cx="360360" cy="894240"/>
            </a:xfrm>
          </p:grpSpPr>
          <p:sp>
            <p:nvSpPr>
              <p:cNvPr id="296" name=""/>
              <p:cNvSpPr/>
              <p:nvPr/>
            </p:nvSpPr>
            <p:spPr>
              <a:xfrm>
                <a:off x="4392720" y="2004480"/>
                <a:ext cx="3603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92720" y="2381040"/>
                <a:ext cx="36036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 txBox="1"/>
          <p:nvPr/>
        </p:nvSpPr>
        <p:spPr>
          <a:xfrm>
            <a:off x="2268360" y="18900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000099">
                      <a:alpha val="50000"/>
                    </a:srgbClr>
                  </a:outerShdw>
                </a:effectLst>
                <a:latin typeface="宋体"/>
              </a:rPr>
              <a:t>对号入座</a:t>
            </a:r>
            <a:endParaRPr b="0" lang="en-US" sz="2400" spc="1" strike="noStrike">
              <a:ln w="12600">
                <a:solidFill>
                  <a:srgbClr val="00ccff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000099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177336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物组养红金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金鱼的数量是红金鱼的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金鱼的数量是黑金鱼的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            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算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择问题是（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492360" y="2133720"/>
            <a:ext cx="431640" cy="988560"/>
            <a:chOff x="3492360" y="2133720"/>
            <a:chExt cx="431640" cy="988560"/>
          </a:xfrm>
        </p:grpSpPr>
        <p:sp>
          <p:nvSpPr>
            <p:cNvPr id="301" name=""/>
            <p:cNvSpPr/>
            <p:nvPr/>
          </p:nvSpPr>
          <p:spPr>
            <a:xfrm>
              <a:off x="3492360" y="2133720"/>
              <a:ext cx="34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494880" y="2540880"/>
              <a:ext cx="34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92360" y="2610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268360" y="2565360"/>
            <a:ext cx="432000" cy="1007280"/>
            <a:chOff x="2268360" y="2565360"/>
            <a:chExt cx="432000" cy="1007280"/>
          </a:xfrm>
        </p:grpSpPr>
        <p:sp>
          <p:nvSpPr>
            <p:cNvPr id="305" name=""/>
            <p:cNvSpPr/>
            <p:nvPr/>
          </p:nvSpPr>
          <p:spPr>
            <a:xfrm>
              <a:off x="2268360" y="305964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68360" y="2565360"/>
              <a:ext cx="28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68360" y="29912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667640" y="2565360"/>
            <a:ext cx="361440" cy="980640"/>
            <a:chOff x="7667640" y="2565360"/>
            <a:chExt cx="361440" cy="980640"/>
          </a:xfrm>
        </p:grpSpPr>
        <p:sp>
          <p:nvSpPr>
            <p:cNvPr id="309" name=""/>
            <p:cNvSpPr/>
            <p:nvPr/>
          </p:nvSpPr>
          <p:spPr>
            <a:xfrm>
              <a:off x="7667640" y="2565360"/>
              <a:ext cx="28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668360" y="2964600"/>
              <a:ext cx="28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7640" y="3032280"/>
              <a:ext cx="36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948360" y="2565360"/>
            <a:ext cx="360360" cy="989640"/>
            <a:chOff x="6948360" y="2565360"/>
            <a:chExt cx="360360" cy="989640"/>
          </a:xfrm>
        </p:grpSpPr>
        <p:sp>
          <p:nvSpPr>
            <p:cNvPr id="313" name=""/>
            <p:cNvSpPr/>
            <p:nvPr/>
          </p:nvSpPr>
          <p:spPr>
            <a:xfrm>
              <a:off x="6948360" y="30430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48360" y="2565360"/>
              <a:ext cx="23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48360" y="2973600"/>
              <a:ext cx="30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43280" y="3330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5080" y="4140360"/>
            <a:ext cx="7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、黑金鱼有多少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、花金鱼有多少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、红金鱼有多少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416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1181160" cy="122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rot="20327400">
            <a:off x="-756720" y="981000"/>
            <a:ext cx="4535280" cy="1656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66ff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2079360" cy="266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20165400">
            <a:off x="0" y="105264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考考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206064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行楷"/>
              </a:rPr>
              <a:t>    </a:t>
            </a:r>
            <a:r>
              <a:rPr b="1" lang="zh-CN" sz="7200" spc="-1" strike="noStrike">
                <a:solidFill>
                  <a:srgbClr val="800000"/>
                </a:solidFill>
                <a:latin typeface="宋体"/>
              </a:rPr>
              <a:t>解答分数应用题的关键是什么</a:t>
            </a:r>
            <a:r>
              <a:rPr b="1" lang="zh-CN" sz="7200" spc="-1" strike="noStrike">
                <a:solidFill>
                  <a:srgbClr val="800000"/>
                </a:solidFill>
                <a:latin typeface="宋体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4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2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2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718920" cy="503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42920" y="476280"/>
            <a:ext cx="77630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生物组的人数是美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组的　　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771640" y="1916280"/>
            <a:ext cx="720720" cy="1553760"/>
            <a:chOff x="2771640" y="1916280"/>
            <a:chExt cx="720720" cy="1553760"/>
          </a:xfrm>
        </p:grpSpPr>
        <p:sp>
          <p:nvSpPr>
            <p:cNvPr id="138" name=""/>
            <p:cNvSpPr/>
            <p:nvPr/>
          </p:nvSpPr>
          <p:spPr>
            <a:xfrm flipH="1">
              <a:off x="2917800" y="1916280"/>
              <a:ext cx="57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6633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71640" y="2340000"/>
              <a:ext cx="5749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6633"/>
                  </a:solidFill>
                  <a:latin typeface="宋体"/>
                </a:rPr>
                <a:t>3</a:t>
              </a:r>
              <a:r>
                <a:rPr b="1" lang="zh-CN" sz="3200" spc="-1" strike="noStrike">
                  <a:solidFill>
                    <a:srgbClr val="006633"/>
                  </a:solidFill>
                  <a:latin typeface="Arial"/>
                </a:rPr>
                <a:t>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771640" y="2494080"/>
              <a:ext cx="720720" cy="0"/>
            </a:xfrm>
            <a:prstGeom prst="line">
              <a:avLst/>
            </a:prstGeom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187280" y="3429000"/>
            <a:ext cx="705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鸡的只数是鸭的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鹅的只数是鸡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792000" cy="5032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6300360" y="3141720"/>
            <a:ext cx="721080" cy="1422360"/>
            <a:chOff x="6300360" y="3141720"/>
            <a:chExt cx="721080" cy="1422360"/>
          </a:xfrm>
        </p:grpSpPr>
        <p:sp>
          <p:nvSpPr>
            <p:cNvPr id="144" name=""/>
            <p:cNvSpPr/>
            <p:nvPr/>
          </p:nvSpPr>
          <p:spPr>
            <a:xfrm flipH="1">
              <a:off x="6300000" y="3141720"/>
              <a:ext cx="57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6633"/>
                  </a:solidFill>
                  <a:latin typeface="Arial"/>
                </a:rPr>
                <a:t>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00720" y="3860640"/>
              <a:ext cx="57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6633"/>
                  </a:solidFill>
                  <a:latin typeface="Arial"/>
                </a:rPr>
                <a:t>９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300720" y="3933720"/>
              <a:ext cx="720720" cy="0"/>
            </a:xfrm>
            <a:prstGeom prst="line">
              <a:avLst/>
            </a:prstGeom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372360" y="4581360"/>
            <a:ext cx="720720" cy="1352880"/>
            <a:chOff x="6372360" y="4581360"/>
            <a:chExt cx="720720" cy="1352880"/>
          </a:xfrm>
        </p:grpSpPr>
        <p:sp>
          <p:nvSpPr>
            <p:cNvPr id="148" name=""/>
            <p:cNvSpPr/>
            <p:nvPr/>
          </p:nvSpPr>
          <p:spPr>
            <a:xfrm flipH="1">
              <a:off x="6372360" y="4581360"/>
              <a:ext cx="5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6633"/>
                  </a:solidFill>
                  <a:latin typeface="Arial"/>
                </a:rPr>
                <a:t>３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72360" y="5230800"/>
              <a:ext cx="5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6633"/>
                  </a:solidFill>
                  <a:latin typeface="Arial"/>
                </a:rPr>
                <a:t>５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372360" y="5230800"/>
              <a:ext cx="720720" cy="0"/>
            </a:xfrm>
            <a:prstGeom prst="line">
              <a:avLst/>
            </a:prstGeom>
            <a:ln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511200">
            <a:off x="7284960" y="550080"/>
            <a:ext cx="127764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行楷"/>
              </a:rPr>
              <a:t>你会判断单位“１”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4842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476280"/>
            <a:ext cx="1219320" cy="649080"/>
          </a:xfrm>
          <a:prstGeom prst="flowChartPunchedTap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1062000"/>
            <a:ext cx="71629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学校合唱队有队员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48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人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游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队的人数是合唱队的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乒乓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队的人数是游泳队的    。乒乓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队有多少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80000" y="2276640"/>
                <a:ext cx="4334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80000" y="1555920"/>
                <a:ext cx="301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43640" y="4387680"/>
            <a:ext cx="1800360" cy="2470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079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例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476280"/>
            <a:ext cx="1219320" cy="649080"/>
          </a:xfrm>
          <a:prstGeom prst="flowChartPunchedTap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95280" y="990720"/>
            <a:ext cx="7162920" cy="3123000"/>
            <a:chOff x="1295280" y="990720"/>
            <a:chExt cx="7162920" cy="3123000"/>
          </a:xfrm>
        </p:grpSpPr>
        <p:sp>
          <p:nvSpPr>
            <p:cNvPr id="163" name=""/>
            <p:cNvSpPr/>
            <p:nvPr/>
          </p:nvSpPr>
          <p:spPr>
            <a:xfrm>
              <a:off x="1295280" y="990720"/>
              <a:ext cx="7162920" cy="31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学校合唱队有队员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48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人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游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队的人数是合唱队的</a:t>
              </a:r>
              <a:r>
                <a:rPr b="1" lang="zh-CN" sz="36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，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乒乓球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队的人数是游泳队的    。乒乓球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队有多少人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80000" y="2205000"/>
                  <a:ext cx="4334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5580000" y="1484280"/>
                  <a:ext cx="301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2050920" y="3141720"/>
            <a:ext cx="4972320" cy="2373840"/>
            <a:chOff x="2050920" y="3141720"/>
            <a:chExt cx="4972320" cy="2373840"/>
          </a:xfrm>
        </p:grpSpPr>
        <p:sp>
          <p:nvSpPr>
            <p:cNvPr id="167" name=""/>
            <p:cNvSpPr/>
            <p:nvPr/>
          </p:nvSpPr>
          <p:spPr>
            <a:xfrm>
              <a:off x="2050920" y="375120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黑体"/>
                </a:rPr>
                <a:t>合唱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346560" y="4056120"/>
              <a:ext cx="3676680" cy="336600"/>
              <a:chOff x="3346560" y="4056120"/>
              <a:chExt cx="3676680" cy="336600"/>
            </a:xfrm>
          </p:grpSpPr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4432320" y="4176720"/>
                    <a:ext cx="114480" cy="21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70" name=""/>
              <p:cNvSpPr/>
              <p:nvPr/>
            </p:nvSpPr>
            <p:spPr>
              <a:xfrm>
                <a:off x="3346560" y="4132440"/>
                <a:ext cx="365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46560" y="4056120"/>
                <a:ext cx="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56040" y="4056120"/>
                <a:ext cx="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84960" y="4056120"/>
                <a:ext cx="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194440" y="4056120"/>
                <a:ext cx="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84840" y="4056120"/>
                <a:ext cx="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94680" y="4056120"/>
                <a:ext cx="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23240" y="4056120"/>
                <a:ext cx="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 rot="5397600">
              <a:off x="4354560" y="4290840"/>
              <a:ext cx="215640" cy="223200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57960 h 2232000"/>
                <a:gd name="textAreaBottom" fmla="*/ 217404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16360" y="31417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92360" y="4724280"/>
            <a:ext cx="4208400" cy="1054080"/>
            <a:chOff x="1692360" y="4724280"/>
            <a:chExt cx="4208400" cy="1054080"/>
          </a:xfrm>
        </p:grpSpPr>
        <p:sp>
          <p:nvSpPr>
            <p:cNvPr id="181" name=""/>
            <p:cNvSpPr/>
            <p:nvPr/>
          </p:nvSpPr>
          <p:spPr>
            <a:xfrm>
              <a:off x="1692360" y="5257800"/>
              <a:ext cx="265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黑体"/>
                </a:rPr>
                <a:t>乒乓球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19640" y="5661000"/>
              <a:ext cx="21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814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51640" y="551664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95640" y="472428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？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1640" y="4797360"/>
              <a:ext cx="0" cy="8636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4068720" y="6958080"/>
            <a:ext cx="31687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050920" y="4076640"/>
            <a:ext cx="4343400" cy="826920"/>
            <a:chOff x="2050920" y="4076640"/>
            <a:chExt cx="4343400" cy="826920"/>
          </a:xfrm>
        </p:grpSpPr>
        <p:sp>
          <p:nvSpPr>
            <p:cNvPr id="189" name=""/>
            <p:cNvSpPr/>
            <p:nvPr/>
          </p:nvSpPr>
          <p:spPr>
            <a:xfrm>
              <a:off x="2050920" y="438300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黑体"/>
                </a:rPr>
                <a:t>游泳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346560" y="4762080"/>
              <a:ext cx="3047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46560" y="468792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40360" y="465120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32360" y="465120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94320" y="468792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94320" y="4076640"/>
              <a:ext cx="0" cy="6858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651640" y="46530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5397600">
            <a:off x="5072040" y="2064960"/>
            <a:ext cx="209520" cy="3657600"/>
          </a:xfrm>
          <a:custGeom>
            <a:avLst/>
            <a:gdLst>
              <a:gd name="textAreaLeft" fmla="*/ 133920 w 209520"/>
              <a:gd name="textAreaRight" fmla="*/ 209880 w 209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5079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例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343640" y="4387680"/>
            <a:ext cx="18003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6916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55640" y="1066680"/>
            <a:ext cx="762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“游泳队的人数是合唱队的  ”，把合唱队的人数看作单位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先求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游泳队的人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根据“乒乓球队的人数是游泳队的  ”，再把游泳队的人数看作单位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求出小新储蓄的钱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124000" y="2421000"/>
                <a:ext cx="279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236000" y="981000"/>
                <a:ext cx="301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1600200" y="4071960"/>
            <a:ext cx="2359080" cy="728640"/>
            <a:chOff x="1600200" y="4071960"/>
            <a:chExt cx="2359080" cy="728640"/>
          </a:xfrm>
        </p:grpSpPr>
        <p:sp>
          <p:nvSpPr>
            <p:cNvPr id="205" name=""/>
            <p:cNvSpPr/>
            <p:nvPr/>
          </p:nvSpPr>
          <p:spPr>
            <a:xfrm>
              <a:off x="1600200" y="414504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） 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48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657600" y="4071960"/>
                  <a:ext cx="301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419720" y="426708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495680"/>
            <a:ext cx="30456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4419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00200" y="5121360"/>
            <a:ext cx="2590920" cy="728640"/>
            <a:chOff x="1600200" y="5121360"/>
            <a:chExt cx="2590920" cy="728640"/>
          </a:xfrm>
        </p:grpSpPr>
        <p:sp>
          <p:nvSpPr>
            <p:cNvPr id="212" name=""/>
            <p:cNvSpPr/>
            <p:nvPr/>
          </p:nvSpPr>
          <p:spPr>
            <a:xfrm>
              <a:off x="1600200" y="51973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） 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40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3668760" y="5121360"/>
                  <a:ext cx="27792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4" name=""/>
          <p:cNvSpPr/>
          <p:nvPr/>
        </p:nvSpPr>
        <p:spPr>
          <a:xfrm>
            <a:off x="4495680" y="5349960"/>
            <a:ext cx="53352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5562720"/>
            <a:ext cx="304560" cy="24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68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5654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072680" y="4038480"/>
            <a:ext cx="1563120" cy="728640"/>
            <a:chOff x="4072680" y="4038480"/>
            <a:chExt cx="1563120" cy="728640"/>
          </a:xfrm>
        </p:grpSpPr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334120" y="4038480"/>
                  <a:ext cx="301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0" name=""/>
            <p:cNvSpPr/>
            <p:nvPr/>
          </p:nvSpPr>
          <p:spPr>
            <a:xfrm>
              <a:off x="4072680" y="4122720"/>
              <a:ext cx="12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48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009840" y="4114800"/>
            <a:ext cx="18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072680" y="5121360"/>
            <a:ext cx="1550160" cy="728640"/>
            <a:chOff x="4072680" y="5121360"/>
            <a:chExt cx="1550160" cy="728640"/>
          </a:xfrm>
        </p:grpSpPr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345280" y="5121360"/>
                  <a:ext cx="27756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4" name=""/>
            <p:cNvSpPr/>
            <p:nvPr/>
          </p:nvSpPr>
          <p:spPr>
            <a:xfrm>
              <a:off x="4072680" y="5211720"/>
              <a:ext cx="12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40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009840" y="5211720"/>
            <a:ext cx="18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306000" cy="6881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295280" y="1295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上面的分步算式列成综合算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828800" y="3048120"/>
            <a:ext cx="6553080" cy="728640"/>
            <a:chOff x="1828800" y="3048120"/>
            <a:chExt cx="6553080" cy="728640"/>
          </a:xfrm>
        </p:grpSpPr>
        <p:sp>
          <p:nvSpPr>
            <p:cNvPr id="229" name=""/>
            <p:cNvSpPr/>
            <p:nvPr/>
          </p:nvSpPr>
          <p:spPr>
            <a:xfrm>
              <a:off x="1828800" y="31240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48×  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743200" y="3048120"/>
                  <a:ext cx="301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363840" y="3048120"/>
                  <a:ext cx="27792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3799800" y="3048120"/>
            <a:ext cx="1977120" cy="728640"/>
            <a:chOff x="3799800" y="3048120"/>
            <a:chExt cx="1977120" cy="728640"/>
          </a:xfrm>
        </p:grpSpPr>
        <p:sp>
          <p:nvSpPr>
            <p:cNvPr id="233" name=""/>
            <p:cNvSpPr/>
            <p:nvPr/>
          </p:nvSpPr>
          <p:spPr>
            <a:xfrm>
              <a:off x="3799800" y="3124080"/>
              <a:ext cx="166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48×  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876920" y="3048120"/>
                  <a:ext cx="301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97560" y="3048120"/>
                  <a:ext cx="27936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"/>
          <p:cNvSpPr/>
          <p:nvPr/>
        </p:nvSpPr>
        <p:spPr>
          <a:xfrm>
            <a:off x="4038480" y="3276720"/>
            <a:ext cx="53352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38760" y="3486240"/>
            <a:ext cx="3808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3581280"/>
            <a:ext cx="38088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1120" y="3048120"/>
            <a:ext cx="30456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33880" y="3124080"/>
            <a:ext cx="18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983120"/>
            <a:ext cx="46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答：乒乓球队有３０人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971640" y="1628640"/>
            <a:ext cx="6696000" cy="446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66ff33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抓住分率句，</a:t>
            </a:r>
            <a:endParaRPr b="0" lang="en-US" sz="2400" spc="1" strike="noStrike">
              <a:ln w="19080">
                <a:solidFill>
                  <a:srgbClr val="66ff33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66ff33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　找准单位“１”。</a:t>
            </a:r>
            <a:endParaRPr b="0" lang="en-US" sz="2400" spc="1" strike="noStrike">
              <a:ln w="19080">
                <a:solidFill>
                  <a:srgbClr val="66ff33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66ff33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图来分析，</a:t>
            </a:r>
            <a:endParaRPr b="0" lang="en-US" sz="2400" spc="1" strike="noStrike">
              <a:ln w="19080">
                <a:solidFill>
                  <a:srgbClr val="66ff33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66ff33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列式不必急。</a:t>
            </a:r>
            <a:endParaRPr b="0" lang="en-US" sz="2400" spc="1" strike="noStrike">
              <a:ln w="19080">
                <a:solidFill>
                  <a:srgbClr val="66ff33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66ff33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58920" y="1413000"/>
            <a:ext cx="590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68360" y="0"/>
            <a:ext cx="439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宋体"/>
              </a:rPr>
              <a:t>连一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宋体"/>
              </a:rPr>
              <a:t>找朋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宋体"/>
              <a:ea typeface="宋体"/>
            </a:endParaRPr>
          </a:p>
        </p:txBody>
      </p:sp>
      <p:sp>
        <p:nvSpPr>
          <p:cNvPr id="250" name=""/>
          <p:cNvSpPr/>
          <p:nvPr/>
        </p:nvSpPr>
        <p:spPr>
          <a:xfrm>
            <a:off x="3851280" y="566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1557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华文行楷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908000" y="577368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42920" y="577368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627280" y="577368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419640" y="577368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7993080" y="5775480"/>
            <a:ext cx="1150920" cy="10825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4572000" y="5775480"/>
            <a:ext cx="1150920" cy="1082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6227640" y="5850000"/>
            <a:ext cx="1150920" cy="100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5435640" y="5850000"/>
            <a:ext cx="1150920" cy="100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250920" y="5773680"/>
            <a:ext cx="1152360" cy="108432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3203640" y="2276640"/>
            <a:ext cx="502920" cy="1007280"/>
            <a:chOff x="3203640" y="2276640"/>
            <a:chExt cx="502920" cy="1007280"/>
          </a:xfrm>
        </p:grpSpPr>
        <p:sp>
          <p:nvSpPr>
            <p:cNvPr id="262" name=""/>
            <p:cNvSpPr/>
            <p:nvPr/>
          </p:nvSpPr>
          <p:spPr>
            <a:xfrm>
              <a:off x="3203640" y="2276640"/>
              <a:ext cx="4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206880" y="2702520"/>
              <a:ext cx="40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3640" y="277488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0" y="162864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华文行楷"/>
              </a:rPr>
              <a:t>      </a:t>
            </a:r>
            <a:r>
              <a:rPr b="0" lang="zh-CN" sz="4800" spc="-1" strike="noStrike">
                <a:solidFill>
                  <a:srgbClr val="9900ff"/>
                </a:solidFill>
                <a:latin typeface="Arial"/>
                <a:ea typeface="华文行楷"/>
              </a:rPr>
              <a:t>1,</a:t>
            </a:r>
            <a:r>
              <a:rPr b="0" lang="zh-CN" sz="4800" spc="-1" strike="noStrike">
                <a:solidFill>
                  <a:srgbClr val="9900ff"/>
                </a:solidFill>
                <a:latin typeface="Arial"/>
                <a:ea typeface="华文行楷"/>
              </a:rPr>
              <a:t>白兔有</a:t>
            </a:r>
            <a:r>
              <a:rPr b="0" i="1" lang="zh-CN" sz="4800" spc="-1" strike="noStrike">
                <a:solidFill>
                  <a:srgbClr val="3333cc"/>
                </a:solidFill>
                <a:latin typeface="Arial"/>
                <a:ea typeface="华文行楷"/>
              </a:rPr>
              <a:t>180 </a:t>
            </a:r>
            <a:r>
              <a:rPr b="0" lang="zh-CN" sz="4800" spc="-1" strike="noStrike">
                <a:solidFill>
                  <a:srgbClr val="9900ff"/>
                </a:solidFill>
                <a:latin typeface="Arial"/>
                <a:ea typeface="华文行楷"/>
              </a:rPr>
              <a:t>只</a:t>
            </a:r>
            <a:r>
              <a:rPr b="0" lang="zh-CN" sz="4800" spc="-1" strike="noStrike">
                <a:solidFill>
                  <a:srgbClr val="9900ff"/>
                </a:solidFill>
                <a:latin typeface="Arial"/>
                <a:ea typeface="华文行楷"/>
              </a:rPr>
              <a:t>, </a:t>
            </a:r>
            <a:r>
              <a:rPr b="0" lang="zh-CN" sz="4800" spc="-1" strike="noStrike">
                <a:solidFill>
                  <a:srgbClr val="9900ff"/>
                </a:solidFill>
                <a:latin typeface="Arial"/>
                <a:ea typeface="华文行楷"/>
              </a:rPr>
              <a:t>黑兔的只数是白兔的　，灰兔的只数是黑兔的    ，           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35280" y="3789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484360" y="2997360"/>
            <a:ext cx="432000" cy="989640"/>
            <a:chOff x="2484360" y="2997360"/>
            <a:chExt cx="432000" cy="989640"/>
          </a:xfrm>
        </p:grpSpPr>
        <p:sp>
          <p:nvSpPr>
            <p:cNvPr id="268" name=""/>
            <p:cNvSpPr/>
            <p:nvPr/>
          </p:nvSpPr>
          <p:spPr>
            <a:xfrm>
              <a:off x="2484360" y="34750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84360" y="2997360"/>
              <a:ext cx="28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84360" y="34056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-1549440" y="3645000"/>
            <a:ext cx="7848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黑兔有多少只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灰兔有多少只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364000" y="4508640"/>
            <a:ext cx="2880000" cy="2349360"/>
            <a:chOff x="5364000" y="4508640"/>
            <a:chExt cx="2880000" cy="2349360"/>
          </a:xfrm>
        </p:grpSpPr>
        <p:pic>
          <p:nvPicPr>
            <p:cNvPr id="273" name="" descr=""/>
            <p:cNvPicPr/>
            <p:nvPr/>
          </p:nvPicPr>
          <p:blipFill>
            <a:blip r:embed="rId10"/>
            <a:stretch/>
          </p:blipFill>
          <p:spPr>
            <a:xfrm>
              <a:off x="6948360" y="5640480"/>
              <a:ext cx="129564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364000" y="472428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180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7164000" y="4508640"/>
              <a:ext cx="378000" cy="1013040"/>
              <a:chOff x="7164000" y="4508640"/>
              <a:chExt cx="378000" cy="1013040"/>
            </a:xfrm>
          </p:grpSpPr>
          <p:sp>
            <p:nvSpPr>
              <p:cNvPr id="276" name=""/>
              <p:cNvSpPr/>
              <p:nvPr/>
            </p:nvSpPr>
            <p:spPr>
              <a:xfrm>
                <a:off x="7164360" y="4508640"/>
                <a:ext cx="30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163640" y="4940280"/>
                <a:ext cx="30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64360" y="5013360"/>
                <a:ext cx="37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5364000" y="3500280"/>
            <a:ext cx="2664000" cy="1013040"/>
            <a:chOff x="5364000" y="3500280"/>
            <a:chExt cx="2664000" cy="1013040"/>
          </a:xfrm>
        </p:grpSpPr>
        <p:grpSp>
          <p:nvGrpSpPr>
            <p:cNvPr id="280" name=""/>
            <p:cNvGrpSpPr/>
            <p:nvPr/>
          </p:nvGrpSpPr>
          <p:grpSpPr>
            <a:xfrm>
              <a:off x="5364000" y="3500280"/>
              <a:ext cx="2664000" cy="1013040"/>
              <a:chOff x="5364000" y="3500280"/>
              <a:chExt cx="2664000" cy="101304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7596360" y="3500280"/>
                <a:ext cx="431640" cy="989640"/>
                <a:chOff x="7596360" y="3500280"/>
                <a:chExt cx="431640" cy="989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596360" y="3978000"/>
                  <a:ext cx="431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596360" y="3500280"/>
                  <a:ext cx="28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596360" y="3908520"/>
                  <a:ext cx="360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5364000" y="3716280"/>
                <a:ext cx="172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180×     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6803640" y="3500280"/>
                <a:ext cx="378000" cy="1013040"/>
                <a:chOff x="6803640" y="3500280"/>
                <a:chExt cx="378000" cy="10130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804000" y="3500280"/>
                  <a:ext cx="301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6803280" y="3931920"/>
                  <a:ext cx="301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804000" y="400500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0" name=""/>
            <p:cNvSpPr/>
            <p:nvPr/>
          </p:nvSpPr>
          <p:spPr>
            <a:xfrm>
              <a:off x="7093080" y="37162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284720" y="4005360"/>
            <a:ext cx="172728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211640" y="4005360"/>
            <a:ext cx="16556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4:31:44Z</dcterms:created>
  <dc:creator>TXL</dc:creator>
  <dc:description/>
  <dc:language>en-US</dc:language>
  <cp:lastModifiedBy>微软用户</cp:lastModifiedBy>
  <dcterms:modified xsi:type="dcterms:W3CDTF">2006-09-25T13:42:01Z</dcterms:modified>
  <cp:revision>13</cp:revision>
  <dc:subject/>
  <dc:title>PowerPoint 演示文稿</dc:title>
</cp:coreProperties>
</file>