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B80-33E9-43B8-B4ED-386A5571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1BD-5286-457D-9513-50130E8C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081-E421-4B2A-AB66-0C6B445E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354-9D81-4561-B8D2-EFFDC612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845-D933-4F6C-845A-35C74B74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D77-3E62-410A-956E-46C59928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A84-A4F5-4350-9797-6B83B083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01D-7A41-48D8-A9E2-8676F013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7C0-5A33-477F-B26B-9B25B61D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008-3086-42B3-A2BC-85A8FE3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11A-96C7-4F9F-B84B-91F7D4A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2DF-9DB7-415C-9A67-C5BB8B1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FAF2-6D98-4101-B568-62E8825124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000" y="620640"/>
            <a:ext cx="625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复习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1)5</a:t>
            </a:r>
            <a:r>
              <a:rPr b="1" lang="zh-CN" sz="4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个</a:t>
            </a:r>
            <a:r>
              <a:rPr b="1" lang="zh-CN" sz="4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12</a:t>
            </a:r>
            <a:r>
              <a:rPr b="1" lang="zh-CN" sz="4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是多少怎样列式</a:t>
            </a:r>
            <a:r>
              <a:rPr b="1" lang="zh-CN" sz="4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(2)  1    2  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6    6   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852640"/>
            <a:ext cx="5760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852640"/>
            <a:ext cx="57636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852640"/>
            <a:ext cx="5760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724280"/>
            <a:ext cx="57636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4797360"/>
            <a:ext cx="57636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4797360"/>
            <a:ext cx="57636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9440" y="2565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256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56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005360"/>
            <a:ext cx="449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99ff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3     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</a:rPr>
              <a:t>10   10    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5440" y="4508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9440" y="4508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3440" y="4508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18900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</a:rPr>
              <a:t>小新、爸爸、妈妈一起吃一块蛋糕，每人吃       块，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</a:rPr>
              <a:t>人一共吃多少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04640"/>
            <a:ext cx="1224000" cy="792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492360" y="2176560"/>
            <a:ext cx="1008360" cy="1717200"/>
            <a:chOff x="3492360" y="2176560"/>
            <a:chExt cx="1008360" cy="1717200"/>
          </a:xfrm>
        </p:grpSpPr>
        <p:sp>
          <p:nvSpPr>
            <p:cNvPr id="58" name=""/>
            <p:cNvSpPr/>
            <p:nvPr/>
          </p:nvSpPr>
          <p:spPr>
            <a:xfrm>
              <a:off x="3782160" y="21765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2360" y="2997360"/>
              <a:ext cx="10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80000" y="3068640"/>
              <a:ext cx="57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79280" y="549360"/>
            <a:ext cx="1871640" cy="1873080"/>
            <a:chOff x="179280" y="549360"/>
            <a:chExt cx="1871640" cy="1873080"/>
          </a:xfrm>
        </p:grpSpPr>
        <p:sp>
          <p:nvSpPr>
            <p:cNvPr id="62" name=""/>
            <p:cNvSpPr/>
            <p:nvPr/>
          </p:nvSpPr>
          <p:spPr>
            <a:xfrm>
              <a:off x="179280" y="549360"/>
              <a:ext cx="1871640" cy="18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14560" y="549360"/>
              <a:ext cx="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114560" y="837720"/>
              <a:ext cx="64908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114560" y="1341000"/>
              <a:ext cx="936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560" y="838080"/>
              <a:ext cx="64944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9280" y="1485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14560" y="1485720"/>
              <a:ext cx="792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4560" y="1485720"/>
              <a:ext cx="43164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95280" y="1485360"/>
              <a:ext cx="71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98560" y="1485360"/>
              <a:ext cx="216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40000" y="549360"/>
            <a:ext cx="1871640" cy="1873080"/>
            <a:chOff x="2340000" y="549360"/>
            <a:chExt cx="1871640" cy="1873080"/>
          </a:xfrm>
        </p:grpSpPr>
        <p:sp>
          <p:nvSpPr>
            <p:cNvPr id="73" name=""/>
            <p:cNvSpPr/>
            <p:nvPr/>
          </p:nvSpPr>
          <p:spPr>
            <a:xfrm>
              <a:off x="2340000" y="549360"/>
              <a:ext cx="1871640" cy="18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5280" y="549360"/>
              <a:ext cx="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75280" y="838080"/>
              <a:ext cx="649080" cy="64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275280" y="1341360"/>
              <a:ext cx="936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7640" y="838080"/>
              <a:ext cx="649080" cy="64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40000" y="1485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5280" y="1485720"/>
              <a:ext cx="7920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75280" y="1485720"/>
              <a:ext cx="431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556000" y="1485720"/>
              <a:ext cx="719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059280" y="1485720"/>
              <a:ext cx="21600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500720" y="549360"/>
            <a:ext cx="1871640" cy="1873080"/>
            <a:chOff x="4500720" y="549360"/>
            <a:chExt cx="1871640" cy="1873080"/>
          </a:xfrm>
        </p:grpSpPr>
        <p:sp>
          <p:nvSpPr>
            <p:cNvPr id="84" name=""/>
            <p:cNvSpPr/>
            <p:nvPr/>
          </p:nvSpPr>
          <p:spPr>
            <a:xfrm>
              <a:off x="4500720" y="549360"/>
              <a:ext cx="1871640" cy="18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36000" y="549360"/>
              <a:ext cx="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436000" y="838080"/>
              <a:ext cx="649080" cy="64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436000" y="1341360"/>
              <a:ext cx="936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88360" y="838080"/>
              <a:ext cx="649080" cy="64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00720" y="1485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36000" y="1485720"/>
              <a:ext cx="7920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36000" y="1485720"/>
              <a:ext cx="431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716720" y="1485720"/>
              <a:ext cx="719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20000" y="1485720"/>
              <a:ext cx="21600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516720" y="126828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272360" y="549360"/>
            <a:ext cx="1871640" cy="1873080"/>
            <a:chOff x="7272360" y="549360"/>
            <a:chExt cx="1871640" cy="1873080"/>
          </a:xfrm>
        </p:grpSpPr>
        <p:sp>
          <p:nvSpPr>
            <p:cNvPr id="96" name=""/>
            <p:cNvSpPr/>
            <p:nvPr/>
          </p:nvSpPr>
          <p:spPr>
            <a:xfrm>
              <a:off x="7272360" y="549360"/>
              <a:ext cx="1871640" cy="18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07280" y="549360"/>
              <a:ext cx="0" cy="93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207280" y="838080"/>
              <a:ext cx="64944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207280" y="1341360"/>
              <a:ext cx="93672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59640" y="838440"/>
              <a:ext cx="64944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72360" y="1486080"/>
              <a:ext cx="936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07280" y="1486080"/>
              <a:ext cx="79236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07280" y="14860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488360" y="1486080"/>
              <a:ext cx="718920" cy="57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991640" y="1485720"/>
              <a:ext cx="215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4360" y="2924280"/>
            <a:ext cx="576000" cy="1241280"/>
            <a:chOff x="684360" y="2924280"/>
            <a:chExt cx="576000" cy="1241280"/>
          </a:xfrm>
        </p:grpSpPr>
        <p:sp>
          <p:nvSpPr>
            <p:cNvPr id="107" name=""/>
            <p:cNvSpPr/>
            <p:nvPr/>
          </p:nvSpPr>
          <p:spPr>
            <a:xfrm>
              <a:off x="757080" y="2924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7080" y="364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360" y="3573360"/>
              <a:ext cx="57600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956720" y="2852640"/>
            <a:ext cx="576000" cy="1241280"/>
            <a:chOff x="7956720" y="2852640"/>
            <a:chExt cx="576000" cy="1241280"/>
          </a:xfrm>
        </p:grpSpPr>
        <p:sp>
          <p:nvSpPr>
            <p:cNvPr id="111" name=""/>
            <p:cNvSpPr/>
            <p:nvPr/>
          </p:nvSpPr>
          <p:spPr>
            <a:xfrm>
              <a:off x="8029440" y="2852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6720" y="3501720"/>
              <a:ext cx="57600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29440" y="3573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451640" y="5013360"/>
            <a:ext cx="576360" cy="1168200"/>
            <a:chOff x="7451640" y="5013360"/>
            <a:chExt cx="576360" cy="1168200"/>
          </a:xfrm>
        </p:grpSpPr>
        <p:sp>
          <p:nvSpPr>
            <p:cNvPr id="115" name=""/>
            <p:cNvSpPr/>
            <p:nvPr/>
          </p:nvSpPr>
          <p:spPr>
            <a:xfrm>
              <a:off x="7525080" y="5661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25080" y="5013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5589720"/>
              <a:ext cx="5763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916360" y="2924280"/>
            <a:ext cx="576000" cy="1241280"/>
            <a:chOff x="2916360" y="2924280"/>
            <a:chExt cx="576000" cy="1241280"/>
          </a:xfrm>
        </p:grpSpPr>
        <p:sp>
          <p:nvSpPr>
            <p:cNvPr id="119" name=""/>
            <p:cNvSpPr/>
            <p:nvPr/>
          </p:nvSpPr>
          <p:spPr>
            <a:xfrm>
              <a:off x="2989080" y="2924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9080" y="364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6360" y="3573360"/>
              <a:ext cx="57600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148360" y="2924280"/>
            <a:ext cx="576000" cy="1241280"/>
            <a:chOff x="5148360" y="2924280"/>
            <a:chExt cx="576000" cy="1241280"/>
          </a:xfrm>
        </p:grpSpPr>
        <p:sp>
          <p:nvSpPr>
            <p:cNvPr id="123" name=""/>
            <p:cNvSpPr/>
            <p:nvPr/>
          </p:nvSpPr>
          <p:spPr>
            <a:xfrm>
              <a:off x="5221080" y="2924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21080" y="364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48360" y="3573360"/>
              <a:ext cx="57600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9280" y="4941720"/>
            <a:ext cx="576360" cy="1241280"/>
            <a:chOff x="179280" y="4941720"/>
            <a:chExt cx="576360" cy="1241280"/>
          </a:xfrm>
        </p:grpSpPr>
        <p:sp>
          <p:nvSpPr>
            <p:cNvPr id="127" name=""/>
            <p:cNvSpPr/>
            <p:nvPr/>
          </p:nvSpPr>
          <p:spPr>
            <a:xfrm>
              <a:off x="252360" y="4941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360" y="5662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80" y="5590800"/>
              <a:ext cx="5763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16000" y="4941720"/>
            <a:ext cx="576360" cy="1241280"/>
            <a:chOff x="1116000" y="4941720"/>
            <a:chExt cx="576360" cy="1241280"/>
          </a:xfrm>
        </p:grpSpPr>
        <p:sp>
          <p:nvSpPr>
            <p:cNvPr id="131" name=""/>
            <p:cNvSpPr/>
            <p:nvPr/>
          </p:nvSpPr>
          <p:spPr>
            <a:xfrm>
              <a:off x="1189080" y="4941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9080" y="5662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16000" y="5590800"/>
              <a:ext cx="5763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124000" y="4941720"/>
            <a:ext cx="576360" cy="1241280"/>
            <a:chOff x="2124000" y="4941720"/>
            <a:chExt cx="576360" cy="1241280"/>
          </a:xfrm>
        </p:grpSpPr>
        <p:sp>
          <p:nvSpPr>
            <p:cNvPr id="135" name=""/>
            <p:cNvSpPr/>
            <p:nvPr/>
          </p:nvSpPr>
          <p:spPr>
            <a:xfrm>
              <a:off x="2197080" y="4941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97080" y="5662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24000" y="5590800"/>
              <a:ext cx="5763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55640" y="530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530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3440" y="530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76720" y="5013360"/>
            <a:ext cx="1295280" cy="1168200"/>
            <a:chOff x="3276720" y="5013360"/>
            <a:chExt cx="1295280" cy="1168200"/>
          </a:xfrm>
        </p:grpSpPr>
        <p:sp>
          <p:nvSpPr>
            <p:cNvPr id="142" name=""/>
            <p:cNvSpPr/>
            <p:nvPr/>
          </p:nvSpPr>
          <p:spPr>
            <a:xfrm>
              <a:off x="3710160" y="5661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9600" y="501336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+2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720" y="5589720"/>
              <a:ext cx="129528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3800" y="530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27640" y="4941720"/>
            <a:ext cx="576360" cy="1241280"/>
            <a:chOff x="6227640" y="4941720"/>
            <a:chExt cx="576360" cy="1241280"/>
          </a:xfrm>
        </p:grpSpPr>
        <p:sp>
          <p:nvSpPr>
            <p:cNvPr id="147" name=""/>
            <p:cNvSpPr/>
            <p:nvPr/>
          </p:nvSpPr>
          <p:spPr>
            <a:xfrm>
              <a:off x="6301080" y="4941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7640" y="5590800"/>
              <a:ext cx="5763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1080" y="5662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797800" y="530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003640" y="5013360"/>
            <a:ext cx="792360" cy="1168200"/>
            <a:chOff x="5003640" y="5013360"/>
            <a:chExt cx="792360" cy="1168200"/>
          </a:xfrm>
        </p:grpSpPr>
        <p:sp>
          <p:nvSpPr>
            <p:cNvPr id="152" name=""/>
            <p:cNvSpPr/>
            <p:nvPr/>
          </p:nvSpPr>
          <p:spPr>
            <a:xfrm>
              <a:off x="5221440" y="5661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09400" y="5013360"/>
              <a:ext cx="7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×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03640" y="5589720"/>
              <a:ext cx="7923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021800" y="530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4941720"/>
            <a:ext cx="4464000" cy="1441440"/>
          </a:xfrm>
          <a:prstGeom prst="rect">
            <a:avLst/>
          </a:prstGeom>
          <a:solidFill>
            <a:srgbClr val="eda1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9960" y="5373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16000" y="5013360"/>
            <a:ext cx="576360" cy="1241280"/>
            <a:chOff x="1116000" y="5013360"/>
            <a:chExt cx="576360" cy="1241280"/>
          </a:xfrm>
        </p:grpSpPr>
        <p:sp>
          <p:nvSpPr>
            <p:cNvPr id="159" name=""/>
            <p:cNvSpPr/>
            <p:nvPr/>
          </p:nvSpPr>
          <p:spPr>
            <a:xfrm>
              <a:off x="1189080" y="5013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89080" y="5734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5662440"/>
              <a:ext cx="5763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05440" y="537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692360" y="2852640"/>
            <a:ext cx="6095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分数乘整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56840" y="620640"/>
            <a:ext cx="5474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Arial"/>
                <a:ea typeface="Dotum"/>
              </a:rPr>
              <a:t>        </a:t>
            </a:r>
            <a:r>
              <a:rPr b="1" lang="zh-CN" sz="5400" spc="-1" strike="noStrike">
                <a:solidFill>
                  <a:srgbClr val="00ff00"/>
                </a:solidFill>
                <a:latin typeface="Arial"/>
                <a:ea typeface="Dotum"/>
              </a:rPr>
              <a:t>分数乘整数的意义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Arial"/>
                <a:ea typeface="Dotum"/>
              </a:rPr>
              <a:t>整数乘法的意义相同，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Dotum"/>
              </a:rPr>
              <a:t>就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Dotum"/>
              </a:rPr>
              <a:t>求几个相同加数的和的简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Dotum"/>
              </a:rPr>
              <a:t>运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26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47880" y="1916280"/>
            <a:ext cx="3838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分数乘整数，用分数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分子和整数相乘的积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Arial"/>
                <a:ea typeface="楷体_GB2312"/>
              </a:rPr>
              <a:t>分子，分母不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2556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901160" y="5410080"/>
            <a:ext cx="535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Dotum"/>
                <a:ea typeface="Dotum"/>
              </a:rPr>
              <a:t>能约分的先约分</a:t>
            </a:r>
            <a:r>
              <a:rPr b="1" lang="zh-CN" sz="4800" spc="-1" strike="noStrike">
                <a:solidFill>
                  <a:srgbClr val="ff33cc"/>
                </a:solidFill>
                <a:latin typeface="Dotum"/>
                <a:ea typeface="Dotum"/>
              </a:rPr>
              <a:t>,</a:t>
            </a:r>
            <a:r>
              <a:rPr b="1" lang="zh-CN" sz="4800" spc="-1" strike="noStrike">
                <a:solidFill>
                  <a:srgbClr val="ff33cc"/>
                </a:solidFill>
                <a:latin typeface="Dotum"/>
                <a:ea typeface="Dotum"/>
              </a:rPr>
              <a:t>然后再计算</a:t>
            </a:r>
            <a:r>
              <a:rPr b="1" lang="zh-CN" sz="4800" spc="-1" strike="noStrike">
                <a:solidFill>
                  <a:srgbClr val="ff33cc"/>
                </a:solidFill>
                <a:latin typeface="Dotum"/>
                <a:ea typeface="Dotum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9200" y="3988440"/>
            <a:ext cx="1712160" cy="1473120"/>
            <a:chOff x="259200" y="3988440"/>
            <a:chExt cx="1712160" cy="1473120"/>
          </a:xfrm>
        </p:grpSpPr>
        <p:sp>
          <p:nvSpPr>
            <p:cNvPr id="171" name=""/>
            <p:cNvSpPr/>
            <p:nvPr/>
          </p:nvSpPr>
          <p:spPr>
            <a:xfrm rot="17514600">
              <a:off x="610920" y="4004640"/>
              <a:ext cx="1008360" cy="1440000"/>
            </a:xfrm>
            <a:prstGeom prst="cloudCallout">
              <a:avLst>
                <a:gd name="adj1" fmla="val -25750"/>
                <a:gd name="adj2" fmla="val 103708"/>
              </a:avLst>
            </a:prstGeom>
            <a:solidFill>
              <a:srgbClr val="ebf5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560" y="4384800"/>
              <a:ext cx="7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注意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08160" y="2052720"/>
            <a:ext cx="346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翻开练习本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让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出几题练练吧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78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5640" y="1341360"/>
            <a:ext cx="33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Dotum"/>
                <a:ea typeface="Dotum"/>
              </a:rPr>
              <a:t>请把书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Dotum"/>
                <a:ea typeface="Dotum"/>
              </a:rPr>
              <a:t>到第</a:t>
            </a:r>
            <a:r>
              <a:rPr b="1" lang="zh-CN" sz="5400" spc="-1" strike="noStrike">
                <a:solidFill>
                  <a:srgbClr val="3366ff"/>
                </a:solidFill>
                <a:latin typeface="Dotum"/>
                <a:ea typeface="Dotum"/>
              </a:rPr>
              <a:t>8</a:t>
            </a:r>
            <a:r>
              <a:rPr b="1" lang="zh-CN" sz="5400" spc="-1" strike="noStrike">
                <a:solidFill>
                  <a:srgbClr val="3366ff"/>
                </a:solidFill>
                <a:latin typeface="Dotum"/>
                <a:ea typeface="Dotum"/>
              </a:rPr>
              <a:t>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6:18:49Z</dcterms:created>
  <dc:creator>MC SYSTEM</dc:creator>
  <dc:description/>
  <dc:language>en-US</dc:language>
  <cp:lastModifiedBy>a</cp:lastModifiedBy>
  <dcterms:modified xsi:type="dcterms:W3CDTF">2006-09-04T11:56:53Z</dcterms:modified>
  <cp:revision>9</cp:revision>
  <dc:subject/>
  <dc:title>幻灯片 1</dc:title>
</cp:coreProperties>
</file>