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camera.wav" ContentType="audio/x-wav"/>
  <Override PartName="/ppt/media/cashreg.wav" ContentType="audio/x-wav"/>
  <Override PartName="/ppt/media/laser.wav" ContentType="audio/x-wav"/>
  <Override PartName="/ppt/media/type.wav" ContentType="audio/x-wav"/>
  <Override PartName="/ppt/media/chimes.wav" ContentType="audio/x-wav"/>
  <Override PartName="/ppt/media/image4.png" ContentType="image/png"/>
  <Override PartName="/ppt/media/image5.png" ContentType="image/png"/>
  <Override PartName="/ppt/media/image6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8096-DD44-4A62-9E1F-9669507C5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03D8-475E-4327-A624-743342C5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2330-7CA9-4624-9A0F-B269E85E8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FE73-9963-44C4-9E18-7AC3853EF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187D-6181-4AAA-BA1E-34A0AB05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DE90-C242-4E83-B953-AA193D4C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9C7B-3507-4CFF-A4F6-F9E65FC1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79D6-C006-437C-BF3B-91D48EFA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C811-A043-42A5-A0C5-F4EFEC54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168C-2399-41F1-989C-E50B1DE7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39F7-BE18-4582-9E49-691090F5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EF16-A4A2-4996-BE4F-750CEDAE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ffff"/>
            </a:gs>
            <a:gs pos="50000">
              <a:srgbClr val="ffffcc"/>
            </a:gs>
            <a:gs pos="100000">
              <a:srgbClr val="8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033C-FF60-4E08-A525-6C57170A3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camera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type.wav"/><Relationship Id="rId4" Type="http://schemas.openxmlformats.org/officeDocument/2006/relationships/audio" Target="../media/cashreg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ashreg.wav"/><Relationship Id="rId8" Type="http://schemas.openxmlformats.org/officeDocument/2006/relationships/audio" Target="../media/chimes.wav"/><Relationship Id="rId9" Type="http://schemas.openxmlformats.org/officeDocument/2006/relationships/audio" Target="../media/type.wav"/><Relationship Id="rId10" Type="http://schemas.openxmlformats.org/officeDocument/2006/relationships/audio" Target="../media/cashreg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amera.wav"/><Relationship Id="rId4" Type="http://schemas.openxmlformats.org/officeDocument/2006/relationships/audio" Target="../media/cashreg.wav"/><Relationship Id="rId5" Type="http://schemas.openxmlformats.org/officeDocument/2006/relationships/audio" Target="../media/camera.wav"/><Relationship Id="rId6" Type="http://schemas.openxmlformats.org/officeDocument/2006/relationships/audio" Target="../media/cashreg.wav"/><Relationship Id="rId7" Type="http://schemas.openxmlformats.org/officeDocument/2006/relationships/audio" Target="../media/camera.wav"/><Relationship Id="rId8" Type="http://schemas.openxmlformats.org/officeDocument/2006/relationships/audio" Target="../media/cashreg.wav"/><Relationship Id="rId9" Type="http://schemas.openxmlformats.org/officeDocument/2006/relationships/audio" Target="../media/camera.wav"/><Relationship Id="rId10" Type="http://schemas.openxmlformats.org/officeDocument/2006/relationships/audio" Target="../media/cashreg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type.wav"/><Relationship Id="rId4" Type="http://schemas.openxmlformats.org/officeDocument/2006/relationships/audio" Target="../media/cashreg.wav"/><Relationship Id="rId5" Type="http://schemas.openxmlformats.org/officeDocument/2006/relationships/audio" Target="../media/type.wav"/><Relationship Id="rId6" Type="http://schemas.openxmlformats.org/officeDocument/2006/relationships/audio" Target="../media/cashreg.wav"/><Relationship Id="rId7" Type="http://schemas.openxmlformats.org/officeDocument/2006/relationships/audio" Target="../media/type.wav"/><Relationship Id="rId8" Type="http://schemas.openxmlformats.org/officeDocument/2006/relationships/audio" Target="../media/cashreg.wav"/><Relationship Id="rId9" Type="http://schemas.openxmlformats.org/officeDocument/2006/relationships/audio" Target="../media/camera.wav"/><Relationship Id="rId10" Type="http://schemas.openxmlformats.org/officeDocument/2006/relationships/audio" Target="../media/chimes.wav"/><Relationship Id="rId11" Type="http://schemas.openxmlformats.org/officeDocument/2006/relationships/audio" Target="../media/camera.wav"/><Relationship Id="rId12" Type="http://schemas.openxmlformats.org/officeDocument/2006/relationships/audio" Target="../media/chimes.wav"/><Relationship Id="rId13" Type="http://schemas.openxmlformats.org/officeDocument/2006/relationships/audio" Target="../media/type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type.wav"/><Relationship Id="rId4" Type="http://schemas.openxmlformats.org/officeDocument/2006/relationships/audio" Target="../media/cashreg.wav"/><Relationship Id="rId5" Type="http://schemas.openxmlformats.org/officeDocument/2006/relationships/audio" Target="../media/type.wav"/><Relationship Id="rId6" Type="http://schemas.openxmlformats.org/officeDocument/2006/relationships/audio" Target="../media/cashreg.wav"/><Relationship Id="rId7" Type="http://schemas.openxmlformats.org/officeDocument/2006/relationships/audio" Target="../media/type.wav"/><Relationship Id="rId8" Type="http://schemas.openxmlformats.org/officeDocument/2006/relationships/audio" Target="../media/cashreg.wav"/><Relationship Id="rId9" Type="http://schemas.openxmlformats.org/officeDocument/2006/relationships/audio" Target="../media/type.wav"/><Relationship Id="rId10" Type="http://schemas.openxmlformats.org/officeDocument/2006/relationships/audio" Target="../media/cashreg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type.wav"/><Relationship Id="rId4" Type="http://schemas.openxmlformats.org/officeDocument/2006/relationships/audio" Target="../media/cashreg.wav"/><Relationship Id="rId5" Type="http://schemas.openxmlformats.org/officeDocument/2006/relationships/audio" Target="../media/type.wav"/><Relationship Id="rId6" Type="http://schemas.openxmlformats.org/officeDocument/2006/relationships/audio" Target="../media/cashreg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shreg.wav"/><Relationship Id="rId11" Type="http://schemas.openxmlformats.org/officeDocument/2006/relationships/audio" Target="../media/type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shreg.wav"/><Relationship Id="rId17" Type="http://schemas.openxmlformats.org/officeDocument/2006/relationships/audio" Target="../media/cashreg.wav"/><Relationship Id="rId18" Type="http://schemas.openxmlformats.org/officeDocument/2006/relationships/audio" Target="../media/cashreg.wav"/><Relationship Id="rId19" Type="http://schemas.openxmlformats.org/officeDocument/2006/relationships/audio" Target="../media/cashreg.wav"/><Relationship Id="rId20" Type="http://schemas.openxmlformats.org/officeDocument/2006/relationships/audio" Target="../media/type.wav"/><Relationship Id="rId21" Type="http://schemas.openxmlformats.org/officeDocument/2006/relationships/audio" Target="../media/camera.wav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amera.wav"/><Relationship Id="rId4" Type="http://schemas.openxmlformats.org/officeDocument/2006/relationships/audio" Target="../media/cashreg.wav"/><Relationship Id="rId5" Type="http://schemas.openxmlformats.org/officeDocument/2006/relationships/audio" Target="../media/camera.wav"/><Relationship Id="rId6" Type="http://schemas.openxmlformats.org/officeDocument/2006/relationships/audio" Target="../media/cashreg.wav"/><Relationship Id="rId7" Type="http://schemas.openxmlformats.org/officeDocument/2006/relationships/audio" Target="../media/camera.wav"/><Relationship Id="rId8" Type="http://schemas.openxmlformats.org/officeDocument/2006/relationships/audio" Target="../media/cashreg.wav"/><Relationship Id="rId9" Type="http://schemas.openxmlformats.org/officeDocument/2006/relationships/audio" Target="../media/camera.wav"/><Relationship Id="rId10" Type="http://schemas.openxmlformats.org/officeDocument/2006/relationships/audio" Target="../media/cashreg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type.wav"/><Relationship Id="rId4" Type="http://schemas.openxmlformats.org/officeDocument/2006/relationships/audio" Target="../media/cashreg.wav"/><Relationship Id="rId5" Type="http://schemas.openxmlformats.org/officeDocument/2006/relationships/audio" Target="../media/type.wav"/><Relationship Id="rId6" Type="http://schemas.openxmlformats.org/officeDocument/2006/relationships/audio" Target="../media/cashreg.wav"/><Relationship Id="rId7" Type="http://schemas.openxmlformats.org/officeDocument/2006/relationships/audio" Target="../media/type.wav"/><Relationship Id="rId8" Type="http://schemas.openxmlformats.org/officeDocument/2006/relationships/audio" Target="../media/cashreg.wav"/><Relationship Id="rId9" Type="http://schemas.openxmlformats.org/officeDocument/2006/relationships/audio" Target="../media/type.wav"/><Relationship Id="rId10" Type="http://schemas.openxmlformats.org/officeDocument/2006/relationships/audio" Target="../media/cashreg.wav"/><Relationship Id="rId11" Type="http://schemas.openxmlformats.org/officeDocument/2006/relationships/audio" Target="../media/type.wav"/><Relationship Id="rId12" Type="http://schemas.openxmlformats.org/officeDocument/2006/relationships/audio" Target="../media/cashreg.wav"/><Relationship Id="rId13" Type="http://schemas.openxmlformats.org/officeDocument/2006/relationships/audio" Target="../media/type.wav"/><Relationship Id="rId14" Type="http://schemas.openxmlformats.org/officeDocument/2006/relationships/audio" Target="../media/cashreg.wav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cashreg.wav"/><Relationship Id="rId12" Type="http://schemas.openxmlformats.org/officeDocument/2006/relationships/audio" Target="../media/cashreg.wav"/><Relationship Id="rId13" Type="http://schemas.openxmlformats.org/officeDocument/2006/relationships/audio" Target="../media/cashreg.wav"/><Relationship Id="rId14" Type="http://schemas.openxmlformats.org/officeDocument/2006/relationships/audio" Target="../media/cashreg.wav"/><Relationship Id="rId15" Type="http://schemas.openxmlformats.org/officeDocument/2006/relationships/audio" Target="../media/cashreg.wav"/><Relationship Id="rId16" Type="http://schemas.openxmlformats.org/officeDocument/2006/relationships/audio" Target="../media/cashreg.wav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type.wav"/><Relationship Id="rId4" Type="http://schemas.openxmlformats.org/officeDocument/2006/relationships/audio" Target="../media/laser.wav"/><Relationship Id="rId5" Type="http://schemas.openxmlformats.org/officeDocument/2006/relationships/audio" Target="../media/type.wav"/><Relationship Id="rId6" Type="http://schemas.openxmlformats.org/officeDocument/2006/relationships/audio" Target="../media/laser.wav"/><Relationship Id="rId7" Type="http://schemas.openxmlformats.org/officeDocument/2006/relationships/audio" Target="../media/type.wav"/><Relationship Id="rId8" Type="http://schemas.openxmlformats.org/officeDocument/2006/relationships/audio" Target="../media/laser.wav"/><Relationship Id="rId9" Type="http://schemas.openxmlformats.org/officeDocument/2006/relationships/audio" Target="../media/type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ffff"/>
            </a:gs>
            <a:gs pos="50000">
              <a:srgbClr val="ffffcc"/>
            </a:gs>
            <a:gs pos="100000">
              <a:srgbClr val="8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76360" y="1208160"/>
            <a:ext cx="6408720" cy="1084320"/>
          </a:xfrm>
          <a:prstGeom prst="rect">
            <a:avLst/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倒 数 的 认 识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19640" y="2881440"/>
            <a:ext cx="2484360" cy="15112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ffff"/>
            </a:gs>
            <a:gs pos="50000">
              <a:srgbClr val="ffffcc"/>
            </a:gs>
            <a:gs pos="100000">
              <a:srgbClr val="8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792000" cy="10083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492360" y="115920"/>
            <a:ext cx="5616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先说出下面每组数的倒数，  再说一说你发现了什么规律 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16000" y="290520"/>
            <a:ext cx="187164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练一练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  <a:ea typeface="华文新魏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520560" y="1300320"/>
            <a:ext cx="2756160" cy="1174680"/>
            <a:chOff x="520560" y="1300320"/>
            <a:chExt cx="2756160" cy="1174680"/>
          </a:xfrm>
        </p:grpSpPr>
        <mc:AlternateContent>
          <mc:Choice xmlns:a14="http://schemas.microsoft.com/office/drawing/2010/main" Requires="a14">
            <p:sp>
              <p:nvSpPr>
                <p:cNvPr id="269" name=""/>
                <p:cNvSpPr txBox="1"/>
                <p:nvPr/>
              </p:nvSpPr>
              <p:spPr>
                <a:xfrm>
                  <a:off x="1204920" y="1300320"/>
                  <a:ext cx="452520" cy="116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70" name=""/>
            <p:cNvSpPr/>
            <p:nvPr/>
          </p:nvSpPr>
          <p:spPr>
            <a:xfrm>
              <a:off x="520560" y="15274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⑴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2031840" y="1311480"/>
                  <a:ext cx="45252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2" name=""/>
                <p:cNvSpPr txBox="1"/>
                <p:nvPr/>
              </p:nvSpPr>
              <p:spPr>
                <a:xfrm>
                  <a:off x="2824200" y="1311480"/>
                  <a:ext cx="45252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3" name=""/>
          <p:cNvSpPr/>
          <p:nvPr/>
        </p:nvSpPr>
        <p:spPr>
          <a:xfrm>
            <a:off x="179280" y="2381400"/>
            <a:ext cx="4753080" cy="7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真分数的倒数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定大于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 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7280" y="4869000"/>
            <a:ext cx="3997440" cy="13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大于 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1 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的假分数的倒数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定小于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 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84720" y="4838760"/>
            <a:ext cx="3924360" cy="13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不为 </a:t>
            </a:r>
            <a:r>
              <a:rPr b="1" lang="en-US" sz="2900" spc="-1" strike="noStrike">
                <a:solidFill>
                  <a:srgbClr val="0000cc"/>
                </a:solidFill>
                <a:latin typeface="Arial"/>
                <a:ea typeface="楷体_GB2312"/>
              </a:rPr>
              <a:t>0 </a:t>
            </a:r>
            <a:r>
              <a:rPr b="1" lang="en-US" sz="2900" spc="-1" strike="noStrike">
                <a:solidFill>
                  <a:srgbClr val="0000cc"/>
                </a:solidFill>
                <a:latin typeface="Arial"/>
                <a:ea typeface="楷体_GB2312"/>
              </a:rPr>
              <a:t>的整数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，它的   倒数的分子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定是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 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4920" y="3029040"/>
            <a:ext cx="5184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  <a:ea typeface="华文新魏"/>
              </a:rPr>
              <a:t>同座位讨论下面的三组数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39640" y="1557360"/>
            <a:ext cx="7812360" cy="3495600"/>
            <a:chOff x="539640" y="1557360"/>
            <a:chExt cx="7812360" cy="3495600"/>
          </a:xfrm>
        </p:grpSpPr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1189080" y="3889080"/>
                  <a:ext cx="452520" cy="116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79" name=""/>
            <p:cNvSpPr/>
            <p:nvPr/>
          </p:nvSpPr>
          <p:spPr>
            <a:xfrm>
              <a:off x="539640" y="415116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0" name=""/>
                <p:cNvSpPr txBox="1"/>
                <p:nvPr/>
              </p:nvSpPr>
              <p:spPr>
                <a:xfrm>
                  <a:off x="6224760" y="4344840"/>
                  <a:ext cx="338040" cy="52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1" name=""/>
            <p:cNvSpPr/>
            <p:nvPr/>
          </p:nvSpPr>
          <p:spPr>
            <a:xfrm>
              <a:off x="5398920" y="42526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⑷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2031840" y="3862080"/>
                  <a:ext cx="452520" cy="116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2841480" y="3862080"/>
                  <a:ext cx="603360" cy="116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7054920" y="4325760"/>
                  <a:ext cx="338040" cy="52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5" name=""/>
                <p:cNvSpPr txBox="1"/>
                <p:nvPr/>
              </p:nvSpPr>
              <p:spPr>
                <a:xfrm>
                  <a:off x="7826400" y="4325760"/>
                  <a:ext cx="525600" cy="52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6" name=""/>
                <p:cNvSpPr txBox="1"/>
                <p:nvPr/>
              </p:nvSpPr>
              <p:spPr>
                <a:xfrm>
                  <a:off x="6094440" y="1557360"/>
                  <a:ext cx="45252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87" name=""/>
            <p:cNvSpPr/>
            <p:nvPr/>
          </p:nvSpPr>
          <p:spPr>
            <a:xfrm>
              <a:off x="5326200" y="178416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⑶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6835680" y="1568160"/>
                  <a:ext cx="603360" cy="116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7628040" y="1568160"/>
                  <a:ext cx="603000" cy="116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90" name=""/>
          <p:cNvSpPr/>
          <p:nvPr/>
        </p:nvSpPr>
        <p:spPr>
          <a:xfrm>
            <a:off x="5148360" y="2678040"/>
            <a:ext cx="3960720" cy="13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分子是 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1 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的分数，它的倒数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定是整数 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ffff"/>
            </a:gs>
            <a:gs pos="50000">
              <a:srgbClr val="ffffcc"/>
            </a:gs>
            <a:gs pos="100000">
              <a:srgbClr val="8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792000" cy="10083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971640" y="765000"/>
            <a:ext cx="5327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说出下列各数的倒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16000" y="290520"/>
            <a:ext cx="187164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练一练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  <a:ea typeface="华文新魏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84720" y="260280"/>
            <a:ext cx="3743280" cy="6274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66"/>
                </a:solidFill>
                <a:latin typeface="华文新魏"/>
                <a:ea typeface="华文新魏"/>
              </a:rPr>
              <a:t>动脑筋，我能行！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112920" y="4149720"/>
                <a:ext cx="3398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987640" y="2492280"/>
                <a:ext cx="60336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7" name=""/>
          <p:cNvGrpSpPr/>
          <p:nvPr/>
        </p:nvGrpSpPr>
        <p:grpSpPr>
          <a:xfrm>
            <a:off x="36360" y="5337000"/>
            <a:ext cx="4751280" cy="1064880"/>
            <a:chOff x="36360" y="5337000"/>
            <a:chExt cx="4751280" cy="1064880"/>
          </a:xfrm>
        </p:grpSpPr>
        <p:sp>
          <p:nvSpPr>
            <p:cNvPr id="298" name=""/>
            <p:cNvSpPr/>
            <p:nvPr/>
          </p:nvSpPr>
          <p:spPr>
            <a:xfrm>
              <a:off x="612720" y="5394240"/>
              <a:ext cx="41749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倒数是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(      )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。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657000" y="5433840"/>
                  <a:ext cx="801720" cy="4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36360" y="533700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⑶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34920" y="4076640"/>
            <a:ext cx="4321080" cy="1066320"/>
            <a:chOff x="34920" y="4076640"/>
            <a:chExt cx="4321080" cy="1066320"/>
          </a:xfrm>
        </p:grpSpPr>
        <p:sp>
          <p:nvSpPr>
            <p:cNvPr id="302" name=""/>
            <p:cNvSpPr/>
            <p:nvPr/>
          </p:nvSpPr>
          <p:spPr>
            <a:xfrm>
              <a:off x="574560" y="4135320"/>
              <a:ext cx="378144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倒数是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(      )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。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3" name=""/>
                <p:cNvSpPr txBox="1"/>
                <p:nvPr/>
              </p:nvSpPr>
              <p:spPr>
                <a:xfrm>
                  <a:off x="650880" y="4133880"/>
                  <a:ext cx="717480" cy="52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4" name=""/>
            <p:cNvSpPr/>
            <p:nvPr/>
          </p:nvSpPr>
          <p:spPr>
            <a:xfrm>
              <a:off x="34920" y="407664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6360" y="2492280"/>
            <a:ext cx="4319640" cy="1317240"/>
            <a:chOff x="36360" y="2492280"/>
            <a:chExt cx="4319640" cy="1317240"/>
          </a:xfrm>
        </p:grpSpPr>
        <p:sp>
          <p:nvSpPr>
            <p:cNvPr id="306" name=""/>
            <p:cNvSpPr/>
            <p:nvPr/>
          </p:nvSpPr>
          <p:spPr>
            <a:xfrm>
              <a:off x="574560" y="2801880"/>
              <a:ext cx="378144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倒数是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(      )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。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679320" y="2492280"/>
                  <a:ext cx="669960" cy="109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8" name=""/>
            <p:cNvSpPr/>
            <p:nvPr/>
          </p:nvSpPr>
          <p:spPr>
            <a:xfrm>
              <a:off x="3636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⑴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3184560" y="5073480"/>
                <a:ext cx="45252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959280" y="1782720"/>
                <a:ext cx="7160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5865840" y="1814400"/>
                <a:ext cx="8668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2157480" y="1474920"/>
                <a:ext cx="71748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13" name=""/>
          <p:cNvGrpSpPr/>
          <p:nvPr/>
        </p:nvGrpSpPr>
        <p:grpSpPr>
          <a:xfrm>
            <a:off x="4503600" y="3933720"/>
            <a:ext cx="4173840" cy="1163880"/>
            <a:chOff x="4503600" y="3933720"/>
            <a:chExt cx="4173840" cy="1163880"/>
          </a:xfrm>
        </p:grpSpPr>
        <mc:AlternateContent>
          <mc:Choice xmlns:a14="http://schemas.microsoft.com/office/drawing/2010/main" Requires="a14">
            <p:sp>
              <p:nvSpPr>
                <p:cNvPr id="314" name=""/>
                <p:cNvSpPr txBox="1"/>
                <p:nvPr/>
              </p:nvSpPr>
              <p:spPr>
                <a:xfrm>
                  <a:off x="4503600" y="4230720"/>
                  <a:ext cx="716040" cy="52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5" name=""/>
            <p:cNvSpPr/>
            <p:nvPr/>
          </p:nvSpPr>
          <p:spPr>
            <a:xfrm>
              <a:off x="5148360" y="4540320"/>
              <a:ext cx="142236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6" name=""/>
                <p:cNvSpPr txBox="1"/>
                <p:nvPr/>
              </p:nvSpPr>
              <p:spPr>
                <a:xfrm>
                  <a:off x="6534000" y="3933720"/>
                  <a:ext cx="414360" cy="116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7" name=""/>
                <p:cNvSpPr txBox="1"/>
                <p:nvPr/>
              </p:nvSpPr>
              <p:spPr>
                <a:xfrm>
                  <a:off x="8337600" y="4282920"/>
                  <a:ext cx="339840" cy="52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8" name=""/>
            <p:cNvSpPr/>
            <p:nvPr/>
          </p:nvSpPr>
          <p:spPr>
            <a:xfrm>
              <a:off x="6948360" y="4519440"/>
              <a:ext cx="142236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076720" y="4005360"/>
              <a:ext cx="21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先化成分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875640" y="4005360"/>
              <a:ext cx="180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再求出倒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4065480" y="5145120"/>
            <a:ext cx="4827600" cy="1081080"/>
            <a:chOff x="4065480" y="5145120"/>
            <a:chExt cx="4827600" cy="1081080"/>
          </a:xfrm>
        </p:grpSpPr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4065480" y="5456160"/>
                  <a:ext cx="79380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3" name=""/>
            <p:cNvSpPr/>
            <p:nvPr/>
          </p:nvSpPr>
          <p:spPr>
            <a:xfrm>
              <a:off x="4859280" y="5721480"/>
              <a:ext cx="86508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4" name=""/>
                <p:cNvSpPr txBox="1"/>
                <p:nvPr/>
              </p:nvSpPr>
              <p:spPr>
                <a:xfrm>
                  <a:off x="5651640" y="5218200"/>
                  <a:ext cx="55548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25" name=""/>
            <p:cNvSpPr/>
            <p:nvPr/>
          </p:nvSpPr>
          <p:spPr>
            <a:xfrm>
              <a:off x="4572000" y="5145120"/>
              <a:ext cx="2160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化成带分数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524720" y="5145120"/>
              <a:ext cx="13683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求出倒数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156360" y="5721480"/>
              <a:ext cx="115236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8" name=""/>
                <p:cNvSpPr txBox="1"/>
                <p:nvPr/>
              </p:nvSpPr>
              <p:spPr>
                <a:xfrm>
                  <a:off x="7275600" y="5218200"/>
                  <a:ext cx="39204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29" name=""/>
            <p:cNvSpPr/>
            <p:nvPr/>
          </p:nvSpPr>
          <p:spPr>
            <a:xfrm>
              <a:off x="7669080" y="5721480"/>
              <a:ext cx="86544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8501040" y="5218200"/>
                  <a:ext cx="39204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31" name=""/>
            <p:cNvSpPr/>
            <p:nvPr/>
          </p:nvSpPr>
          <p:spPr>
            <a:xfrm>
              <a:off x="6083280" y="5145120"/>
              <a:ext cx="2160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化成假分数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4356000" y="2603520"/>
            <a:ext cx="4608720" cy="1185840"/>
            <a:chOff x="4356000" y="2603520"/>
            <a:chExt cx="4608720" cy="1185840"/>
          </a:xfrm>
        </p:grpSpPr>
        <mc:AlternateContent>
          <mc:Choice xmlns:a14="http://schemas.microsoft.com/office/drawing/2010/main" Requires="a14">
            <p:sp>
              <p:nvSpPr>
                <p:cNvPr id="333" name=""/>
                <p:cNvSpPr txBox="1"/>
                <p:nvPr/>
              </p:nvSpPr>
              <p:spPr>
                <a:xfrm>
                  <a:off x="4356000" y="2603520"/>
                  <a:ext cx="71604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34" name=""/>
            <p:cNvSpPr/>
            <p:nvPr/>
          </p:nvSpPr>
          <p:spPr>
            <a:xfrm>
              <a:off x="5000760" y="3232080"/>
              <a:ext cx="142236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5" name=""/>
                <p:cNvSpPr txBox="1"/>
                <p:nvPr/>
              </p:nvSpPr>
              <p:spPr>
                <a:xfrm>
                  <a:off x="6438960" y="2625840"/>
                  <a:ext cx="60336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6" name=""/>
                <p:cNvSpPr txBox="1"/>
                <p:nvPr/>
              </p:nvSpPr>
              <p:spPr>
                <a:xfrm>
                  <a:off x="8361360" y="2625840"/>
                  <a:ext cx="60336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37" name=""/>
            <p:cNvSpPr/>
            <p:nvPr/>
          </p:nvSpPr>
          <p:spPr>
            <a:xfrm>
              <a:off x="7020000" y="3211560"/>
              <a:ext cx="136836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859280" y="2708280"/>
              <a:ext cx="21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先化成假分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946920" y="2693880"/>
              <a:ext cx="180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再求出倒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ffff"/>
            </a:gs>
            <a:gs pos="50000">
              <a:srgbClr val="ffffcc"/>
            </a:gs>
            <a:gs pos="100000">
              <a:srgbClr val="8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156360" y="27936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华文新魏"/>
                <a:ea typeface="华文新魏"/>
              </a:rPr>
              <a:t>我能行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1280" y="1287360"/>
            <a:ext cx="82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隶书"/>
                <a:ea typeface="隶书"/>
              </a:rPr>
              <a:t>（课）   练习六   </a:t>
            </a:r>
            <a:r>
              <a:rPr b="1" lang="en-US" sz="4400" spc="-1" strike="noStrike">
                <a:solidFill>
                  <a:srgbClr val="3333cc"/>
                </a:solidFill>
                <a:latin typeface="隶书"/>
                <a:ea typeface="隶书"/>
              </a:rPr>
              <a:t>9</a:t>
            </a:r>
            <a:r>
              <a:rPr b="1" lang="en-US" sz="4400" spc="-1" strike="noStrike">
                <a:solidFill>
                  <a:srgbClr val="3333cc"/>
                </a:solidFill>
                <a:latin typeface="隶书"/>
                <a:ea typeface="隶书"/>
              </a:rPr>
              <a:t>月</a:t>
            </a:r>
            <a:r>
              <a:rPr b="1" lang="en-US" sz="4400" spc="-1" strike="noStrike">
                <a:solidFill>
                  <a:srgbClr val="3333cc"/>
                </a:solidFill>
                <a:latin typeface="隶书"/>
                <a:ea typeface="隶书"/>
              </a:rPr>
              <a:t>16</a:t>
            </a:r>
            <a:r>
              <a:rPr b="1" lang="en-US" sz="4400" spc="-1" strike="noStrike">
                <a:solidFill>
                  <a:srgbClr val="3333cc"/>
                </a:solidFill>
                <a:latin typeface="隶书"/>
                <a:ea typeface="隶书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792360" cy="10080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1116000" y="290520"/>
            <a:ext cx="187164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巩固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68360" y="2714760"/>
            <a:ext cx="532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补：求下列各数的倒数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2282760" y="3870360"/>
                <a:ext cx="3762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1347840" y="3562200"/>
                <a:ext cx="41436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5972040" y="3860640"/>
                <a:ext cx="6778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7375680" y="3860640"/>
                <a:ext cx="9414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363840" y="3573360"/>
                <a:ext cx="41616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4500720" y="3500280"/>
                <a:ext cx="71568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1089000" y="2205000"/>
            <a:ext cx="1780920" cy="5508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3500000"/>
          </a:gra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华文新魏"/>
              </a:rPr>
              <a:t>上本子做补充题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76720" y="5157720"/>
            <a:ext cx="3781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倒数是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      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635280" y="4869000"/>
                <a:ext cx="38736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4" name=""/>
          <p:cNvSpPr/>
          <p:nvPr/>
        </p:nvSpPr>
        <p:spPr>
          <a:xfrm>
            <a:off x="2916360" y="5084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762200" y="4940280"/>
            <a:ext cx="13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格式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ffff"/>
            </a:gs>
            <a:gs pos="50000">
              <a:srgbClr val="ffffcc"/>
            </a:gs>
            <a:gs pos="100000">
              <a:srgbClr val="8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156360" y="27936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华文新魏"/>
                <a:ea typeface="华文新魏"/>
              </a:rPr>
              <a:t>我能行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1280" y="1287360"/>
            <a:ext cx="82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隶书"/>
                <a:ea typeface="隶书"/>
              </a:rPr>
              <a:t>（课）   练习六   </a:t>
            </a:r>
            <a:r>
              <a:rPr b="1" lang="en-US" sz="4400" spc="-1" strike="noStrike">
                <a:solidFill>
                  <a:srgbClr val="3333cc"/>
                </a:solidFill>
                <a:latin typeface="隶书"/>
                <a:ea typeface="隶书"/>
              </a:rPr>
              <a:t>9</a:t>
            </a:r>
            <a:r>
              <a:rPr b="1" lang="en-US" sz="4400" spc="-1" strike="noStrike">
                <a:solidFill>
                  <a:srgbClr val="3333cc"/>
                </a:solidFill>
                <a:latin typeface="隶书"/>
                <a:ea typeface="隶书"/>
              </a:rPr>
              <a:t>月</a:t>
            </a:r>
            <a:r>
              <a:rPr b="1" lang="en-US" sz="4400" spc="-1" strike="noStrike">
                <a:solidFill>
                  <a:srgbClr val="3333cc"/>
                </a:solidFill>
                <a:latin typeface="隶书"/>
                <a:ea typeface="隶书"/>
              </a:rPr>
              <a:t>16</a:t>
            </a:r>
            <a:r>
              <a:rPr b="1" lang="en-US" sz="4400" spc="-1" strike="noStrike">
                <a:solidFill>
                  <a:srgbClr val="3333cc"/>
                </a:solidFill>
                <a:latin typeface="隶书"/>
                <a:ea typeface="隶书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792360" cy="10080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116000" y="290520"/>
            <a:ext cx="187164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巩固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3559320" y="2205000"/>
                <a:ext cx="4143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1" name=""/>
          <p:cNvSpPr/>
          <p:nvPr/>
        </p:nvSpPr>
        <p:spPr>
          <a:xfrm>
            <a:off x="755640" y="2527200"/>
            <a:ext cx="4251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⑴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倒数是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       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1400040" y="2206800"/>
                <a:ext cx="4143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108000" y="2468520"/>
            <a:ext cx="71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3544920" y="3521160"/>
                <a:ext cx="45072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758880" y="3843360"/>
            <a:ext cx="4251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⑵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倒数是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       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420920" y="3841920"/>
                <a:ext cx="37764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3586320" y="5195880"/>
                <a:ext cx="3380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8" name=""/>
          <p:cNvSpPr/>
          <p:nvPr/>
        </p:nvSpPr>
        <p:spPr>
          <a:xfrm>
            <a:off x="755640" y="5178600"/>
            <a:ext cx="4251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⑶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倒数是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       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1403280" y="4878360"/>
                <a:ext cx="4143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7740720" y="2225520"/>
                <a:ext cx="56520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1" name=""/>
          <p:cNvSpPr/>
          <p:nvPr/>
        </p:nvSpPr>
        <p:spPr>
          <a:xfrm>
            <a:off x="4788000" y="2548080"/>
            <a:ext cx="4460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⑷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倒数是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       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5369040" y="2205000"/>
                <a:ext cx="71568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7737480" y="3541680"/>
                <a:ext cx="6015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4" name=""/>
          <p:cNvSpPr/>
          <p:nvPr/>
        </p:nvSpPr>
        <p:spPr>
          <a:xfrm>
            <a:off x="4716360" y="3863880"/>
            <a:ext cx="4535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⑸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倒数是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       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5364000" y="3862440"/>
                <a:ext cx="67968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7937640" y="4930920"/>
                <a:ext cx="4507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4788000" y="5199120"/>
            <a:ext cx="446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⑹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倒数是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       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5359320" y="5208480"/>
                <a:ext cx="9414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ffff"/>
            </a:gs>
            <a:gs pos="50000">
              <a:srgbClr val="ffffcc"/>
            </a:gs>
            <a:gs pos="100000">
              <a:srgbClr val="8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156360" y="27936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华文新魏"/>
                <a:ea typeface="华文新魏"/>
              </a:rPr>
              <a:t>我能行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11280" y="1287360"/>
            <a:ext cx="82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隶书"/>
                <a:ea typeface="隶书"/>
              </a:rPr>
              <a:t>（家）   练习六   </a:t>
            </a:r>
            <a:r>
              <a:rPr b="1" lang="en-US" sz="4400" spc="-1" strike="noStrike">
                <a:solidFill>
                  <a:srgbClr val="3333cc"/>
                </a:solidFill>
                <a:latin typeface="隶书"/>
                <a:ea typeface="隶书"/>
              </a:rPr>
              <a:t>9</a:t>
            </a:r>
            <a:r>
              <a:rPr b="1" lang="en-US" sz="4400" spc="-1" strike="noStrike">
                <a:solidFill>
                  <a:srgbClr val="3333cc"/>
                </a:solidFill>
                <a:latin typeface="隶书"/>
                <a:ea typeface="隶书"/>
              </a:rPr>
              <a:t>月</a:t>
            </a:r>
            <a:r>
              <a:rPr b="1" lang="en-US" sz="4400" spc="-1" strike="noStrike">
                <a:solidFill>
                  <a:srgbClr val="3333cc"/>
                </a:solidFill>
                <a:latin typeface="隶书"/>
                <a:ea typeface="隶书"/>
              </a:rPr>
              <a:t>16</a:t>
            </a:r>
            <a:r>
              <a:rPr b="1" lang="en-US" sz="4400" spc="-1" strike="noStrike">
                <a:solidFill>
                  <a:srgbClr val="3333cc"/>
                </a:solidFill>
                <a:latin typeface="隶书"/>
                <a:ea typeface="隶书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792360" cy="10080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1116000" y="290520"/>
            <a:ext cx="187164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巩固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71640" y="2852640"/>
            <a:ext cx="7272360" cy="23792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3500000"/>
          </a:gra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华文新魏"/>
              </a:rPr>
              <a:t>家庭作业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华文新魏"/>
              </a:rPr>
              <a:t>:  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华文新魏"/>
              </a:rPr>
              <a:t>书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华文新魏"/>
              </a:rPr>
              <a:t>P29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华文新魏"/>
              </a:rPr>
              <a:t>复习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0099"/>
                </a:solidFill>
                <a:latin typeface="Arial"/>
                <a:ea typeface="楷体_GB2312"/>
              </a:rPr>
              <a:t>         ⑵</a:t>
            </a:r>
            <a:r>
              <a:rPr b="1" lang="en-US" sz="5000" spc="-1" strike="noStrike">
                <a:solidFill>
                  <a:srgbClr val="cc0099"/>
                </a:solidFill>
                <a:latin typeface="Arial"/>
                <a:ea typeface="楷体_GB2312"/>
              </a:rPr>
              <a:t>、⑻、⑼、⑽。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547640" y="4076640"/>
            <a:ext cx="2160720" cy="6984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24360" y="4079880"/>
            <a:ext cx="2160720" cy="6984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708360" y="1413000"/>
            <a:ext cx="1800360" cy="13744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ffff"/>
            </a:gs>
            <a:gs pos="50000">
              <a:srgbClr val="ffffcc"/>
            </a:gs>
            <a:gs pos="100000">
              <a:srgbClr val="8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792000" cy="1008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411280" y="249120"/>
            <a:ext cx="662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把下列整数改写成分母是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1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的假分数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905200" y="1728720"/>
                <a:ext cx="51444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157400" y="1978200"/>
                <a:ext cx="175392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r>
                      <m:t xml:space="preserve">6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097080" y="3695760"/>
                <a:ext cx="6829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106640" y="3994200"/>
                <a:ext cx="2050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7451640" y="3670200"/>
                <a:ext cx="7700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5423040" y="3968640"/>
                <a:ext cx="20937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7140600" y="1628640"/>
                <a:ext cx="3841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5400720" y="1951200"/>
                <a:ext cx="17114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1116000" y="290520"/>
            <a:ext cx="129528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复 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ffff"/>
            </a:gs>
            <a:gs pos="50000">
              <a:srgbClr val="ffffcc"/>
            </a:gs>
            <a:gs pos="100000">
              <a:srgbClr val="8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792000" cy="1008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340000" y="189000"/>
            <a:ext cx="3240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口算下列各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392200" y="1568520"/>
                <a:ext cx="2350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7" name=""/>
          <p:cNvGrpSpPr/>
          <p:nvPr/>
        </p:nvGrpSpPr>
        <p:grpSpPr>
          <a:xfrm>
            <a:off x="250920" y="1185840"/>
            <a:ext cx="2085480" cy="1163520"/>
            <a:chOff x="250920" y="1185840"/>
            <a:chExt cx="2085480" cy="1163520"/>
          </a:xfrm>
        </p:grpSpPr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904680" y="1185840"/>
                  <a:ext cx="143172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×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50920" y="1498320"/>
              <a:ext cx="718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⑴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724360" y="1568520"/>
                <a:ext cx="2350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1" name=""/>
          <p:cNvGrpSpPr/>
          <p:nvPr/>
        </p:nvGrpSpPr>
        <p:grpSpPr>
          <a:xfrm>
            <a:off x="3276720" y="1185840"/>
            <a:ext cx="2417760" cy="1163520"/>
            <a:chOff x="3276720" y="1185840"/>
            <a:chExt cx="2417760" cy="1163520"/>
          </a:xfrm>
        </p:grpSpPr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3884760" y="1185840"/>
                  <a:ext cx="180972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  <m:r>
                        <m:t xml:space="preserve">×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3" name=""/>
            <p:cNvSpPr/>
            <p:nvPr/>
          </p:nvSpPr>
          <p:spPr>
            <a:xfrm>
              <a:off x="3276720" y="1498680"/>
              <a:ext cx="718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⑵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8459640" y="1557360"/>
                <a:ext cx="2350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" name=""/>
          <p:cNvGrpSpPr/>
          <p:nvPr/>
        </p:nvGrpSpPr>
        <p:grpSpPr>
          <a:xfrm>
            <a:off x="6427800" y="1174680"/>
            <a:ext cx="2028960" cy="1163520"/>
            <a:chOff x="6427800" y="1174680"/>
            <a:chExt cx="2028960" cy="1163520"/>
          </a:xfrm>
        </p:grpSpPr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7137720" y="1174680"/>
                  <a:ext cx="131904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×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7" name=""/>
            <p:cNvSpPr/>
            <p:nvPr/>
          </p:nvSpPr>
          <p:spPr>
            <a:xfrm>
              <a:off x="6427800" y="1487160"/>
              <a:ext cx="719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⑶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5003640" y="189000"/>
            <a:ext cx="4319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看看得数有什么特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290520"/>
            <a:ext cx="129528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引 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392200" y="1554120"/>
            <a:ext cx="6302520" cy="444600"/>
            <a:chOff x="2392200" y="1554120"/>
            <a:chExt cx="6302520" cy="444600"/>
          </a:xfrm>
        </p:grpSpPr>
        <mc:AlternateContent>
          <mc:Choice xmlns:a14="http://schemas.microsoft.com/office/drawing/2010/main" Requires="a14">
            <p:sp>
              <p:nvSpPr>
                <p:cNvPr id="71" name=""/>
                <p:cNvSpPr txBox="1"/>
                <p:nvPr/>
              </p:nvSpPr>
              <p:spPr>
                <a:xfrm>
                  <a:off x="2392200" y="1565280"/>
                  <a:ext cx="23508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5724360" y="1565280"/>
                  <a:ext cx="23508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8459640" y="1554120"/>
                  <a:ext cx="23508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4" name=""/>
          <p:cNvSpPr/>
          <p:nvPr/>
        </p:nvSpPr>
        <p:spPr>
          <a:xfrm>
            <a:off x="1862280" y="2349360"/>
            <a:ext cx="6192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乘积是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1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的两个数互为倒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79640" y="2349360"/>
            <a:ext cx="61927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互为倒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50920" y="3213000"/>
            <a:ext cx="8785080" cy="2376360"/>
            <a:chOff x="250920" y="3213000"/>
            <a:chExt cx="8785080" cy="2376360"/>
          </a:xfrm>
        </p:grpSpPr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1147680" y="3213000"/>
                  <a:ext cx="169560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×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8" name=""/>
            <p:cNvSpPr/>
            <p:nvPr/>
          </p:nvSpPr>
          <p:spPr>
            <a:xfrm>
              <a:off x="250920" y="3525840"/>
              <a:ext cx="87487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因为                  ，所以     和     互为倒数，就是     的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" name=""/>
                <p:cNvSpPr txBox="1"/>
                <p:nvPr/>
              </p:nvSpPr>
              <p:spPr>
                <a:xfrm>
                  <a:off x="3975120" y="3213000"/>
                  <a:ext cx="45252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4838760" y="3213000"/>
                  <a:ext cx="45252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7956720" y="3213000"/>
                  <a:ext cx="45216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2" name=""/>
            <p:cNvSpPr/>
            <p:nvPr/>
          </p:nvSpPr>
          <p:spPr>
            <a:xfrm>
              <a:off x="287280" y="4713120"/>
              <a:ext cx="8748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倒数是     ，     倒数是     。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527120" y="4413240"/>
                  <a:ext cx="45252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4" name=""/>
                <p:cNvSpPr txBox="1"/>
                <p:nvPr/>
              </p:nvSpPr>
              <p:spPr>
                <a:xfrm>
                  <a:off x="2411280" y="4413240"/>
                  <a:ext cx="45252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3995640" y="4425840"/>
                  <a:ext cx="45252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r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ffff"/>
            </a:gs>
            <a:gs pos="50000">
              <a:srgbClr val="ffffcc"/>
            </a:gs>
            <a:gs pos="100000">
              <a:srgbClr val="8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792000" cy="1008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340000" y="189000"/>
            <a:ext cx="3240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口算下列各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392200" y="1568520"/>
                <a:ext cx="2350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9" name=""/>
          <p:cNvGrpSpPr/>
          <p:nvPr/>
        </p:nvGrpSpPr>
        <p:grpSpPr>
          <a:xfrm>
            <a:off x="250920" y="1185840"/>
            <a:ext cx="2085480" cy="1163520"/>
            <a:chOff x="250920" y="1185840"/>
            <a:chExt cx="2085480" cy="11635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904680" y="1185840"/>
                  <a:ext cx="143172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×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250920" y="1498320"/>
              <a:ext cx="718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⑴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724360" y="1568520"/>
                <a:ext cx="2350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3" name=""/>
          <p:cNvGrpSpPr/>
          <p:nvPr/>
        </p:nvGrpSpPr>
        <p:grpSpPr>
          <a:xfrm>
            <a:off x="3276720" y="1185840"/>
            <a:ext cx="2417760" cy="1163520"/>
            <a:chOff x="3276720" y="1185840"/>
            <a:chExt cx="2417760" cy="1163520"/>
          </a:xfrm>
        </p:grpSpPr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3884760" y="1185840"/>
                  <a:ext cx="180972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  <m:r>
                        <m:t xml:space="preserve">×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5" name=""/>
            <p:cNvSpPr/>
            <p:nvPr/>
          </p:nvSpPr>
          <p:spPr>
            <a:xfrm>
              <a:off x="3276720" y="1498680"/>
              <a:ext cx="718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⑵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8459640" y="1557360"/>
                <a:ext cx="2350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7" name=""/>
          <p:cNvGrpSpPr/>
          <p:nvPr/>
        </p:nvGrpSpPr>
        <p:grpSpPr>
          <a:xfrm>
            <a:off x="6427800" y="1174680"/>
            <a:ext cx="2028960" cy="1163520"/>
            <a:chOff x="6427800" y="1174680"/>
            <a:chExt cx="2028960" cy="1163520"/>
          </a:xfrm>
        </p:grpSpPr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7137720" y="1174680"/>
                  <a:ext cx="131904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×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9" name=""/>
            <p:cNvSpPr/>
            <p:nvPr/>
          </p:nvSpPr>
          <p:spPr>
            <a:xfrm>
              <a:off x="6427800" y="1487160"/>
              <a:ext cx="719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⑶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003640" y="189000"/>
            <a:ext cx="4319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看看得数有什么特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16000" y="290520"/>
            <a:ext cx="129528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引 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392200" y="1554120"/>
            <a:ext cx="6302520" cy="444600"/>
            <a:chOff x="2392200" y="1554120"/>
            <a:chExt cx="6302520" cy="444600"/>
          </a:xfrm>
        </p:grpSpPr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2392200" y="1565280"/>
                  <a:ext cx="23508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5724360" y="1565280"/>
                  <a:ext cx="23508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8459640" y="1554120"/>
                  <a:ext cx="23508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6" name=""/>
          <p:cNvSpPr/>
          <p:nvPr/>
        </p:nvSpPr>
        <p:spPr>
          <a:xfrm>
            <a:off x="1862280" y="2349360"/>
            <a:ext cx="6192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乘积是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1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的两个数互为倒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79640" y="2349360"/>
            <a:ext cx="61927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互为倒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432240" y="3068640"/>
                <a:ext cx="6033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1042920" y="3389400"/>
            <a:ext cx="3888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倒数是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        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087560" y="3068640"/>
                <a:ext cx="60300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209000" y="3081240"/>
                <a:ext cx="60300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2" name=""/>
          <p:cNvGrpSpPr/>
          <p:nvPr/>
        </p:nvGrpSpPr>
        <p:grpSpPr>
          <a:xfrm>
            <a:off x="4788000" y="3081240"/>
            <a:ext cx="3959280" cy="1328400"/>
            <a:chOff x="4788000" y="3081240"/>
            <a:chExt cx="3959280" cy="1328400"/>
          </a:xfrm>
        </p:grpSpPr>
        <p:sp>
          <p:nvSpPr>
            <p:cNvPr id="113" name=""/>
            <p:cNvSpPr/>
            <p:nvPr/>
          </p:nvSpPr>
          <p:spPr>
            <a:xfrm>
              <a:off x="4788000" y="3402000"/>
              <a:ext cx="39592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倒数是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(        )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。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4832280" y="3081240"/>
                  <a:ext cx="603360" cy="116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490920" y="4316400"/>
                <a:ext cx="4143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6" name=""/>
          <p:cNvGrpSpPr/>
          <p:nvPr/>
        </p:nvGrpSpPr>
        <p:grpSpPr>
          <a:xfrm>
            <a:off x="1295280" y="4637160"/>
            <a:ext cx="3564000" cy="550800"/>
            <a:chOff x="1295280" y="4637160"/>
            <a:chExt cx="3564000" cy="550800"/>
          </a:xfrm>
        </p:grpSpPr>
        <p:sp>
          <p:nvSpPr>
            <p:cNvPr id="117" name=""/>
            <p:cNvSpPr/>
            <p:nvPr/>
          </p:nvSpPr>
          <p:spPr>
            <a:xfrm>
              <a:off x="1295280" y="4637160"/>
              <a:ext cx="356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倒数是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(        )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，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1295280" y="4653000"/>
                  <a:ext cx="339480" cy="52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7256520" y="4653000"/>
                <a:ext cx="3398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0" name=""/>
          <p:cNvGrpSpPr/>
          <p:nvPr/>
        </p:nvGrpSpPr>
        <p:grpSpPr>
          <a:xfrm>
            <a:off x="4716360" y="4329000"/>
            <a:ext cx="4103640" cy="1163880"/>
            <a:chOff x="4716360" y="4329000"/>
            <a:chExt cx="4103640" cy="1163880"/>
          </a:xfrm>
        </p:grpSpPr>
        <p:sp>
          <p:nvSpPr>
            <p:cNvPr id="121" name=""/>
            <p:cNvSpPr/>
            <p:nvPr/>
          </p:nvSpPr>
          <p:spPr>
            <a:xfrm>
              <a:off x="4716360" y="4649760"/>
              <a:ext cx="4103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倒数是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(        )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。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4987800" y="4329000"/>
                  <a:ext cx="414360" cy="116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3" name=""/>
          <p:cNvSpPr/>
          <p:nvPr/>
        </p:nvSpPr>
        <p:spPr>
          <a:xfrm>
            <a:off x="1547640" y="5373720"/>
            <a:ext cx="64090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请你说出互为倒数的任意两个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ffff"/>
            </a:gs>
            <a:gs pos="50000">
              <a:srgbClr val="ffffcc"/>
            </a:gs>
            <a:gs pos="100000">
              <a:srgbClr val="8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8600" y="306360"/>
            <a:ext cx="792000" cy="100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700360" y="851040"/>
            <a:ext cx="48243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写出      、    的倒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87280" y="947880"/>
            <a:ext cx="129564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例 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55840" y="1843200"/>
                <a:ext cx="45252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8" name=""/>
          <p:cNvGrpSpPr/>
          <p:nvPr/>
        </p:nvGrpSpPr>
        <p:grpSpPr>
          <a:xfrm>
            <a:off x="792000" y="1843200"/>
            <a:ext cx="4066920" cy="1328040"/>
            <a:chOff x="792000" y="1843200"/>
            <a:chExt cx="4066920" cy="1328040"/>
          </a:xfrm>
        </p:grpSpPr>
        <p:sp>
          <p:nvSpPr>
            <p:cNvPr id="129" name=""/>
            <p:cNvSpPr/>
            <p:nvPr/>
          </p:nvSpPr>
          <p:spPr>
            <a:xfrm>
              <a:off x="792000" y="2163600"/>
              <a:ext cx="40669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倒数是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(        )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。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971280" y="1843200"/>
                  <a:ext cx="45252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708360" y="762120"/>
                <a:ext cx="45252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572000" y="762120"/>
                <a:ext cx="41580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7324560" y="1914480"/>
                <a:ext cx="4143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34" name=""/>
          <p:cNvGrpSpPr/>
          <p:nvPr/>
        </p:nvGrpSpPr>
        <p:grpSpPr>
          <a:xfrm>
            <a:off x="4859280" y="1854360"/>
            <a:ext cx="3924360" cy="1328040"/>
            <a:chOff x="4859280" y="1854360"/>
            <a:chExt cx="3924360" cy="1328040"/>
          </a:xfrm>
        </p:grpSpPr>
        <p:sp>
          <p:nvSpPr>
            <p:cNvPr id="135" name=""/>
            <p:cNvSpPr/>
            <p:nvPr/>
          </p:nvSpPr>
          <p:spPr>
            <a:xfrm>
              <a:off x="4859280" y="2174760"/>
              <a:ext cx="39243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倒数是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(        )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。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5057640" y="1854360"/>
                  <a:ext cx="41436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7" name=""/>
          <p:cNvSpPr/>
          <p:nvPr/>
        </p:nvSpPr>
        <p:spPr>
          <a:xfrm>
            <a:off x="1042920" y="2884320"/>
            <a:ext cx="3600360" cy="7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楷体_GB2312"/>
              </a:rPr>
              <a:t>⑴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楷体_GB2312"/>
              </a:rPr>
              <a:t>的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倒数是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       )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42920" y="3511440"/>
            <a:ext cx="4826160" cy="7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楷体_GB2312"/>
              </a:rPr>
              <a:t>⑵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楷体_GB2312"/>
              </a:rPr>
              <a:t>有没有倒数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楷体_GB2312"/>
              </a:rPr>
              <a:t>为什么？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64000" y="3522600"/>
            <a:ext cx="3745080" cy="7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c0099"/>
                </a:solidFill>
                <a:latin typeface="Arial"/>
                <a:ea typeface="楷体_GB2312"/>
              </a:rPr>
              <a:t>①  </a:t>
            </a:r>
            <a:r>
              <a:rPr b="1" lang="en-US" sz="2900" spc="-1" strike="noStrike">
                <a:solidFill>
                  <a:srgbClr val="cc0099"/>
                </a:solidFill>
                <a:latin typeface="Arial"/>
                <a:ea typeface="楷体_GB2312"/>
              </a:rPr>
              <a:t>0 </a:t>
            </a:r>
            <a:r>
              <a:rPr b="1" lang="en-US" sz="2900" spc="-1" strike="noStrike">
                <a:solidFill>
                  <a:srgbClr val="cc0099"/>
                </a:solidFill>
                <a:latin typeface="Arial"/>
                <a:ea typeface="楷体_GB2312"/>
              </a:rPr>
              <a:t>作分母无意义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4097160"/>
            <a:ext cx="3673800" cy="7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c0099"/>
                </a:solidFill>
                <a:latin typeface="Arial"/>
                <a:ea typeface="楷体_GB2312"/>
              </a:rPr>
              <a:t>②  </a:t>
            </a:r>
            <a:r>
              <a:rPr b="1" lang="en-US" sz="2900" spc="-1" strike="noStrike">
                <a:solidFill>
                  <a:srgbClr val="cc0099"/>
                </a:solidFill>
                <a:latin typeface="Arial"/>
                <a:ea typeface="楷体_GB2312"/>
              </a:rPr>
              <a:t>0 </a:t>
            </a:r>
            <a:r>
              <a:rPr b="1" lang="en-US" sz="2500" spc="-1" strike="noStrike">
                <a:solidFill>
                  <a:srgbClr val="cc0099"/>
                </a:solidFill>
                <a:latin typeface="Times New Roman"/>
              </a:rPr>
              <a:t>×( </a:t>
            </a:r>
            <a:r>
              <a:rPr b="1" lang="en-US" sz="2900" spc="-1" strike="noStrike">
                <a:solidFill>
                  <a:srgbClr val="cc0099"/>
                </a:solidFill>
                <a:latin typeface="Arial"/>
                <a:ea typeface="楷体_GB2312"/>
              </a:rPr>
              <a:t>任何数 </a:t>
            </a:r>
            <a:r>
              <a:rPr b="1" lang="en-US" sz="2500" spc="-1" strike="noStrike">
                <a:solidFill>
                  <a:srgbClr val="cc0099"/>
                </a:solidFill>
                <a:latin typeface="Times New Roman"/>
              </a:rPr>
              <a:t>) </a:t>
            </a:r>
            <a:r>
              <a:rPr b="1" lang="en-US" sz="29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≠</a:t>
            </a:r>
            <a:r>
              <a:rPr b="1" lang="en-US" sz="2900" spc="-1" strike="noStrike">
                <a:solidFill>
                  <a:srgbClr val="cc0099"/>
                </a:solidFill>
                <a:latin typeface="Arial"/>
                <a:ea typeface="楷体_GB2312"/>
              </a:rPr>
              <a:t>1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-36360" y="2819520"/>
            <a:ext cx="1441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  <a:ea typeface="华文新魏"/>
              </a:rPr>
              <a:t>讨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46560" y="3440160"/>
            <a:ext cx="201600" cy="1008000"/>
          </a:xfrm>
          <a:custGeom>
            <a:avLst/>
            <a:gdLst>
              <a:gd name="textAreaLeft" fmla="*/ 128880 w 201600"/>
              <a:gd name="textAreaRight" fmla="*/ 201960 w 20160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64000" y="2946240"/>
            <a:ext cx="3168720" cy="7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Arial"/>
                <a:ea typeface="楷体_GB2312"/>
              </a:rPr>
              <a:t>0 </a:t>
            </a:r>
            <a:r>
              <a:rPr b="1" lang="en-US" sz="2900" spc="-1" strike="noStrike">
                <a:solidFill>
                  <a:srgbClr val="ff0000"/>
                </a:solidFill>
                <a:latin typeface="Arial"/>
                <a:ea typeface="楷体_GB2312"/>
              </a:rPr>
              <a:t>没有倒数</a:t>
            </a:r>
            <a:r>
              <a:rPr b="1" lang="en-US" sz="2900" spc="-1" strike="noStrike">
                <a:solidFill>
                  <a:srgbClr val="0000cc"/>
                </a:solidFill>
                <a:latin typeface="Arial"/>
                <a:ea typeface="楷体_GB2312"/>
              </a:rPr>
              <a:t>，因为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564000" y="3079800"/>
                <a:ext cx="2635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324000" y="5372280"/>
            <a:ext cx="8569080" cy="10810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1260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6000" y="4602240"/>
            <a:ext cx="8893080" cy="7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请你观察上面两道题，说一说怎样求一个数的倒数 ？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9440" y="5229360"/>
            <a:ext cx="2017440" cy="19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求一个数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          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30560" y="5229360"/>
            <a:ext cx="5581440" cy="7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cc"/>
                </a:solidFill>
                <a:latin typeface="华文新魏"/>
                <a:ea typeface="华文新魏"/>
              </a:rPr>
              <a:t>的倒数 ，只要把这个数的分子、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5732640"/>
            <a:ext cx="2917800" cy="7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分母调换位置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5638680"/>
            <a:ext cx="1943280" cy="7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 </a:t>
            </a:r>
            <a:r>
              <a:rPr b="1" lang="en-US" sz="2900" spc="-1" strike="noStrike">
                <a:solidFill>
                  <a:srgbClr val="ff0000"/>
                </a:solidFill>
                <a:latin typeface="Arial"/>
                <a:ea typeface="楷体_GB2312"/>
              </a:rPr>
              <a:t>0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除外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r>
              <a:rPr b="1" lang="en-US" sz="29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98640" y="-27000"/>
            <a:ext cx="6418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乘积是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1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的两个数互为倒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animMotion origin="layout" path="M -1.94444E-006 4.81481E-006 L 0.16354 4.81481E-006 E">
                                      <p:cBhvr>
                                        <p:cTn id="199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ffff"/>
            </a:gs>
            <a:gs pos="50000">
              <a:srgbClr val="ffffcc"/>
            </a:gs>
            <a:gs pos="100000">
              <a:srgbClr val="8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792000" cy="1008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205080" y="189000"/>
            <a:ext cx="1871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填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290520"/>
            <a:ext cx="187164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练一练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  <a:ea typeface="华文新魏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19040" y="1582560"/>
                <a:ext cx="34657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411280" y="1557360"/>
                <a:ext cx="51300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47840" y="3919680"/>
                <a:ext cx="350820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 </m:t>
                    </m:r>
                    <m:r>
                      <m:t xml:space="preserve">7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460600" y="3595680"/>
                <a:ext cx="51264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932360" y="1654200"/>
                <a:ext cx="35514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7031160" y="1990800"/>
                <a:ext cx="3841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976640" y="3990960"/>
                <a:ext cx="33800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7032600" y="4051440"/>
                <a:ext cx="3002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ffff"/>
            </a:gs>
            <a:gs pos="50000">
              <a:srgbClr val="ffffcc"/>
            </a:gs>
            <a:gs pos="100000">
              <a:srgbClr val="8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792000" cy="10083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132000" y="260280"/>
            <a:ext cx="57610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说出下列各数的倒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16000" y="290520"/>
            <a:ext cx="187164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练一练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  <a:ea typeface="华文新魏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276720" y="1328760"/>
                <a:ext cx="4521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294000" y="2914560"/>
                <a:ext cx="41436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395520" y="4919760"/>
                <a:ext cx="52704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548480" y="1690560"/>
                <a:ext cx="26352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7524720" y="2914560"/>
                <a:ext cx="45252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7704000" y="4570560"/>
                <a:ext cx="90360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72" name=""/>
          <p:cNvGrpSpPr/>
          <p:nvPr/>
        </p:nvGrpSpPr>
        <p:grpSpPr>
          <a:xfrm>
            <a:off x="324000" y="1330200"/>
            <a:ext cx="4464000" cy="1163880"/>
            <a:chOff x="324000" y="1330200"/>
            <a:chExt cx="4464000" cy="1163880"/>
          </a:xfrm>
        </p:grpSpPr>
        <p:grpSp>
          <p:nvGrpSpPr>
            <p:cNvPr id="173" name=""/>
            <p:cNvGrpSpPr/>
            <p:nvPr/>
          </p:nvGrpSpPr>
          <p:grpSpPr>
            <a:xfrm>
              <a:off x="900000" y="1330200"/>
              <a:ext cx="3888000" cy="1163880"/>
              <a:chOff x="900000" y="1330200"/>
              <a:chExt cx="3888000" cy="1163880"/>
            </a:xfrm>
          </p:grpSpPr>
          <p:sp>
            <p:nvSpPr>
              <p:cNvPr id="174" name=""/>
              <p:cNvSpPr/>
              <p:nvPr/>
            </p:nvSpPr>
            <p:spPr>
              <a:xfrm>
                <a:off x="900000" y="1650960"/>
                <a:ext cx="3888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   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的倒数是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(        )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。 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75" name=""/>
                  <p:cNvSpPr txBox="1"/>
                  <p:nvPr/>
                </p:nvSpPr>
                <p:spPr>
                  <a:xfrm>
                    <a:off x="1008000" y="1330200"/>
                    <a:ext cx="452520" cy="1163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76" name=""/>
            <p:cNvSpPr/>
            <p:nvPr/>
          </p:nvSpPr>
          <p:spPr>
            <a:xfrm>
              <a:off x="324000" y="155736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⑴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95280" y="3176640"/>
            <a:ext cx="4321080" cy="1066320"/>
            <a:chOff x="395280" y="3176640"/>
            <a:chExt cx="4321080" cy="1066320"/>
          </a:xfrm>
        </p:grpSpPr>
        <p:grpSp>
          <p:nvGrpSpPr>
            <p:cNvPr id="178" name=""/>
            <p:cNvGrpSpPr/>
            <p:nvPr/>
          </p:nvGrpSpPr>
          <p:grpSpPr>
            <a:xfrm>
              <a:off x="934920" y="3233880"/>
              <a:ext cx="3781440" cy="1009080"/>
              <a:chOff x="934920" y="3233880"/>
              <a:chExt cx="3781440" cy="1009080"/>
            </a:xfrm>
          </p:grpSpPr>
          <p:sp>
            <p:nvSpPr>
              <p:cNvPr id="179" name=""/>
              <p:cNvSpPr/>
              <p:nvPr/>
            </p:nvSpPr>
            <p:spPr>
              <a:xfrm>
                <a:off x="934920" y="3235320"/>
                <a:ext cx="378144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   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的倒数是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(        )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。 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80" name=""/>
                  <p:cNvSpPr txBox="1"/>
                  <p:nvPr/>
                </p:nvSpPr>
                <p:spPr>
                  <a:xfrm>
                    <a:off x="1100160" y="3233880"/>
                    <a:ext cx="339840" cy="525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8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81" name=""/>
            <p:cNvSpPr/>
            <p:nvPr/>
          </p:nvSpPr>
          <p:spPr>
            <a:xfrm>
              <a:off x="395280" y="317664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716360" y="1593720"/>
            <a:ext cx="4102200" cy="1064880"/>
            <a:chOff x="4716360" y="1593720"/>
            <a:chExt cx="4102200" cy="1064880"/>
          </a:xfrm>
        </p:grpSpPr>
        <p:grpSp>
          <p:nvGrpSpPr>
            <p:cNvPr id="183" name=""/>
            <p:cNvGrpSpPr/>
            <p:nvPr/>
          </p:nvGrpSpPr>
          <p:grpSpPr>
            <a:xfrm>
              <a:off x="5003640" y="1650960"/>
              <a:ext cx="3814920" cy="1007640"/>
              <a:chOff x="5003640" y="1650960"/>
              <a:chExt cx="3814920" cy="1007640"/>
            </a:xfrm>
          </p:grpSpPr>
          <p:sp>
            <p:nvSpPr>
              <p:cNvPr id="184" name=""/>
              <p:cNvSpPr/>
              <p:nvPr/>
            </p:nvSpPr>
            <p:spPr>
              <a:xfrm>
                <a:off x="5003640" y="1650960"/>
                <a:ext cx="38149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    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的倒数是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(        )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。 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85" name=""/>
                  <p:cNvSpPr txBox="1"/>
                  <p:nvPr/>
                </p:nvSpPr>
                <p:spPr>
                  <a:xfrm>
                    <a:off x="5351400" y="1668600"/>
                    <a:ext cx="263520" cy="487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86" name=""/>
            <p:cNvSpPr/>
            <p:nvPr/>
          </p:nvSpPr>
          <p:spPr>
            <a:xfrm>
              <a:off x="4716360" y="1593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⑷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716360" y="2914560"/>
            <a:ext cx="4140360" cy="1296720"/>
            <a:chOff x="4716360" y="2914560"/>
            <a:chExt cx="4140360" cy="1296720"/>
          </a:xfrm>
        </p:grpSpPr>
        <p:grpSp>
          <p:nvGrpSpPr>
            <p:cNvPr id="188" name=""/>
            <p:cNvGrpSpPr/>
            <p:nvPr/>
          </p:nvGrpSpPr>
          <p:grpSpPr>
            <a:xfrm>
              <a:off x="5076720" y="2914560"/>
              <a:ext cx="3780000" cy="1296720"/>
              <a:chOff x="5076720" y="2914560"/>
              <a:chExt cx="3780000" cy="1296720"/>
            </a:xfrm>
          </p:grpSpPr>
          <p:sp>
            <p:nvSpPr>
              <p:cNvPr id="189" name=""/>
              <p:cNvSpPr/>
              <p:nvPr/>
            </p:nvSpPr>
            <p:spPr>
              <a:xfrm>
                <a:off x="5076720" y="3203640"/>
                <a:ext cx="378000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    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的倒数是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(        )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。 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90" name=""/>
                  <p:cNvSpPr txBox="1"/>
                  <p:nvPr/>
                </p:nvSpPr>
                <p:spPr>
                  <a:xfrm>
                    <a:off x="5292720" y="2914560"/>
                    <a:ext cx="452520" cy="1163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91" name=""/>
            <p:cNvSpPr/>
            <p:nvPr/>
          </p:nvSpPr>
          <p:spPr>
            <a:xfrm>
              <a:off x="4716360" y="31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⑸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95280" y="4570560"/>
            <a:ext cx="4319640" cy="1328040"/>
            <a:chOff x="395280" y="4570560"/>
            <a:chExt cx="4319640" cy="1328040"/>
          </a:xfrm>
        </p:grpSpPr>
        <p:grpSp>
          <p:nvGrpSpPr>
            <p:cNvPr id="193" name=""/>
            <p:cNvGrpSpPr/>
            <p:nvPr/>
          </p:nvGrpSpPr>
          <p:grpSpPr>
            <a:xfrm>
              <a:off x="933480" y="4570560"/>
              <a:ext cx="3781440" cy="1328040"/>
              <a:chOff x="933480" y="4570560"/>
              <a:chExt cx="3781440" cy="1328040"/>
            </a:xfrm>
          </p:grpSpPr>
          <p:sp>
            <p:nvSpPr>
              <p:cNvPr id="194" name=""/>
              <p:cNvSpPr/>
              <p:nvPr/>
            </p:nvSpPr>
            <p:spPr>
              <a:xfrm>
                <a:off x="933480" y="4890960"/>
                <a:ext cx="378144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    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的倒数是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(        )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。 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95" name=""/>
                  <p:cNvSpPr txBox="1"/>
                  <p:nvPr/>
                </p:nvSpPr>
                <p:spPr>
                  <a:xfrm>
                    <a:off x="966960" y="4570560"/>
                    <a:ext cx="603360" cy="1163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96" name=""/>
            <p:cNvSpPr/>
            <p:nvPr/>
          </p:nvSpPr>
          <p:spPr>
            <a:xfrm>
              <a:off x="395280" y="479736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⑶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4716360" y="4865760"/>
            <a:ext cx="4680000" cy="1032840"/>
            <a:chOff x="4716360" y="4865760"/>
            <a:chExt cx="4680000" cy="1032840"/>
          </a:xfrm>
        </p:grpSpPr>
        <p:grpSp>
          <p:nvGrpSpPr>
            <p:cNvPr id="198" name=""/>
            <p:cNvGrpSpPr/>
            <p:nvPr/>
          </p:nvGrpSpPr>
          <p:grpSpPr>
            <a:xfrm>
              <a:off x="5280120" y="4890960"/>
              <a:ext cx="4116240" cy="1007640"/>
              <a:chOff x="5280120" y="4890960"/>
              <a:chExt cx="4116240" cy="1007640"/>
            </a:xfrm>
          </p:grpSpPr>
          <p:sp>
            <p:nvSpPr>
              <p:cNvPr id="199" name=""/>
              <p:cNvSpPr/>
              <p:nvPr/>
            </p:nvSpPr>
            <p:spPr>
              <a:xfrm>
                <a:off x="5437080" y="4890960"/>
                <a:ext cx="395928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    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的倒数是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(        )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。 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0" name=""/>
                  <p:cNvSpPr txBox="1"/>
                  <p:nvPr/>
                </p:nvSpPr>
                <p:spPr>
                  <a:xfrm>
                    <a:off x="5280120" y="4905360"/>
                    <a:ext cx="1056960" cy="601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 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01" name=""/>
            <p:cNvSpPr/>
            <p:nvPr/>
          </p:nvSpPr>
          <p:spPr>
            <a:xfrm>
              <a:off x="4716360" y="486576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⑹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ffff"/>
            </a:gs>
            <a:gs pos="50000">
              <a:srgbClr val="ffffcc"/>
            </a:gs>
            <a:gs pos="100000">
              <a:srgbClr val="8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792360" cy="100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130560" y="260280"/>
            <a:ext cx="5905440" cy="6274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练习六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⑵、⑶</a:t>
            </a:r>
            <a:r>
              <a:rPr b="1" lang="en-US" sz="3500" spc="-1" strike="noStrike">
                <a:solidFill>
                  <a:srgbClr val="000000"/>
                </a:solidFill>
                <a:latin typeface="华文新魏"/>
                <a:ea typeface="华文新魏"/>
              </a:rPr>
              <a:t> 在书上填写 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24000" y="909720"/>
            <a:ext cx="8280360" cy="2016000"/>
            <a:chOff x="324000" y="909720"/>
            <a:chExt cx="8280360" cy="2016000"/>
          </a:xfrm>
        </p:grpSpPr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539640" y="1751040"/>
                  <a:ext cx="45252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1763640" y="1751040"/>
                  <a:ext cx="45252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3637080" y="1762200"/>
                  <a:ext cx="41436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4797360" y="1751040"/>
                  <a:ext cx="56664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6156360" y="1751040"/>
                  <a:ext cx="41436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8172360" y="2136600"/>
                  <a:ext cx="43200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2700360" y="2111400"/>
                  <a:ext cx="37620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7237440" y="2111400"/>
                  <a:ext cx="377640" cy="52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3" name=""/>
            <p:cNvSpPr/>
            <p:nvPr/>
          </p:nvSpPr>
          <p:spPr>
            <a:xfrm>
              <a:off x="324000" y="909720"/>
              <a:ext cx="669600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⑵  </a:t>
              </a:r>
              <a:r>
                <a:rPr b="1" lang="en-US" sz="3200" spc="-1" strike="noStrike">
                  <a:solidFill>
                    <a:srgbClr val="003300"/>
                  </a:solidFill>
                  <a:latin typeface="Times New Roman"/>
                  <a:ea typeface="楷体_GB2312"/>
                </a:rPr>
                <a:t>说出下面哪两个数互为倒数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971640" y="2422440"/>
            <a:ext cx="1871640" cy="5619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067280" y="2363760"/>
            <a:ext cx="2160360" cy="5619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2268360" y="2395440"/>
            <a:ext cx="5112000" cy="746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419640" y="3059280"/>
                <a:ext cx="4521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436920" y="4138560"/>
                <a:ext cx="4143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419640" y="5229360"/>
                <a:ext cx="4521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7861320" y="3360600"/>
                <a:ext cx="52704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7885080" y="4210200"/>
                <a:ext cx="45252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7956720" y="5527800"/>
                <a:ext cx="26352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3" name=""/>
          <p:cNvGrpSpPr/>
          <p:nvPr/>
        </p:nvGrpSpPr>
        <p:grpSpPr>
          <a:xfrm>
            <a:off x="396720" y="3000240"/>
            <a:ext cx="8999640" cy="3557160"/>
            <a:chOff x="396720" y="3000240"/>
            <a:chExt cx="8999640" cy="3557160"/>
          </a:xfrm>
        </p:grpSpPr>
        <p:grpSp>
          <p:nvGrpSpPr>
            <p:cNvPr id="224" name=""/>
            <p:cNvGrpSpPr/>
            <p:nvPr/>
          </p:nvGrpSpPr>
          <p:grpSpPr>
            <a:xfrm>
              <a:off x="1042920" y="3060720"/>
              <a:ext cx="3888000" cy="1163520"/>
              <a:chOff x="1042920" y="3060720"/>
              <a:chExt cx="3888000" cy="1163520"/>
            </a:xfrm>
          </p:grpSpPr>
          <p:sp>
            <p:nvSpPr>
              <p:cNvPr id="225" name=""/>
              <p:cNvSpPr/>
              <p:nvPr/>
            </p:nvSpPr>
            <p:spPr>
              <a:xfrm>
                <a:off x="1042920" y="3381120"/>
                <a:ext cx="3888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   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的倒数是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(        )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。 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6" name=""/>
                  <p:cNvSpPr txBox="1"/>
                  <p:nvPr/>
                </p:nvSpPr>
                <p:spPr>
                  <a:xfrm>
                    <a:off x="1150920" y="3060720"/>
                    <a:ext cx="452520" cy="1163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27" name=""/>
            <p:cNvGrpSpPr/>
            <p:nvPr/>
          </p:nvGrpSpPr>
          <p:grpSpPr>
            <a:xfrm>
              <a:off x="1077840" y="4457880"/>
              <a:ext cx="3781440" cy="1009080"/>
              <a:chOff x="1077840" y="4457880"/>
              <a:chExt cx="3781440" cy="1009080"/>
            </a:xfrm>
          </p:grpSpPr>
          <p:sp>
            <p:nvSpPr>
              <p:cNvPr id="228" name=""/>
              <p:cNvSpPr/>
              <p:nvPr/>
            </p:nvSpPr>
            <p:spPr>
              <a:xfrm>
                <a:off x="1077840" y="4459320"/>
                <a:ext cx="378144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   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的倒数是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(        )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。 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9" name=""/>
                  <p:cNvSpPr txBox="1"/>
                  <p:nvPr/>
                </p:nvSpPr>
                <p:spPr>
                  <a:xfrm>
                    <a:off x="1243080" y="4457880"/>
                    <a:ext cx="339840" cy="525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5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30" name=""/>
            <p:cNvGrpSpPr/>
            <p:nvPr/>
          </p:nvGrpSpPr>
          <p:grpSpPr>
            <a:xfrm>
              <a:off x="1077840" y="5229360"/>
              <a:ext cx="3781440" cy="1328040"/>
              <a:chOff x="1077840" y="5229360"/>
              <a:chExt cx="3781440" cy="1328040"/>
            </a:xfrm>
          </p:grpSpPr>
          <p:sp>
            <p:nvSpPr>
              <p:cNvPr id="231" name=""/>
              <p:cNvSpPr/>
              <p:nvPr/>
            </p:nvSpPr>
            <p:spPr>
              <a:xfrm>
                <a:off x="1077840" y="5549760"/>
                <a:ext cx="378144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   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的倒数是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(        )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。 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2" name=""/>
                  <p:cNvSpPr txBox="1"/>
                  <p:nvPr/>
                </p:nvSpPr>
                <p:spPr>
                  <a:xfrm>
                    <a:off x="1185840" y="5229360"/>
                    <a:ext cx="452520" cy="1163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33" name=""/>
            <p:cNvGrpSpPr/>
            <p:nvPr/>
          </p:nvGrpSpPr>
          <p:grpSpPr>
            <a:xfrm>
              <a:off x="5364000" y="3000240"/>
              <a:ext cx="3961080" cy="1326960"/>
              <a:chOff x="5364000" y="3000240"/>
              <a:chExt cx="3961080" cy="1326960"/>
            </a:xfrm>
          </p:grpSpPr>
          <p:sp>
            <p:nvSpPr>
              <p:cNvPr id="234" name=""/>
              <p:cNvSpPr/>
              <p:nvPr/>
            </p:nvSpPr>
            <p:spPr>
              <a:xfrm>
                <a:off x="5364000" y="3319560"/>
                <a:ext cx="396108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     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的倒数是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(        )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。 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5" name=""/>
                  <p:cNvSpPr txBox="1"/>
                  <p:nvPr/>
                </p:nvSpPr>
                <p:spPr>
                  <a:xfrm>
                    <a:off x="5541840" y="3000240"/>
                    <a:ext cx="603360" cy="1162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36" name=""/>
            <p:cNvGrpSpPr/>
            <p:nvPr/>
          </p:nvGrpSpPr>
          <p:grpSpPr>
            <a:xfrm>
              <a:off x="5437080" y="4210200"/>
              <a:ext cx="3780000" cy="1296360"/>
              <a:chOff x="5437080" y="4210200"/>
              <a:chExt cx="3780000" cy="1296360"/>
            </a:xfrm>
          </p:grpSpPr>
          <p:sp>
            <p:nvSpPr>
              <p:cNvPr id="237" name=""/>
              <p:cNvSpPr/>
              <p:nvPr/>
            </p:nvSpPr>
            <p:spPr>
              <a:xfrm>
                <a:off x="5437080" y="4498920"/>
                <a:ext cx="378000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    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的倒数是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(        )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。 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8" name=""/>
                  <p:cNvSpPr txBox="1"/>
                  <p:nvPr/>
                </p:nvSpPr>
                <p:spPr>
                  <a:xfrm>
                    <a:off x="5653080" y="4210200"/>
                    <a:ext cx="452520" cy="1163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39" name=""/>
            <p:cNvGrpSpPr/>
            <p:nvPr/>
          </p:nvGrpSpPr>
          <p:grpSpPr>
            <a:xfrm>
              <a:off x="5437080" y="5483160"/>
              <a:ext cx="3959280" cy="1007640"/>
              <a:chOff x="5437080" y="5483160"/>
              <a:chExt cx="3959280" cy="1007640"/>
            </a:xfrm>
          </p:grpSpPr>
          <p:sp>
            <p:nvSpPr>
              <p:cNvPr id="240" name=""/>
              <p:cNvSpPr/>
              <p:nvPr/>
            </p:nvSpPr>
            <p:spPr>
              <a:xfrm>
                <a:off x="5437080" y="5483160"/>
                <a:ext cx="395928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    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的倒数是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(        )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。 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41" name=""/>
                  <p:cNvSpPr txBox="1"/>
                  <p:nvPr/>
                </p:nvSpPr>
                <p:spPr>
                  <a:xfrm>
                    <a:off x="5713200" y="5523120"/>
                    <a:ext cx="263520" cy="488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42" name=""/>
            <p:cNvSpPr/>
            <p:nvPr/>
          </p:nvSpPr>
          <p:spPr>
            <a:xfrm>
              <a:off x="396720" y="3284640"/>
              <a:ext cx="71928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⑶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1116000" y="290520"/>
            <a:ext cx="1871640" cy="581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练一练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  <a:ea typeface="华文新魏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ffff"/>
            </a:gs>
            <a:gs pos="50000">
              <a:srgbClr val="ffffcc"/>
            </a:gs>
            <a:gs pos="100000">
              <a:srgbClr val="8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792000" cy="10083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132000" y="133200"/>
            <a:ext cx="57610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判断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16000" y="290520"/>
            <a:ext cx="187164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练一练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  <a:ea typeface="华文新魏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485120" y="301680"/>
            <a:ext cx="1095120" cy="5508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3500000"/>
          </a:gra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华文新魏"/>
              </a:rPr>
              <a:t>概念辨析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812000" y="1351080"/>
            <a:ext cx="7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0360" y="2719440"/>
            <a:ext cx="90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任何假分数的倒数都是真分数。……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67640" y="4941720"/>
            <a:ext cx="7192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24000" y="1278000"/>
            <a:ext cx="9036000" cy="1357560"/>
            <a:chOff x="324000" y="1278000"/>
            <a:chExt cx="9036000" cy="1357560"/>
          </a:xfrm>
        </p:grpSpPr>
        <p:sp>
          <p:nvSpPr>
            <p:cNvPr id="252" name=""/>
            <p:cNvSpPr/>
            <p:nvPr/>
          </p:nvSpPr>
          <p:spPr>
            <a:xfrm>
              <a:off x="324000" y="1566720"/>
              <a:ext cx="9036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⑴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求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的倒数：              。…… ……   </a:t>
              </a: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    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1332000" y="1278000"/>
                  <a:ext cx="45072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3440160" y="1278000"/>
                  <a:ext cx="120348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5" name=""/>
          <p:cNvSpPr/>
          <p:nvPr/>
        </p:nvSpPr>
        <p:spPr>
          <a:xfrm>
            <a:off x="7812000" y="2503440"/>
            <a:ext cx="7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95280" y="3489480"/>
            <a:ext cx="8928000" cy="1163520"/>
            <a:chOff x="395280" y="3489480"/>
            <a:chExt cx="8928000" cy="1163520"/>
          </a:xfrm>
        </p:grpSpPr>
        <p:sp>
          <p:nvSpPr>
            <p:cNvPr id="257" name=""/>
            <p:cNvSpPr/>
            <p:nvPr/>
          </p:nvSpPr>
          <p:spPr>
            <a:xfrm>
              <a:off x="395280" y="3668760"/>
              <a:ext cx="892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⑶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的倒数是     。 …… …… …… …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(        )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3112920" y="3489480"/>
                  <a:ext cx="41400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9" name=""/>
                <p:cNvSpPr txBox="1"/>
                <p:nvPr/>
              </p:nvSpPr>
              <p:spPr>
                <a:xfrm>
                  <a:off x="1098360" y="3789360"/>
                  <a:ext cx="339120" cy="52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0" name=""/>
          <p:cNvSpPr/>
          <p:nvPr/>
        </p:nvSpPr>
        <p:spPr>
          <a:xfrm>
            <a:off x="7848720" y="3573360"/>
            <a:ext cx="71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395280" y="4767120"/>
            <a:ext cx="8928000" cy="1182600"/>
            <a:chOff x="395280" y="4767120"/>
            <a:chExt cx="8928000" cy="1182600"/>
          </a:xfrm>
        </p:grpSpPr>
        <p:sp>
          <p:nvSpPr>
            <p:cNvPr id="262" name=""/>
            <p:cNvSpPr/>
            <p:nvPr/>
          </p:nvSpPr>
          <p:spPr>
            <a:xfrm>
              <a:off x="395280" y="4965480"/>
              <a:ext cx="892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⑷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的倒数是     。 …… …… …… …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(        )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3038040" y="4786200"/>
                  <a:ext cx="56484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4" name=""/>
                <p:cNvSpPr txBox="1"/>
                <p:nvPr/>
              </p:nvSpPr>
              <p:spPr>
                <a:xfrm>
                  <a:off x="985680" y="4767120"/>
                  <a:ext cx="56628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6T03:26:53Z</dcterms:created>
  <dc:creator>杨顺京</dc:creator>
  <dc:description/>
  <dc:language>en-US</dc:language>
  <cp:lastModifiedBy>ABC</cp:lastModifiedBy>
  <dcterms:modified xsi:type="dcterms:W3CDTF">2005-08-31T07:35:29Z</dcterms:modified>
  <cp:revision>446</cp:revision>
  <dc:subject/>
  <dc:title>PowerPoint 演示文稿</dc:title>
</cp:coreProperties>
</file>