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applause.wav" ContentType="audio/x-wav"/>
  <Override PartName="/ppt/media/carbrak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452-9C88-4C42-A74B-0B84E3CC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21D-213C-48CD-8224-63B9D900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A68-6825-4B8B-801D-D8C641BC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259-5E42-4B2A-A575-14A707DB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7C4-3F90-4259-AFB7-FF42307D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0BC-7248-404D-846B-0075966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9ED-C3A1-432E-95DF-423452CC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DC0-5338-4C2E-B4B3-34696A83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B8E-7732-4717-9134-FE6D94A6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7A0-1E25-47E3-874C-1EEF877E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B0D-14B7-4EF0-9916-EDEF2AD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C42-34D0-4EF6-8911-6254BDE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2D16-3F77-4D2C-8AEE-F5B1091B36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倒数的认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14479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0574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2860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8288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3004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1447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828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843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1148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41148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4197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74796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55960" y="40528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3860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2209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1295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2209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6576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44197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9625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6960" y="1752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24320" y="3900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61280" y="1752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9280" y="38862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20680" y="17524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97000" y="39625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458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从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结果上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观察，可以发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现两个因数相乘的积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971800"/>
            <a:ext cx="8381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从两个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因数之间的关系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上观察，每组中的两个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数的分子分母（……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83808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倒数的定义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66688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乘积是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的两个数叫做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互为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倒数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30492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例：如果说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是倒数，你认为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对吗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362320"/>
            <a:ext cx="81392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只是一个数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倒数必须是两个数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，而且这两个数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乘积必须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倒数，是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两个数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互为倒数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不能孤立地说某一个数是倒数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094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讨论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有没有倒数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752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的倒数是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。因为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1×1=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，根据倒数的定义，所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倒数是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505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没有倒数。分母不能为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。另外，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和任何数相乘都得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，根据倒数的意义，所以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没有倒数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60948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判断下面各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05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得数是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的两个数互为倒数（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76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30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的倒数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257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505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38320" y="3124080"/>
            <a:ext cx="157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（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32767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4510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334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4343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28195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0292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5×       =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，所以说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   都是倒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数。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4922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9401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59580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8:35:43Z</dcterms:created>
  <dc:creator>gz</dc:creator>
  <dc:description/>
  <dc:language>en-US</dc:language>
  <cp:lastModifiedBy>微软用户</cp:lastModifiedBy>
  <dcterms:modified xsi:type="dcterms:W3CDTF">2008-02-18T02:39:55Z</dcterms:modified>
  <cp:revision>8</cp:revision>
  <dc:subject/>
  <dc:title>倒数的认识</dc:title>
</cp:coreProperties>
</file>