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551-74AA-4F01-87CF-B5294852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BD3-8FCE-44C7-8319-48951D98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04A-823D-44DD-955D-2D86189A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FCD-1A6C-4114-8CC2-37690F88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95D-3655-4E02-9F22-116292C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F1D-7268-42BC-A42A-C7718C6B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25A-7DEC-49A2-9BFF-21300258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6BF-D143-4829-8402-48C4366C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72F-F6C8-426A-92C5-CF0B660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06A-E256-4170-BF24-DE2EDAF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19E-782B-4FFE-B87C-9D7B509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9BE-B0F1-49E2-9F63-1BF1FA0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BEB-2EC9-403A-89FC-9B3D20EBE2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2664000"/>
            <a:ext cx="4419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分数应用题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762120" cy="5335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0280" y="53352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地相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甲乙二人从两地同时出发相向而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过      小时相遇。甲每小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乙每小时行多少千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731960" y="1066680"/>
                <a:ext cx="32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37304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用方程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00680" y="3662280"/>
                <a:ext cx="2171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8480" y="4424400"/>
                <a:ext cx="1447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43400" y="5732640"/>
                <a:ext cx="13478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049360" y="63244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乙每小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57200" y="2243160"/>
            <a:ext cx="2848320" cy="459720"/>
            <a:chOff x="2257200" y="2243160"/>
            <a:chExt cx="2848320" cy="459720"/>
          </a:xfrm>
        </p:grpSpPr>
        <p:sp>
          <p:nvSpPr>
            <p:cNvPr id="51" name=""/>
            <p:cNvSpPr/>
            <p:nvPr/>
          </p:nvSpPr>
          <p:spPr>
            <a:xfrm>
              <a:off x="2257200" y="2243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97720" y="224316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设乙每小时行    千米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776840" y="2317680"/>
                  <a:ext cx="3286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2895480" y="2776680"/>
            <a:ext cx="2476800" cy="1022040"/>
            <a:chOff x="2895480" y="2776680"/>
            <a:chExt cx="2476800" cy="102204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895480" y="2776680"/>
                  <a:ext cx="2476800" cy="102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514760" y="304956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005440" y="5181480"/>
                <a:ext cx="557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986520" y="5791320"/>
                <a:ext cx="557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457200"/>
            <a:ext cx="762120" cy="5335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0280" y="53352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地相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甲乙二人从两地同时出发相向而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过      小时相遇。甲每小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乙每小时行多少千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731960" y="1066680"/>
                <a:ext cx="32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95080" y="1828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用算术方法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1981080"/>
                <a:ext cx="21621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56000" y="2995560"/>
                <a:ext cx="1546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201640" y="60199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乙每小时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633840" y="4724280"/>
                <a:ext cx="557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139160" y="5486400"/>
                <a:ext cx="556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109680" y="35053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5160" y="42670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520" y="52578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411360" y="3857760"/>
                <a:ext cx="10843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725360" y="5202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> </dc:creator>
  <dc:description/>
  <dc:language>en-US</dc:language>
  <cp:lastModifiedBy>微软用户</cp:lastModifiedBy>
  <dcterms:modified xsi:type="dcterms:W3CDTF">2008-02-18T02:47:54Z</dcterms:modified>
  <cp:revision>66</cp:revision>
  <dc:subject/>
  <dc:title>PowerPoint 演示文稿</dc:title>
</cp:coreProperties>
</file>