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B7B-5798-4108-AF01-F9B47B8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14F-8843-4DB5-AAB4-ECFB685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74A-F8EE-483E-BC21-5BC28938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578-89BC-4EFF-9C9E-70255C1A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671-CB4C-44E8-A838-1DD8ACF2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5A5-BD1F-43F9-B227-2F08820A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063-7FF8-46C5-858F-3EEB9969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E00-7929-4D1C-9BDB-05D9886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CE7-3EBF-49E3-8377-AC8CF48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D08-5E05-4092-A99D-CAC9DAC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1C4-7E69-4265-A442-2C77D5D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961-2055-4166-B6BF-8A2F983E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BEC7-2EEA-4E6A-B39D-384E3B9CC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5098"/>
                </a:srgbClr>
              </a:gs>
              <a:gs pos="100000">
                <a:srgbClr val="99ff99">
                  <a:alpha val="3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67640" y="5784840"/>
            <a:ext cx="14763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1989000"/>
            <a:ext cx="4176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隶书"/>
              </a:rPr>
              <a:t>比的基本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1916280"/>
            <a:ext cx="935280" cy="1223640"/>
          </a:xfrm>
          <a:prstGeom prst="smileyFace">
            <a:avLst>
              <a:gd name="adj" fmla="val 92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8.05556E-006 1.36385E-006 C -0.00833 0.00346 -0.01267 0.00531 -0.02013 0.00878 C -0.02239 0.0097 -0.02447 0.01086 -0.02673 0.01179 C -0.02899 0.01271 -0.03333 0.01479 -0.03333 0.01479 C -0.04496 0.03791 -0.04062 0.02565 -0.0467 0.05016 C -0.04739 0.05316 -0.04895 0.05917 -0.04895 0.05917 C -0.04739 0.06218 -0.0467 0.06611 -0.04444 0.06796 C -0.04045 0.07119 -0.03559 0.07189 -0.03124 0.07397 C -0.02864 0.07512 -0.0269 0.07836 -0.02447 0.07975 C -0.02013 0.08229 -0.01111 0.08576 -0.01111 0.08576 C 0.00799 0.08344 0.02605 0.08229 0.04219 0.06796 C 0.04462 0.05825 0.04566 0.03721 0.03994 0.02958 C 0.03837 0.0275 0.0356 0.0275 0.03334 0.02658 C 0.03178 0.02357 0.03108 0.01964 0.02882 0.0178 C 0.02171 0.01202 0.00435 0.0067 -0.00451 0.003 C -0.00607 0.00231 -0.00156 0.00092 8.05556E-006 1.36385E-006 Z">
                                      <p:cBhvr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3640" y="170028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981000"/>
            <a:ext cx="734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除法的基本性质（商不变的 性质）与分数的基本性质，猜一猜，想一想，比的基本性质应该是怎样的？把你的想法在小组里说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商不变的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除法里，被除数和除数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同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扩大（或缩小）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相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倍数，商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3429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分数的基本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分数的分子和分母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同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乘以或者除以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相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数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除外）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比的基本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5680" y="5151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比的前项和后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352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同时乘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661000"/>
            <a:ext cx="21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比值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或者除以相同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53640" y="51577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除外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484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谁的眼睛看得准？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根据比的基本性质判断下面各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276640"/>
            <a:ext cx="68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 ：  ＝（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÷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…………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58920" y="2781360"/>
                <a:ext cx="21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63640" y="2781360"/>
                <a:ext cx="23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27280" y="2781360"/>
                <a:ext cx="21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356000" y="2781360"/>
                <a:ext cx="23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7308720" y="24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2997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3645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276640"/>
            <a:ext cx="68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 ：  ＝（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÷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…………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460e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460e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56720" y="3500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460e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052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讨论：怎样理解</a:t>
            </a:r>
            <a:r>
              <a:rPr b="1" lang="zh-CN" sz="2400" spc="-1" strike="noStrike">
                <a:solidFill>
                  <a:srgbClr val="fc0a21"/>
                </a:solidFill>
                <a:latin typeface="Arial"/>
              </a:rPr>
              <a:t>“最简单的整数比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概念？小组里议一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2205000"/>
            <a:ext cx="237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21"/>
                </a:solidFill>
                <a:latin typeface="Arial"/>
              </a:rPr>
              <a:t>必须是一个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2852640"/>
            <a:ext cx="36716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21"/>
                </a:solidFill>
                <a:latin typeface="Arial"/>
              </a:rPr>
              <a:t>前项、后项必须是整数，不能是分数或小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4292640"/>
            <a:ext cx="295092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21"/>
                </a:solidFill>
                <a:latin typeface="Arial"/>
              </a:rPr>
              <a:t>前项与后项互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6093000"/>
            <a:ext cx="2174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093000"/>
            <a:ext cx="36036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6093000"/>
            <a:ext cx="216000" cy="360360"/>
          </a:xfrm>
          <a:prstGeom prst="rightArrow">
            <a:avLst>
              <a:gd name="adj1" fmla="val 49556"/>
              <a:gd name="adj2" fmla="val 19384"/>
            </a:avLst>
          </a:prstGeom>
          <a:solidFill>
            <a:srgbClr val="bbe0e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692280"/>
            <a:ext cx="647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692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69228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下面各比化成最简单的整数比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先尝试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完成，有困难时请参照课文中例子的解答方法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191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067280" y="1628640"/>
                <a:ext cx="307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3280" y="1628640"/>
                <a:ext cx="335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050920" y="2565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4÷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÷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093080" y="2349360"/>
                <a:ext cx="433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92360" y="1773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3141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（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16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00360" y="2852640"/>
                <a:ext cx="33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5280" y="3860640"/>
                <a:ext cx="333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138560" y="3789360"/>
                <a:ext cx="362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35280" y="5084640"/>
            <a:ext cx="33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25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1.25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643280" y="1628640"/>
                <a:ext cx="335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92360" y="1773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067280" y="1628640"/>
                <a:ext cx="307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43280" y="1628640"/>
                <a:ext cx="335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492360" y="1773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67280" y="1628640"/>
                <a:ext cx="307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643280" y="1628640"/>
                <a:ext cx="335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979640" y="2421000"/>
            <a:ext cx="216000" cy="21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3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924280"/>
            <a:ext cx="288720" cy="217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1.25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4797360"/>
            <a:ext cx="28872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637000"/>
            <a:ext cx="216000" cy="21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667640" y="2349360"/>
                <a:ext cx="304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210200" y="3500280"/>
            <a:ext cx="2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27280" y="3789360"/>
                <a:ext cx="335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30560" y="3789360"/>
                <a:ext cx="336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635280" y="4653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93840" y="3860640"/>
                <a:ext cx="309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90560" y="3789360"/>
                <a:ext cx="333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258920" y="40766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＝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076640"/>
            <a:ext cx="21564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08464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25: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25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5157720"/>
            <a:ext cx="28728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6791E-006 L -0.04722 0.09431 E">
                                      <p:cBhvr>
                                        <p:cTn id="11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511 0.17822 E">
                                      <p:cBhvr>
                                        <p:cTn id="14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3.76791E-006 L -0.31736 0.17822 E">
                                      <p:cBhvr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511 0.17822 E">
                                      <p:cBhvr>
                                        <p:cTn id="15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6791E-006 L -0.52761 0.47179 E">
                                      <p:cBhvr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052640"/>
            <a:ext cx="1295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5400000">
            <a:off x="2050920" y="981000"/>
            <a:ext cx="433440" cy="57636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052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700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下面各比化成最简单的整数比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独立完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349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24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348000" y="2133720"/>
                <a:ext cx="444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95640" y="2205000"/>
                <a:ext cx="444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14836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95640" y="4365720"/>
                <a:ext cx="507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427640" y="4365720"/>
                <a:ext cx="509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87640" y="4292640"/>
                <a:ext cx="55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71640" y="539280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6×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2×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771640" y="5877000"/>
                <a:ext cx="470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3500280"/>
            <a:ext cx="38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6:15=(36÷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÷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4508640"/>
            <a:ext cx="47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：      ＝（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：（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fc0a21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4292640"/>
                <a:ext cx="546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836640"/>
            <a:ext cx="1295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2122200" y="765000"/>
            <a:ext cx="433440" cy="57636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83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比一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836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下面各比，并求出比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19280" y="1628640"/>
          <a:ext cx="6095880" cy="3797280"/>
        </p:xfrm>
        <a:graphic>
          <a:graphicData uri="http://schemas.openxmlformats.org/drawingml/2006/table">
            <a:tbl>
              <a:tblPr/>
              <a:tblGrid>
                <a:gridCol w="2031840"/>
                <a:gridCol w="2744640"/>
                <a:gridCol w="1319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简单的整数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90560" y="292572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411280" y="292572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95640" y="450864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706920" y="2637000"/>
            <a:ext cx="7308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291280" y="2060640"/>
                <a:ext cx="5112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091280" y="213372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0" y="2205000"/>
                <a:ext cx="7207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26000" y="2997360"/>
                <a:ext cx="757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43280" y="4005360"/>
                <a:ext cx="7207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714920" y="4726080"/>
                <a:ext cx="7207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706920" y="3502080"/>
            <a:ext cx="14436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6920" y="4292640"/>
            <a:ext cx="142920" cy="14292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5084640"/>
            <a:ext cx="72720" cy="1447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48690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435640" y="2852640"/>
                <a:ext cx="48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64000" y="3718080"/>
                <a:ext cx="486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06920" y="4581360"/>
                <a:ext cx="511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020000" y="292572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515280" y="270972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3429000"/>
            <a:ext cx="216000" cy="142920"/>
          </a:xfrm>
          <a:prstGeom prst="parallelogram">
            <a:avLst>
              <a:gd name="adj" fmla="val 377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149720"/>
            <a:ext cx="144360" cy="216000"/>
          </a:xfrm>
          <a:custGeom>
            <a:avLst/>
            <a:gdLst>
              <a:gd name="textAreaLeft" fmla="*/ 31680 w 144360"/>
              <a:gd name="textAreaRight" fmla="*/ 112680 w 14436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5280" y="5084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091280" y="3789360"/>
                <a:ext cx="41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091280" y="4581360"/>
                <a:ext cx="463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90560" y="2276640"/>
                <a:ext cx="1440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419640" y="2781360"/>
            <a:ext cx="71280" cy="71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050920" y="3068640"/>
                <a:ext cx="295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419640" y="3502080"/>
            <a:ext cx="71280" cy="142920"/>
          </a:xfrm>
          <a:custGeom>
            <a:avLst/>
            <a:gdLst>
              <a:gd name="textAreaLeft" fmla="*/ 29160 w 71280"/>
              <a:gd name="textAreaRight" fmla="*/ 42120 w 71280"/>
              <a:gd name="textAreaTop" fmla="*/ 58680 h 142920"/>
              <a:gd name="textAreaBottom" fmla="*/ 84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90560" y="3933720"/>
                <a:ext cx="1079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348000" y="43657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63640" y="465300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419640" y="5229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24000" y="1700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516640"/>
            <a:ext cx="5688000" cy="863640"/>
          </a:xfrm>
          <a:prstGeom prst="wedgeRoundRectCallout">
            <a:avLst>
              <a:gd name="adj1" fmla="val 86310"/>
              <a:gd name="adj2" fmla="val 46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请认真观察“最简单的整数比”和比值，你想给同学们提醒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981000"/>
            <a:ext cx="936720" cy="792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12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10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19205"/>
                </a:solidFill>
                <a:latin typeface="Arial"/>
              </a:rPr>
              <a:t>智慧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421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比的前项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后项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果比的前项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要使比值不变，比的后项应加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3456000" cy="2147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32000" y="3933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图中阴影部分的面积与总面积的比是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419640" y="4365720"/>
            <a:ext cx="324144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218 -0.0608 0.18437 -0.12136 0.27326 -0.11835 C 0.36215 -0.11535 0.44774 -0.04878 0.53333 0.0178 E">
                                      <p:cBhvr>
                                        <p:cTn id="350" dur="5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218 -0.0608 0.18437 -0.12136 0.27326 -0.11835 C 0.36215 -0.11535 0.44774 -0.04878 0.53333 0.0178 E">
                                      <p:cBhvr>
                                        <p:cTn id="352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35280" y="148428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华文隶书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-2.72769E-007 C 0.04739 -0.03906 0.07673 0.05363 0.12899 0.05317 C 0.18125 0.05271 0.27968 -0.04253 0.31336 -0.003 C 0.34704 0.03653 0.37899 0.24249 0.33125 0.28988 C 0.2835 0.33727 0.10781 0.28156 0.02673 0.28109 C -0.05435 0.28063 -0.14966 0.33449 -0.15556 0.28711 C -0.16146 0.23972 -0.0474 0.03907 2.77778E-007 -2.72769E-007 Z">
                                      <p:cBhvr>
                                        <p:cTn id="373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7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8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9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0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0:47:44Z</dcterms:created>
  <dc:creator> </dc:creator>
  <dc:description/>
  <dc:language>en-US</dc:language>
  <cp:lastModifiedBy>微软用户</cp:lastModifiedBy>
  <dcterms:modified xsi:type="dcterms:W3CDTF">2008-02-18T02:42:42Z</dcterms:modified>
  <cp:revision>95</cp:revision>
  <dc:subject/>
  <dc:title>幻灯片 1</dc:title>
</cp:coreProperties>
</file>