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hammer.wav" ContentType="audio/x-wav"/>
  <Override PartName="/ppt/media/image7.png" ContentType="image/png"/>
  <Override PartName="/ppt/media/type.wav" ContentType="audio/x-wav"/>
  <Override PartName="/ppt/media/applause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4A9-1A4D-495F-9A27-15B4C427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29D-663B-4BDE-94BE-2AAE6D30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FDA-114E-4A3C-B021-8585B0D0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C91-2070-4D94-A85B-3FBDEE7F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308-538F-4ADB-9842-4D80317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A71-E85F-4690-A270-DC933EB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39E-9958-4804-9A09-738D7132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628-F82F-4375-B332-55FBC39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7AF-BDC6-44E2-8905-1328BCD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325-EA3D-4BA0-8047-2F425A1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A04-4D98-4E9B-B6F8-D81A5BB3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9C7-2D19-462D-B340-6958583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6156-4C68-480B-808B-DFD739CC4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191628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3300"/>
                </a:solidFill>
                <a:latin typeface="Arial"/>
              </a:rPr>
              <a:t>比  的  应  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学数学十一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比例分配应用题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060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已知总数量和和部分量的比，求各部分量是多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35772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比例分配应用题的解题方法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先求总分数， 在求各部分占总量的几分之几，最后        用总量乘各部分占总数的几分之几，求出各部分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8360" y="620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、一种铝铜合金是按铝和铜的重量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合制而成的，现在有这种合金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千克。合金中铝有多少千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19520" y="2492280"/>
            <a:ext cx="49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下列解法哪个对？（              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11360" y="3284640"/>
            <a:ext cx="2381040" cy="1167840"/>
            <a:chOff x="1611360" y="3284640"/>
            <a:chExt cx="2381040" cy="1167840"/>
          </a:xfrm>
        </p:grpSpPr>
        <p:sp>
          <p:nvSpPr>
            <p:cNvPr id="179" name=""/>
            <p:cNvSpPr/>
            <p:nvPr/>
          </p:nvSpPr>
          <p:spPr>
            <a:xfrm>
              <a:off x="1611360" y="3505320"/>
              <a:ext cx="155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ff9900"/>
                  </a:solidFill>
                  <a:latin typeface="Arial"/>
                </a:rPr>
                <a:t>、</a:t>
              </a:r>
              <a:r>
                <a:rPr b="0" lang="zh-CN" sz="2800" spc="-1" strike="noStrike">
                  <a:solidFill>
                    <a:srgbClr val="ff9900"/>
                  </a:solidFill>
                  <a:latin typeface="Arial"/>
                </a:rPr>
                <a:t>100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3276720" y="3284640"/>
                  <a:ext cx="7156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1616400" y="4292640"/>
            <a:ext cx="33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100÷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2+3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19280" y="4724280"/>
            <a:ext cx="2509920" cy="865440"/>
            <a:chOff x="1619280" y="4724280"/>
            <a:chExt cx="2509920" cy="865440"/>
          </a:xfrm>
        </p:grpSpPr>
        <p:sp>
          <p:nvSpPr>
            <p:cNvPr id="183" name=""/>
            <p:cNvSpPr/>
            <p:nvPr/>
          </p:nvSpPr>
          <p:spPr>
            <a:xfrm>
              <a:off x="1619280" y="5013360"/>
              <a:ext cx="203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Arial"/>
                </a:rPr>
                <a:t>C</a:t>
              </a:r>
              <a:r>
                <a:rPr b="0" lang="zh-CN" sz="2800" spc="-1" strike="noStrike">
                  <a:solidFill>
                    <a:srgbClr val="ff9900"/>
                  </a:solidFill>
                  <a:latin typeface="Arial"/>
                </a:rPr>
                <a:t>、</a:t>
              </a:r>
              <a:r>
                <a:rPr b="0" lang="zh-CN" sz="2800" spc="-1" strike="noStrike">
                  <a:solidFill>
                    <a:srgbClr val="ff9900"/>
                  </a:solidFill>
                  <a:latin typeface="Arial"/>
                </a:rPr>
                <a:t>100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348000" y="4724280"/>
                  <a:ext cx="7812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/>
          <p:cNvSpPr/>
          <p:nvPr/>
        </p:nvSpPr>
        <p:spPr>
          <a:xfrm>
            <a:off x="5003640" y="24922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249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126828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一段路，已经修的米数与剩下的米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比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∶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9280" y="0"/>
            <a:ext cx="2160720" cy="1297080"/>
            <a:chOff x="179280" y="0"/>
            <a:chExt cx="2160720" cy="1297080"/>
          </a:xfrm>
        </p:grpSpPr>
        <p:sp>
          <p:nvSpPr>
            <p:cNvPr id="47" name=""/>
            <p:cNvSpPr/>
            <p:nvPr/>
          </p:nvSpPr>
          <p:spPr>
            <a:xfrm>
              <a:off x="179280" y="0"/>
              <a:ext cx="2160720" cy="1297080"/>
            </a:xfrm>
            <a:prstGeom prst="cloudCallout">
              <a:avLst>
                <a:gd name="adj1" fmla="val -43754"/>
                <a:gd name="adj2" fmla="val 66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360" y="43344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热身运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042920" y="2637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把已修的米数看作（     ）份，剩下的就有（     ）份。这段路共有（       ）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37893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经修的是剩下（ 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4437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剩下的是已修的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084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经修的占这段路的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7340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剩下的占这段路的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256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31417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3141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0" y="3645000"/>
                <a:ext cx="431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643280" y="4365720"/>
                <a:ext cx="5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32360" y="5661000"/>
                <a:ext cx="431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292720" y="4869000"/>
                <a:ext cx="503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62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一个农场计划在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公顷的地播种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公顷大豆和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公顷玉米。大豆和玉米的播种面积各占这块地的几分之几？大豆和玉米播种面积的比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39640" y="1844640"/>
            <a:ext cx="2376360" cy="718920"/>
            <a:chOff x="539640" y="1844640"/>
            <a:chExt cx="2376360" cy="718920"/>
          </a:xfrm>
        </p:grpSpPr>
        <p:sp>
          <p:nvSpPr>
            <p:cNvPr id="68" name=""/>
            <p:cNvSpPr/>
            <p:nvPr/>
          </p:nvSpPr>
          <p:spPr>
            <a:xfrm>
              <a:off x="539640" y="1936440"/>
              <a:ext cx="207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0÷100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2519640" y="1844640"/>
                  <a:ext cx="39636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3203640" y="1844640"/>
            <a:ext cx="2376000" cy="720720"/>
            <a:chOff x="3203640" y="1844640"/>
            <a:chExt cx="2376000" cy="720720"/>
          </a:xfrm>
        </p:grpSpPr>
        <p:sp>
          <p:nvSpPr>
            <p:cNvPr id="71" name=""/>
            <p:cNvSpPr/>
            <p:nvPr/>
          </p:nvSpPr>
          <p:spPr>
            <a:xfrm>
              <a:off x="3203640" y="1917360"/>
              <a:ext cx="21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÷100 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183280" y="1844640"/>
                  <a:ext cx="3963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" name=""/>
          <p:cNvSpPr/>
          <p:nvPr/>
        </p:nvSpPr>
        <p:spPr>
          <a:xfrm>
            <a:off x="5796000" y="198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∶40=3 ∶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56536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豆占（      ）份，玉米占（     ）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一共有（     ）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3860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豆占总面积的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435640" y="3716280"/>
            <a:ext cx="1800000" cy="664920"/>
            <a:chOff x="5435640" y="3716280"/>
            <a:chExt cx="1800000" cy="664920"/>
          </a:xfrm>
        </p:grpSpPr>
        <p:sp>
          <p:nvSpPr>
            <p:cNvPr id="79" name=""/>
            <p:cNvSpPr/>
            <p:nvPr/>
          </p:nvSpPr>
          <p:spPr>
            <a:xfrm>
              <a:off x="5435640" y="38606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÷5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6514920" y="3716280"/>
                  <a:ext cx="360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900000" y="4508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玉米占总面积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435640" y="4437000"/>
            <a:ext cx="1368360" cy="720720"/>
            <a:chOff x="5435640" y="4437000"/>
            <a:chExt cx="1368360" cy="720720"/>
          </a:xfrm>
        </p:grpSpPr>
        <p:sp>
          <p:nvSpPr>
            <p:cNvPr id="84" name=""/>
            <p:cNvSpPr/>
            <p:nvPr/>
          </p:nvSpPr>
          <p:spPr>
            <a:xfrm>
              <a:off x="5435640" y="45086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÷5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516720" y="4437000"/>
                  <a:ext cx="2808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" name=""/>
          <p:cNvSpPr/>
          <p:nvPr/>
        </p:nvSpPr>
        <p:spPr>
          <a:xfrm>
            <a:off x="2195640" y="2565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56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3284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924360" y="4437000"/>
                <a:ext cx="420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067280" y="371628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141300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工农业生产和日常生活中，常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需要把一个数量按照一定的比来分配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种分配的方法通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叫做按比例分配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10141200" cy="808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115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一个农场计划在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公顷的地播种大豆和玉米。播种面积的比是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∶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。两种作物各播种多少公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1159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公顷的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62064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播种面积的比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∶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题目要分配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3284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按照什么分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79640" y="5300640"/>
            <a:ext cx="2952720" cy="71640"/>
            <a:chOff x="1979640" y="5300640"/>
            <a:chExt cx="2952720" cy="71640"/>
          </a:xfrm>
        </p:grpSpPr>
        <p:sp>
          <p:nvSpPr>
            <p:cNvPr id="103" name=""/>
            <p:cNvSpPr/>
            <p:nvPr/>
          </p:nvSpPr>
          <p:spPr>
            <a:xfrm>
              <a:off x="1979640" y="5372280"/>
              <a:ext cx="29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79640" y="5300640"/>
              <a:ext cx="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32360" y="5300640"/>
              <a:ext cx="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6000" y="5300640"/>
            <a:ext cx="1800000" cy="71640"/>
            <a:chOff x="2556000" y="5300640"/>
            <a:chExt cx="1800000" cy="71640"/>
          </a:xfrm>
        </p:grpSpPr>
        <p:sp>
          <p:nvSpPr>
            <p:cNvPr id="107" name=""/>
            <p:cNvSpPr/>
            <p:nvPr/>
          </p:nvSpPr>
          <p:spPr>
            <a:xfrm>
              <a:off x="2556000" y="5300640"/>
              <a:ext cx="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3640" y="5300640"/>
              <a:ext cx="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79640" y="5300640"/>
              <a:ext cx="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56000" y="5300640"/>
              <a:ext cx="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79280" y="4437000"/>
            <a:ext cx="2953080" cy="743760"/>
            <a:chOff x="1979280" y="4437000"/>
            <a:chExt cx="2953080" cy="743760"/>
          </a:xfrm>
        </p:grpSpPr>
        <p:sp>
          <p:nvSpPr>
            <p:cNvPr id="112" name=""/>
            <p:cNvSpPr/>
            <p:nvPr/>
          </p:nvSpPr>
          <p:spPr>
            <a:xfrm flipV="1" rot="5390400">
              <a:off x="3373920" y="3618720"/>
              <a:ext cx="163440" cy="2952720"/>
            </a:xfrm>
            <a:custGeom>
              <a:avLst/>
              <a:gdLst>
                <a:gd name="textAreaLeft" fmla="*/ 104400 w 163440"/>
                <a:gd name="textAreaRight" fmla="*/ 163800 w 163440"/>
                <a:gd name="textAreaTop" fmla="*/ 76680 h 2952720"/>
                <a:gd name="textAreaBottom" fmla="*/ 2876040 h 29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443700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公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79640" y="5515200"/>
            <a:ext cx="1798560" cy="739440"/>
            <a:chOff x="1979640" y="5515200"/>
            <a:chExt cx="1798560" cy="739440"/>
          </a:xfrm>
        </p:grpSpPr>
        <p:sp>
          <p:nvSpPr>
            <p:cNvPr id="115" name=""/>
            <p:cNvSpPr/>
            <p:nvPr/>
          </p:nvSpPr>
          <p:spPr>
            <a:xfrm flipV="1" rot="16200600">
              <a:off x="2769840" y="4724280"/>
              <a:ext cx="217800" cy="1798560"/>
            </a:xfrm>
            <a:custGeom>
              <a:avLst/>
              <a:gdLst>
                <a:gd name="textAreaLeft" fmla="*/ 139320 w 217800"/>
                <a:gd name="textAreaRight" fmla="*/ 218160 w 217800"/>
                <a:gd name="textAreaTop" fmla="*/ 126720 h 1798560"/>
                <a:gd name="textAreaBottom" fmla="*/ 1671840 h 17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435"/>
                    <a:pt x="10800" y="4869"/>
                  </a:cubicBezTo>
                  <a:lnTo>
                    <a:pt x="10800" y="5751"/>
                  </a:lnTo>
                  <a:cubicBezTo>
                    <a:pt x="10800" y="8186"/>
                    <a:pt x="5400" y="10620"/>
                    <a:pt x="0" y="10620"/>
                  </a:cubicBezTo>
                  <a:cubicBezTo>
                    <a:pt x="5400" y="10620"/>
                    <a:pt x="10800" y="13055"/>
                    <a:pt x="10800" y="15489"/>
                  </a:cubicBezTo>
                  <a:lnTo>
                    <a:pt x="10800" y="16731"/>
                  </a:lnTo>
                  <a:cubicBezTo>
                    <a:pt x="10800" y="1916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4360" y="573408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大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0920" y="5517000"/>
            <a:ext cx="1152720" cy="737640"/>
            <a:chOff x="3850920" y="5517000"/>
            <a:chExt cx="1152720" cy="737640"/>
          </a:xfrm>
        </p:grpSpPr>
        <p:sp>
          <p:nvSpPr>
            <p:cNvPr id="118" name=""/>
            <p:cNvSpPr/>
            <p:nvPr/>
          </p:nvSpPr>
          <p:spPr>
            <a:xfrm flipV="1" rot="16200600">
              <a:off x="4319280" y="5048280"/>
              <a:ext cx="144360" cy="1081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20"/>
                  </a:lnTo>
                  <a:cubicBezTo>
                    <a:pt x="10800" y="9720"/>
                    <a:pt x="5400" y="10620"/>
                    <a:pt x="0" y="10620"/>
                  </a:cubicBezTo>
                  <a:cubicBezTo>
                    <a:pt x="5400" y="10620"/>
                    <a:pt x="10800" y="11520"/>
                    <a:pt x="10800" y="1242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4360" y="573408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玉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0526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）总面积平均分成的份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83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446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）播种大豆的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51280" y="1557360"/>
            <a:ext cx="4968720" cy="1008000"/>
            <a:chOff x="3851280" y="1557360"/>
            <a:chExt cx="4968720" cy="1008000"/>
          </a:xfrm>
        </p:grpSpPr>
        <p:sp>
          <p:nvSpPr>
            <p:cNvPr id="125" name=""/>
            <p:cNvSpPr/>
            <p:nvPr/>
          </p:nvSpPr>
          <p:spPr>
            <a:xfrm>
              <a:off x="3851280" y="1773360"/>
              <a:ext cx="49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  =60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公顷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219640" y="1557360"/>
                  <a:ext cx="35712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"/>
          <p:cNvSpPr/>
          <p:nvPr/>
        </p:nvSpPr>
        <p:spPr>
          <a:xfrm>
            <a:off x="0" y="2637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）播种玉米的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851280" y="2565360"/>
            <a:ext cx="5105520" cy="936720"/>
            <a:chOff x="3851280" y="2565360"/>
            <a:chExt cx="5105520" cy="936720"/>
          </a:xfrm>
        </p:grpSpPr>
        <p:sp>
          <p:nvSpPr>
            <p:cNvPr id="129" name=""/>
            <p:cNvSpPr/>
            <p:nvPr/>
          </p:nvSpPr>
          <p:spPr>
            <a:xfrm>
              <a:off x="3851280" y="270828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  =40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公顷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148360" y="2565360"/>
                  <a:ext cx="36180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1403280" y="3645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播种大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顷，玉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8240" y="4889520"/>
            <a:ext cx="52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=5     100÷5 =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公顷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5445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=6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公顷）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=4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7524720" y="6237360"/>
            <a:ext cx="216000" cy="2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23880" y="45720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检验：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175248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60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40=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17524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32767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60+4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3120" y="32767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380360" y="580536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10868"/>
                </a:moveTo>
                <a:lnTo>
                  <a:pt x="17806" y="3861"/>
                </a:lnTo>
                <a:lnTo>
                  <a:pt x="17806" y="1787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0"/>
            <a:ext cx="802800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六一班和六二班订《少年科学》的人数比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两个班共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。两个班各订了多少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0880" y="2349360"/>
            <a:ext cx="17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4=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35280" y="3068640"/>
            <a:ext cx="4952880" cy="1008000"/>
            <a:chOff x="1835280" y="3068640"/>
            <a:chExt cx="4952880" cy="1008000"/>
          </a:xfrm>
        </p:grpSpPr>
        <p:sp>
          <p:nvSpPr>
            <p:cNvPr id="146" name=""/>
            <p:cNvSpPr/>
            <p:nvPr/>
          </p:nvSpPr>
          <p:spPr>
            <a:xfrm>
              <a:off x="1835280" y="3174840"/>
              <a:ext cx="4952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49×    =21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192480" y="3068640"/>
                  <a:ext cx="4312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" name=""/>
          <p:cNvGrpSpPr/>
          <p:nvPr/>
        </p:nvGrpSpPr>
        <p:grpSpPr>
          <a:xfrm>
            <a:off x="2222640" y="4076640"/>
            <a:ext cx="3682800" cy="863640"/>
            <a:chOff x="2222640" y="4076640"/>
            <a:chExt cx="3682800" cy="863640"/>
          </a:xfrm>
        </p:grpSpPr>
        <p:sp>
          <p:nvSpPr>
            <p:cNvPr id="149" name=""/>
            <p:cNvSpPr/>
            <p:nvPr/>
          </p:nvSpPr>
          <p:spPr>
            <a:xfrm>
              <a:off x="2222640" y="4147920"/>
              <a:ext cx="3682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49×   =28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058920" y="4076640"/>
                  <a:ext cx="3348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1" name=""/>
          <p:cNvSpPr/>
          <p:nvPr/>
        </p:nvSpPr>
        <p:spPr>
          <a:xfrm>
            <a:off x="1116000" y="4941720"/>
            <a:ext cx="86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六一班和六二班各应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544500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3+4=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4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÷7=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份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1280" y="596916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7 ×3=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份）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7 ×4=2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学校把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棵树的任务，按照六年级三个班的人数，分配给各班。一班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二班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三班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。三个班各应栽树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90792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11280" y="907920"/>
            <a:ext cx="7848360" cy="505080"/>
            <a:chOff x="611280" y="907920"/>
            <a:chExt cx="7848360" cy="505080"/>
          </a:xfrm>
        </p:grpSpPr>
        <p:sp>
          <p:nvSpPr>
            <p:cNvPr id="158" name=""/>
            <p:cNvSpPr/>
            <p:nvPr/>
          </p:nvSpPr>
          <p:spPr>
            <a:xfrm>
              <a:off x="7380360" y="907920"/>
              <a:ext cx="107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1413000"/>
              <a:ext cx="2665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39640" y="2565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三个班的总人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7+45+48=1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8360" y="3213000"/>
            <a:ext cx="8534520" cy="714240"/>
            <a:chOff x="468360" y="3213000"/>
            <a:chExt cx="8534520" cy="71424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151600" y="3213000"/>
                  <a:ext cx="4604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468360" y="328464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一班应栽的棵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280×       =94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棵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276560" y="4005360"/>
            <a:ext cx="5949720" cy="720720"/>
            <a:chOff x="1276560" y="4005360"/>
            <a:chExt cx="5949720" cy="720720"/>
          </a:xfrm>
        </p:grpSpPr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5219640" y="4005360"/>
                  <a:ext cx="40968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"/>
            <p:cNvSpPr/>
            <p:nvPr/>
          </p:nvSpPr>
          <p:spPr>
            <a:xfrm>
              <a:off x="1276560" y="4005360"/>
              <a:ext cx="594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二班应栽的棵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280×     =9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棵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55640" y="4653000"/>
            <a:ext cx="8077320" cy="863640"/>
            <a:chOff x="755640" y="4653000"/>
            <a:chExt cx="8077320" cy="863640"/>
          </a:xfrm>
        </p:grpSpPr>
        <p:sp>
          <p:nvSpPr>
            <p:cNvPr id="168" name=""/>
            <p:cNvSpPr/>
            <p:nvPr/>
          </p:nvSpPr>
          <p:spPr>
            <a:xfrm>
              <a:off x="755640" y="4653000"/>
              <a:ext cx="8077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(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三班应栽的棵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280×     =9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棵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219640" y="4795920"/>
                  <a:ext cx="5112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0" name=""/>
          <p:cNvSpPr/>
          <p:nvPr/>
        </p:nvSpPr>
        <p:spPr>
          <a:xfrm>
            <a:off x="395280" y="5661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一班栽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棵，二班栽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棵，三班栽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3:28:26Z</dcterms:created>
  <dc:creator> </dc:creator>
  <dc:description/>
  <dc:language>en-US</dc:language>
  <cp:lastModifiedBy>番茄花园</cp:lastModifiedBy>
  <dcterms:modified xsi:type="dcterms:W3CDTF">2006-10-24T23:35:24Z</dcterms:modified>
  <cp:revision>8</cp:revision>
  <dc:subject/>
  <dc:title>幻灯片 1</dc:title>
</cp:coreProperties>
</file>