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type.wav" ContentType="audio/x-wav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571-BAFD-4FA8-9961-8D56FE71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C31-D43D-4EC4-A32C-EAAEB08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11E-943A-48E1-AFA7-3B605715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0B8-0214-40B5-9800-3D8BFF4E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CCB-5F96-4FF4-90FC-CD3BA22E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5FE-ADFF-44BE-BBFE-51D9D70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DC1-8644-4890-93C4-5E88822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A9B-2F87-4959-9754-94389FBF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43A-D5F2-4278-8D2B-1A4C045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C6D-8D76-4BBA-92A4-D035DD8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102-E4DE-4870-8511-491F73E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424-8899-4DC5-9B09-79A5EA2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5057-DA9A-4573-9241-BF47ED3CE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8580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中的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地球上的淡水含量与地球上水总量的比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安利洗涤剂与水的正常比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我们喝的鲜橙多中橙汁与水的比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妈妈做米饭时米与水的比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一种咖啡奶，咖啡和奶的比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051200" cy="10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3880" y="533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14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一种什锦糖是由奶糖、水果糖、和酥糖按照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混合成的。要配制这样的什锦糖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79640" y="2781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份数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+5+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50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奶糖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200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果糖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862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2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876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酥糖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72428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5029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5715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答：需要奶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水果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酥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212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用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8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厘米长的铁丝围成一个三角形，三条边的长度比是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。三角形的三条边各长多少厘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276720"/>
            <a:ext cx="1371600" cy="2743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88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84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+4+5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3657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76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67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0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30080" y="5410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48006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864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388620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=21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=2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=35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594360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867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答：三条边分别长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,28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, 35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09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95280" y="1600200"/>
            <a:ext cx="685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贺你们闯关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华文彩云"/>
              </a:rPr>
              <a:t>你们永远是最棒的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380880"/>
            <a:ext cx="8458200" cy="13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再攀高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乙两个数的比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:6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数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乙数是多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5053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爸爸和王叔叔合作出资做生意，爸爸出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王叔叔出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一年后共盈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爸爸和王叔叔各分得多少钱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1066680"/>
            <a:ext cx="82296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活学活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白兔和灰兔只数的比是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，白兔占两种兔总只数的（    ），灰兔占两种兔总只数的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六三班男生和女生的比是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2: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男生占全班人数的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(      )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女生占全班人数的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4525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476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22212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914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、肯德基的老板听说这种新出的咖啡奶口感好，受欢迎，决定引进这种咖啡奶，他想请同学帮忙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1752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一杯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毫升的咖啡奶，咖啡和奶的比为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。需要咖啡和奶各多少毫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0481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想：咖啡和奶的比是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：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，就是说，在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330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毫升的咖啡奶中，咖啡占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奶占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一共是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。也就是说，咖啡占咖啡奶的     ，奶占咖啡奶的    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41972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奶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502920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962520"/>
            <a:ext cx="3045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25780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6483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7524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工农业生产和生活中，常常需要把一个数量按照一定的比来进行分配。这种分配方法通常叫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按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比例分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7621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比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914400"/>
            <a:ext cx="7994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6000" y="2565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个班的总人数：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47+45+48=14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33577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一班应栽的棵数：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3141720"/>
            <a:ext cx="6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3716280"/>
            <a:ext cx="505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二班应栽的棵树：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4005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4437000"/>
            <a:ext cx="648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=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9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班应栽的棵数：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797360"/>
            <a:ext cx="6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5229360"/>
            <a:ext cx="5047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501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=96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7340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答：一班、二班、三班各应栽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96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430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结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057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方法与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895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根据比先求出总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求出各部分数占总数的几分之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运用分数乘法列式计算，求出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答题并检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0" y="83808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一个农场计划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公顷的地里播种大豆和玉米。播种面积的比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两种作物各播种多少公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2096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种什锦糖是由奶糖、水果糖、和酥糖按照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混合成的。要配制这样的什锦糖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9625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厘米长的铁丝围成一个三角形，三条边的长度比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三角形的三条边各长多少厘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、一个农场计划在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公顷的地里播种大豆和玉米。播种面积的比是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。两种作物各播种多少公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997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总面积平均分成的份数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+2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371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大豆的面积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3357720"/>
            <a:ext cx="5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37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458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玉米的面积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4365720"/>
            <a:ext cx="7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551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：播种大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，播种玉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01:16:52Z</dcterms:created>
  <dc:creator> </dc:creator>
  <dc:description/>
  <dc:language>en-US</dc:language>
  <cp:lastModifiedBy>微软用户</cp:lastModifiedBy>
  <dcterms:modified xsi:type="dcterms:W3CDTF">2008-02-18T02:43:19Z</dcterms:modified>
  <cp:revision>78</cp:revision>
  <dc:subject/>
  <dc:title>PowerPoint 演示文稿</dc:title>
</cp:coreProperties>
</file>