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2.png" ContentType="image/png"/>
  <Override PartName="/ppt/media/image4.png" ContentType="image/png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3.jpeg" ContentType="image/jpeg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6AE-006D-4B7C-AD36-D3389810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2AC-8381-41FD-A8CE-2D8AE5FF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6FF-0DFB-419B-90D8-EAC4BE9E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922-8680-4813-B9C7-D3B0C30D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3A5A-57B4-4CF9-B368-9AA04DD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621A-41AF-4435-8A6F-AEF7914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4264-6FAE-4906-B980-5E84D67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7CE6-81AA-407E-85A9-E04FC962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8DDA-C43F-46BD-A854-2E3DDA83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EFAB-9195-43A9-BA21-784B223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2B39-62EB-44EF-BFC2-E291DEF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0BB-8DF3-43DC-81D2-AC62EADD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B9C3-C38F-47DD-90BF-B1BCE90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DFCD-113E-4CC2-974D-215AC0AF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3EDE-CCC6-4DF5-B5FE-FE8E065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6AD3-B7F6-49D4-8248-9C0E5C45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256-2236-4305-A913-09361F83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238-124C-44BF-B673-91D991FC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B3F-7BC9-46F7-8112-23D0B8AF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6F7-0F05-4215-972C-604A283B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F18-B3DF-4C12-A172-432E1459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D84-7AA4-47D2-99AA-DAF79E8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13B-56A3-465C-A000-F5FC4A94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884-4F66-4BEB-8046-F3ED052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905040" cy="6858000"/>
              <a:chOff x="0" y="0"/>
              <a:chExt cx="990504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905040" cy="6400800"/>
                <a:chOff x="0" y="304920"/>
                <a:chExt cx="990504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30120" y="0"/>
                <a:ext cx="9244440" cy="6858000"/>
                <a:chOff x="330120" y="0"/>
                <a:chExt cx="924444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90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320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650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31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971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301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63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29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95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612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6273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933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593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254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914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574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632040" y="0"/>
              <a:ext cx="62737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7564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48200" y="1415880"/>
              <a:ext cx="1932840" cy="2324160"/>
              <a:chOff x="448200" y="1415880"/>
              <a:chExt cx="193284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48200" y="1513440"/>
                <a:ext cx="193284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4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54400" y="1415880"/>
                <a:ext cx="2088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2372-45B9-4FA3-BF9C-E4BA54C47E4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631680" y="0"/>
                <a:ext cx="62737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2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50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11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71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0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31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92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12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7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933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93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254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91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57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95752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7208640" cy="2851200"/>
              <a:chOff x="4680" y="887400"/>
              <a:chExt cx="72086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697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52204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59520" y="1488600"/>
                <a:ext cx="65538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740520" y="13568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544840" y="3098880"/>
              <a:ext cx="6548760" cy="2876400"/>
              <a:chOff x="2544840" y="3098880"/>
              <a:chExt cx="654876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544840" y="5464080"/>
                <a:ext cx="6548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89416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774640" y="53024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2800" y="1752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4AD5-A1DC-4BEC-AC8B-E43904AF798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" Target="slide2.xml"/><Relationship Id="rId7" Type="http://schemas.openxmlformats.org/officeDocument/2006/relationships/image" Target="../media/image7.gif"/><Relationship Id="rId8" Type="http://schemas.openxmlformats.org/officeDocument/2006/relationships/slide" Target="slide4.xml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gif"/><Relationship Id="rId3" Type="http://schemas.openxmlformats.org/officeDocument/2006/relationships/slide" Target="slide10.xm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906120" cy="9144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289240" y="765000"/>
            <a:ext cx="4897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比的应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368520" y="4869000"/>
            <a:ext cx="1176480" cy="907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961240" y="4797360"/>
            <a:ext cx="1238040" cy="887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20880" y="3357720"/>
            <a:ext cx="1155600" cy="892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639800" y="4581360"/>
            <a:ext cx="1238400" cy="750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>
            <a:off x="4376880" y="3716280"/>
            <a:ext cx="1320480" cy="1019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7257960" y="4005360"/>
            <a:ext cx="1238400" cy="682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21824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28760" y="5181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悬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95480" y="57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9876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84240" y="54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>
            <a:hlinkClick r:id="rId12" action="ppaction://hlinksldjump"/>
          </p:cNvPr>
          <p:cNvSpPr/>
          <p:nvPr/>
        </p:nvSpPr>
        <p:spPr>
          <a:xfrm>
            <a:off x="77526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85280" y="5867280"/>
            <a:ext cx="768240" cy="579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31800" y="765000"/>
            <a:ext cx="8832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1303"/>
                </a:solidFill>
                <a:latin typeface="Tahoma"/>
                <a:ea typeface="楷体_GB2312"/>
              </a:rPr>
              <a:t>②</a:t>
            </a:r>
            <a:r>
              <a:rPr b="0" lang="zh-CN" sz="4000" spc="-1" strike="noStrike">
                <a:solidFill>
                  <a:srgbClr val="651303"/>
                </a:solidFill>
                <a:latin typeface="Tahoma"/>
                <a:ea typeface="楷体_GB2312"/>
              </a:rPr>
              <a:t>只列式不计算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一种什锦糖是由奶糖、水果糖和酥糖按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3:5:2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混合成的，要配制这样的什锦糖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500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千克需要奶糖、水果糖和酥糖各多少千克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60520" y="765000"/>
            <a:ext cx="8915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③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列式解答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一个三角形三条边的长度比是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。这个三角形的三条边长度的总和是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36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厘米，三条边的长度分别是多少厘米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85280" y="5867280"/>
            <a:ext cx="7682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585280" y="5867280"/>
            <a:ext cx="768240" cy="579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49240" y="28526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身体中的”按比分配”， </a:t>
            </a:r>
            <a:r>
              <a:rPr b="0" lang="zh-CN" sz="4000" spc="-1" strike="noStrike">
                <a:solidFill>
                  <a:srgbClr val="3333ff"/>
                </a:solidFill>
                <a:latin typeface="Tahoma"/>
              </a:rPr>
              <a:t>12</a:t>
            </a: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岁的儿童头部与头以下的高度的比一般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是</a:t>
            </a:r>
            <a:r>
              <a:rPr b="0" lang="zh-CN" sz="36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Tahoma"/>
                <a:ea typeface="Tahoma"/>
              </a:rPr>
              <a:t>:</a:t>
            </a:r>
            <a:r>
              <a:rPr b="0" lang="zh-CN" sz="3600" spc="-1" strike="noStrike">
                <a:solidFill>
                  <a:srgbClr val="3333ff"/>
                </a:solidFill>
                <a:latin typeface="Tahoma"/>
              </a:rPr>
              <a:t>13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20880" y="177336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看到下面的信息你会想到什么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11320" y="620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ahoma"/>
                <a:ea typeface="隶书"/>
              </a:rPr>
              <a:t>实践应用：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85280" y="5867280"/>
            <a:ext cx="768240" cy="579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92160" y="198900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通过学习你的收获有哪些？你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还有什么问题吗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0520" y="62064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总结：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585280" y="5867280"/>
            <a:ext cx="768240" cy="579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76160" y="1700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1a1c38"/>
                </a:solidFill>
                <a:latin typeface="Tahoma"/>
              </a:rPr>
              <a:t>１、</a:t>
            </a:r>
            <a:r>
              <a:rPr b="1" lang="zh-CN" sz="3600" spc="-1" strike="noStrike">
                <a:solidFill>
                  <a:srgbClr val="1a1c38"/>
                </a:solidFill>
                <a:latin typeface="Tahoma"/>
              </a:rPr>
              <a:t>必做题：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第</a:t>
            </a:r>
            <a:r>
              <a:rPr b="1" lang="zh-CN" sz="2800" spc="-1" strike="noStrike">
                <a:solidFill>
                  <a:srgbClr val="1a1c38"/>
                </a:solidFill>
                <a:latin typeface="Tahoma"/>
              </a:rPr>
              <a:t>66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页：第 </a:t>
            </a:r>
            <a:r>
              <a:rPr b="0" lang="zh-CN" sz="3200" spc="-1" strike="noStrike">
                <a:solidFill>
                  <a:srgbClr val="1a1c38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至 </a:t>
            </a:r>
            <a:r>
              <a:rPr b="0" lang="zh-CN" sz="3200" spc="-1" strike="noStrike">
                <a:solidFill>
                  <a:srgbClr val="1a1c38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题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0520" y="549360"/>
            <a:ext cx="51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作业</a:t>
            </a: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：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14400" y="2774880"/>
            <a:ext cx="6285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a1c38"/>
                </a:solidFill>
                <a:latin typeface="Tahoma"/>
              </a:rPr>
              <a:t>２</a:t>
            </a:r>
            <a:r>
              <a:rPr b="1" lang="zh-CN" sz="2400" spc="-1" strike="noStrike">
                <a:solidFill>
                  <a:srgbClr val="1a1c38"/>
                </a:solidFill>
                <a:latin typeface="Tahoma"/>
              </a:rPr>
              <a:t>、　</a:t>
            </a:r>
            <a:r>
              <a:rPr b="1" lang="zh-CN" sz="3600" spc="-1" strike="noStrike">
                <a:solidFill>
                  <a:srgbClr val="1a1c38"/>
                </a:solidFill>
                <a:latin typeface="Tahoma"/>
              </a:rPr>
              <a:t>选做题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　　  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日是植树节，学校把种植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20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棵树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　　任务分配给六年级三个班，六一班人数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5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人，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　　六二班人数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39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人，六三班人数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47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人。平均分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　　配还合理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　　    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请你用今天学习的知识试着解决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7600" y="5715000"/>
            <a:ext cx="1008000" cy="760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15800" y="476280"/>
            <a:ext cx="24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</a:rPr>
              <a:t>思考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800" y="1413000"/>
            <a:ext cx="9074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月 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日是植树节，学校把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种植</a:t>
            </a:r>
            <a:r>
              <a:rPr b="0" lang="zh-CN" sz="4400" spc="-1" strike="noStrike">
                <a:solidFill>
                  <a:srgbClr val="40458c"/>
                </a:solidFill>
                <a:latin typeface="Tahoma"/>
              </a:rPr>
              <a:t>120</a:t>
            </a: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棵树的任务分配给六年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级人数相等的三个班，怎样分配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才合理？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432160" y="333360"/>
            <a:ext cx="1382760" cy="91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702960" y="4221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平均分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337600" y="5715000"/>
            <a:ext cx="768240" cy="579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60520" y="549360"/>
            <a:ext cx="24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</a:rPr>
              <a:t>思考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4880" y="62064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(2 ) 3 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月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日是植树节，学校把种植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120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棵树的任务分配给六年级三个班，六一班人数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3 5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人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六二班人数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3 9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人，六三班人数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46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人。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平均分配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还合理吗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889360" y="685800"/>
            <a:ext cx="1382760" cy="917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08160" y="465300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按比分配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7600" y="5715000"/>
            <a:ext cx="1008000" cy="760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24160" y="1484280"/>
            <a:ext cx="7859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如果有两杯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克的糖水，第一杯是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糖和水是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来调配的，第二杯是按糖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和水是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来调配的，第一杯和第二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糖水各需几克糖？想喝比较甜的糖水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楷体_GB2312"/>
              </a:rPr>
              <a:t>应选择哪一种配制方案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 rot="5111400">
            <a:off x="-846360" y="4122720"/>
            <a:ext cx="3605400" cy="109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40458c"/>
                  </a:solidFill>
                  <a:miter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黑体"/>
              </a:rPr>
              <a:t>都来想一想：</a:t>
            </a:r>
            <a:endParaRPr b="1" lang="en-US" sz="4000" spc="1" strike="noStrike">
              <a:ln w="9360">
                <a:solidFill>
                  <a:srgbClr val="40458c"/>
                </a:solidFill>
                <a:miter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936880" y="4797360"/>
            <a:ext cx="3600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比的应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76160" y="476280"/>
            <a:ext cx="766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5960" y="5537160"/>
            <a:ext cx="1640160" cy="1236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04880" y="836640"/>
            <a:ext cx="8231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小红要调配</a:t>
            </a:r>
            <a:r>
              <a:rPr b="0" lang="zh-CN" sz="3200" spc="-1" strike="noStrike">
                <a:solidFill>
                  <a:srgbClr val="1a1c38"/>
                </a:solidFill>
                <a:latin typeface="Tahoma"/>
              </a:rPr>
              <a:t>200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克糖水，糖和开水的比是</a:t>
            </a:r>
            <a:r>
              <a:rPr b="0" lang="zh-CN" sz="3200" spc="-1" strike="noStrike">
                <a:solidFill>
                  <a:srgbClr val="1a1c38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1a1c38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，需用糖和开水各多少千克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1800" y="3429000"/>
            <a:ext cx="7807320" cy="2826000"/>
            <a:chOff x="631800" y="3429000"/>
            <a:chExt cx="7807320" cy="2826000"/>
          </a:xfrm>
        </p:grpSpPr>
        <p:sp>
          <p:nvSpPr>
            <p:cNvPr id="239" name=""/>
            <p:cNvSpPr/>
            <p:nvPr/>
          </p:nvSpPr>
          <p:spPr>
            <a:xfrm>
              <a:off x="631800" y="3429000"/>
              <a:ext cx="255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58c"/>
                  </a:solidFill>
                  <a:latin typeface="Tahoma"/>
                </a:rPr>
                <a:t>思考讨论：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84520" y="4437000"/>
              <a:ext cx="6654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zh-CN" sz="2800" spc="-1" strike="noStrike">
                  <a:solidFill>
                    <a:srgbClr val="40458c"/>
                  </a:solidFill>
                  <a:latin typeface="Tahoma"/>
                </a:rPr>
                <a:t>、</a:t>
              </a:r>
              <a:r>
                <a:rPr b="1" lang="zh-CN" sz="2800" spc="-1" strike="noStrike">
                  <a:solidFill>
                    <a:srgbClr val="40458c"/>
                  </a:solidFill>
                  <a:latin typeface="Tahoma"/>
                </a:rPr>
                <a:t>要分配的是什么？按照什么分配？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r>
                <a:rPr b="1" lang="zh-CN" sz="2800" spc="-1" strike="noStrike">
                  <a:solidFill>
                    <a:srgbClr val="40458c"/>
                  </a:solidFill>
                  <a:latin typeface="Tahoma"/>
                </a:rPr>
                <a:t>、把总重量平均分成几份？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r>
                <a:rPr b="1" lang="zh-CN" sz="2800" spc="-1" strike="noStrike">
                  <a:solidFill>
                    <a:srgbClr val="40458c"/>
                  </a:solidFill>
                  <a:latin typeface="Tahoma"/>
                </a:rPr>
                <a:t>、糖和开水各占总重量的几分之几？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076720" y="2924280"/>
            <a:ext cx="7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97240" y="2708280"/>
            <a:ext cx="2606760" cy="1584360"/>
            <a:chOff x="3297240" y="2708280"/>
            <a:chExt cx="2606760" cy="1584360"/>
          </a:xfrm>
        </p:grpSpPr>
        <p:sp>
          <p:nvSpPr>
            <p:cNvPr id="243" name=""/>
            <p:cNvSpPr/>
            <p:nvPr/>
          </p:nvSpPr>
          <p:spPr>
            <a:xfrm>
              <a:off x="3944880" y="3357720"/>
              <a:ext cx="662040" cy="93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4320" y="3354480"/>
              <a:ext cx="661680" cy="93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ahoma"/>
                </a:rPr>
                <a:t>水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97240" y="3355920"/>
              <a:ext cx="662040" cy="935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ahoma"/>
                </a:rPr>
                <a:t>糖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01760" y="27082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200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41960" y="3354480"/>
              <a:ext cx="662040" cy="93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40880" y="5950080"/>
            <a:ext cx="768240" cy="579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60520" y="836640"/>
            <a:ext cx="8640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仿宋_GB2312"/>
              </a:rPr>
              <a:t>例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仿宋_GB2312"/>
              </a:rPr>
              <a:t>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学校把栽</a:t>
            </a:r>
            <a:r>
              <a:rPr b="0" lang="zh-CN" sz="3200" spc="-1" strike="noStrike">
                <a:solidFill>
                  <a:srgbClr val="1a1c38"/>
                </a:solidFill>
                <a:latin typeface="Tahoma"/>
              </a:rPr>
              <a:t>120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棵树的任务，根据六年级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个班的人数，按</a:t>
            </a:r>
            <a:r>
              <a:rPr b="0" lang="zh-CN" sz="3200" spc="-1" strike="noStrike">
                <a:solidFill>
                  <a:srgbClr val="1a1c38"/>
                </a:solidFill>
                <a:latin typeface="Tahoma"/>
              </a:rPr>
              <a:t>3:2:5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的分配方式分给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1a1c38"/>
                </a:solidFill>
                <a:latin typeface="Tahoma"/>
              </a:rPr>
              <a:t>个班 。三个班各应栽树多少棵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9240" y="3500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总份数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3+2+5=1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52520" y="4005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一班栽树的棵数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20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Tahoma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3/10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=36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（棵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2520" y="4581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二班栽树的棵数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20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Tahoma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1/5  =24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（棵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24160" y="515772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三班栽树的棵数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20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Tahoma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Tahoma"/>
              </a:rPr>
              <a:t>1/2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=60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（棵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2520" y="5805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答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:(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略</a:t>
            </a: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193240" y="5605560"/>
            <a:ext cx="1296720" cy="977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76160" y="1844640"/>
            <a:ext cx="83534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3333ff"/>
                </a:solidFill>
                <a:latin typeface="Tahoma"/>
                <a:ea typeface="隶书"/>
              </a:rPr>
              <a:t>在日常生活及工农业生产中，常常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把一个数量按照一定的比进行分配</a:t>
            </a:r>
            <a:r>
              <a:rPr b="1" lang="zh-CN" sz="4800" spc="-1" strike="noStrike">
                <a:solidFill>
                  <a:srgbClr val="3333ff"/>
                </a:solidFill>
                <a:latin typeface="Tahoma"/>
                <a:ea typeface="隶书"/>
              </a:rPr>
              <a:t>，这种分配的方法叫做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隶书"/>
              </a:rPr>
              <a:t>按比分配</a:t>
            </a:r>
            <a:r>
              <a:rPr b="1" lang="zh-CN" sz="4000" spc="-1" strike="noStrike">
                <a:solidFill>
                  <a:srgbClr val="3333ff"/>
                </a:solidFill>
                <a:latin typeface="Tahoma"/>
                <a:ea typeface="隶书"/>
              </a:rPr>
              <a:t>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549360"/>
            <a:ext cx="208764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比的应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7600" y="571500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15800" y="476280"/>
            <a:ext cx="2881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黑体"/>
              </a:rPr>
              <a:t>解题规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260" name=""/>
          <p:cNvSpPr/>
          <p:nvPr/>
        </p:nvSpPr>
        <p:spPr>
          <a:xfrm>
            <a:off x="631800" y="1628640"/>
            <a:ext cx="8929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a1c38"/>
                </a:solidFill>
                <a:latin typeface="Tahoma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1a1c38"/>
                </a:solidFill>
                <a:latin typeface="Tahoma"/>
                <a:ea typeface="楷体_GB2312"/>
              </a:rPr>
              <a:t>、根据所给的比算出总份数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a1c38"/>
                </a:solidFill>
                <a:latin typeface="Tahoma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1a1c38"/>
                </a:solidFill>
                <a:latin typeface="Tahoma"/>
                <a:ea typeface="楷体_GB2312"/>
              </a:rPr>
              <a:t>、分析各部分数量各占总份数的几分  之几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a1c38"/>
                </a:solidFill>
                <a:latin typeface="Tahoma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1a1c38"/>
                </a:solidFill>
                <a:latin typeface="Tahoma"/>
                <a:ea typeface="楷体_GB2312"/>
              </a:rPr>
              <a:t>、按”求一个数的几分之几的分数应用题”方法来解题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7600" y="5715000"/>
            <a:ext cx="768240" cy="579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351160" y="65412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练习提高：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口答各步计算表示什么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4880" y="1628640"/>
            <a:ext cx="8832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六一班和六二班订《少年科学》的人数比是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，两个班共订了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49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份，两个班各订了多少份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     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3+4=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49×3/7=21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（份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49×4/7=28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楷体_GB2312"/>
              </a:rPr>
              <a:t>（份）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38880" y="530064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六一班订了两班总份数的几分之几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六二班订了两班总份数的几分之几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2960" y="4419720"/>
            <a:ext cx="5572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2:13:04Z</dcterms:created>
  <dc:creator> </dc:creator>
  <dc:description/>
  <dc:language>en-US</dc:language>
  <cp:lastModifiedBy>微软用户</cp:lastModifiedBy>
  <dcterms:modified xsi:type="dcterms:W3CDTF">2008-02-18T02:44:10Z</dcterms:modified>
  <cp:revision>17</cp:revision>
  <dc:subject/>
  <dc:title>PowerPoint 演示文稿</dc:title>
</cp:coreProperties>
</file>