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chimes.wav" ContentType="audio/x-wav"/>
  <Override PartName="/ppt/media/cashreg.wav" ContentType="audio/x-wav"/>
  <Override PartName="/ppt/media/camera.wav" ContentType="audio/x-wav"/>
  <Override PartName="/ppt/media/image4.png" ContentType="image/png"/>
  <Override PartName="/ppt/media/image5.png" ContentType="image/pn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108-CEEC-4974-8C0A-3F718CD0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40BA-F8C4-4D38-A18D-7A23537E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27B-FE3C-4E7E-8AC0-EA0F593A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617-2CA4-4BF2-972E-81E93644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32D-414F-46B7-BBE8-0ADBCF00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3A3-1AAF-4FE1-BFBB-F18FBE1D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A72-A74B-4BCA-97AA-E8B74609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345-9E96-40B8-97FA-F47CBD4B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2075-8CF5-4832-BA5D-3ED48613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FBA-BF5B-45B7-ADCB-D46A712E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C4DF-9A8D-4719-83F2-D416DD56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E12-E086-405A-9C66-88D12680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F98F-CF96-4930-A693-6AA2B1D562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cashreg.wav" TargetMode="External"/><Relationship Id="rId3" Type="http://schemas.microsoft.com/office/2007/relationships/media" Target="file:///tmp/home/.config/libreoffice/4/user/gallery/cashreg.wav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3880" y="1557360"/>
            <a:ext cx="8520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0000"/>
                </a:solidFill>
                <a:latin typeface="Times New Roman"/>
                <a:ea typeface="隶书"/>
              </a:rPr>
              <a:t>比的意义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6040" y="1469880"/>
            <a:ext cx="6320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除法中的除数和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数中的分母不能为“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那么比的后项呢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56480" y="4832280"/>
            <a:ext cx="63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</a:rPr>
              <a:t>比的后项也不能为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476280"/>
            <a:ext cx="29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ff"/>
                </a:solidFill>
                <a:latin typeface="Times New Roman"/>
              </a:rPr>
              <a:t>议一议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32004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果甲数是乙数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倍，可以说成（　　）与（　　）的比是（　　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0"/>
            <a:ext cx="2133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练习题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600200" y="1447920"/>
            <a:ext cx="6781680" cy="1068120"/>
            <a:chOff x="1600200" y="1447920"/>
            <a:chExt cx="6781680" cy="1068120"/>
          </a:xfrm>
        </p:grpSpPr>
        <p:sp>
          <p:nvSpPr>
            <p:cNvPr id="176" name=""/>
            <p:cNvSpPr/>
            <p:nvPr/>
          </p:nvSpPr>
          <p:spPr>
            <a:xfrm>
              <a:off x="1600200" y="1600200"/>
              <a:ext cx="678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写一个比值为　的比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6019560" y="1447920"/>
              <a:ext cx="533160" cy="1068120"/>
              <a:chOff x="6019560" y="1447920"/>
              <a:chExt cx="533160" cy="1068120"/>
            </a:xfrm>
          </p:grpSpPr>
          <p:sp>
            <p:nvSpPr>
              <p:cNvPr id="178" name=""/>
              <p:cNvSpPr/>
              <p:nvPr/>
            </p:nvSpPr>
            <p:spPr>
              <a:xfrm>
                <a:off x="6095520" y="1447920"/>
                <a:ext cx="45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95520" y="1873440"/>
                <a:ext cx="45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19560" y="1981440"/>
                <a:ext cx="533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0"/>
            <a:ext cx="2133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讨论题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295280"/>
            <a:ext cx="678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强的身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米，他爸爸的身高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7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厘米，小强说他和他爸爸的身高比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︰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7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对不对？如果不对，你认为是多少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43434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7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51055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.7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59436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7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00000" y="2205000"/>
            <a:ext cx="7162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在雅典奥运会网球女子双打决赛中，中国选手李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孙甜甜以</a:t>
            </a:r>
            <a:r>
              <a:rPr b="1" lang="zh-CN" sz="4000" spc="-1" strike="noStrike">
                <a:solidFill>
                  <a:srgbClr val="fafa0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afa06"/>
                </a:solidFill>
                <a:latin typeface="Times New Roman"/>
              </a:rPr>
              <a:t>︰</a:t>
            </a:r>
            <a:r>
              <a:rPr b="1" lang="zh-CN" sz="4000" spc="-1" strike="noStrike">
                <a:solidFill>
                  <a:srgbClr val="fafa06"/>
                </a:solidFill>
                <a:latin typeface="Times New Roman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击败西班牙选手马丁内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帕斯奎尔，勇夺冠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47628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我们今天学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比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跟下面讲的</a:t>
            </a:r>
            <a:r>
              <a:rPr b="1" lang="zh-CN" sz="4000" spc="-1" strike="noStrike">
                <a:solidFill>
                  <a:srgbClr val="fafa06"/>
                </a:solidFill>
                <a:latin typeface="Times New Roman"/>
              </a:rPr>
              <a:t>比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一样吗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33520" y="228600"/>
            <a:ext cx="21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拓展应用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447920"/>
            <a:ext cx="79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978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年前我国农民年人均纯收入是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经过二十多年的改革开放，现在我国农民年人均纯收入为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21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现在农民年人均纯收入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978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年前的比是（　       　　）比值是（　　　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52578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这个比值说明了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38862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1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︰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44956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905120" y="2133720"/>
            <a:ext cx="5867280" cy="2049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-912960" y="-684360"/>
            <a:ext cx="10971360" cy="82281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 rot="20872200">
            <a:off x="1979640" y="1267920"/>
            <a:ext cx="4537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谢谢大家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3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9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6920" y="620640"/>
            <a:ext cx="724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面红旗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米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宽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133720"/>
            <a:ext cx="4038840" cy="259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5759280"/>
            <a:ext cx="617220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a62c6"/>
                </a:solidFill>
                <a:latin typeface="Times New Roman"/>
                <a:ea typeface="楷体_GB2312"/>
              </a:rPr>
              <a:t>你们能提哪些哪些问题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195640" y="1484280"/>
            <a:ext cx="4925880" cy="3243240"/>
            <a:chOff x="2195640" y="1484280"/>
            <a:chExt cx="4925880" cy="3243240"/>
          </a:xfrm>
        </p:grpSpPr>
        <p:sp>
          <p:nvSpPr>
            <p:cNvPr id="46" name=""/>
            <p:cNvSpPr/>
            <p:nvPr/>
          </p:nvSpPr>
          <p:spPr>
            <a:xfrm>
              <a:off x="3210120" y="148428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分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95640" y="2136960"/>
              <a:ext cx="4038480" cy="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34120" y="2136960"/>
              <a:ext cx="0" cy="259056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53720" y="2440800"/>
              <a:ext cx="667800" cy="15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分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200" y="1209600"/>
            <a:ext cx="6379920" cy="38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1" lang="zh-CN" sz="7200" spc="-1" strike="noStrike">
                <a:solidFill>
                  <a:srgbClr val="0066ff"/>
                </a:solidFill>
                <a:latin typeface="Times New Roman"/>
              </a:rPr>
              <a:t>一辆汽车</a:t>
            </a:r>
            <a:r>
              <a:rPr b="1" lang="zh-CN" sz="72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zh-CN" sz="7200" spc="-1" strike="noStrike">
                <a:solidFill>
                  <a:srgbClr val="0066ff"/>
                </a:solidFill>
                <a:latin typeface="Times New Roman"/>
              </a:rPr>
              <a:t>小时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ff"/>
                </a:solidFill>
                <a:latin typeface="Times New Roman"/>
              </a:rPr>
              <a:t>驶</a:t>
            </a:r>
            <a:r>
              <a:rPr b="1" lang="zh-CN" sz="7200" spc="-1" strike="noStrike">
                <a:solidFill>
                  <a:srgbClr val="0066ff"/>
                </a:solidFill>
                <a:latin typeface="Times New Roman"/>
              </a:rPr>
              <a:t>100</a:t>
            </a:r>
            <a:r>
              <a:rPr b="1" lang="zh-CN" sz="7200" spc="-1" strike="noStrike">
                <a:solidFill>
                  <a:srgbClr val="0066ff"/>
                </a:solidFill>
                <a:latin typeface="Times New Roman"/>
              </a:rPr>
              <a:t>千米，每小时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ff"/>
                </a:solidFill>
                <a:latin typeface="Times New Roman"/>
              </a:rPr>
              <a:t>驶多少千米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51480" y="1540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63640" y="2184480"/>
            <a:ext cx="781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3300"/>
                </a:solidFill>
                <a:latin typeface="Times New Roman"/>
              </a:rPr>
              <a:t>工作总量和工作时间的比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12920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3300"/>
                </a:solidFill>
                <a:latin typeface="Times New Roman"/>
              </a:rPr>
              <a:t>三好学生人数与全班人数的比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-76320" y="1292400"/>
            <a:ext cx="9525240" cy="4637880"/>
            <a:chOff x="-76320" y="1292400"/>
            <a:chExt cx="9525240" cy="4637880"/>
          </a:xfrm>
        </p:grpSpPr>
        <p:sp>
          <p:nvSpPr>
            <p:cNvPr id="55" name=""/>
            <p:cNvSpPr/>
            <p:nvPr/>
          </p:nvSpPr>
          <p:spPr>
            <a:xfrm>
              <a:off x="-76320" y="1292400"/>
              <a:ext cx="9220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耕地公顷数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÷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耕地天数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也可叫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-76320" y="3192480"/>
              <a:ext cx="95252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三好学生人数</a:t>
              </a:r>
              <a:r>
                <a:rPr b="1" lang="zh-CN" sz="5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÷</a:t>
              </a:r>
              <a:r>
                <a:rPr b="1" lang="zh-CN" sz="5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全班人数  </a:t>
              </a:r>
              <a:r>
                <a:rPr b="1" lang="zh-CN" sz="3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也可叫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90680" y="5013360"/>
              <a:ext cx="6781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总价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÷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数量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也可叫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703520" y="589932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总价与数量的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35388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</a:rPr>
              <a:t>你能行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2509920"/>
            <a:ext cx="936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</a:rPr>
              <a:t>两个数相除又叫做两个数的比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56560" y="1698480"/>
            <a:ext cx="1134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7d7d03"/>
                </a:solidFill>
                <a:latin typeface="Times New Roman"/>
              </a:rPr>
              <a:t>..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6920" y="141300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3240" y="1477800"/>
            <a:ext cx="914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3333cc"/>
                </a:solidFill>
                <a:latin typeface="Times New Roman"/>
              </a:rPr>
              <a:t>︰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76360" y="1413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5800" y="2612880"/>
            <a:ext cx="195480" cy="990720"/>
          </a:xfrm>
          <a:prstGeom prst="downArrow">
            <a:avLst>
              <a:gd name="adj1" fmla="val 50000"/>
              <a:gd name="adj2" fmla="val 1267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11320" y="259560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12880" y="2595600"/>
            <a:ext cx="122400" cy="1038240"/>
          </a:xfrm>
          <a:prstGeom prst="downArrow">
            <a:avLst>
              <a:gd name="adj1" fmla="val 50000"/>
              <a:gd name="adj2" fmla="val 212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691920" y="3679920"/>
            <a:ext cx="164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前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5160" y="3675240"/>
            <a:ext cx="164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后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42480" y="3675240"/>
            <a:ext cx="164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比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1413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14130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13762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÷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64040" y="1413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3280" y="14130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2819520"/>
            <a:ext cx="152640" cy="990360"/>
          </a:xfrm>
          <a:prstGeom prst="downArrow">
            <a:avLst>
              <a:gd name="adj1" fmla="val 50000"/>
              <a:gd name="adj2" fmla="val 1622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07280" y="3809880"/>
            <a:ext cx="1642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比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35640" y="198900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64000" y="94464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177336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260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fa06"/>
                </a:solidFill>
                <a:latin typeface="Times New Roman"/>
              </a:rPr>
              <a:t>比的各部分名称</a:t>
            </a:r>
            <a:r>
              <a:rPr b="1" lang="zh-CN" sz="4000" spc="-1" strike="noStrike">
                <a:solidFill>
                  <a:srgbClr val="fafa06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2293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如何去求一个比的比值呢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609300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前项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÷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后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95280" y="40068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两个数的比也可以写成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分数形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209680" y="2270160"/>
            <a:ext cx="5105520" cy="703440"/>
            <a:chOff x="2209680" y="2270160"/>
            <a:chExt cx="5105520" cy="703440"/>
          </a:xfrm>
        </p:grpSpPr>
        <p:sp>
          <p:nvSpPr>
            <p:cNvPr id="86" name=""/>
            <p:cNvSpPr/>
            <p:nvPr/>
          </p:nvSpPr>
          <p:spPr>
            <a:xfrm>
              <a:off x="2209680" y="2270160"/>
              <a:ext cx="510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是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比号　读作“比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2666880" y="2422440"/>
              <a:ext cx="160200" cy="380880"/>
              <a:chOff x="2666880" y="2422440"/>
              <a:chExt cx="160200" cy="380880"/>
            </a:xfrm>
          </p:grpSpPr>
          <p:pic>
            <p:nvPicPr>
              <p:cNvPr id="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666880" y="2422440"/>
                <a:ext cx="160200" cy="16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66880" y="2643120"/>
                <a:ext cx="16020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" name=""/>
          <p:cNvSpPr/>
          <p:nvPr/>
        </p:nvSpPr>
        <p:spPr>
          <a:xfrm>
            <a:off x="611280" y="62064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比的读法﹑写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3808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5   +  20  =  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3808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50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－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50  = 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743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.5  ÷  0.5  = 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029200" y="2514600"/>
            <a:ext cx="3429000" cy="1067760"/>
            <a:chOff x="5029200" y="2514600"/>
            <a:chExt cx="3429000" cy="1067760"/>
          </a:xfrm>
        </p:grpSpPr>
        <p:grpSp>
          <p:nvGrpSpPr>
            <p:cNvPr id="95" name=""/>
            <p:cNvGrpSpPr/>
            <p:nvPr/>
          </p:nvGrpSpPr>
          <p:grpSpPr>
            <a:xfrm>
              <a:off x="5029200" y="2514600"/>
              <a:ext cx="533520" cy="1067760"/>
              <a:chOff x="5029200" y="2514600"/>
              <a:chExt cx="533520" cy="1067760"/>
            </a:xfrm>
          </p:grpSpPr>
          <p:sp>
            <p:nvSpPr>
              <p:cNvPr id="96" name=""/>
              <p:cNvSpPr/>
              <p:nvPr/>
            </p:nvSpPr>
            <p:spPr>
              <a:xfrm>
                <a:off x="5105520" y="251460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105520" y="293976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029200" y="3047760"/>
                <a:ext cx="53352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553080" y="2514600"/>
              <a:ext cx="533520" cy="1067760"/>
              <a:chOff x="6553080" y="2514600"/>
              <a:chExt cx="533520" cy="1067760"/>
            </a:xfrm>
          </p:grpSpPr>
          <p:sp>
            <p:nvSpPr>
              <p:cNvPr id="100" name=""/>
              <p:cNvSpPr/>
              <p:nvPr/>
            </p:nvSpPr>
            <p:spPr>
              <a:xfrm>
                <a:off x="6629400" y="251460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629400" y="293976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553080" y="3047760"/>
                <a:ext cx="53352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7924680" y="2514600"/>
              <a:ext cx="533520" cy="1067760"/>
              <a:chOff x="7924680" y="2514600"/>
              <a:chExt cx="533520" cy="1067760"/>
            </a:xfrm>
          </p:grpSpPr>
          <p:sp>
            <p:nvSpPr>
              <p:cNvPr id="104" name=""/>
              <p:cNvSpPr/>
              <p:nvPr/>
            </p:nvSpPr>
            <p:spPr>
              <a:xfrm>
                <a:off x="8001000" y="251460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001000" y="293976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924680" y="3047760"/>
                <a:ext cx="53352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5257800" y="27428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×       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914400" y="990720"/>
            <a:ext cx="7315200" cy="2971800"/>
            <a:chOff x="914400" y="990720"/>
            <a:chExt cx="7315200" cy="2971800"/>
          </a:xfrm>
        </p:grpSpPr>
        <p:sp>
          <p:nvSpPr>
            <p:cNvPr id="109" name=""/>
            <p:cNvSpPr/>
            <p:nvPr/>
          </p:nvSpPr>
          <p:spPr>
            <a:xfrm>
              <a:off x="914400" y="990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09680" y="990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29000" y="990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57800" y="990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58000" y="990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53280" y="990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0720" y="342900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8280" y="342900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1280" y="342900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57800" y="35053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58000" y="35053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229600" y="35053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0" y="1676520"/>
            <a:ext cx="3733920" cy="459720"/>
            <a:chOff x="0" y="1676520"/>
            <a:chExt cx="3733920" cy="459720"/>
          </a:xfrm>
        </p:grpSpPr>
        <p:sp>
          <p:nvSpPr>
            <p:cNvPr id="122" name=""/>
            <p:cNvSpPr/>
            <p:nvPr/>
          </p:nvSpPr>
          <p:spPr>
            <a:xfrm>
              <a:off x="0" y="16765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一个加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7920" y="1676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另一个加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0400" y="1676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724280" y="1676520"/>
            <a:ext cx="3810240" cy="459720"/>
            <a:chOff x="4724280" y="1676520"/>
            <a:chExt cx="3810240" cy="459720"/>
          </a:xfrm>
        </p:grpSpPr>
        <p:sp>
          <p:nvSpPr>
            <p:cNvPr id="126" name=""/>
            <p:cNvSpPr/>
            <p:nvPr/>
          </p:nvSpPr>
          <p:spPr>
            <a:xfrm>
              <a:off x="4724280" y="1676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被减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3080" y="1676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减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24680" y="1676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57200" y="3962520"/>
            <a:ext cx="3505320" cy="459720"/>
            <a:chOff x="457200" y="3962520"/>
            <a:chExt cx="3505320" cy="459720"/>
          </a:xfrm>
        </p:grpSpPr>
        <p:sp>
          <p:nvSpPr>
            <p:cNvPr id="130" name=""/>
            <p:cNvSpPr/>
            <p:nvPr/>
          </p:nvSpPr>
          <p:spPr>
            <a:xfrm>
              <a:off x="457200" y="3962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被除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81080" y="3962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除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3962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495680" y="3962520"/>
            <a:ext cx="3962520" cy="459720"/>
            <a:chOff x="4495680" y="3962520"/>
            <a:chExt cx="3962520" cy="459720"/>
          </a:xfrm>
        </p:grpSpPr>
        <p:sp>
          <p:nvSpPr>
            <p:cNvPr id="134" name=""/>
            <p:cNvSpPr/>
            <p:nvPr/>
          </p:nvSpPr>
          <p:spPr>
            <a:xfrm>
              <a:off x="4495680" y="396252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一个因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3962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另一个因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246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467480" y="4572000"/>
            <a:ext cx="533520" cy="1067760"/>
            <a:chOff x="7467480" y="4572000"/>
            <a:chExt cx="533520" cy="1067760"/>
          </a:xfrm>
        </p:grpSpPr>
        <p:sp>
          <p:nvSpPr>
            <p:cNvPr id="138" name=""/>
            <p:cNvSpPr/>
            <p:nvPr/>
          </p:nvSpPr>
          <p:spPr>
            <a:xfrm>
              <a:off x="7543800" y="45720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43800" y="4997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67480" y="510516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06668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︰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72400" y="55627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比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800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＝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3  ÷ 2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4724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219320" y="5562720"/>
            <a:ext cx="2666880" cy="457200"/>
            <a:chOff x="1219320" y="5562720"/>
            <a:chExt cx="2666880" cy="457200"/>
          </a:xfrm>
        </p:grpSpPr>
        <p:sp>
          <p:nvSpPr>
            <p:cNvPr id="147" name=""/>
            <p:cNvSpPr/>
            <p:nvPr/>
          </p:nvSpPr>
          <p:spPr>
            <a:xfrm>
              <a:off x="3886200" y="5562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19320" y="5562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5562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57200" y="6095880"/>
            <a:ext cx="4191120" cy="459720"/>
            <a:chOff x="457200" y="6095880"/>
            <a:chExt cx="4191120" cy="459720"/>
          </a:xfrm>
        </p:grpSpPr>
        <p:sp>
          <p:nvSpPr>
            <p:cNvPr id="151" name=""/>
            <p:cNvSpPr/>
            <p:nvPr/>
          </p:nvSpPr>
          <p:spPr>
            <a:xfrm>
              <a:off x="457200" y="6095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比的前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60958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比的后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09680" y="60958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比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539640" y="2590920"/>
          <a:ext cx="7918560" cy="3276360"/>
        </p:xfrm>
        <a:graphic>
          <a:graphicData uri="http://schemas.openxmlformats.org/drawingml/2006/table">
            <a:tbl>
              <a:tblPr/>
              <a:tblGrid>
                <a:gridCol w="1884600"/>
                <a:gridCol w="1506240"/>
                <a:gridCol w="1511640"/>
                <a:gridCol w="1506240"/>
                <a:gridCol w="1509840"/>
              </a:tblGrid>
              <a:tr h="85644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20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法除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20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分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116000" y="14428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比与除法、分数之间的关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819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39625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被除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39625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除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3886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94417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e94417"/>
                </a:solidFill>
                <a:latin typeface="Times New Roman"/>
              </a:rPr>
              <a:t>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39625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除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09680" y="5029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分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49528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分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5029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94417"/>
                </a:solidFill>
                <a:latin typeface="Times New Roman"/>
              </a:rPr>
              <a:t>分数值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80000" y="49528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数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2895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前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29718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后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28195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94417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e94417"/>
                </a:solidFill>
                <a:latin typeface="Times New Roman"/>
              </a:rPr>
              <a:t>比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299736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85920"/>
            <a:ext cx="43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ff"/>
                </a:solidFill>
                <a:latin typeface="Times New Roman"/>
              </a:rPr>
              <a:t>想一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7T23:34:11Z</dcterms:created>
  <dc:creator> </dc:creator>
  <dc:description/>
  <dc:language>en-US</dc:language>
  <cp:lastModifiedBy>微软用户</cp:lastModifiedBy>
  <dcterms:modified xsi:type="dcterms:W3CDTF">2008-02-18T02:43:09Z</dcterms:modified>
  <cp:revision>26</cp:revision>
  <dc:subject/>
  <dc:title>PowerPoint 演示文稿</dc:title>
</cp:coreProperties>
</file>