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C31-42AB-49C6-BB86-3E1E7307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352-A975-4DEB-998F-901531A4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819-039D-4227-A63D-B1C35AA7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511-F325-40B1-9EB8-3A7F2901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DD6-28ED-49E0-9200-617142D4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AAE-B1D0-409A-BF4F-426A1A5E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61A-8BB2-4FB6-AD2E-62640F89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443-0845-47AB-B46B-EADE9521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EAC-8A56-4963-8FA5-EE8FFC5D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366-433E-4D3D-8211-0C87241B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B75-66A2-45DA-BC64-041DF908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35A-7B3B-42D7-93BC-83324472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11FF-FE43-42C3-A72F-43E2348AB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ad_pi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www" descr=""/>
          <p:cNvPicPr/>
          <p:nvPr/>
        </p:nvPicPr>
        <p:blipFill>
          <a:blip r:embed="rId1"/>
          <a:srcRect l="0" t="0" r="0" b="88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n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t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48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陶弘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95280" y="1676520"/>
            <a:ext cx="50580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答谢中书书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ff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7400" y="8377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山川之美，古来共谈。高峰入云，清流见底。两岸石壁，五色交辉。青林翠竹，四时俱备。晓雾将歇，猿鸟乱鸣；夕日欲颓，沉鳞竞跃。实是欲界之仙都。自康乐以来，未复有能与其奇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J_001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重点字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五色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交辉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晓雾将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夕日欲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未复有能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奇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J_009" descr=""/>
          <p:cNvPicPr/>
          <p:nvPr/>
        </p:nvPicPr>
        <p:blipFill>
          <a:blip r:embed="rId1"/>
          <a:stretch/>
        </p:blipFill>
        <p:spPr>
          <a:xfrm>
            <a:off x="-45720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者描写了哪些景物？是怎样描绘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本文表达了作者怎样的思想感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最能体现作者思想感情的语句是哪一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J_014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比一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看谁背的最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J_044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运用今天的学习方法学习《记承天寺夜游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借助工具书翻译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者思想感情与《答谢中书书》有何不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2:14:04Z</dcterms:created>
  <dc:creator>清华同方思科</dc:creator>
  <dc:description/>
  <dc:language>en-US</dc:language>
  <cp:lastModifiedBy>admin</cp:lastModifiedBy>
  <dcterms:modified xsi:type="dcterms:W3CDTF">2004-11-19T03:34:35Z</dcterms:modified>
  <cp:revision>12</cp:revision>
  <dc:subject/>
  <dc:title>答谢中书书 　　　　　　　　陶弘景</dc:title>
</cp:coreProperties>
</file>